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2825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50F-41F5-4BFC-809A-2F008E55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672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62C-0568-461C-8B32-14DC452B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988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72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988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9A9-FF16-4E09-9401-E517A73F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252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5868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672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252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5868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18F-45B0-4D45-9FF5-44510192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6DD-4559-4CD4-8C43-9B9609E0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19D-A4EA-45D7-970A-103B3CF8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88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AA9-4878-45AA-B118-4EC3D241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43A-15CC-4BB1-AC37-5F43AA05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97400" y="663120"/>
            <a:ext cx="8307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AD7-B7D8-42E7-B642-A49C97B0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988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672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EB3C-62F8-4E30-89EE-FE4158FA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988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988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113-993F-4B33-A0E7-41DEF09C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988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672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FB4-60BE-4B39-AA79-E0944BE9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09680" y="6248520"/>
            <a:ext cx="143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4264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UNEP Collaborating Centre on Energy an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9460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EB8B156-07E8-48D1-A9E6-0AF9BC5CB381}" type="slidenum">
              <a:rPr b="0" i="1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73160" y="6172200"/>
            <a:ext cx="8334360" cy="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28600" y="6095880"/>
          <a:ext cx="55260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095880"/>
                    <a:ext cx="5526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1117440" y="6269040"/>
          <a:ext cx="1020960" cy="357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7440" y="6269040"/>
                    <a:ext cx="10209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84800" y="1717920"/>
            <a:ext cx="8333280" cy="10594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itigation Cost Assess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402920" y="3123720"/>
            <a:ext cx="693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ohn “Mac” Callawa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tin American and Caribbean Conference on  Greenhouse Gas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Quito, Ecuador, May 21-22, 1998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9E9-CE1E-4C93-97F2-E7B4ED55E7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Key issues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ost mitigation assessments do not consider how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nvironmental polici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can be used to create incentives for implementing GHG reduction meas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national polic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mestic polic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gu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axes and subsid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missions/offset trad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implement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4A5B-9A0C-490D-9D03-829AAFD440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re we finished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o, areas of further development inclu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widening and integrating the community of experts, policy makers, etc. involved in doing this wor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pecial emphasis on building capacity to assess non-energy options and integrating experts in these fields with energy sector exper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gathering better data and organising into more comprehensive data bases for future mitigation studi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mproving our sectoral models, hopefully to combine bottom-up and top-down approaches at the sectoral level to take into account market effec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138-E3C6-4BEA-97DE-B86E73959F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11440" y="295560"/>
            <a:ext cx="8278920" cy="138924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hy assess mitigation costs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4040" indent="-3740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EF project: Economics of GHG Limit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74040" indent="-3740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s input to “current” National Communications under FCCC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74040" indent="-3740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o help identify cost-effective options for implementation under Kyoto and future protoco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74040" indent="-3740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o set national priorities for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45280" indent="-282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velopment plann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45280" indent="-282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omestic act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74040" indent="-3740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earning/capacity build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74040" indent="-3740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o knows what will come up?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D05-A887-4528-BFEC-54C446FB5A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teps in Cost Assess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velop macro-economic projection of baseline developme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I.  Project emissions and costs for baseline in relevant sector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II. Develop mitigation scenarios for relevant sector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V. Estimate emissions and costs for mitigation scenarios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.  Estimate emissions reductions and incremental costs for relevant sector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.  Develop mitigation cost curves for relevant sectors, and, if possible an aggregate cost curve for all of the sector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I. Report results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30C-6553-4BD3-94D5-109F152A4C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97400" y="434520"/>
            <a:ext cx="8307000" cy="10360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76320" bIns="7632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hat kinds of costs to assess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Financial costs: project outlays of money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conomic = opportunity costs: value of real resources foregone by a project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rivate costs: opportunity costs that arise in market transactions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xternal costs: opportunity costs from activities that are not accounted for by agents causing them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Social costs = private costs + external costs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Which costs to assess depends on ……..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t’s helpful to know all of them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02A6-4027-45CC-A778-E02A0D7603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15320" y="510120"/>
            <a:ext cx="8308800" cy="103644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OK, but what are incremental costs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cost incurred when a mitigation project is undertaken with GEF financing, compared to project that would have been built without the financ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 institutional, not an economic defini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cremental costs can be either financial or economic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 would have been built without the GEF support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rket approach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cial accounting approach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usiness as usual approach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rategic approach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D2E-B30A-4896-AE44-84659B405E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15320" y="510120"/>
            <a:ext cx="8308800" cy="103644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ome key issues in mitigation cost assess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System boundaries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Economic opportunity costs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The” baseline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No regrets actions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Leakages  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Implementation costs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Policies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39C-99B6-423B-B33E-9BED5424F1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15320" y="510120"/>
            <a:ext cx="8308800" cy="103644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Key issues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Even though </a:t>
            </a:r>
            <a:r>
              <a:rPr b="0" lang="en-US" sz="1900" spc="-1" strike="noStrike" u="sng">
                <a:solidFill>
                  <a:srgbClr val="000099"/>
                </a:solidFill>
                <a:uFillTx/>
                <a:latin typeface="Arial"/>
              </a:rPr>
              <a:t>system boundaries</a:t>
            </a: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 may be well-defined, it can be hard to account for costs/emissions changes in linked sectors: 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changes in technology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changes in input/output pric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price changes and their effects are hard to estimate using bottom-up models 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 u="sng">
                <a:solidFill>
                  <a:srgbClr val="000099"/>
                </a:solidFill>
                <a:uFillTx/>
                <a:latin typeface="Arial"/>
              </a:rPr>
              <a:t>Economic opportunity costs</a:t>
            </a: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 include </a:t>
            </a: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both </a:t>
            </a: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changes in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production cost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changes in revenues 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can be combined as changes in profit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price changes and their effects are hard to estimate using bottom-up models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D62-E6C6-4A4D-984B-04349592FE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15320" y="510120"/>
            <a:ext cx="8308800" cy="103644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Key issues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base lin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s not observed, so how will it be constructed: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rket driven (market models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cenario driven (bottom-up model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reates opportunities to create “strategic” baselines that affect incremental cos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o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regrets action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have very low or negative costs, but are not being implemented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sts aren’t accurat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me costs are left ou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aseline isn’t realistic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re no regrets in the best interests of developing countries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EAC-5C7B-42FA-A7C2-17F1781A31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99460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E46D98-5784-4B52-B42C-7B7725FC5253}" type="slidenum">
              <a:rPr b="0" i="1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57240" y="6248520"/>
            <a:ext cx="4264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UNEP Collaborating Centre on Energy an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03520" y="668880"/>
            <a:ext cx="8294760" cy="11890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Key issues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Leakage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of carbon occur when a project indirectly increases CO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missions someplace else in the economy, for example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lowing deforestation in one place increases it another pl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ducing use of manure as a fertiliser increases emissions to produce inorganic fertilis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se leakages are hard to estimate without market mode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Implementatio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costs are often ignored, making some activities look unrealistically attractive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ministration costs: Costs of planning, training, administration and monitoring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arrier removal costs: Costs of improving institutional capacity, reducing risk and uncertainty, enhancing market transactions, enforcing regulatory polici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9T14:42:02Z</dcterms:created>
  <dc:creator>Gordon A. Mackenzie</dc:creator>
  <dc:description/>
  <dc:language>en-US</dc:language>
  <cp:lastModifiedBy>Juan Zak</cp:lastModifiedBy>
  <cp:lastPrinted>1998-05-10T22:17:52Z</cp:lastPrinted>
  <dcterms:modified xsi:type="dcterms:W3CDTF">1998-05-10T22:30:03Z</dcterms:modified>
  <cp:revision>32</cp:revision>
  <dc:subject/>
  <dc:title>Climate Change Mitigation in Southern Africa: Zambia study</dc:title>
</cp:coreProperties>
</file>