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DC8-53A8-4BB0-9CCE-CA1E7B4A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D89-E475-48B4-9FA6-0D5B91DE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07B-29C0-4A2F-9542-BCA6DA80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04E-FECD-4BFE-9E0C-F5A29282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8692-DA20-4727-B580-BA35CEAC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35E9-6B4D-4DBE-9895-D7BCB122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A42A-201D-4919-B5DE-9FE1BA07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0709-E849-476B-A94E-B1A53C14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592B-4C28-498A-96C5-B8C6E38A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6F3F-4559-46A2-9B12-ECCFECCD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70D1-766B-4219-914B-7580E83C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8D6-EF8C-4B2F-9280-D6B60411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76A7-76CE-4E09-BBB4-3060C205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4D57-D3FF-440D-9A0A-B2D1B632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27D4-D5BD-4ED5-9FD6-AD90DF73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51B9-59DE-49E7-963B-215CF67A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76D2-8B69-4B64-AA54-141C13FE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25D-88D9-44EC-A83B-A0E833B1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514-FB73-4D9A-8600-B8B52E4A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1BCB-47C5-4E5D-8C8F-03AC4127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634-9806-4E17-911B-33D2DAE9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355-2599-4E9A-BE5B-DAD7A0CB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86A-FCB4-407F-BF3F-A5F3686C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15B-3195-4055-A86B-885973AD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5C3A-A307-41F3-866D-FAE631DC0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3CC2-EAD8-459B-8E0A-E1081054E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ff"/>
                </a:solidFill>
                <a:latin typeface="Times New Roman"/>
              </a:rPr>
              <a:t>Panel Intergubernamental sobre Cambio Clim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ff"/>
                </a:solidFill>
                <a:latin typeface="Times New Roman"/>
              </a:rPr>
              <a:t>Historia, labor y perspe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ercer Informe de 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be ser  completo y cubrir el rango total de temas científicos, técnicos, económicos y sociales asociados con el sistema climático y los asuntos sobre cambio climático estimados importantes por las comunidades de expertos y de niveles de dec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men de lo presentado en los dos informes ant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oda la información surgida a partir del segundo in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foque global, enfatizando aspectos reg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structura Probable del Informe del III Grupo de Trabajo (Mitigación)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tencial técnico, económico y de mercado (PTEM)  de las tecnologías y prácticas para reducir emisiones de gases de efecto invernadero (G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ubcapítulo especial: Oferta de energía: Producción, extracción, conversión y distribu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TEM para mejorar la remoción de G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rreras al uso efectivo, difusión y transferencia de tecnologías y prác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structura Probable del Informe del III Grupo de Trabajo (Mitigación)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fectividad de las políticas y medidas para aprovechar el potencial de las tecnolog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de escenarios de mitig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regional y global de costos y beneficios y de consecuencia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de los impactos de la mitigación sobre otros paí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ma de decisiones: alcances y negoci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rganización del Grupo de Trabaj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133720"/>
            <a:ext cx="2667240" cy="12952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ex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Bert Met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2209680"/>
            <a:ext cx="2895480" cy="1295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Anex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Ogunlade David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4343400"/>
            <a:ext cx="1295280" cy="10666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O. David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4343400"/>
            <a:ext cx="1295280" cy="10666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E. Calv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4343400"/>
            <a:ext cx="1295280" cy="10666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é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l N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unasingh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4343400"/>
            <a:ext cx="1295280" cy="10666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R. Sutamihardj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4343400"/>
            <a:ext cx="1295280" cy="10666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E. Joch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67480" y="4343400"/>
            <a:ext cx="1295640" cy="10666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R.Pis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819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295280" y="2819160"/>
            <a:ext cx="30481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666880" y="2819160"/>
            <a:ext cx="16765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3400" y="2819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2819520"/>
            <a:ext cx="12193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819520"/>
            <a:ext cx="22096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2819520"/>
            <a:ext cx="34290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1751400"/>
            <a:ext cx="210528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- Presi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2960" y="5637600"/>
            <a:ext cx="365688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ce Presidentes Reg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tros infor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forme especial sobre temas Metodológicos y Tecnológicos en Transferencia de 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forme especial sobre Aviación y la Atmósfera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forme especial sobre Escenarios de E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visión de los de 199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ros por definir de acuerdo a Kio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ineamientos para inven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ron parte del Informe Especial para el Año 19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ron aceptados por el Protocolo de Kioto como herramientas para la preparación de los Inventarios Nacionales de Emisión de Gases de Efecto Invernader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n preparados por el grupo: IPCC/IEA/OE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de los lineami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bren seis se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s Indust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solv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i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mbio de uso de suelo y silvi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bren todos los Gases de Efecto Invernadero no cubiertos por el Protocolo de Mont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ineamientos para el Sector Ener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misiones Medi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de combustibles fós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étodos simples (alcance refer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étodos detal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misiones fug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minería y manipulación de carb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extracción, proceso y distribución de petróleo y gas na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rabajo futuro en lineami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los lineamientos se de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visar de acuerdo a nueva información de las 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monizar con otras metodologías nacionales o inter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ualizar los factores de emisión y los valores por defec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inuar el trabajo en el sector de Cambio de Uso del Suelo y Manejo Forestal (Silvicultu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¿Qué es el IPCC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s un grupo intergubernamental de expertos sobre cambio climátic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s coordinado por la Organización Meteorológica Mundial (OMM) y el Programa de las Naciones Unidas para el Medio Ambiente  (PNUM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actos con el IP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Intern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ttp://www.ipcc.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rreo Electró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PCC_Sec@gateway.wmo.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presentantes Latinoameric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rupo I:   Armando Ramírez (Venezuela)  Fax.5826052168/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rupo II:  Osvaldo Canziani (Argentina)    Fax:541 98248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rupo III: Eduardo Calvo (Perú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Fax:511 22553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incip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pertura y transpa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orradores libres y a disposición de exp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bertura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os los aspectos relevantes para la política de cambio clim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ur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úsqueda de consen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sentación de evidencia contradic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isión del IP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poyar el avance de la Convención Marco sobre Cambio Climático , en coordinación con su Conferencia de las Partes y  su Organo Subsidiario de Asistencia  Científica y Téc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rganización del IPCC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1981080"/>
            <a:ext cx="190476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1981080"/>
            <a:ext cx="190476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2209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N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429000"/>
            <a:ext cx="18288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P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R. Wat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971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952880" y="2971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3429000"/>
            <a:ext cx="23623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3427920"/>
            <a:ext cx="2210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creta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N. Sundararama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3886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029200"/>
            <a:ext cx="22860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5029200"/>
            <a:ext cx="236196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5029200"/>
            <a:ext cx="22860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361960" y="44197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419720"/>
            <a:ext cx="1981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87400" y="5226120"/>
            <a:ext cx="23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upo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180040"/>
            <a:ext cx="23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upo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5180040"/>
            <a:ext cx="23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upo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Grupos de Trabajo Originales (Primer Informe de Evaluació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 de información científica disponible sobre C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 de impactos socioeconómicos y ambientales del 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ulación de estrategias de respu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ublic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imer Informe de 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forme Espe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zamiento Radiativo del Cambio Cli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ción de Escenarios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neamientos Técnicos del IPCC para evaluar Impactos y Adaptaciones al Cambio Cli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neamientos para los Inventarios 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undo Informe de 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ocumentos y Apéndices Téc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es grupos de trabaj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RUPO I : Aspectos científicos del sistema climático y del cambio clim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RUPO II: Aspectos científicos, técnicos, ambientales, económicos y sociales (CTAES) de la vulnerabilidad al cambio climático e impactos sobre sistemas ecológicos, sectores socioeconómicos y salud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RUPO III: Aspectos CTAES de la mitigación del cambio climático y asuntos transsecto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bor actual del IP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eparar el Tercer Informe de Evaluación al año 200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eparar otros informes considerados necesarios para el Avance de la Conven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finar los lineamientos empleados en los inven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6T17:43:40Z</dcterms:created>
  <dc:creator>Eduardo Calvo</dc:creator>
  <dc:description/>
  <dc:language>en-US</dc:language>
  <cp:lastModifiedBy>MODELO SUPER/OLADE-BID</cp:lastModifiedBy>
  <dcterms:modified xsi:type="dcterms:W3CDTF">1998-05-22T18:35:32Z</dcterms:modified>
  <cp:revision>2</cp:revision>
  <dc:subject/>
  <dc:title>Panel Intergubernamental sobre Cambio Climático</dc:title>
</cp:coreProperties>
</file>