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ED5-8DF3-4C92-BEC3-DFBBC151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F07-F677-4AEB-9DD5-76C90A3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FC5-6825-4C87-8621-90B69EDD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6FC-153B-48AE-986F-70BC14E6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298-02FD-440E-97C2-5A8D173B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753-5E8D-48C6-AF5A-971D2A87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8F8-BFC7-4CCA-B0AA-FC5CCF18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3D4-7294-4ECB-8BD8-00976DF1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6DE-F4F9-4F5D-B7F4-9999C16D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72A-2991-472A-B3DF-AE56E837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563-AAAA-4E83-A37F-79330012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703-F575-4FED-8CA3-3BED7621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4FC2-1C7F-4A08-9F1A-8E7770B72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Hacia el Desarrollo Sostenible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ccff"/>
                </a:solidFill>
                <a:latin typeface="Times New Roman"/>
              </a:rPr>
              <a:t>Empresas Para el Capital Social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inisterio de Medio Ambie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s de Ahorro de Agua y Energía para Socializar la Priva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s de “ ECOENERGIA” para elTransporte y Servicios Pub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12160" y="4343400"/>
          <a:ext cx="203040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2160" y="4343400"/>
                    <a:ext cx="20304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o Creciente Per Cáp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Oferta Energía y Agua y el IDH ([Indice de Desarrollo Huma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ización vs. Ahorro y Uso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“paradoja Energética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 las  Tecnologías, económicamente es positivo, pero la SOCIEDAD NO Proce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reras Institucionales e individ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0" y="304920"/>
          <a:ext cx="190512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304920"/>
                    <a:ext cx="19051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Pas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ción-Auditoría Energética y de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ación de medidas y Artefactos de Aho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rtización de Costo mediante factura mensual de servicio, suponiendo consumo actual como si no se hubiera instalado la estrategia de ahorro.(No costo para el usuario!!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vez amortizados los equípos, adquisición de ACCIONES (STOCK) por parte del usuario si continúa pagando suma mayor a consumo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resultad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horro Físico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lazamiento de Expansiones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ción de Ahorro 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tura del Mercado Ac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cratización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cidad de Expansión Aseg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ción de Empleo y Desarroll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mento de Demanda por Eventual Compra de Empresas de Servicios Publicos por los accionistas de Las Empresas de Ahor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10400" y="0"/>
            <a:ext cx="2433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76320" y="1905120"/>
            <a:ext cx="9296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 VIGENTE                              BAL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vidualismo                               Solidarida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“Linearidad” Causa-Efecto    Lo “sistémico”, lo COMPL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or = Precio                                Valor = Precio +opción+ex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vidad “Privada”              “Sostenibilidad eficien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orto plazo)                                    (a largo plaz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consumidor abstracto”           “La necesidad so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ir para exportar                 Producir para generar bien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09600" y="5724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Los “Principios” Filosóficos/Etico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os Paradigmas)   (cont.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6320" y="29718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88840" y="44280"/>
          <a:ext cx="1117800" cy="15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44280"/>
                    <a:ext cx="111780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ARROLLO 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ás que el PIB per cápita anu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CAPACIDAD de un pueblo o nación , de identificar , discutir, concertar y solucionar los problemas que se le presentan al paso del tiempo a los menores costos sociales ,económicos y ecológic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HABILIDAD de un pueblo o nación de mantener y aprovechar su riqueza cultural y natural para lograr una mejor calidad de vida y satisfacción social para esta generación y las siguient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79250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240" y="46080"/>
            <a:ext cx="1390680" cy="896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60880" y="1660680"/>
            <a:ext cx="147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933640" y="514440"/>
          <a:ext cx="336564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3640" y="514440"/>
                    <a:ext cx="336564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19040" y="1962000"/>
          <a:ext cx="3365640" cy="291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1962000"/>
                    <a:ext cx="336564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857680" y="3409920"/>
          <a:ext cx="3365280" cy="29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409920"/>
                    <a:ext cx="336528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0480" y="0"/>
            <a:ext cx="19969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71080" y="1508040"/>
            <a:ext cx="155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0520" y="2955960"/>
            <a:ext cx="163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0280" y="2803680"/>
            <a:ext cx="1876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1680" y="4175280"/>
            <a:ext cx="251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72280" y="1962000"/>
          <a:ext cx="3365280" cy="291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72280" y="1962000"/>
                    <a:ext cx="336528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080760" y="3108240"/>
            <a:ext cx="146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0760" y="3489480"/>
            <a:ext cx="187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EL  CAPITAL  CIVICO INSTITUC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iones  colectivas  volun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o  y  fortalecimiento 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ción  Intersectorial y  coherencia  del 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ntad  de  respeto  y  cumplimiento  a  las Leyes 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86440" y="5300640"/>
            <a:ext cx="1952640" cy="1328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370640" y="6051600"/>
            <a:ext cx="1771920" cy="804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16002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0440" y="361800"/>
          <a:ext cx="1343160" cy="11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440" y="361800"/>
                    <a:ext cx="13431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829640" y="884160"/>
            <a:ext cx="123804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CAPITAL SOCIAL Y PARTICIPACION CIUDA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aumento de  Capital Social como el verdadero parámetro de Desarro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apital Cívico e Institucional como el “cemento” de los otros tres capitales: Humano, Artificial y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ecisión colectiva vs. la preferencia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articipación “Reactiva”: Acción popular , acción de tutela, audiencias públicas , plebisc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articipación “Proactiva”: Consejos Nacional y Territoriales de Planeación, Juantas Administradoras Locales, Acción Comu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ógías, criterios y Experi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380880" y="1085760"/>
            <a:ext cx="982980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c03"/>
                </a:solidFill>
                <a:latin typeface="OldTown-WP"/>
              </a:rPr>
              <a:t>LA GESTION AMBIENTAL DEL DESARRO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320760" y="2193840"/>
            <a:ext cx="8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28242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st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entral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special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ec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eme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ard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nfli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islada “egoís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esarticu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nv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m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egal/restri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reservacion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xcluy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304920" y="1905120"/>
            <a:ext cx="967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1981080"/>
            <a:ext cx="497376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articip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escentral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terdiscipl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tersec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ro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reven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ncertad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teg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olidaria/coordi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rticu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lternativa/Innov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ncertadora/Comprometed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ultural/estim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Uso sosten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cluy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7360" y="1309680"/>
            <a:ext cx="13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76360" y="1233360"/>
            <a:ext cx="221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77160" y="1096920"/>
            <a:ext cx="7564320" cy="702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PARTICIPACION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IUDAD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14760" y="2986200"/>
            <a:ext cx="2339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A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117960" y="3309840"/>
          <a:ext cx="503388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7960" y="3309840"/>
                    <a:ext cx="503388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DESARROLLO URBANO SOSTEN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iudad como expresión tecnológica y como sistema artificialy cul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ción Ciudad-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reto de la “Entropía” Urbana..Soluciones altern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ización y Ciu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Ahorro y Uso Eficiente de Energía y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Transporte Altern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euso y Reaprovechamiento, Recicl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Patrones de Asentamiento y Distribución Pobl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ENERGIA, AMBIENTE Y DESARROLLO SOSTEN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aumento significativo en el IDH se relaciona con un consumo mínimo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Alternativa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orro y el Uso Eficient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ta 1000 a 1200 kilos equivalentes de Petroleo logran elevar el nivel del IDH hasta 0.8 o m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atrón de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 más importante es el “Servicio Energético”, no la cantidad de energía consum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1T22:03:10Z</dcterms:created>
  <dc:creator>Carlos Fonseca</dc:creator>
  <dc:description/>
  <dc:language>en-US</dc:language>
  <cp:lastModifiedBy>MODELO SUPER/OLADE-BID</cp:lastModifiedBy>
  <dcterms:modified xsi:type="dcterms:W3CDTF">1998-05-22T18:24:10Z</dcterms:modified>
  <cp:revision>1</cp:revision>
  <dc:subject/>
  <dc:title> Hacia el Desarrollo Sostenible  Empresas Para el Capital Social Ministerio de Medio Ambiente</dc:title>
</cp:coreProperties>
</file>