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774238"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0"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1"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2"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7013A4E-121F-4404-9348-7601A5CEB2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371600" y="768240"/>
            <a:ext cx="5029200" cy="3767400"/>
          </a:xfrm>
          <a:prstGeom prst="rect">
            <a:avLst/>
          </a:prstGeom>
          <a:ln w="0">
            <a:noFill/>
          </a:ln>
        </p:spPr>
      </p:sp>
      <p:sp>
        <p:nvSpPr>
          <p:cNvPr id="4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66"/>
                </a:solidFill>
                <a:latin typeface="Times New Roman"/>
                <a:ea typeface="Times New Roman"/>
              </a:rPr>
              <a:t>1</a:t>
            </a:r>
            <a:endParaRPr b="0" lang="en-US" sz="10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Arial"/>
                <a:ea typeface="Arial"/>
              </a:rPr>
              <a:t>The “Measures to Implement the Framework Convention on Climate Change” are a programme with which the Federal Republic of Germany is supporting selected </a:t>
            </a:r>
            <a:r>
              <a:rPr b="1" lang="en-US" sz="1200" spc="-1" strike="noStrike">
                <a:solidFill>
                  <a:srgbClr val="000000"/>
                </a:solidFill>
                <a:latin typeface="Arial"/>
                <a:ea typeface="Arial"/>
              </a:rPr>
              <a:t>developing countries in formulating country strategies on climate protection and preparing programmes and projects</a:t>
            </a:r>
            <a:r>
              <a:rPr b="0" lang="en-US" sz="1200" spc="-1" strike="noStrike">
                <a:solidFill>
                  <a:srgbClr val="000000"/>
                </a:solidFill>
                <a:latin typeface="Arial"/>
                <a:ea typeface="Arial"/>
              </a:rPr>
              <a:t> relevant to climate change. </a:t>
            </a:r>
            <a:endParaRPr b="0" lang="en-US" sz="1200" spc="-1" strike="noStrike">
              <a:solidFill>
                <a:srgbClr val="000000"/>
              </a:solidFill>
              <a:latin typeface="Arial"/>
            </a:endParaRPr>
          </a:p>
          <a:p>
            <a:pPr indent="0" algn="just">
              <a:lnSpc>
                <a:spcPct val="100000"/>
              </a:lnSpc>
              <a:spcBef>
                <a:spcPts val="720"/>
              </a:spcBef>
              <a:spcAft>
                <a:spcPts val="1151"/>
              </a:spcAft>
              <a:buNone/>
            </a:pPr>
            <a:r>
              <a:rPr b="0" lang="en-US" sz="1200" spc="-1" strike="noStrike">
                <a:solidFill>
                  <a:srgbClr val="000000"/>
                </a:solidFill>
                <a:latin typeface="Arial"/>
                <a:ea typeface="Arial"/>
              </a:rPr>
              <a:t>This presentation summarises the </a:t>
            </a:r>
            <a:r>
              <a:rPr b="1" lang="en-US" sz="1200" spc="-1" strike="noStrike">
                <a:solidFill>
                  <a:srgbClr val="000000"/>
                </a:solidFill>
                <a:latin typeface="Arial"/>
                <a:ea typeface="Arial"/>
              </a:rPr>
              <a:t>programme focus and trends</a:t>
            </a:r>
            <a:r>
              <a:rPr b="0" lang="en-US" sz="1200" spc="-1" strike="noStrike">
                <a:solidFill>
                  <a:srgbClr val="000000"/>
                </a:solidFill>
                <a:latin typeface="Arial"/>
                <a:ea typeface="Arial"/>
              </a:rPr>
              <a:t>, mentions its </a:t>
            </a:r>
            <a:r>
              <a:rPr b="1" lang="en-US" sz="1200" spc="-1" strike="noStrike">
                <a:solidFill>
                  <a:srgbClr val="000000"/>
                </a:solidFill>
                <a:latin typeface="Arial"/>
                <a:ea typeface="Arial"/>
              </a:rPr>
              <a:t>current activities</a:t>
            </a:r>
            <a:r>
              <a:rPr b="0" lang="en-US" sz="1200" spc="-1" strike="noStrike">
                <a:solidFill>
                  <a:srgbClr val="000000"/>
                </a:solidFill>
                <a:latin typeface="Arial"/>
                <a:ea typeface="Arial"/>
              </a:rPr>
              <a:t> and points out how they are </a:t>
            </a:r>
            <a:r>
              <a:rPr b="1" lang="en-US" sz="1200" spc="-1" strike="noStrike">
                <a:solidFill>
                  <a:srgbClr val="000000"/>
                </a:solidFill>
                <a:latin typeface="Arial"/>
                <a:ea typeface="Arial"/>
              </a:rPr>
              <a:t>linked to other projects in development co-operation</a:t>
            </a:r>
            <a:r>
              <a:rPr b="0" lang="en-US" sz="1200" spc="-1" strike="noStrike">
                <a:solidFill>
                  <a:srgbClr val="000000"/>
                </a:solidFill>
                <a:latin typeface="Arial"/>
                <a:ea typeface="Arial"/>
              </a:rPr>
              <a:t>. As the Federal German Government has decided to continue the programme up to 2001, I briefly describe the </a:t>
            </a:r>
            <a:r>
              <a:rPr b="1" lang="en-US" sz="1200" spc="-1" strike="noStrike">
                <a:solidFill>
                  <a:srgbClr val="000000"/>
                </a:solidFill>
                <a:latin typeface="Arial"/>
                <a:ea typeface="Arial"/>
              </a:rPr>
              <a:t>lines along which future measures</a:t>
            </a:r>
            <a:r>
              <a:rPr b="0" lang="en-US" sz="1200" spc="-1" strike="noStrike">
                <a:solidFill>
                  <a:srgbClr val="000000"/>
                </a:solidFill>
                <a:latin typeface="Arial"/>
                <a:ea typeface="Arial"/>
              </a:rPr>
              <a:t> will be bas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371600" y="768240"/>
            <a:ext cx="5029200" cy="3767400"/>
          </a:xfrm>
          <a:prstGeom prst="rect">
            <a:avLst/>
          </a:prstGeom>
          <a:ln w="0">
            <a:noFill/>
          </a:ln>
        </p:spPr>
      </p:sp>
      <p:sp>
        <p:nvSpPr>
          <p:cNvPr id="47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This slide is selfexplan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371600" y="768240"/>
            <a:ext cx="5029200" cy="3767400"/>
          </a:xfrm>
          <a:prstGeom prst="rect">
            <a:avLst/>
          </a:prstGeom>
          <a:ln w="0">
            <a:noFill/>
          </a:ln>
        </p:spPr>
      </p:sp>
      <p:sp>
        <p:nvSpPr>
          <p:cNvPr id="4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66"/>
                </a:solidFill>
                <a:latin typeface="Times New Roman"/>
                <a:ea typeface="Times New Roman"/>
              </a:rPr>
              <a:t>2</a:t>
            </a:r>
            <a:endParaRPr b="0" lang="en-US" sz="10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Arial"/>
                <a:ea typeface="Arial"/>
              </a:rPr>
              <a:t>A brief  look at GTZ as  company in development co-operation may help to explain better our policy and orientation presented later 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371600" y="768240"/>
            <a:ext cx="5029200" cy="3767400"/>
          </a:xfrm>
          <a:prstGeom prst="rect">
            <a:avLst/>
          </a:prstGeom>
          <a:ln w="0">
            <a:noFill/>
          </a:ln>
        </p:spPr>
      </p:sp>
      <p:sp>
        <p:nvSpPr>
          <p:cNvPr id="4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66"/>
                </a:solidFill>
                <a:latin typeface="Times New Roman"/>
                <a:ea typeface="Times New Roman"/>
              </a:rPr>
              <a:t>3</a:t>
            </a:r>
            <a:endParaRPr b="0" lang="en-US" sz="10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Arial"/>
                <a:ea typeface="Arial"/>
              </a:rPr>
              <a:t>At the UNCED in Rio de Janeiro in 1992, almost all nations signed the UN Framework Convention on Climate Change (UN FCCC); the Convention subsequently had to be put into practice. In line with the convention, the non-Annex 1 parties (roughly speaking: the developing countries) expected support in order to be able to meet their obligations. </a:t>
            </a: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Arial"/>
                <a:ea typeface="Arial"/>
              </a:rPr>
              <a:t>The first step was to draw up national inventories of sources and sinks of greenhouse gases (GHG). Many parties wanted to launch further-reaching investigations, however, in order to explore the options for reducing GHG emissions in their countries in an economically beneficial and politically feasible way. This was why the Federal Ministry for Economic Co-operation and Development (BMZ) commissioned the GTZ with taking immediate steps to offer appropriate technical assistance to partner countries.</a:t>
            </a: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Arial"/>
                <a:ea typeface="Arial"/>
              </a:rPr>
              <a:t>The slide describes the project in brief.</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371600" y="768240"/>
            <a:ext cx="5029200" cy="3767400"/>
          </a:xfrm>
          <a:prstGeom prst="rect">
            <a:avLst/>
          </a:prstGeom>
          <a:ln w="0">
            <a:noFill/>
          </a:ln>
        </p:spPr>
      </p:sp>
      <p:sp>
        <p:nvSpPr>
          <p:cNvPr id="46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66"/>
                </a:solidFill>
                <a:latin typeface="Times New Roman"/>
                <a:ea typeface="Times New Roman"/>
              </a:rPr>
              <a:t>5</a:t>
            </a:r>
            <a:endParaRPr b="0" lang="en-US" sz="10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Arial"/>
                <a:ea typeface="Arial"/>
              </a:rPr>
              <a:t>The climate protection policy of the Federal Government follows the precautionary principle and aims at measures reducing CO</a:t>
            </a:r>
            <a:r>
              <a:rPr b="0" lang="en-US" sz="1200" spc="-1" strike="noStrike" baseline="-25000">
                <a:solidFill>
                  <a:srgbClr val="000000"/>
                </a:solidFill>
                <a:latin typeface="Arial"/>
                <a:ea typeface="Arial"/>
              </a:rPr>
              <a:t>2</a:t>
            </a:r>
            <a:r>
              <a:rPr b="0" lang="en-US" sz="1200" spc="-1" strike="noStrike">
                <a:solidFill>
                  <a:srgbClr val="000000"/>
                </a:solidFill>
                <a:latin typeface="Arial"/>
                <a:ea typeface="Arial"/>
              </a:rPr>
              <a:t> and other greenhouse gases. As the CO</a:t>
            </a:r>
            <a:r>
              <a:rPr b="0" lang="en-US" sz="1200" spc="-1" strike="noStrike" baseline="-25000">
                <a:solidFill>
                  <a:srgbClr val="000000"/>
                </a:solidFill>
                <a:latin typeface="Arial"/>
                <a:ea typeface="Arial"/>
              </a:rPr>
              <a:t>2</a:t>
            </a:r>
            <a:r>
              <a:rPr b="0" lang="en-US" sz="1200" spc="-1" strike="noStrike">
                <a:solidFill>
                  <a:srgbClr val="000000"/>
                </a:solidFill>
                <a:latin typeface="Arial"/>
                <a:ea typeface="Arial"/>
              </a:rPr>
              <a:t> emission is often directly accompanied by environmental pollution with other air contaminants such as sulphur dioxide and nitrous oxide, these can be reduced together. If this is achieved through higher efficiencies or the use of renewable energy sources, there is the additional effect of conserving scarce resources. These win-win or no-regret measures in the energy sector reduce GHG emissions, therefore protecting against climate change, but they also benefit the environment on a broad front (reducing air, water and soil pollution). Much the same applies to the reduction of non-energy-dependent climate-changing gases. In pursuit of a pre-cautionary policy, therefore, various concerns are addressed simultaneously.</a:t>
            </a:r>
            <a:endParaRPr b="0" lang="en-US" sz="1200" spc="-1" strike="noStrike">
              <a:solidFill>
                <a:srgbClr val="000000"/>
              </a:solidFill>
              <a:latin typeface="Arial"/>
            </a:endParaRPr>
          </a:p>
          <a:p>
            <a:pPr indent="0" algn="just">
              <a:lnSpc>
                <a:spcPct val="100000"/>
              </a:lnSpc>
              <a:spcBef>
                <a:spcPts val="720"/>
              </a:spcBef>
              <a:buNone/>
            </a:pP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Arial"/>
                <a:ea typeface="Arial"/>
              </a:rPr>
              <a:t>Win-Win-Options - as listed in the slide - cannot only in achieved in Germany, but in any countries. The effects, of cause, depend on the technological and economic framework condition in each country and secto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371600" y="768240"/>
            <a:ext cx="5029200" cy="3767400"/>
          </a:xfrm>
          <a:prstGeom prst="rect">
            <a:avLst/>
          </a:prstGeom>
          <a:ln w="0">
            <a:noFill/>
          </a:ln>
        </p:spPr>
      </p:sp>
      <p:sp>
        <p:nvSpPr>
          <p:cNvPr id="46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66"/>
                </a:solidFill>
                <a:latin typeface="Times New Roman"/>
                <a:ea typeface="Times New Roman"/>
              </a:rPr>
              <a:t>4</a:t>
            </a:r>
            <a:endParaRPr b="0" lang="en-US" sz="1000" spc="-1" strike="noStrike">
              <a:solidFill>
                <a:srgbClr val="000000"/>
              </a:solidFill>
              <a:latin typeface="Arial"/>
            </a:endParaRPr>
          </a:p>
          <a:p>
            <a:pPr marL="190440" indent="0" algn="just">
              <a:lnSpc>
                <a:spcPct val="100000"/>
              </a:lnSpc>
              <a:buNone/>
            </a:pPr>
            <a:r>
              <a:rPr b="0" lang="en-US" sz="1100" spc="-1" strike="noStrike">
                <a:solidFill>
                  <a:srgbClr val="000000"/>
                </a:solidFill>
                <a:latin typeface="Arial"/>
                <a:ea typeface="Arial"/>
              </a:rPr>
              <a:t>No-one disputes that the industrialised countries bear particular responsibility </a:t>
            </a:r>
            <a:endParaRPr b="0" lang="en-US" sz="1100" spc="-1" strike="noStrike">
              <a:solidFill>
                <a:srgbClr val="000000"/>
              </a:solidFill>
              <a:latin typeface="Arial"/>
            </a:endParaRPr>
          </a:p>
          <a:p>
            <a:pPr marL="190440" indent="0" algn="just">
              <a:lnSpc>
                <a:spcPct val="100000"/>
              </a:lnSpc>
              <a:buNone/>
            </a:pPr>
            <a:r>
              <a:rPr b="0" lang="en-US" sz="1100" spc="-1" strike="noStrike">
                <a:solidFill>
                  <a:srgbClr val="000000"/>
                </a:solidFill>
                <a:latin typeface="Arial"/>
                <a:ea typeface="Arial"/>
              </a:rPr>
              <a:t>for climate issues, because until now GHG emissions  have largely originated </a:t>
            </a:r>
            <a:endParaRPr b="0" lang="en-US" sz="1100" spc="-1" strike="noStrike">
              <a:solidFill>
                <a:srgbClr val="000000"/>
              </a:solidFill>
              <a:latin typeface="Arial"/>
            </a:endParaRPr>
          </a:p>
          <a:p>
            <a:pPr marL="190440" indent="0" algn="just">
              <a:lnSpc>
                <a:spcPct val="100000"/>
              </a:lnSpc>
              <a:buNone/>
            </a:pPr>
            <a:r>
              <a:rPr b="0" lang="en-US" sz="1100" spc="-1" strike="noStrike">
                <a:solidFill>
                  <a:srgbClr val="000000"/>
                </a:solidFill>
                <a:latin typeface="Arial"/>
                <a:ea typeface="Arial"/>
              </a:rPr>
              <a:t>from their sources. Nevertheless, developing countries will in future play a </a:t>
            </a:r>
            <a:endParaRPr b="0" lang="en-US" sz="1100" spc="-1" strike="noStrike">
              <a:solidFill>
                <a:srgbClr val="000000"/>
              </a:solidFill>
              <a:latin typeface="Arial"/>
            </a:endParaRPr>
          </a:p>
          <a:p>
            <a:pPr marL="190440" indent="0" algn="just">
              <a:lnSpc>
                <a:spcPct val="100000"/>
              </a:lnSpc>
              <a:buNone/>
            </a:pPr>
            <a:r>
              <a:rPr b="0" lang="en-US" sz="1100" spc="-1" strike="noStrike">
                <a:solidFill>
                  <a:srgbClr val="000000"/>
                </a:solidFill>
                <a:latin typeface="Arial"/>
                <a:ea typeface="Arial"/>
              </a:rPr>
              <a:t>greater role, for three reasons:</a:t>
            </a:r>
            <a:endParaRPr b="0" lang="en-US" sz="1100" spc="-1" strike="noStrike">
              <a:solidFill>
                <a:srgbClr val="000000"/>
              </a:solidFill>
              <a:latin typeface="Arial"/>
            </a:endParaRPr>
          </a:p>
          <a:p>
            <a:pPr marL="190440" indent="0" algn="just">
              <a:lnSpc>
                <a:spcPct val="100000"/>
              </a:lnSpc>
              <a:spcBef>
                <a:spcPts val="720"/>
              </a:spcBef>
              <a:buNone/>
            </a:pPr>
            <a:r>
              <a:rPr b="0" lang="en-US" sz="1100" spc="-1" strike="noStrike">
                <a:solidFill>
                  <a:srgbClr val="000000"/>
                </a:solidFill>
                <a:latin typeface="Arial"/>
                <a:ea typeface="Arial"/>
              </a:rPr>
              <a:t>1.</a:t>
            </a:r>
            <a:r>
              <a:rPr b="0" lang="en-US" sz="1100" spc="-1" strike="noStrike">
                <a:solidFill>
                  <a:srgbClr val="000000"/>
                </a:solidFill>
                <a:latin typeface="Arial"/>
                <a:ea typeface="Arial"/>
              </a:rPr>
              <a:t>	</a:t>
            </a:r>
            <a:r>
              <a:rPr b="0" lang="en-US" sz="1100" spc="-1" strike="noStrike">
                <a:solidFill>
                  <a:srgbClr val="000000"/>
                </a:solidFill>
                <a:latin typeface="Arial"/>
                <a:ea typeface="Arial"/>
              </a:rPr>
              <a:t>Energy consumption will rise as the population increases. The economies of many countries are growing quickly, more and more people are living in cities, they are becoming more mobile and living standards are rising. This is apparent above all in heavily populated countries that are undergoing dynamic industrial development, such as China and India.</a:t>
            </a:r>
            <a:endParaRPr b="0" lang="en-US" sz="1100" spc="-1" strike="noStrike">
              <a:solidFill>
                <a:srgbClr val="000000"/>
              </a:solidFill>
              <a:latin typeface="Arial"/>
            </a:endParaRPr>
          </a:p>
          <a:p>
            <a:pPr marL="190440" indent="0" algn="just">
              <a:lnSpc>
                <a:spcPct val="100000"/>
              </a:lnSpc>
              <a:spcBef>
                <a:spcPts val="720"/>
              </a:spcBef>
              <a:buNone/>
            </a:pPr>
            <a:r>
              <a:rPr b="0" lang="en-US" sz="1100" spc="-1" strike="noStrike">
                <a:solidFill>
                  <a:srgbClr val="000000"/>
                </a:solidFill>
                <a:latin typeface="Arial"/>
                <a:ea typeface="Arial"/>
              </a:rPr>
              <a:t>2.</a:t>
            </a:r>
            <a:r>
              <a:rPr b="0" lang="en-US" sz="1100" spc="-1" strike="noStrike">
                <a:solidFill>
                  <a:srgbClr val="000000"/>
                </a:solidFill>
                <a:latin typeface="Arial"/>
                <a:ea typeface="Arial"/>
              </a:rPr>
              <a:t>	</a:t>
            </a:r>
            <a:r>
              <a:rPr b="0" lang="en-US" sz="1100" spc="-1" strike="noStrike">
                <a:solidFill>
                  <a:srgbClr val="000000"/>
                </a:solidFill>
                <a:latin typeface="Arial"/>
                <a:ea typeface="Arial"/>
              </a:rPr>
              <a:t>Tropical forests in the developing countries, in particular, are important sinks for CO</a:t>
            </a:r>
            <a:r>
              <a:rPr b="0" lang="en-US" sz="1100" spc="-1" strike="noStrike" baseline="-25000">
                <a:solidFill>
                  <a:srgbClr val="000000"/>
                </a:solidFill>
                <a:latin typeface="Arial"/>
                <a:ea typeface="Arial"/>
              </a:rPr>
              <a:t>2</a:t>
            </a:r>
            <a:r>
              <a:rPr b="0" lang="en-US" sz="1100" spc="-1" strike="noStrike">
                <a:solidFill>
                  <a:srgbClr val="000000"/>
                </a:solidFill>
                <a:latin typeface="Arial"/>
                <a:ea typeface="Arial"/>
              </a:rPr>
              <a:t>, i. e., they absorb large quantities of CO</a:t>
            </a:r>
            <a:r>
              <a:rPr b="0" lang="en-US" sz="1100" spc="-1" strike="noStrike" baseline="-25000">
                <a:solidFill>
                  <a:srgbClr val="000000"/>
                </a:solidFill>
                <a:latin typeface="Arial"/>
                <a:ea typeface="Arial"/>
              </a:rPr>
              <a:t>2</a:t>
            </a:r>
            <a:r>
              <a:rPr b="0" lang="en-US" sz="1100" spc="-1" strike="noStrike">
                <a:solidFill>
                  <a:srgbClr val="000000"/>
                </a:solidFill>
                <a:latin typeface="Arial"/>
                <a:ea typeface="Arial"/>
              </a:rPr>
              <a:t>. However, tropical forests are diminishing.</a:t>
            </a:r>
            <a:endParaRPr b="0" lang="en-US" sz="1100" spc="-1" strike="noStrike">
              <a:solidFill>
                <a:srgbClr val="000000"/>
              </a:solidFill>
              <a:latin typeface="Arial"/>
            </a:endParaRPr>
          </a:p>
          <a:p>
            <a:pPr marL="190440" indent="0" algn="just">
              <a:lnSpc>
                <a:spcPct val="100000"/>
              </a:lnSpc>
              <a:spcBef>
                <a:spcPts val="720"/>
              </a:spcBef>
              <a:spcAft>
                <a:spcPts val="720"/>
              </a:spcAft>
              <a:buNone/>
            </a:pPr>
            <a:r>
              <a:rPr b="0" lang="en-US" sz="1100" spc="-1" strike="noStrike">
                <a:solidFill>
                  <a:srgbClr val="000000"/>
                </a:solidFill>
                <a:latin typeface="Arial"/>
                <a:ea typeface="Arial"/>
              </a:rPr>
              <a:t>3.</a:t>
            </a:r>
            <a:r>
              <a:rPr b="0" lang="en-US" sz="1100" spc="-1" strike="noStrike">
                <a:solidFill>
                  <a:srgbClr val="000000"/>
                </a:solidFill>
                <a:latin typeface="Arial"/>
                <a:ea typeface="Arial"/>
              </a:rPr>
              <a:t>	</a:t>
            </a:r>
            <a:r>
              <a:rPr b="0" lang="en-US" sz="1100" spc="-1" strike="noStrike">
                <a:solidFill>
                  <a:srgbClr val="000000"/>
                </a:solidFill>
                <a:latin typeface="Arial"/>
                <a:ea typeface="Arial"/>
              </a:rPr>
              <a:t>Agriculture and mining are increasingly emitting considerable quantities of methane into the atmosphere in developing countries.</a:t>
            </a:r>
            <a:endParaRPr b="0" lang="en-US" sz="1100" spc="-1" strike="noStrike">
              <a:solidFill>
                <a:srgbClr val="000000"/>
              </a:solidFill>
              <a:latin typeface="Arial"/>
            </a:endParaRPr>
          </a:p>
          <a:p>
            <a:pPr marL="190440" indent="0" algn="just">
              <a:lnSpc>
                <a:spcPct val="100000"/>
              </a:lnSpc>
              <a:buNone/>
            </a:pPr>
            <a:r>
              <a:rPr b="0" lang="en-US" sz="1100" spc="-1" strike="noStrike">
                <a:solidFill>
                  <a:srgbClr val="000000"/>
                </a:solidFill>
                <a:latin typeface="Arial"/>
                <a:ea typeface="Arial"/>
              </a:rPr>
              <a:t>To stimulate the involvement of DC in climate protection the UN FCCC and </a:t>
            </a:r>
            <a:endParaRPr b="0" lang="en-US" sz="1100" spc="-1" strike="noStrike">
              <a:solidFill>
                <a:srgbClr val="000000"/>
              </a:solidFill>
              <a:latin typeface="Arial"/>
            </a:endParaRPr>
          </a:p>
          <a:p>
            <a:pPr marL="190440" indent="0" algn="just">
              <a:lnSpc>
                <a:spcPct val="100000"/>
              </a:lnSpc>
              <a:buNone/>
            </a:pPr>
            <a:r>
              <a:rPr b="0" lang="en-US" sz="1100" spc="-1" strike="noStrike">
                <a:solidFill>
                  <a:srgbClr val="000000"/>
                </a:solidFill>
                <a:latin typeface="Arial"/>
                <a:ea typeface="Arial"/>
              </a:rPr>
              <a:t>the Kyoto-Protocol has created mechanism to assist them. The GEF will (has) </a:t>
            </a:r>
            <a:endParaRPr b="0" lang="en-US" sz="1100" spc="-1" strike="noStrike">
              <a:solidFill>
                <a:srgbClr val="000000"/>
              </a:solidFill>
              <a:latin typeface="Arial"/>
            </a:endParaRPr>
          </a:p>
          <a:p>
            <a:pPr marL="190440" indent="0" algn="just">
              <a:lnSpc>
                <a:spcPct val="100000"/>
              </a:lnSpc>
              <a:buNone/>
            </a:pPr>
            <a:r>
              <a:rPr b="0" lang="en-US" sz="1100" spc="-1" strike="noStrike">
                <a:solidFill>
                  <a:srgbClr val="000000"/>
                </a:solidFill>
                <a:latin typeface="Arial"/>
                <a:ea typeface="Arial"/>
              </a:rPr>
              <a:t>present(ed) itself. The German BMZ is also offering support for climate </a:t>
            </a:r>
            <a:endParaRPr b="0" lang="en-US" sz="1100" spc="-1" strike="noStrike">
              <a:solidFill>
                <a:srgbClr val="000000"/>
              </a:solidFill>
              <a:latin typeface="Arial"/>
            </a:endParaRPr>
          </a:p>
          <a:p>
            <a:pPr marL="190440" indent="0" algn="just">
              <a:lnSpc>
                <a:spcPct val="100000"/>
              </a:lnSpc>
              <a:spcAft>
                <a:spcPts val="1199"/>
              </a:spcAft>
              <a:buNone/>
            </a:pPr>
            <a:r>
              <a:rPr b="0" lang="en-US" sz="1100" spc="-1" strike="noStrike">
                <a:solidFill>
                  <a:srgbClr val="000000"/>
                </a:solidFill>
                <a:latin typeface="Arial"/>
                <a:ea typeface="Arial"/>
              </a:rPr>
              <a:t>oriented projected, as stipulated in the regional concepts.</a:t>
            </a:r>
            <a:endParaRPr b="0" lang="en-US" sz="1100" spc="-1" strike="noStrike">
              <a:solidFill>
                <a:srgbClr val="000000"/>
              </a:solidFill>
              <a:latin typeface="Arial"/>
            </a:endParaRPr>
          </a:p>
          <a:p>
            <a:pPr marL="190440" indent="0" algn="just">
              <a:lnSpc>
                <a:spcPct val="100000"/>
              </a:lnSpc>
              <a:buNone/>
            </a:pPr>
            <a:r>
              <a:rPr b="0" lang="en-US" sz="1100" spc="-1" strike="noStrike">
                <a:solidFill>
                  <a:srgbClr val="000000"/>
                </a:solidFill>
                <a:latin typeface="Arial"/>
                <a:ea typeface="Arial"/>
              </a:rPr>
              <a:t>The Kyoto-Protocol has defined the Clean Development Mechanism. Once</a:t>
            </a:r>
            <a:endParaRPr b="0" lang="en-US" sz="1100" spc="-1" strike="noStrike">
              <a:solidFill>
                <a:srgbClr val="000000"/>
              </a:solidFill>
              <a:latin typeface="Arial"/>
            </a:endParaRPr>
          </a:p>
          <a:p>
            <a:pPr marL="190440" indent="0" algn="just">
              <a:lnSpc>
                <a:spcPct val="100000"/>
              </a:lnSpc>
              <a:buNone/>
            </a:pPr>
            <a:r>
              <a:rPr b="0" lang="en-US" sz="1100" spc="-1" strike="noStrike">
                <a:solidFill>
                  <a:srgbClr val="000000"/>
                </a:solidFill>
                <a:latin typeface="Arial"/>
                <a:ea typeface="Arial"/>
              </a:rPr>
              <a:t>the procedures for the practical implementation have been agreed upon, if</a:t>
            </a:r>
            <a:endParaRPr b="0" lang="en-US" sz="1100" spc="-1" strike="noStrike">
              <a:solidFill>
                <a:srgbClr val="000000"/>
              </a:solidFill>
              <a:latin typeface="Arial"/>
            </a:endParaRPr>
          </a:p>
          <a:p>
            <a:pPr marL="190440" indent="0" algn="just">
              <a:lnSpc>
                <a:spcPct val="100000"/>
              </a:lnSpc>
              <a:buNone/>
            </a:pPr>
            <a:r>
              <a:rPr b="0" lang="en-US" sz="1100" spc="-1" strike="noStrike">
                <a:solidFill>
                  <a:srgbClr val="000000"/>
                </a:solidFill>
                <a:latin typeface="Arial"/>
                <a:ea typeface="Arial"/>
              </a:rPr>
              <a:t>offers chances for new and additional investments and technology transfer.</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371600" y="768240"/>
            <a:ext cx="5029200" cy="3767400"/>
          </a:xfrm>
          <a:prstGeom prst="rect">
            <a:avLst/>
          </a:prstGeom>
          <a:ln w="0">
            <a:noFill/>
          </a:ln>
        </p:spPr>
      </p:sp>
      <p:sp>
        <p:nvSpPr>
          <p:cNvPr id="46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66"/>
                </a:solidFill>
                <a:latin typeface="Times New Roman"/>
                <a:ea typeface="Times New Roman"/>
              </a:rPr>
              <a:t>6</a:t>
            </a:r>
            <a:endParaRPr b="0" lang="en-US" sz="10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Arial"/>
                <a:ea typeface="Arial"/>
              </a:rPr>
              <a:t>So far the “Measures to Implement the Framework Convention on Climate Change” have comprised 16 individual projects in 14 countries and the promotion of 3 supraregional activities in which the programme is engaged together with other donors. The world map (page 7) provides an overview of the geographical distribution of the measures and the matters they address. In geographical terms the main focus is on Asia, whereas in terms of content it is the options for mitigation of GHG emissions in the energy sector.</a:t>
            </a:r>
            <a:endParaRPr b="0" lang="en-US" sz="1200" spc="-1" strike="noStrike">
              <a:solidFill>
                <a:srgbClr val="000000"/>
              </a:solidFill>
              <a:latin typeface="Arial"/>
            </a:endParaRPr>
          </a:p>
          <a:p>
            <a:pPr indent="0" algn="just">
              <a:lnSpc>
                <a:spcPct val="100000"/>
              </a:lnSpc>
              <a:spcBef>
                <a:spcPts val="720"/>
              </a:spcBef>
              <a:buNone/>
            </a:pP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Arial"/>
                <a:ea typeface="Arial"/>
              </a:rPr>
              <a:t>Their is such room to extent our programme into L.. A. and we would welcome any request from this reg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371600" y="768240"/>
            <a:ext cx="5029200" cy="3767400"/>
          </a:xfrm>
          <a:prstGeom prst="rect">
            <a:avLst/>
          </a:prstGeom>
          <a:ln w="0">
            <a:noFill/>
          </a:ln>
        </p:spPr>
      </p:sp>
      <p:sp>
        <p:nvSpPr>
          <p:cNvPr id="4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66"/>
                </a:solidFill>
                <a:latin typeface="Times New Roman"/>
                <a:ea typeface="Times New Roman"/>
              </a:rPr>
              <a:t>7</a:t>
            </a:r>
            <a:endParaRPr b="0" lang="en-US" sz="10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Arial"/>
                <a:ea typeface="Arial"/>
              </a:rPr>
              <a:t>The focus of the German programme was directed at the energy sector, where most greenhouse gases are emitted. This is the area where GHG emissions can be reduced most quickly, or at least where rates of increase can be slowed. Transport is an area of growing importance, not only because emissions in that sector are rising fastest but also because the challenges of restricting the increases are greater than elsewhere.</a:t>
            </a: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Arial"/>
                <a:ea typeface="Arial"/>
              </a:rPr>
              <a:t>Nevertheless, the programme assisted in its first and second phase measures directed at the preparation of national communication, as stipulated in the convention. The slide lists the subject supported in the various countries.</a:t>
            </a: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Arial"/>
                <a:ea typeface="Arial"/>
              </a:rPr>
              <a:t>The first-phase measures are now all completed. Apart from Pakistan and Colombia, where initially support was provided only for preparing national inventories of GHG, reports are now available on options for lower emissions, especially of CO</a:t>
            </a:r>
            <a:r>
              <a:rPr b="0" lang="en-US" sz="1200" spc="-1" strike="noStrike" baseline="-25000">
                <a:solidFill>
                  <a:srgbClr val="000000"/>
                </a:solidFill>
                <a:latin typeface="Arial"/>
                <a:ea typeface="Arial"/>
              </a:rPr>
              <a:t>2</a:t>
            </a:r>
            <a:r>
              <a:rPr b="0" lang="en-US" sz="1200" spc="-1" strike="noStrike">
                <a:solidFill>
                  <a:srgbClr val="000000"/>
                </a:solidFill>
                <a:latin typeface="Arial"/>
                <a:ea typeface="Arial"/>
              </a:rPr>
              <a:t>. If the abatement options are contrasted with a baseline development between the various countries, the respective particularities become apparent: obviously the prevailing national energy prices, the structure of energy supplies and of course the national energy mix determine which solutions apply. It is no surprise, therefore, when the proposed abatement options are very different. The options found in the various countries are described in the summary reports in the brochure. </a:t>
            </a:r>
            <a:endParaRPr b="0" lang="en-US" sz="1200" spc="-1" strike="noStrike">
              <a:solidFill>
                <a:srgbClr val="000000"/>
              </a:solidFill>
              <a:latin typeface="Arial"/>
            </a:endParaRPr>
          </a:p>
          <a:p>
            <a:pPr indent="0" algn="just">
              <a:lnSpc>
                <a:spcPct val="100000"/>
              </a:lnSpc>
              <a:spcBef>
                <a:spcPts val="720"/>
              </a:spcBef>
              <a:spcAft>
                <a:spcPts val="1151"/>
              </a:spcAft>
              <a:buNone/>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371600" y="768240"/>
            <a:ext cx="5029200" cy="3767400"/>
          </a:xfrm>
          <a:prstGeom prst="rect">
            <a:avLst/>
          </a:prstGeom>
          <a:ln w="0">
            <a:noFill/>
          </a:ln>
        </p:spPr>
      </p:sp>
      <p:sp>
        <p:nvSpPr>
          <p:cNvPr id="4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66"/>
                </a:solidFill>
                <a:latin typeface="Times New Roman"/>
                <a:ea typeface="Times New Roman"/>
              </a:rPr>
              <a:t>8</a:t>
            </a:r>
            <a:endParaRPr b="0" lang="en-US" sz="1000" spc="-1" strike="noStrike">
              <a:solidFill>
                <a:srgbClr val="000000"/>
              </a:solidFill>
              <a:latin typeface="Arial"/>
            </a:endParaRPr>
          </a:p>
          <a:p>
            <a:pPr indent="0" algn="just">
              <a:lnSpc>
                <a:spcPct val="100000"/>
              </a:lnSpc>
              <a:spcBef>
                <a:spcPts val="720"/>
              </a:spcBef>
              <a:spcAft>
                <a:spcPts val="575"/>
              </a:spcAft>
              <a:buNone/>
            </a:pPr>
            <a:r>
              <a:rPr b="0" lang="en-US" sz="1000" spc="-1" strike="noStrike">
                <a:solidFill>
                  <a:srgbClr val="000000"/>
                </a:solidFill>
                <a:latin typeface="Arial"/>
                <a:ea typeface="Arial"/>
              </a:rPr>
              <a:t>As already suggested above, in the “Measures to Implement the Framework Convention on Climate Change” German development co-operation has created an instrument that can be used to identify further strategies, programmes and projects which make a substantial contribution to the prevention of climate change. A great deal has already been achieved and implemented.</a:t>
            </a:r>
            <a:endParaRPr b="0" lang="en-US" sz="1000" spc="-1" strike="noStrike">
              <a:solidFill>
                <a:srgbClr val="000000"/>
              </a:solidFill>
              <a:latin typeface="Arial"/>
            </a:endParaRPr>
          </a:p>
          <a:p>
            <a:pPr indent="0" algn="just">
              <a:lnSpc>
                <a:spcPct val="100000"/>
              </a:lnSpc>
              <a:spcBef>
                <a:spcPts val="720"/>
              </a:spcBef>
              <a:spcAft>
                <a:spcPts val="575"/>
              </a:spcAft>
              <a:buNone/>
            </a:pPr>
            <a:r>
              <a:rPr b="0" lang="en-US" sz="1000" spc="-1" strike="noStrike">
                <a:solidFill>
                  <a:srgbClr val="000000"/>
                </a:solidFill>
                <a:latin typeface="Arial"/>
                <a:ea typeface="Arial"/>
              </a:rPr>
              <a:t>Therefore, the goal of many measures was on mitigation options in sector and/or specified national regions, always emphasising reduction of the rate of increase of GHG emission. A brief list is in the slide.</a:t>
            </a:r>
            <a:endParaRPr b="0" lang="en-US" sz="1000" spc="-1" strike="noStrike">
              <a:solidFill>
                <a:srgbClr val="000000"/>
              </a:solidFill>
              <a:latin typeface="Arial"/>
            </a:endParaRPr>
          </a:p>
          <a:p>
            <a:pPr indent="0" algn="just">
              <a:lnSpc>
                <a:spcPct val="100000"/>
              </a:lnSpc>
              <a:spcBef>
                <a:spcPts val="720"/>
              </a:spcBef>
              <a:spcAft>
                <a:spcPts val="575"/>
              </a:spcAft>
              <a:buNone/>
            </a:pPr>
            <a:r>
              <a:rPr b="0" lang="en-US" sz="1000" spc="-1" strike="noStrike">
                <a:solidFill>
                  <a:srgbClr val="000000"/>
                </a:solidFill>
                <a:latin typeface="Arial"/>
                <a:ea typeface="Arial"/>
              </a:rPr>
              <a:t>Two examples shall illustrate how the measures more transformed into further action.</a:t>
            </a:r>
            <a:endParaRPr b="0" lang="en-US" sz="1000" spc="-1" strike="noStrike">
              <a:solidFill>
                <a:srgbClr val="000000"/>
              </a:solidFill>
              <a:latin typeface="Arial"/>
            </a:endParaRPr>
          </a:p>
          <a:p>
            <a:pPr indent="0" algn="just">
              <a:lnSpc>
                <a:spcPct val="100000"/>
              </a:lnSpc>
              <a:spcBef>
                <a:spcPts val="720"/>
              </a:spcBef>
              <a:spcAft>
                <a:spcPts val="575"/>
              </a:spcAft>
              <a:buNone/>
            </a:pPr>
            <a:r>
              <a:rPr b="0" lang="en-US" sz="1000" spc="-1" strike="noStrike">
                <a:solidFill>
                  <a:srgbClr val="000000"/>
                </a:solidFill>
                <a:latin typeface="Arial"/>
                <a:ea typeface="Arial"/>
              </a:rPr>
              <a:t>In China in the rapidly industrialising Provinces of Jiangsu and Zhejiang, a German Technical Co-operation project has the task of supporting industry in making greater use of the cogeneration of heat and power in order to contribute to CO</a:t>
            </a:r>
            <a:r>
              <a:rPr b="0" lang="en-US" sz="1000" spc="-1" strike="noStrike" baseline="-25000">
                <a:solidFill>
                  <a:srgbClr val="000000"/>
                </a:solidFill>
                <a:latin typeface="Arial"/>
                <a:ea typeface="Arial"/>
              </a:rPr>
              <a:t>2</a:t>
            </a:r>
            <a:r>
              <a:rPr b="0" lang="en-US" sz="1000" spc="-1" strike="noStrike">
                <a:solidFill>
                  <a:srgbClr val="000000"/>
                </a:solidFill>
                <a:latin typeface="Arial"/>
                <a:ea typeface="Arial"/>
              </a:rPr>
              <a:t> mitigation through the efficient use of energy. The initiative originated from the University of Zhejiang in Hangzhou, which conducted a study into “Technological Options for Reduction of GHG Emissions in Jiangsu-Zhejiang-Shanghai District” (see page 9) to determine where it appeared possible to make the most effective contributions to climate protection.</a:t>
            </a:r>
            <a:endParaRPr b="0" lang="en-US" sz="1000" spc="-1" strike="noStrike">
              <a:solidFill>
                <a:srgbClr val="000000"/>
              </a:solidFill>
              <a:latin typeface="Arial"/>
            </a:endParaRPr>
          </a:p>
          <a:p>
            <a:pPr indent="0" algn="just">
              <a:lnSpc>
                <a:spcPct val="100000"/>
              </a:lnSpc>
              <a:spcBef>
                <a:spcPts val="720"/>
              </a:spcBef>
              <a:spcAft>
                <a:spcPts val="575"/>
              </a:spcAft>
              <a:buNone/>
            </a:pPr>
            <a:r>
              <a:rPr b="0" lang="en-US" sz="1000" spc="-1" strike="noStrike">
                <a:solidFill>
                  <a:srgbClr val="000000"/>
                </a:solidFill>
                <a:latin typeface="Arial"/>
                <a:ea typeface="Arial"/>
              </a:rPr>
              <a:t>In climate change audits carried out for industry in Thailand, it proved possible to identify “win-win” options for the industrial operations and commercial buildings that were studied - investment opportunities that are both economically beneficial and reduce emissions, with payback periods of less than four years. These options make abatement attractive, and result in a 7 to 10 % reduction of previous CO</a:t>
            </a:r>
            <a:r>
              <a:rPr b="0" lang="en-US" sz="1000" spc="-1" strike="noStrike" baseline="-25000">
                <a:solidFill>
                  <a:srgbClr val="000000"/>
                </a:solidFill>
                <a:latin typeface="Arial"/>
                <a:ea typeface="Arial"/>
              </a:rPr>
              <a:t>2</a:t>
            </a:r>
            <a:r>
              <a:rPr b="0" lang="en-US" sz="1000" spc="-1" strike="noStrike">
                <a:solidFill>
                  <a:srgbClr val="000000"/>
                </a:solidFill>
                <a:latin typeface="Arial"/>
                <a:ea typeface="Arial"/>
              </a:rPr>
              <a:t> emissions. The next task is to convince decision-makers that these opportunities should be exploited. The German technical co-operation project on the rational use of energy in Thailand supports the Thai partner organisation in implementation of the measures (see page 22).</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371600" y="768240"/>
            <a:ext cx="5029200" cy="3767400"/>
          </a:xfrm>
          <a:prstGeom prst="rect">
            <a:avLst/>
          </a:prstGeom>
          <a:ln w="0">
            <a:noFill/>
          </a:ln>
        </p:spPr>
      </p:sp>
      <p:sp>
        <p:nvSpPr>
          <p:cNvPr id="4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66"/>
                </a:solidFill>
                <a:latin typeface="Times New Roman"/>
                <a:ea typeface="Times New Roman"/>
              </a:rPr>
              <a:t>9</a:t>
            </a:r>
            <a:endParaRPr b="0" lang="en-US" sz="1000" spc="-1" strike="noStrike">
              <a:solidFill>
                <a:srgbClr val="000000"/>
              </a:solidFill>
              <a:latin typeface="Arial"/>
            </a:endParaRPr>
          </a:p>
          <a:p>
            <a:pPr indent="0" algn="just">
              <a:lnSpc>
                <a:spcPct val="100000"/>
              </a:lnSpc>
              <a:spcBef>
                <a:spcPts val="720"/>
              </a:spcBef>
              <a:buNone/>
            </a:pPr>
            <a:r>
              <a:rPr b="0" lang="en-US" sz="1000" spc="-1" strike="noStrike">
                <a:solidFill>
                  <a:srgbClr val="000000"/>
                </a:solidFill>
                <a:latin typeface="Arial"/>
                <a:ea typeface="Arial"/>
              </a:rPr>
              <a:t>Thailand is an example of how the GTZ has integrated investigations into climate change into ongoing Technical Co-operation schemes and, what is more, helps to ensure that the results bring about a real reduction in GHG emissions. The GTZ makes similar use of these synergistic effects in the State of Karnataka, India, where it is co-operating successfully with the Tata Energy Research Institute to promote more efficient use and saving of energy in industry. The good working relationships also benefit the climate change mitigation scheme in Bangalore, the capital of Karna-taka, where the aim is to determine how climate-friendly planning and action can be im-plemented within a municipal authority in the transport and waste-management sectors. </a:t>
            </a:r>
            <a:endParaRPr b="0" lang="en-US" sz="1000" spc="-1" strike="noStrike">
              <a:solidFill>
                <a:srgbClr val="000000"/>
              </a:solidFill>
              <a:latin typeface="Arial"/>
            </a:endParaRPr>
          </a:p>
          <a:p>
            <a:pPr indent="0" algn="just">
              <a:lnSpc>
                <a:spcPct val="100000"/>
              </a:lnSpc>
              <a:spcBef>
                <a:spcPts val="720"/>
              </a:spcBef>
              <a:buNone/>
            </a:pPr>
            <a:r>
              <a:rPr b="0" lang="en-US" sz="1000" spc="-1" strike="noStrike">
                <a:solidFill>
                  <a:srgbClr val="000000"/>
                </a:solidFill>
                <a:latin typeface="Arial"/>
                <a:ea typeface="Arial"/>
              </a:rPr>
              <a:t>In Zimbabwe, too, climate protection has been integrated into a Technical Co-operation  project, the Energy Programme. The Department of Energy, the project executing agency for the Energy Programme, wishes to identify Zimbabwe's options for GHG mitigation under the Southern African Power Pool (see page 47). The results will influence the national energy policy, on which the Technical Co-operation project is providing advice, but also the national strategy on climate change. However, the options for Zimbabwe cannot be implemented without the co-operation of neighbour-ing countries, which is why the team is working closely with the power utilities of the region, most notably with Eskom in South Africa, which is the largest electricity supplier on the continent. The opportunities that will arise for Zimbabwe can of course also be utilised by other countries in the Power Pool, therefore contributing jointly to the mitigation of climate change in the region.</a:t>
            </a:r>
            <a:endParaRPr b="0" lang="en-US" sz="1000" spc="-1" strike="noStrike">
              <a:solidFill>
                <a:srgbClr val="000000"/>
              </a:solidFill>
              <a:latin typeface="Arial"/>
            </a:endParaRPr>
          </a:p>
          <a:p>
            <a:pPr indent="0" algn="just">
              <a:lnSpc>
                <a:spcPct val="100000"/>
              </a:lnSpc>
              <a:spcBef>
                <a:spcPts val="720"/>
              </a:spcBef>
              <a:buNone/>
            </a:pPr>
            <a:r>
              <a:rPr b="0" lang="en-US" sz="1000" spc="-1" strike="noStrike">
                <a:solidFill>
                  <a:srgbClr val="000000"/>
                </a:solidFill>
                <a:latin typeface="Arial"/>
                <a:ea typeface="Arial"/>
              </a:rPr>
              <a:t>The German programme is also supporting the Republic of South Africa in its country study, in which Eskom is also directly involved. The results and findings of the Zimbabwean measure can therefore be put to direct use in the South African investigations: another advantage of regional co-operation.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88520" y="1604520"/>
            <a:ext cx="8796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488520" y="3682080"/>
            <a:ext cx="8796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 name="PlaceHolder 2"/>
          <p:cNvSpPr>
            <a:spLocks noGrp="1"/>
          </p:cNvSpPr>
          <p:nvPr>
            <p:ph/>
          </p:nvPr>
        </p:nvSpPr>
        <p:spPr>
          <a:xfrm>
            <a:off x="4885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3"/>
          <p:cNvSpPr>
            <a:spLocks noGrp="1"/>
          </p:cNvSpPr>
          <p:nvPr>
            <p:ph/>
          </p:nvPr>
        </p:nvSpPr>
        <p:spPr>
          <a:xfrm>
            <a:off x="49957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4"/>
          <p:cNvSpPr>
            <a:spLocks noGrp="1"/>
          </p:cNvSpPr>
          <p:nvPr>
            <p:ph/>
          </p:nvPr>
        </p:nvSpPr>
        <p:spPr>
          <a:xfrm>
            <a:off x="4885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5"/>
          <p:cNvSpPr>
            <a:spLocks noGrp="1"/>
          </p:cNvSpPr>
          <p:nvPr>
            <p:ph/>
          </p:nvPr>
        </p:nvSpPr>
        <p:spPr>
          <a:xfrm>
            <a:off x="49957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5" name="PlaceHolder 2"/>
          <p:cNvSpPr>
            <a:spLocks noGrp="1"/>
          </p:cNvSpPr>
          <p:nvPr>
            <p:ph/>
          </p:nvPr>
        </p:nvSpPr>
        <p:spPr>
          <a:xfrm>
            <a:off x="488520" y="160452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3"/>
          <p:cNvSpPr>
            <a:spLocks noGrp="1"/>
          </p:cNvSpPr>
          <p:nvPr>
            <p:ph/>
          </p:nvPr>
        </p:nvSpPr>
        <p:spPr>
          <a:xfrm>
            <a:off x="3462480" y="160452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 name="PlaceHolder 4"/>
          <p:cNvSpPr>
            <a:spLocks noGrp="1"/>
          </p:cNvSpPr>
          <p:nvPr>
            <p:ph/>
          </p:nvPr>
        </p:nvSpPr>
        <p:spPr>
          <a:xfrm>
            <a:off x="6436800" y="160452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 name="PlaceHolder 5"/>
          <p:cNvSpPr>
            <a:spLocks noGrp="1"/>
          </p:cNvSpPr>
          <p:nvPr>
            <p:ph/>
          </p:nvPr>
        </p:nvSpPr>
        <p:spPr>
          <a:xfrm>
            <a:off x="488520" y="368208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6"/>
          <p:cNvSpPr>
            <a:spLocks noGrp="1"/>
          </p:cNvSpPr>
          <p:nvPr>
            <p:ph/>
          </p:nvPr>
        </p:nvSpPr>
        <p:spPr>
          <a:xfrm>
            <a:off x="3462480" y="368208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0" name="PlaceHolder 7"/>
          <p:cNvSpPr>
            <a:spLocks noGrp="1"/>
          </p:cNvSpPr>
          <p:nvPr>
            <p:ph/>
          </p:nvPr>
        </p:nvSpPr>
        <p:spPr>
          <a:xfrm>
            <a:off x="6436800" y="368208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type="subTitle"/>
          </p:nvPr>
        </p:nvSpPr>
        <p:spPr>
          <a:xfrm>
            <a:off x="488520" y="1604520"/>
            <a:ext cx="8796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p:nvPr>
        </p:nvSpPr>
        <p:spPr>
          <a:xfrm>
            <a:off x="488520" y="1604520"/>
            <a:ext cx="8796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8" name="PlaceHolder 2"/>
          <p:cNvSpPr>
            <a:spLocks noGrp="1"/>
          </p:cNvSpPr>
          <p:nvPr>
            <p:ph/>
          </p:nvPr>
        </p:nvSpPr>
        <p:spPr>
          <a:xfrm>
            <a:off x="4885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3"/>
          <p:cNvSpPr>
            <a:spLocks noGrp="1"/>
          </p:cNvSpPr>
          <p:nvPr>
            <p:ph/>
          </p:nvPr>
        </p:nvSpPr>
        <p:spPr>
          <a:xfrm>
            <a:off x="49957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88520" y="273600"/>
            <a:ext cx="8796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885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9957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885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type="subTitle"/>
          </p:nvPr>
        </p:nvSpPr>
        <p:spPr>
          <a:xfrm>
            <a:off x="488520" y="1604520"/>
            <a:ext cx="8796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885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9957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9957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885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9957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4"/>
          <p:cNvSpPr>
            <a:spLocks noGrp="1"/>
          </p:cNvSpPr>
          <p:nvPr>
            <p:ph/>
          </p:nvPr>
        </p:nvSpPr>
        <p:spPr>
          <a:xfrm>
            <a:off x="488520" y="3682080"/>
            <a:ext cx="8796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5" name="PlaceHolder 2"/>
          <p:cNvSpPr>
            <a:spLocks noGrp="1"/>
          </p:cNvSpPr>
          <p:nvPr>
            <p:ph/>
          </p:nvPr>
        </p:nvSpPr>
        <p:spPr>
          <a:xfrm>
            <a:off x="488520" y="1604520"/>
            <a:ext cx="8796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488520" y="3682080"/>
            <a:ext cx="8796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8" name="PlaceHolder 2"/>
          <p:cNvSpPr>
            <a:spLocks noGrp="1"/>
          </p:cNvSpPr>
          <p:nvPr>
            <p:ph/>
          </p:nvPr>
        </p:nvSpPr>
        <p:spPr>
          <a:xfrm>
            <a:off x="4885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3"/>
          <p:cNvSpPr>
            <a:spLocks noGrp="1"/>
          </p:cNvSpPr>
          <p:nvPr>
            <p:ph/>
          </p:nvPr>
        </p:nvSpPr>
        <p:spPr>
          <a:xfrm>
            <a:off x="49957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4"/>
          <p:cNvSpPr>
            <a:spLocks noGrp="1"/>
          </p:cNvSpPr>
          <p:nvPr>
            <p:ph/>
          </p:nvPr>
        </p:nvSpPr>
        <p:spPr>
          <a:xfrm>
            <a:off x="4885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5"/>
          <p:cNvSpPr>
            <a:spLocks noGrp="1"/>
          </p:cNvSpPr>
          <p:nvPr>
            <p:ph/>
          </p:nvPr>
        </p:nvSpPr>
        <p:spPr>
          <a:xfrm>
            <a:off x="49957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3" name="PlaceHolder 2"/>
          <p:cNvSpPr>
            <a:spLocks noGrp="1"/>
          </p:cNvSpPr>
          <p:nvPr>
            <p:ph/>
          </p:nvPr>
        </p:nvSpPr>
        <p:spPr>
          <a:xfrm>
            <a:off x="488520" y="160452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3"/>
          <p:cNvSpPr>
            <a:spLocks noGrp="1"/>
          </p:cNvSpPr>
          <p:nvPr>
            <p:ph/>
          </p:nvPr>
        </p:nvSpPr>
        <p:spPr>
          <a:xfrm>
            <a:off x="3462480" y="160452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 name="PlaceHolder 4"/>
          <p:cNvSpPr>
            <a:spLocks noGrp="1"/>
          </p:cNvSpPr>
          <p:nvPr>
            <p:ph/>
          </p:nvPr>
        </p:nvSpPr>
        <p:spPr>
          <a:xfrm>
            <a:off x="6436800" y="160452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 name="PlaceHolder 5"/>
          <p:cNvSpPr>
            <a:spLocks noGrp="1"/>
          </p:cNvSpPr>
          <p:nvPr>
            <p:ph/>
          </p:nvPr>
        </p:nvSpPr>
        <p:spPr>
          <a:xfrm>
            <a:off x="488520" y="368208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 name="PlaceHolder 6"/>
          <p:cNvSpPr>
            <a:spLocks noGrp="1"/>
          </p:cNvSpPr>
          <p:nvPr>
            <p:ph/>
          </p:nvPr>
        </p:nvSpPr>
        <p:spPr>
          <a:xfrm>
            <a:off x="3462480" y="368208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8" name="PlaceHolder 7"/>
          <p:cNvSpPr>
            <a:spLocks noGrp="1"/>
          </p:cNvSpPr>
          <p:nvPr>
            <p:ph/>
          </p:nvPr>
        </p:nvSpPr>
        <p:spPr>
          <a:xfrm>
            <a:off x="6436800" y="368208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2" name="PlaceHolder 2"/>
          <p:cNvSpPr>
            <a:spLocks noGrp="1"/>
          </p:cNvSpPr>
          <p:nvPr>
            <p:ph type="subTitle"/>
          </p:nvPr>
        </p:nvSpPr>
        <p:spPr>
          <a:xfrm>
            <a:off x="488520" y="1604520"/>
            <a:ext cx="8796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4" name="PlaceHolder 2"/>
          <p:cNvSpPr>
            <a:spLocks noGrp="1"/>
          </p:cNvSpPr>
          <p:nvPr>
            <p:ph/>
          </p:nvPr>
        </p:nvSpPr>
        <p:spPr>
          <a:xfrm>
            <a:off x="488520" y="1604520"/>
            <a:ext cx="8796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6" name="PlaceHolder 2"/>
          <p:cNvSpPr>
            <a:spLocks noGrp="1"/>
          </p:cNvSpPr>
          <p:nvPr>
            <p:ph/>
          </p:nvPr>
        </p:nvSpPr>
        <p:spPr>
          <a:xfrm>
            <a:off x="4885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7" name="PlaceHolder 3"/>
          <p:cNvSpPr>
            <a:spLocks noGrp="1"/>
          </p:cNvSpPr>
          <p:nvPr>
            <p:ph/>
          </p:nvPr>
        </p:nvSpPr>
        <p:spPr>
          <a:xfrm>
            <a:off x="49957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88520" y="1604520"/>
            <a:ext cx="8796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88520" y="273600"/>
            <a:ext cx="8796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1" name="PlaceHolder 2"/>
          <p:cNvSpPr>
            <a:spLocks noGrp="1"/>
          </p:cNvSpPr>
          <p:nvPr>
            <p:ph/>
          </p:nvPr>
        </p:nvSpPr>
        <p:spPr>
          <a:xfrm>
            <a:off x="4885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2" name="PlaceHolder 3"/>
          <p:cNvSpPr>
            <a:spLocks noGrp="1"/>
          </p:cNvSpPr>
          <p:nvPr>
            <p:ph/>
          </p:nvPr>
        </p:nvSpPr>
        <p:spPr>
          <a:xfrm>
            <a:off x="49957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3" name="PlaceHolder 4"/>
          <p:cNvSpPr>
            <a:spLocks noGrp="1"/>
          </p:cNvSpPr>
          <p:nvPr>
            <p:ph/>
          </p:nvPr>
        </p:nvSpPr>
        <p:spPr>
          <a:xfrm>
            <a:off x="4885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5" name="PlaceHolder 2"/>
          <p:cNvSpPr>
            <a:spLocks noGrp="1"/>
          </p:cNvSpPr>
          <p:nvPr>
            <p:ph/>
          </p:nvPr>
        </p:nvSpPr>
        <p:spPr>
          <a:xfrm>
            <a:off x="4885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6" name="PlaceHolder 3"/>
          <p:cNvSpPr>
            <a:spLocks noGrp="1"/>
          </p:cNvSpPr>
          <p:nvPr>
            <p:ph/>
          </p:nvPr>
        </p:nvSpPr>
        <p:spPr>
          <a:xfrm>
            <a:off x="49957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7" name="PlaceHolder 4"/>
          <p:cNvSpPr>
            <a:spLocks noGrp="1"/>
          </p:cNvSpPr>
          <p:nvPr>
            <p:ph/>
          </p:nvPr>
        </p:nvSpPr>
        <p:spPr>
          <a:xfrm>
            <a:off x="49957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9" name="PlaceHolder 2"/>
          <p:cNvSpPr>
            <a:spLocks noGrp="1"/>
          </p:cNvSpPr>
          <p:nvPr>
            <p:ph/>
          </p:nvPr>
        </p:nvSpPr>
        <p:spPr>
          <a:xfrm>
            <a:off x="4885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0" name="PlaceHolder 3"/>
          <p:cNvSpPr>
            <a:spLocks noGrp="1"/>
          </p:cNvSpPr>
          <p:nvPr>
            <p:ph/>
          </p:nvPr>
        </p:nvSpPr>
        <p:spPr>
          <a:xfrm>
            <a:off x="49957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1" name="PlaceHolder 4"/>
          <p:cNvSpPr>
            <a:spLocks noGrp="1"/>
          </p:cNvSpPr>
          <p:nvPr>
            <p:ph/>
          </p:nvPr>
        </p:nvSpPr>
        <p:spPr>
          <a:xfrm>
            <a:off x="488520" y="3682080"/>
            <a:ext cx="8796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3" name="PlaceHolder 2"/>
          <p:cNvSpPr>
            <a:spLocks noGrp="1"/>
          </p:cNvSpPr>
          <p:nvPr>
            <p:ph/>
          </p:nvPr>
        </p:nvSpPr>
        <p:spPr>
          <a:xfrm>
            <a:off x="488520" y="1604520"/>
            <a:ext cx="8796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 name="PlaceHolder 3"/>
          <p:cNvSpPr>
            <a:spLocks noGrp="1"/>
          </p:cNvSpPr>
          <p:nvPr>
            <p:ph/>
          </p:nvPr>
        </p:nvSpPr>
        <p:spPr>
          <a:xfrm>
            <a:off x="488520" y="3682080"/>
            <a:ext cx="8796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6" name="PlaceHolder 2"/>
          <p:cNvSpPr>
            <a:spLocks noGrp="1"/>
          </p:cNvSpPr>
          <p:nvPr>
            <p:ph/>
          </p:nvPr>
        </p:nvSpPr>
        <p:spPr>
          <a:xfrm>
            <a:off x="4885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7" name="PlaceHolder 3"/>
          <p:cNvSpPr>
            <a:spLocks noGrp="1"/>
          </p:cNvSpPr>
          <p:nvPr>
            <p:ph/>
          </p:nvPr>
        </p:nvSpPr>
        <p:spPr>
          <a:xfrm>
            <a:off x="49957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8" name="PlaceHolder 4"/>
          <p:cNvSpPr>
            <a:spLocks noGrp="1"/>
          </p:cNvSpPr>
          <p:nvPr>
            <p:ph/>
          </p:nvPr>
        </p:nvSpPr>
        <p:spPr>
          <a:xfrm>
            <a:off x="4885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9" name="PlaceHolder 5"/>
          <p:cNvSpPr>
            <a:spLocks noGrp="1"/>
          </p:cNvSpPr>
          <p:nvPr>
            <p:ph/>
          </p:nvPr>
        </p:nvSpPr>
        <p:spPr>
          <a:xfrm>
            <a:off x="49957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1" name="PlaceHolder 2"/>
          <p:cNvSpPr>
            <a:spLocks noGrp="1"/>
          </p:cNvSpPr>
          <p:nvPr>
            <p:ph/>
          </p:nvPr>
        </p:nvSpPr>
        <p:spPr>
          <a:xfrm>
            <a:off x="488520" y="160452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2" name="PlaceHolder 3"/>
          <p:cNvSpPr>
            <a:spLocks noGrp="1"/>
          </p:cNvSpPr>
          <p:nvPr>
            <p:ph/>
          </p:nvPr>
        </p:nvSpPr>
        <p:spPr>
          <a:xfrm>
            <a:off x="3462480" y="160452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3" name="PlaceHolder 4"/>
          <p:cNvSpPr>
            <a:spLocks noGrp="1"/>
          </p:cNvSpPr>
          <p:nvPr>
            <p:ph/>
          </p:nvPr>
        </p:nvSpPr>
        <p:spPr>
          <a:xfrm>
            <a:off x="6436800" y="160452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4" name="PlaceHolder 5"/>
          <p:cNvSpPr>
            <a:spLocks noGrp="1"/>
          </p:cNvSpPr>
          <p:nvPr>
            <p:ph/>
          </p:nvPr>
        </p:nvSpPr>
        <p:spPr>
          <a:xfrm>
            <a:off x="488520" y="368208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5" name="PlaceHolder 6"/>
          <p:cNvSpPr>
            <a:spLocks noGrp="1"/>
          </p:cNvSpPr>
          <p:nvPr>
            <p:ph/>
          </p:nvPr>
        </p:nvSpPr>
        <p:spPr>
          <a:xfrm>
            <a:off x="3462480" y="368208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6" name="PlaceHolder 7"/>
          <p:cNvSpPr>
            <a:spLocks noGrp="1"/>
          </p:cNvSpPr>
          <p:nvPr>
            <p:ph/>
          </p:nvPr>
        </p:nvSpPr>
        <p:spPr>
          <a:xfrm>
            <a:off x="6436800" y="368208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885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9957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88520" y="273600"/>
            <a:ext cx="8796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885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9957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885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885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9957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9957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885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9957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488520" y="3682080"/>
            <a:ext cx="8796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0" name=""/>
          <p:cNvGrpSpPr/>
          <p:nvPr/>
        </p:nvGrpSpPr>
        <p:grpSpPr>
          <a:xfrm>
            <a:off x="695160" y="1600200"/>
            <a:ext cx="8382240" cy="4727520"/>
            <a:chOff x="695160" y="1600200"/>
            <a:chExt cx="8382240" cy="4727520"/>
          </a:xfrm>
        </p:grpSpPr>
        <p:sp>
          <p:nvSpPr>
            <p:cNvPr id="1" name=""/>
            <p:cNvSpPr/>
            <p:nvPr/>
          </p:nvSpPr>
          <p:spPr>
            <a:xfrm>
              <a:off x="703440" y="1603440"/>
              <a:ext cx="8364600" cy="472428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 name=""/>
            <p:cNvSpPr/>
            <p:nvPr/>
          </p:nvSpPr>
          <p:spPr>
            <a:xfrm>
              <a:off x="695160" y="1600200"/>
              <a:ext cx="8363160" cy="4724640"/>
            </a:xfrm>
            <a:custGeom>
              <a:avLst/>
              <a:gdLst/>
              <a:ahLst/>
              <a:rect l="0" t="0" r="r" b="b"/>
              <a:pathLst>
                <a:path fill="none" w="23231" h="13124">
                  <a:moveTo>
                    <a:pt x="23231" y="0"/>
                  </a:moveTo>
                  <a:lnTo>
                    <a:pt x="0" y="0"/>
                  </a:lnTo>
                  <a:lnTo>
                    <a:pt x="0" y="13124"/>
                  </a:lnTo>
                </a:path>
              </a:pathLst>
            </a:custGeom>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 name=""/>
            <p:cNvSpPr/>
            <p:nvPr/>
          </p:nvSpPr>
          <p:spPr>
            <a:xfrm>
              <a:off x="714240" y="1600200"/>
              <a:ext cx="8363160" cy="4724640"/>
            </a:xfrm>
            <a:custGeom>
              <a:avLst/>
              <a:gdLst/>
              <a:ahLst/>
              <a:rect l="0" t="0" r="r" b="b"/>
              <a:pathLst>
                <a:path fill="none" w="23231" h="13124">
                  <a:moveTo>
                    <a:pt x="23231" y="0"/>
                  </a:moveTo>
                  <a:lnTo>
                    <a:pt x="23231" y="13124"/>
                  </a:lnTo>
                  <a:lnTo>
                    <a:pt x="0" y="13124"/>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4" name=""/>
          <p:cNvGrpSpPr/>
          <p:nvPr/>
        </p:nvGrpSpPr>
        <p:grpSpPr>
          <a:xfrm>
            <a:off x="847800" y="1751040"/>
            <a:ext cx="152640" cy="4421160"/>
            <a:chOff x="847800" y="1751040"/>
            <a:chExt cx="152640" cy="4421160"/>
          </a:xfrm>
        </p:grpSpPr>
        <p:sp>
          <p:nvSpPr>
            <p:cNvPr id="5" name=""/>
            <p:cNvSpPr/>
            <p:nvPr/>
          </p:nvSpPr>
          <p:spPr>
            <a:xfrm>
              <a:off x="847800" y="1752480"/>
              <a:ext cx="152280" cy="44197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 name=""/>
            <p:cNvSpPr/>
            <p:nvPr/>
          </p:nvSpPr>
          <p:spPr>
            <a:xfrm>
              <a:off x="847800" y="1751040"/>
              <a:ext cx="152640" cy="4420080"/>
            </a:xfrm>
            <a:custGeom>
              <a:avLst/>
              <a:gdLst/>
              <a:ahLst/>
              <a:rect l="0" t="0" r="r" b="b"/>
              <a:pathLst>
                <a:path fill="none" w="424" h="12278">
                  <a:moveTo>
                    <a:pt x="0" y="12278"/>
                  </a:moveTo>
                  <a:lnTo>
                    <a:pt x="424" y="12278"/>
                  </a:lnTo>
                  <a:lnTo>
                    <a:pt x="424" y="0"/>
                  </a:lnTo>
                </a:path>
              </a:pathLst>
            </a:custGeom>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7" name=""/>
            <p:cNvSpPr/>
            <p:nvPr/>
          </p:nvSpPr>
          <p:spPr>
            <a:xfrm>
              <a:off x="847800" y="1751040"/>
              <a:ext cx="152640" cy="4420080"/>
            </a:xfrm>
            <a:custGeom>
              <a:avLst/>
              <a:gdLst/>
              <a:ahLst/>
              <a:rect l="0" t="0" r="r" b="b"/>
              <a:pathLst>
                <a:path fill="none" w="424" h="12278">
                  <a:moveTo>
                    <a:pt x="0" y="12278"/>
                  </a:moveTo>
                  <a:lnTo>
                    <a:pt x="0" y="0"/>
                  </a:lnTo>
                  <a:lnTo>
                    <a:pt x="424"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 name=""/>
          <p:cNvGrpSpPr/>
          <p:nvPr/>
        </p:nvGrpSpPr>
        <p:grpSpPr>
          <a:xfrm>
            <a:off x="695160" y="304920"/>
            <a:ext cx="305280" cy="1143360"/>
            <a:chOff x="695160" y="304920"/>
            <a:chExt cx="305280" cy="1143360"/>
          </a:xfrm>
        </p:grpSpPr>
        <p:sp>
          <p:nvSpPr>
            <p:cNvPr id="9" name=""/>
            <p:cNvSpPr/>
            <p:nvPr/>
          </p:nvSpPr>
          <p:spPr>
            <a:xfrm>
              <a:off x="695160" y="304920"/>
              <a:ext cx="304920" cy="114300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 name=""/>
            <p:cNvSpPr/>
            <p:nvPr/>
          </p:nvSpPr>
          <p:spPr>
            <a:xfrm>
              <a:off x="695160" y="304920"/>
              <a:ext cx="305280" cy="1143360"/>
            </a:xfrm>
            <a:custGeom>
              <a:avLst/>
              <a:gdLst/>
              <a:ahLst/>
              <a:rect l="0" t="0" r="r" b="b"/>
              <a:pathLst>
                <a:path fill="none" w="848" h="3176">
                  <a:moveTo>
                    <a:pt x="848" y="0"/>
                  </a:moveTo>
                  <a:lnTo>
                    <a:pt x="0" y="0"/>
                  </a:lnTo>
                  <a:lnTo>
                    <a:pt x="0" y="3176"/>
                  </a:lnTo>
                </a:path>
              </a:pathLst>
            </a:custGeom>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11" name=""/>
            <p:cNvSpPr/>
            <p:nvPr/>
          </p:nvSpPr>
          <p:spPr>
            <a:xfrm>
              <a:off x="695160" y="304920"/>
              <a:ext cx="305280" cy="1143360"/>
            </a:xfrm>
            <a:custGeom>
              <a:avLst/>
              <a:gdLst/>
              <a:ahLst/>
              <a:rect l="0" t="0" r="r" b="b"/>
              <a:pathLst>
                <a:path fill="none" w="848" h="3176">
                  <a:moveTo>
                    <a:pt x="848" y="0"/>
                  </a:moveTo>
                  <a:lnTo>
                    <a:pt x="848" y="3176"/>
                  </a:lnTo>
                  <a:lnTo>
                    <a:pt x="0" y="317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pic>
        <p:nvPicPr>
          <p:cNvPr id="12" name="" descr=""/>
          <p:cNvPicPr/>
          <p:nvPr/>
        </p:nvPicPr>
        <p:blipFill>
          <a:blip r:embed="rId2"/>
          <a:stretch/>
        </p:blipFill>
        <p:spPr>
          <a:xfrm>
            <a:off x="8466120" y="5835600"/>
            <a:ext cx="685800" cy="487440"/>
          </a:xfrm>
          <a:prstGeom prst="rect">
            <a:avLst/>
          </a:prstGeom>
          <a:ln w="0">
            <a:noFill/>
          </a:ln>
        </p:spPr>
      </p:pic>
      <p:sp>
        <p:nvSpPr>
          <p:cNvPr id="13"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 name="PlaceHolder 2"/>
          <p:cNvSpPr>
            <a:spLocks noGrp="1"/>
          </p:cNvSpPr>
          <p:nvPr>
            <p:ph type="body"/>
          </p:nvPr>
        </p:nvSpPr>
        <p:spPr>
          <a:xfrm>
            <a:off x="488520" y="1604520"/>
            <a:ext cx="8796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88520" y="1604520"/>
            <a:ext cx="8796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88520" y="1604520"/>
            <a:ext cx="8796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
          <p:cNvGrpSpPr/>
          <p:nvPr/>
        </p:nvGrpSpPr>
        <p:grpSpPr>
          <a:xfrm>
            <a:off x="692280" y="380880"/>
            <a:ext cx="8388720" cy="2514960"/>
            <a:chOff x="692280" y="380880"/>
            <a:chExt cx="8388720" cy="2514960"/>
          </a:xfrm>
        </p:grpSpPr>
        <p:sp>
          <p:nvSpPr>
            <p:cNvPr id="134" name=""/>
            <p:cNvSpPr/>
            <p:nvPr/>
          </p:nvSpPr>
          <p:spPr>
            <a:xfrm>
              <a:off x="700200" y="382680"/>
              <a:ext cx="8369280" cy="251316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5" name=""/>
            <p:cNvSpPr/>
            <p:nvPr/>
          </p:nvSpPr>
          <p:spPr>
            <a:xfrm>
              <a:off x="692280" y="380880"/>
              <a:ext cx="8369640" cy="2514960"/>
            </a:xfrm>
            <a:custGeom>
              <a:avLst/>
              <a:gdLst/>
              <a:ahLst/>
              <a:rect l="0" t="0" r="r" b="b"/>
              <a:pathLst>
                <a:path fill="none" w="23249" h="6986">
                  <a:moveTo>
                    <a:pt x="23249" y="0"/>
                  </a:moveTo>
                  <a:lnTo>
                    <a:pt x="0" y="0"/>
                  </a:lnTo>
                  <a:lnTo>
                    <a:pt x="0" y="6986"/>
                  </a:lnTo>
                </a:path>
              </a:pathLst>
            </a:custGeom>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711360" y="380880"/>
              <a:ext cx="8369640" cy="2514960"/>
            </a:xfrm>
            <a:custGeom>
              <a:avLst/>
              <a:gdLst/>
              <a:ahLst/>
              <a:rect l="0" t="0" r="r" b="b"/>
              <a:pathLst>
                <a:path fill="none" w="23249" h="6986">
                  <a:moveTo>
                    <a:pt x="23249" y="0"/>
                  </a:moveTo>
                  <a:lnTo>
                    <a:pt x="23249" y="6986"/>
                  </a:lnTo>
                  <a:lnTo>
                    <a:pt x="0" y="698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37" name=""/>
          <p:cNvGrpSpPr/>
          <p:nvPr/>
        </p:nvGrpSpPr>
        <p:grpSpPr>
          <a:xfrm>
            <a:off x="695160" y="5999040"/>
            <a:ext cx="8382240" cy="173520"/>
            <a:chOff x="695160" y="5999040"/>
            <a:chExt cx="8382240" cy="173520"/>
          </a:xfrm>
        </p:grpSpPr>
        <p:sp>
          <p:nvSpPr>
            <p:cNvPr id="138" name=""/>
            <p:cNvSpPr/>
            <p:nvPr/>
          </p:nvSpPr>
          <p:spPr>
            <a:xfrm>
              <a:off x="695160" y="5999040"/>
              <a:ext cx="8381880" cy="17316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9" name=""/>
            <p:cNvSpPr/>
            <p:nvPr/>
          </p:nvSpPr>
          <p:spPr>
            <a:xfrm>
              <a:off x="695160" y="5999040"/>
              <a:ext cx="8382240" cy="173520"/>
            </a:xfrm>
            <a:custGeom>
              <a:avLst/>
              <a:gdLst/>
              <a:ahLst/>
              <a:rect l="0" t="0" r="r" b="b"/>
              <a:pathLst>
                <a:path fill="none" w="23284" h="482">
                  <a:moveTo>
                    <a:pt x="23284" y="0"/>
                  </a:moveTo>
                  <a:lnTo>
                    <a:pt x="0" y="0"/>
                  </a:lnTo>
                  <a:lnTo>
                    <a:pt x="0" y="482"/>
                  </a:lnTo>
                </a:path>
              </a:pathLst>
            </a:custGeom>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695160" y="5999040"/>
              <a:ext cx="8382240" cy="173520"/>
            </a:xfrm>
            <a:custGeom>
              <a:avLst/>
              <a:gdLst/>
              <a:ahLst/>
              <a:rect l="0" t="0" r="r" b="b"/>
              <a:pathLst>
                <a:path fill="none" w="23284" h="482">
                  <a:moveTo>
                    <a:pt x="23284" y="0"/>
                  </a:moveTo>
                  <a:lnTo>
                    <a:pt x="23284" y="482"/>
                  </a:lnTo>
                  <a:lnTo>
                    <a:pt x="0" y="482"/>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41" name=""/>
          <p:cNvGrpSpPr/>
          <p:nvPr/>
        </p:nvGrpSpPr>
        <p:grpSpPr>
          <a:xfrm>
            <a:off x="851040" y="641520"/>
            <a:ext cx="152640" cy="1993680"/>
            <a:chOff x="851040" y="641520"/>
            <a:chExt cx="152640" cy="1993680"/>
          </a:xfrm>
        </p:grpSpPr>
        <p:sp>
          <p:nvSpPr>
            <p:cNvPr id="142" name=""/>
            <p:cNvSpPr/>
            <p:nvPr/>
          </p:nvSpPr>
          <p:spPr>
            <a:xfrm>
              <a:off x="851040" y="642960"/>
              <a:ext cx="152280" cy="19922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3" name=""/>
            <p:cNvSpPr/>
            <p:nvPr/>
          </p:nvSpPr>
          <p:spPr>
            <a:xfrm>
              <a:off x="851040" y="641520"/>
              <a:ext cx="152640" cy="1992600"/>
            </a:xfrm>
            <a:custGeom>
              <a:avLst/>
              <a:gdLst/>
              <a:ahLst/>
              <a:rect l="0" t="0" r="r" b="b"/>
              <a:pathLst>
                <a:path fill="none" w="424" h="5535">
                  <a:moveTo>
                    <a:pt x="0" y="5535"/>
                  </a:moveTo>
                  <a:lnTo>
                    <a:pt x="424" y="5535"/>
                  </a:lnTo>
                  <a:lnTo>
                    <a:pt x="424" y="0"/>
                  </a:lnTo>
                </a:path>
              </a:pathLst>
            </a:custGeom>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851040" y="641520"/>
              <a:ext cx="152640" cy="1992600"/>
            </a:xfrm>
            <a:custGeom>
              <a:avLst/>
              <a:gdLst/>
              <a:ahLst/>
              <a:rect l="0" t="0" r="r" b="b"/>
              <a:pathLst>
                <a:path fill="none" w="424" h="5535">
                  <a:moveTo>
                    <a:pt x="0" y="5535"/>
                  </a:moveTo>
                  <a:lnTo>
                    <a:pt x="0" y="0"/>
                  </a:lnTo>
                  <a:lnTo>
                    <a:pt x="424"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5" name=""/>
          <p:cNvSpPr txBox="1"/>
          <p:nvPr/>
        </p:nvSpPr>
        <p:spPr>
          <a:xfrm>
            <a:off x="1074600" y="1066680"/>
            <a:ext cx="7772400" cy="2286720"/>
          </a:xfrm>
          <a:prstGeom prst="rect">
            <a:avLst/>
          </a:prstGeom>
          <a:noFill/>
          <a:ln w="0">
            <a:noFill/>
          </a:ln>
        </p:spPr>
        <p:txBody>
          <a:bodyPr lIns="0" rIns="0" tIns="0" bIns="0" anchor="t">
            <a:noAutofit/>
          </a:bodyPr>
          <a:p>
            <a:pPr algn="ctr">
              <a:lnSpc>
                <a:spcPct val="100000"/>
              </a:lnSpc>
            </a:pPr>
            <a:r>
              <a:rPr b="1" lang="en-US" sz="4400" spc="-1" strike="noStrike">
                <a:solidFill>
                  <a:srgbClr val="009900"/>
                </a:solidFill>
                <a:latin typeface="Arial Rounded MT Bold"/>
                <a:ea typeface="Arial Rounded MT Bold"/>
              </a:rPr>
              <a:t>German Co-operation with Developing Countries on </a:t>
            </a:r>
            <a:br>
              <a:rPr sz="4400"/>
            </a:br>
            <a:r>
              <a:rPr b="1" lang="en-US" sz="4400" spc="-1" strike="noStrike">
                <a:solidFill>
                  <a:srgbClr val="009900"/>
                </a:solidFill>
                <a:latin typeface="Arial Rounded MT Bold"/>
                <a:ea typeface="Arial Rounded MT Bold"/>
              </a:rPr>
              <a:t>Climate Policies</a:t>
            </a:r>
            <a:endParaRPr b="0" lang="en-US" sz="4400" spc="-1" strike="noStrike">
              <a:solidFill>
                <a:srgbClr val="000000"/>
              </a:solidFill>
              <a:latin typeface="Arial"/>
            </a:endParaRPr>
          </a:p>
        </p:txBody>
      </p:sp>
      <p:sp>
        <p:nvSpPr>
          <p:cNvPr id="146" name=""/>
          <p:cNvSpPr txBox="1"/>
          <p:nvPr/>
        </p:nvSpPr>
        <p:spPr>
          <a:xfrm>
            <a:off x="1228680" y="3124080"/>
            <a:ext cx="7238880" cy="1828800"/>
          </a:xfrm>
          <a:prstGeom prst="rect">
            <a:avLst/>
          </a:prstGeom>
          <a:noFill/>
          <a:ln w="0">
            <a:noFill/>
          </a:ln>
        </p:spPr>
        <p:txBody>
          <a:bodyPr lIns="0" rIns="0" tIns="0" bIns="0" anchor="t">
            <a:noAutofit/>
          </a:bodyPr>
          <a:p>
            <a:pPr algn="ctr">
              <a:lnSpc>
                <a:spcPct val="100000"/>
              </a:lnSpc>
              <a:spcBef>
                <a:spcPts val="479"/>
              </a:spcBef>
            </a:pPr>
            <a:r>
              <a:rPr b="1" i="1" lang="en-US" sz="4000" spc="-1" strike="noStrike">
                <a:solidFill>
                  <a:srgbClr val="3333ff"/>
                </a:solidFill>
                <a:latin typeface="Arial Rounded MT Bold"/>
                <a:ea typeface="Arial Rounded MT Bold"/>
              </a:rPr>
              <a:t>Programme on “Measures to Implement the UN FCCC”</a:t>
            </a:r>
            <a:endParaRPr b="0" lang="en-US" sz="4000" spc="-1" strike="noStrike">
              <a:solidFill>
                <a:srgbClr val="000000"/>
              </a:solidFill>
              <a:latin typeface="Arial"/>
            </a:endParaRPr>
          </a:p>
        </p:txBody>
      </p:sp>
      <p:sp>
        <p:nvSpPr>
          <p:cNvPr id="147" name=""/>
          <p:cNvSpPr txBox="1"/>
          <p:nvPr/>
        </p:nvSpPr>
        <p:spPr>
          <a:xfrm>
            <a:off x="1822320" y="5089680"/>
            <a:ext cx="4761000" cy="83268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2400" spc="-1" strike="noStrike">
                <a:solidFill>
                  <a:srgbClr val="990033"/>
                </a:solidFill>
                <a:latin typeface="Arial Rounded MT Bold"/>
                <a:ea typeface="Arial Rounded MT Bold"/>
              </a:rPr>
              <a:t> </a:t>
            </a:r>
            <a:r>
              <a:rPr b="1" lang="en-US" sz="2400" spc="-1" strike="noStrike">
                <a:solidFill>
                  <a:srgbClr val="990033"/>
                </a:solidFill>
                <a:latin typeface="Arial Rounded MT Bold"/>
                <a:ea typeface="Arial Rounded MT Bold"/>
              </a:rPr>
              <a:t>by Holger Liptow</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1" lang="en-US" sz="2400" spc="-1" strike="noStrike">
                <a:solidFill>
                  <a:srgbClr val="990033"/>
                </a:solidFill>
                <a:latin typeface="Arial Rounded MT Bold"/>
                <a:ea typeface="Arial Rounded MT Bold"/>
              </a:rPr>
              <a:t> </a:t>
            </a:r>
            <a:r>
              <a:rPr b="1" lang="en-US" sz="2400" spc="-1" strike="noStrike">
                <a:solidFill>
                  <a:srgbClr val="990033"/>
                </a:solidFill>
                <a:latin typeface="Arial Rounded MT Bold"/>
                <a:ea typeface="Arial Rounded MT Bold"/>
              </a:rPr>
              <a:t>presented by Dr. Paul Suding</a:t>
            </a:r>
            <a:endParaRPr b="0" lang="en-US" sz="2400" spc="-1" strike="noStrike">
              <a:solidFill>
                <a:srgbClr val="000000"/>
              </a:solidFill>
              <a:latin typeface="Arial"/>
            </a:endParaRPr>
          </a:p>
        </p:txBody>
      </p:sp>
      <p:pic>
        <p:nvPicPr>
          <p:cNvPr id="148" name="" descr=""/>
          <p:cNvPicPr/>
          <p:nvPr/>
        </p:nvPicPr>
        <p:blipFill>
          <a:blip r:embed="rId1"/>
          <a:stretch/>
        </p:blipFill>
        <p:spPr>
          <a:xfrm>
            <a:off x="8534520" y="6286680"/>
            <a:ext cx="587520" cy="41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1152360" y="343080"/>
            <a:ext cx="7772400" cy="1104840"/>
          </a:xfrm>
          <a:prstGeom prst="rect">
            <a:avLst/>
          </a:prstGeom>
          <a:noFill/>
          <a:ln w="0">
            <a:noFill/>
          </a:ln>
        </p:spPr>
        <p:txBody>
          <a:bodyPr lIns="0" rIns="0" tIns="0" bIns="0" anchor="t">
            <a:noAutofit/>
          </a:bodyPr>
          <a:p>
            <a:pPr algn="ctr">
              <a:lnSpc>
                <a:spcPct val="100000"/>
              </a:lnSpc>
            </a:pPr>
            <a:r>
              <a:rPr b="1" lang="en-US" sz="4000" spc="-1" strike="noStrike">
                <a:solidFill>
                  <a:srgbClr val="3333ff"/>
                </a:solidFill>
                <a:latin typeface="Arial Rounded MT Bold"/>
                <a:ea typeface="Arial Rounded MT Bold"/>
              </a:rPr>
              <a:t>Phase 3</a:t>
            </a:r>
            <a:r>
              <a:rPr b="1" lang="en-US" sz="3600" spc="-1" strike="noStrike">
                <a:solidFill>
                  <a:srgbClr val="3333ff"/>
                </a:solidFill>
                <a:latin typeface="Arial Rounded MT Bold"/>
                <a:ea typeface="Arial Rounded MT Bold"/>
              </a:rPr>
              <a:t> </a:t>
            </a:r>
            <a:endParaRPr b="0" lang="en-US" sz="3600" spc="-1" strike="noStrike">
              <a:solidFill>
                <a:srgbClr val="000000"/>
              </a:solidFill>
              <a:latin typeface="Arial"/>
            </a:endParaRPr>
          </a:p>
        </p:txBody>
      </p:sp>
      <p:sp>
        <p:nvSpPr>
          <p:cNvPr id="453" name=""/>
          <p:cNvSpPr txBox="1"/>
          <p:nvPr/>
        </p:nvSpPr>
        <p:spPr>
          <a:xfrm>
            <a:off x="1152360" y="1752480"/>
            <a:ext cx="7772400" cy="4516920"/>
          </a:xfrm>
          <a:prstGeom prst="rect">
            <a:avLst/>
          </a:prstGeom>
          <a:noFill/>
          <a:ln w="0">
            <a:noFill/>
          </a:ln>
        </p:spPr>
        <p:txBody>
          <a:bodyPr lIns="0" rIns="0" tIns="0" bIns="0" anchor="t">
            <a:noAutofit/>
          </a:bodyPr>
          <a:p>
            <a:pPr marL="343080" indent="-343080">
              <a:lnSpc>
                <a:spcPct val="130000"/>
              </a:lnSpc>
              <a:spcBef>
                <a:spcPts val="479"/>
              </a:spcBef>
              <a:buClr>
                <a:srgbClr val="b2b2b2"/>
              </a:buClr>
              <a:buSzPct val="75000"/>
              <a:buFont typeface="Monotype Sorts"/>
              <a:buChar char=""/>
            </a:pPr>
            <a:r>
              <a:rPr b="1" lang="en-US" sz="2800" spc="-1" strike="noStrike">
                <a:solidFill>
                  <a:srgbClr val="cc0000"/>
                </a:solidFill>
                <a:latin typeface="Arial Rounded MT Bold"/>
                <a:ea typeface="Arial Rounded MT Bold"/>
              </a:rPr>
              <a:t>Open for new proposal and requests for support in Phase 3 </a:t>
            </a:r>
            <a:r>
              <a:rPr b="1" lang="en-US" sz="2800" spc="-1" strike="noStrike">
                <a:solidFill>
                  <a:srgbClr val="008080"/>
                </a:solidFill>
                <a:latin typeface="Arial Rounded MT Bold"/>
                <a:ea typeface="Arial Rounded MT Bold"/>
              </a:rPr>
              <a:t>(1999-2001)</a:t>
            </a:r>
            <a:r>
              <a:rPr b="1" lang="en-US" sz="2800" spc="-1" strike="noStrike">
                <a:solidFill>
                  <a:srgbClr val="cc0000"/>
                </a:solidFill>
                <a:latin typeface="Arial Rounded MT Bold"/>
                <a:ea typeface="Arial Rounded MT Bold"/>
              </a:rPr>
              <a:t> along the policy presented</a:t>
            </a:r>
            <a:endParaRPr b="0" lang="en-US" sz="2800" spc="-1" strike="noStrike">
              <a:solidFill>
                <a:srgbClr val="000000"/>
              </a:solidFill>
              <a:latin typeface="Arial"/>
            </a:endParaRPr>
          </a:p>
          <a:p>
            <a:pPr marL="343080" indent="-343080">
              <a:lnSpc>
                <a:spcPct val="130000"/>
              </a:lnSpc>
              <a:spcBef>
                <a:spcPts val="479"/>
              </a:spcBef>
              <a:buClr>
                <a:srgbClr val="b2b2b2"/>
              </a:buClr>
              <a:buSzPct val="75000"/>
              <a:buFont typeface="Monotype Sorts"/>
              <a:buChar char=""/>
            </a:pPr>
            <a:r>
              <a:rPr b="1" lang="en-US" sz="2800" spc="-1" strike="noStrike">
                <a:solidFill>
                  <a:srgbClr val="009900"/>
                </a:solidFill>
                <a:latin typeface="Arial Rounded MT Bold"/>
                <a:ea typeface="Arial Rounded MT Bold"/>
              </a:rPr>
              <a:t>Contact any GTZ office, project or the headoffice in Eschborn, Germany</a:t>
            </a:r>
            <a:endParaRPr b="0" lang="en-US" sz="2800" spc="-1" strike="noStrike">
              <a:solidFill>
                <a:srgbClr val="000000"/>
              </a:solidFill>
              <a:latin typeface="Arial"/>
            </a:endParaRPr>
          </a:p>
          <a:p>
            <a:pPr marL="343080" indent="-343080">
              <a:lnSpc>
                <a:spcPct val="130000"/>
              </a:lnSpc>
              <a:spcBef>
                <a:spcPts val="479"/>
              </a:spcBef>
              <a:buClr>
                <a:srgbClr val="b2b2b2"/>
              </a:buClr>
              <a:buSzPct val="75000"/>
              <a:buFont typeface="Monotype Sorts"/>
              <a:buChar char=""/>
            </a:pPr>
            <a:r>
              <a:rPr b="1" lang="en-US" sz="2800" spc="-1" strike="noStrike">
                <a:solidFill>
                  <a:srgbClr val="330099"/>
                </a:solidFill>
                <a:latin typeface="Arial Rounded MT Bold"/>
                <a:ea typeface="Arial Rounded MT Bold"/>
              </a:rPr>
              <a:t>Details on Policy and Focus</a:t>
            </a:r>
            <a:br>
              <a:rPr sz="2800"/>
            </a:br>
            <a:r>
              <a:rPr b="1" i="1" lang="en-US" sz="2800" spc="-1" strike="noStrike">
                <a:solidFill>
                  <a:srgbClr val="330099"/>
                </a:solidFill>
                <a:latin typeface="Arial Rounded MT Bold"/>
                <a:ea typeface="Arial Rounded MT Bold"/>
              </a:rPr>
              <a:t>in our Brochure</a:t>
            </a:r>
            <a:r>
              <a:rPr b="1" lang="en-US" sz="2800" spc="-1" strike="noStrike">
                <a:solidFill>
                  <a:srgbClr val="330099"/>
                </a:solidFill>
                <a:latin typeface="Arial Rounded MT Bold"/>
                <a:ea typeface="Arial Rounded MT Bold"/>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 descr=""/>
          <p:cNvPicPr/>
          <p:nvPr/>
        </p:nvPicPr>
        <p:blipFill>
          <a:blip r:embed="rId1"/>
          <a:stretch/>
        </p:blipFill>
        <p:spPr>
          <a:xfrm>
            <a:off x="1600200" y="343080"/>
            <a:ext cx="1522440" cy="1085760"/>
          </a:xfrm>
          <a:prstGeom prst="rect">
            <a:avLst/>
          </a:prstGeom>
          <a:ln w="0">
            <a:noFill/>
          </a:ln>
        </p:spPr>
      </p:pic>
      <p:sp>
        <p:nvSpPr>
          <p:cNvPr id="150" name=""/>
          <p:cNvSpPr txBox="1"/>
          <p:nvPr/>
        </p:nvSpPr>
        <p:spPr>
          <a:xfrm>
            <a:off x="1152360" y="1752480"/>
            <a:ext cx="3809880" cy="4352040"/>
          </a:xfrm>
          <a:prstGeom prst="rect">
            <a:avLst/>
          </a:prstGeom>
          <a:noFill/>
          <a:ln w="0">
            <a:noFill/>
          </a:ln>
        </p:spPr>
        <p:txBody>
          <a:bodyPr lIns="0" rIns="0" tIns="0" bIns="0" anchor="t">
            <a:noAutofit/>
          </a:bodyPr>
          <a:p>
            <a:pPr marL="343080" indent="-343080">
              <a:lnSpc>
                <a:spcPct val="100000"/>
              </a:lnSpc>
              <a:spcBef>
                <a:spcPts val="479"/>
              </a:spcBef>
              <a:spcAft>
                <a:spcPts val="720"/>
              </a:spcAft>
              <a:buClr>
                <a:srgbClr val="b2b2b2"/>
              </a:buClr>
              <a:buSzPct val="75000"/>
              <a:buFont typeface="Monotype Sorts"/>
              <a:buChar char=""/>
            </a:pPr>
            <a:r>
              <a:rPr b="1" lang="en-US" sz="2000" spc="-1" strike="noStrike">
                <a:solidFill>
                  <a:srgbClr val="330099"/>
                </a:solidFill>
                <a:latin typeface="Arial Rounded MT Bold"/>
                <a:ea typeface="Arial Rounded MT Bold"/>
              </a:rPr>
              <a:t>Deutsche Gesellschaft</a:t>
            </a:r>
            <a:br>
              <a:rPr sz="2000"/>
            </a:br>
            <a:r>
              <a:rPr b="1" lang="en-US" sz="2000" spc="-1" strike="noStrike">
                <a:solidFill>
                  <a:srgbClr val="330099"/>
                </a:solidFill>
                <a:latin typeface="Arial Rounded MT Bold"/>
                <a:ea typeface="Arial Rounded MT Bold"/>
              </a:rPr>
              <a:t>für Technische Zusam-menarbeit (GTZ) GmbH</a:t>
            </a:r>
            <a:endParaRPr b="0" lang="en-US" sz="2000" spc="-1" strike="noStrike">
              <a:solidFill>
                <a:srgbClr val="000000"/>
              </a:solidFill>
              <a:latin typeface="Arial"/>
            </a:endParaRPr>
          </a:p>
          <a:p>
            <a:pPr marL="343080" indent="-343080">
              <a:lnSpc>
                <a:spcPct val="100000"/>
              </a:lnSpc>
              <a:spcBef>
                <a:spcPts val="479"/>
              </a:spcBef>
              <a:spcAft>
                <a:spcPts val="720"/>
              </a:spcAft>
              <a:buClr>
                <a:srgbClr val="b2b2b2"/>
              </a:buClr>
              <a:buSzPct val="75000"/>
              <a:buFont typeface="Monotype Sorts"/>
              <a:buChar char=""/>
            </a:pPr>
            <a:r>
              <a:rPr b="1" lang="en-US" sz="2000" spc="-1" strike="noStrike">
                <a:solidFill>
                  <a:srgbClr val="330099"/>
                </a:solidFill>
                <a:latin typeface="Arial Rounded MT Bold"/>
                <a:ea typeface="Arial Rounded MT Bold"/>
              </a:rPr>
              <a:t>State service organi-sations for German Technical Co-operation</a:t>
            </a:r>
            <a:endParaRPr b="0" lang="en-US" sz="2000" spc="-1" strike="noStrike">
              <a:solidFill>
                <a:srgbClr val="000000"/>
              </a:solidFill>
              <a:latin typeface="Arial"/>
            </a:endParaRPr>
          </a:p>
          <a:p>
            <a:pPr marL="343080" indent="-343080">
              <a:lnSpc>
                <a:spcPct val="100000"/>
              </a:lnSpc>
              <a:spcBef>
                <a:spcPts val="479"/>
              </a:spcBef>
              <a:spcAft>
                <a:spcPts val="720"/>
              </a:spcAft>
              <a:buClr>
                <a:srgbClr val="b2b2b2"/>
              </a:buClr>
              <a:buSzPct val="75000"/>
              <a:buFont typeface="Monotype Sorts"/>
              <a:buChar char=""/>
            </a:pPr>
            <a:r>
              <a:rPr b="1" lang="en-US" sz="2000" spc="-1" strike="noStrike">
                <a:solidFill>
                  <a:srgbClr val="330099"/>
                </a:solidFill>
                <a:latin typeface="Arial Rounded MT Bold"/>
                <a:ea typeface="Arial Rounded MT Bold"/>
              </a:rPr>
              <a:t>Mission derived from development policy guide-lines of the Ministry for Economic Co-operation and Development</a:t>
            </a:r>
            <a:br>
              <a:rPr sz="2000"/>
            </a:br>
            <a:r>
              <a:rPr b="1" lang="en-US" sz="2000" spc="-1" strike="noStrike">
                <a:solidFill>
                  <a:srgbClr val="330099"/>
                </a:solidFill>
                <a:latin typeface="Arial Rounded MT Bold"/>
              </a:rPr>
              <a:t> </a:t>
            </a:r>
            <a:endParaRPr b="0" lang="en-US" sz="2000" spc="-1" strike="noStrike">
              <a:solidFill>
                <a:srgbClr val="000000"/>
              </a:solidFill>
              <a:latin typeface="Arial"/>
            </a:endParaRPr>
          </a:p>
        </p:txBody>
      </p:sp>
      <p:sp>
        <p:nvSpPr>
          <p:cNvPr id="151" name=""/>
          <p:cNvSpPr txBox="1"/>
          <p:nvPr/>
        </p:nvSpPr>
        <p:spPr>
          <a:xfrm>
            <a:off x="5114880" y="1752480"/>
            <a:ext cx="3809880" cy="4542120"/>
          </a:xfrm>
          <a:prstGeom prst="rect">
            <a:avLst/>
          </a:prstGeom>
          <a:noFill/>
          <a:ln w="0">
            <a:noFill/>
          </a:ln>
        </p:spPr>
        <p:txBody>
          <a:bodyPr lIns="0" rIns="0" tIns="0" bIns="0" anchor="t">
            <a:noAutofit/>
          </a:bodyPr>
          <a:p>
            <a:pPr marL="343080" indent="-343080" algn="ctr">
              <a:lnSpc>
                <a:spcPct val="100000"/>
              </a:lnSpc>
              <a:spcBef>
                <a:spcPts val="479"/>
              </a:spcBef>
            </a:pPr>
            <a:r>
              <a:rPr b="1" lang="en-US" sz="2400" spc="-1" strike="noStrike">
                <a:solidFill>
                  <a:srgbClr val="330099"/>
                </a:solidFill>
                <a:latin typeface="Arial Rounded MT Bold"/>
                <a:ea typeface="Arial Rounded MT Bold"/>
              </a:rPr>
              <a:t>1997</a:t>
            </a:r>
            <a:endParaRPr b="0" lang="en-US" sz="24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1" lang="en-US" sz="2000" spc="-1" strike="noStrike">
                <a:solidFill>
                  <a:srgbClr val="330099"/>
                </a:solidFill>
                <a:latin typeface="Arial Rounded MT Bold"/>
                <a:ea typeface="Arial Rounded MT Bold"/>
              </a:rPr>
              <a:t>2880 projects in 142 countries of Africa, Asia and Latin America as well as  Countries with Economies in Transition</a:t>
            </a:r>
            <a:endParaRPr b="0" lang="en-US" sz="20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1" lang="en-US" sz="2000" spc="-1" strike="noStrike">
                <a:solidFill>
                  <a:srgbClr val="330099"/>
                </a:solidFill>
                <a:latin typeface="Arial Rounded MT Bold"/>
                <a:ea typeface="Arial Rounded MT Bold"/>
              </a:rPr>
              <a:t>Turnover: </a:t>
            </a:r>
            <a:br>
              <a:rPr sz="2000"/>
            </a:br>
            <a:r>
              <a:rPr b="1" lang="en-US" sz="2000" spc="-1" strike="noStrike">
                <a:solidFill>
                  <a:srgbClr val="330099"/>
                </a:solidFill>
                <a:latin typeface="Arial Rounded MT Bold"/>
                <a:ea typeface="Arial Rounded MT Bold"/>
              </a:rPr>
              <a:t>DM 1.7 billion</a:t>
            </a:r>
            <a:endParaRPr b="0" lang="en-US" sz="20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1" lang="en-US" sz="2000" spc="-1" strike="noStrike">
                <a:solidFill>
                  <a:srgbClr val="330099"/>
                </a:solidFill>
                <a:latin typeface="Arial Rounded MT Bold"/>
                <a:ea typeface="Arial Rounded MT Bold"/>
              </a:rPr>
              <a:t>12200 staff</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1" lang="en-US" sz="2000" spc="-1" strike="noStrike">
                <a:solidFill>
                  <a:srgbClr val="330099"/>
                </a:solidFill>
                <a:latin typeface="Arial Rounded MT Bold"/>
                <a:ea typeface="Arial Rounded MT Bold"/>
              </a:rPr>
              <a:t>Head Office in Eschborn near Frankfurt; German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152360" y="343080"/>
            <a:ext cx="7772400" cy="1247400"/>
          </a:xfrm>
          <a:prstGeom prst="rect">
            <a:avLst/>
          </a:prstGeom>
          <a:noFill/>
          <a:ln w="0">
            <a:noFill/>
          </a:ln>
        </p:spPr>
        <p:txBody>
          <a:bodyPr lIns="0" rIns="0" tIns="0" bIns="0" anchor="t">
            <a:noAutofit/>
          </a:bodyPr>
          <a:p>
            <a:pPr algn="ctr">
              <a:lnSpc>
                <a:spcPct val="100000"/>
              </a:lnSpc>
            </a:pPr>
            <a:r>
              <a:rPr b="1" lang="en-US" sz="3600" spc="-1" strike="noStrike">
                <a:solidFill>
                  <a:srgbClr val="3333ff"/>
                </a:solidFill>
                <a:latin typeface="Arial Rounded MT Bold"/>
                <a:ea typeface="Arial Rounded MT Bold"/>
              </a:rPr>
              <a:t>Measures to Implement the </a:t>
            </a:r>
            <a:br>
              <a:rPr sz="3600"/>
            </a:br>
            <a:r>
              <a:rPr b="1" lang="en-US" sz="3600" spc="-1" strike="noStrike">
                <a:solidFill>
                  <a:srgbClr val="3333ff"/>
                </a:solidFill>
                <a:latin typeface="Arial Rounded MT Bold"/>
                <a:ea typeface="Arial Rounded MT Bold"/>
              </a:rPr>
              <a:t>UN FCCC </a:t>
            </a:r>
            <a:endParaRPr b="0" lang="en-US" sz="3600" spc="-1" strike="noStrike">
              <a:solidFill>
                <a:srgbClr val="000000"/>
              </a:solidFill>
              <a:latin typeface="Arial"/>
            </a:endParaRPr>
          </a:p>
        </p:txBody>
      </p:sp>
      <p:sp>
        <p:nvSpPr>
          <p:cNvPr id="153" name=""/>
          <p:cNvSpPr txBox="1"/>
          <p:nvPr/>
        </p:nvSpPr>
        <p:spPr>
          <a:xfrm>
            <a:off x="1152360" y="1676520"/>
            <a:ext cx="7772400" cy="5393160"/>
          </a:xfrm>
          <a:prstGeom prst="rect">
            <a:avLst/>
          </a:prstGeom>
          <a:noFill/>
          <a:ln w="0">
            <a:noFill/>
          </a:ln>
        </p:spPr>
        <p:txBody>
          <a:bodyPr lIns="0" rIns="0" tIns="0" bIns="0" anchor="t">
            <a:noAutofit/>
          </a:bodyPr>
          <a:p>
            <a:pPr marL="343080" indent="-343080">
              <a:lnSpc>
                <a:spcPct val="100000"/>
              </a:lnSpc>
              <a:buClr>
                <a:srgbClr val="b2b2b2"/>
              </a:buClr>
              <a:buSzPct val="75000"/>
              <a:buFont typeface="Monotype Sorts"/>
              <a:buChar char=""/>
            </a:pPr>
            <a:r>
              <a:rPr b="1" lang="en-US" sz="3200" spc="-1" strike="noStrike">
                <a:solidFill>
                  <a:srgbClr val="330099"/>
                </a:solidFill>
                <a:latin typeface="Arial Rounded MT Bold"/>
                <a:ea typeface="Arial Rounded MT Bold"/>
              </a:rPr>
              <a:t>A programme of German Technical Co-operation with additional funding </a:t>
            </a:r>
            <a:endParaRPr b="0" lang="en-US" sz="3200" spc="-1" strike="noStrike">
              <a:solidFill>
                <a:srgbClr val="000000"/>
              </a:solidFill>
              <a:latin typeface="Arial"/>
            </a:endParaRPr>
          </a:p>
          <a:p>
            <a:pPr marL="343080" indent="-343080">
              <a:lnSpc>
                <a:spcPct val="100000"/>
              </a:lnSpc>
              <a:buClr>
                <a:srgbClr val="b2b2b2"/>
              </a:buClr>
              <a:buSzPct val="75000"/>
              <a:buFont typeface="Monotype Sorts"/>
              <a:buChar char=""/>
            </a:pPr>
            <a:r>
              <a:rPr b="1" lang="en-US" sz="3200" spc="-1" strike="noStrike">
                <a:solidFill>
                  <a:srgbClr val="cc0000"/>
                </a:solidFill>
                <a:latin typeface="Arial Rounded MT Bold"/>
                <a:ea typeface="Arial Rounded MT Bold"/>
              </a:rPr>
              <a:t>Budget: </a:t>
            </a:r>
            <a:r>
              <a:rPr b="1" lang="en-US" sz="3200" spc="-1" strike="noStrike">
                <a:solidFill>
                  <a:srgbClr val="cc0000"/>
                </a:solidFill>
                <a:latin typeface="Arial Rounded MT Bold"/>
                <a:ea typeface="Arial Rounded MT Bold"/>
              </a:rPr>
              <a:t>	</a:t>
            </a:r>
            <a:r>
              <a:rPr b="1" lang="en-US" sz="3200" spc="-1" strike="noStrike">
                <a:solidFill>
                  <a:srgbClr val="cc0000"/>
                </a:solidFill>
                <a:latin typeface="Arial Rounded MT Bold"/>
                <a:ea typeface="Arial Rounded MT Bold"/>
              </a:rPr>
              <a:t>DM 15 million</a:t>
            </a:r>
            <a:endParaRPr b="0" lang="en-US" sz="3200" spc="-1" strike="noStrike">
              <a:solidFill>
                <a:srgbClr val="000000"/>
              </a:solidFill>
              <a:latin typeface="Arial"/>
            </a:endParaRPr>
          </a:p>
          <a:p>
            <a:pPr marL="343080" indent="-343080">
              <a:lnSpc>
                <a:spcPct val="100000"/>
              </a:lnSpc>
              <a:buClr>
                <a:srgbClr val="b2b2b2"/>
              </a:buClr>
              <a:buSzPct val="75000"/>
              <a:buFont typeface="Monotype Sorts"/>
              <a:buChar char=""/>
            </a:pPr>
            <a:r>
              <a:rPr b="1" lang="en-US" sz="3200" spc="-1" strike="noStrike">
                <a:solidFill>
                  <a:srgbClr val="996600"/>
                </a:solidFill>
                <a:latin typeface="Arial Rounded MT Bold"/>
                <a:ea typeface="Arial Rounded MT Bold"/>
              </a:rPr>
              <a:t>Duration: </a:t>
            </a:r>
            <a:r>
              <a:rPr b="1" lang="en-US" sz="3200" spc="-1" strike="noStrike">
                <a:solidFill>
                  <a:srgbClr val="996600"/>
                </a:solidFill>
                <a:latin typeface="Arial Rounded MT Bold"/>
                <a:ea typeface="Arial Rounded MT Bold"/>
              </a:rPr>
              <a:t>	</a:t>
            </a:r>
            <a:r>
              <a:rPr b="1" lang="en-US" sz="3200" spc="-1" strike="noStrike">
                <a:solidFill>
                  <a:srgbClr val="996600"/>
                </a:solidFill>
                <a:latin typeface="Arial Rounded MT Bold"/>
                <a:ea typeface="Arial Rounded MT Bold"/>
              </a:rPr>
              <a:t>1993 to 2001 </a:t>
            </a:r>
            <a:br>
              <a:rPr sz="3200"/>
            </a:br>
            <a:r>
              <a:rPr b="1" lang="en-US" sz="3200" spc="-1" strike="noStrike">
                <a:solidFill>
                  <a:srgbClr val="996600"/>
                </a:solidFill>
                <a:latin typeface="Arial Rounded MT Bold"/>
                <a:ea typeface="Arial Rounded MT Bold"/>
              </a:rPr>
              <a:t>	</a:t>
            </a:r>
            <a:r>
              <a:rPr b="1" lang="en-US" sz="3200" spc="-1" strike="noStrike">
                <a:solidFill>
                  <a:srgbClr val="996600"/>
                </a:solidFill>
                <a:latin typeface="Arial Rounded MT Bold"/>
                <a:ea typeface="Arial Rounded MT Bold"/>
              </a:rPr>
              <a:t>	</a:t>
            </a:r>
            <a:r>
              <a:rPr b="1" lang="en-US" sz="3200" spc="-1" strike="noStrike">
                <a:solidFill>
                  <a:srgbClr val="996600"/>
                </a:solidFill>
                <a:latin typeface="Arial Rounded MT Bold"/>
                <a:ea typeface="Arial Rounded MT Bold"/>
              </a:rPr>
              <a:t>	</a:t>
            </a:r>
            <a:r>
              <a:rPr b="1" lang="en-US" sz="2400" spc="-1" strike="noStrike">
                <a:solidFill>
                  <a:srgbClr val="996600"/>
                </a:solidFill>
                <a:latin typeface="Arial Rounded MT Bold"/>
                <a:ea typeface="Arial Rounded MT Bold"/>
              </a:rPr>
              <a:t>(extension to be approved)</a:t>
            </a:r>
            <a:endParaRPr b="0" lang="en-US" sz="2400" spc="-1" strike="noStrike">
              <a:solidFill>
                <a:srgbClr val="000000"/>
              </a:solidFill>
              <a:latin typeface="Arial"/>
            </a:endParaRPr>
          </a:p>
          <a:p>
            <a:pPr marL="343080" indent="-343080">
              <a:lnSpc>
                <a:spcPct val="100000"/>
              </a:lnSpc>
              <a:buClr>
                <a:srgbClr val="b2b2b2"/>
              </a:buClr>
              <a:buSzPct val="75000"/>
              <a:buFont typeface="Monotype Sorts"/>
              <a:buChar char=""/>
            </a:pPr>
            <a:r>
              <a:rPr b="1" lang="en-US" sz="3200" spc="-1" strike="noStrike">
                <a:solidFill>
                  <a:srgbClr val="008080"/>
                </a:solidFill>
                <a:latin typeface="Arial Rounded MT Bold"/>
                <a:ea typeface="Arial Rounded MT Bold"/>
              </a:rPr>
              <a:t>Up to now: Co-operating in</a:t>
            </a:r>
            <a:r>
              <a:rPr b="1" lang="en-US" sz="3200" spc="-1" strike="noStrike">
                <a:solidFill>
                  <a:srgbClr val="330099"/>
                </a:solidFill>
                <a:latin typeface="Arial Rounded MT Bold"/>
                <a:ea typeface="Arial Rounded MT Bold"/>
              </a:rPr>
              <a:t> </a:t>
            </a:r>
            <a:endParaRPr b="0" lang="en-US" sz="3200" spc="-1" strike="noStrike">
              <a:solidFill>
                <a:srgbClr val="000000"/>
              </a:solidFill>
              <a:latin typeface="Arial"/>
            </a:endParaRPr>
          </a:p>
          <a:p>
            <a:pPr lvl="1" marL="743040" indent="-285840">
              <a:lnSpc>
                <a:spcPct val="100000"/>
              </a:lnSpc>
              <a:buClr>
                <a:srgbClr val="b2b2b2"/>
              </a:buClr>
              <a:buSzPct val="75000"/>
              <a:buFont typeface="Monotype Sorts"/>
              <a:buChar char=""/>
            </a:pPr>
            <a:r>
              <a:rPr b="1" lang="en-US" sz="2800" spc="-1" strike="noStrike">
                <a:solidFill>
                  <a:srgbClr val="009900"/>
                </a:solidFill>
                <a:latin typeface="Arial Rounded MT Bold"/>
                <a:ea typeface="Arial Rounded MT Bold"/>
              </a:rPr>
              <a:t>16 measures  with 14 countries and </a:t>
            </a:r>
            <a:endParaRPr b="0" lang="en-US" sz="2800" spc="-1" strike="noStrike">
              <a:solidFill>
                <a:srgbClr val="000000"/>
              </a:solidFill>
              <a:latin typeface="Arial"/>
            </a:endParaRPr>
          </a:p>
          <a:p>
            <a:pPr lvl="1" marL="743040" indent="-285840">
              <a:lnSpc>
                <a:spcPct val="100000"/>
              </a:lnSpc>
              <a:buClr>
                <a:srgbClr val="b2b2b2"/>
              </a:buClr>
              <a:buSzPct val="75000"/>
              <a:buFont typeface="Monotype Sorts"/>
              <a:buChar char=""/>
            </a:pPr>
            <a:r>
              <a:rPr b="1" lang="en-US" sz="2800" spc="-1" strike="noStrike">
                <a:solidFill>
                  <a:srgbClr val="009900"/>
                </a:solidFill>
                <a:latin typeface="Arial Rounded MT Bold"/>
                <a:ea typeface="Arial Rounded MT Bold"/>
              </a:rPr>
              <a:t>3 supra-regional measures</a:t>
            </a:r>
            <a:endParaRPr b="0" lang="en-US" sz="2800" spc="-1" strike="noStrike">
              <a:solidFill>
                <a:srgbClr val="000000"/>
              </a:solidFill>
              <a:latin typeface="Arial"/>
            </a:endParaRPr>
          </a:p>
          <a:p>
            <a:pPr marL="343080" indent="-343080">
              <a:lnSpc>
                <a:spcPct val="100000"/>
              </a:lnSpc>
              <a:buClr>
                <a:srgbClr val="b2b2b2"/>
              </a:buClr>
              <a:buSzPct val="75000"/>
              <a:buFont typeface="Monotype Sorts"/>
              <a:buChar char=""/>
            </a:pPr>
            <a:r>
              <a:rPr b="1" lang="en-US" sz="3200" spc="-1" strike="noStrike">
                <a:solidFill>
                  <a:srgbClr val="008080"/>
                </a:solidFill>
                <a:latin typeface="Arial Rounded MT Bold"/>
                <a:ea typeface="Arial Rounded MT Bold"/>
              </a:rPr>
              <a:t>Open for new measures!</a:t>
            </a:r>
            <a:r>
              <a:rPr b="1" lang="en-US" sz="3200" spc="-1" strike="noStrike">
                <a:solidFill>
                  <a:srgbClr val="330099"/>
                </a:solidFill>
                <a:latin typeface="Arial Rounded MT Bold"/>
                <a:ea typeface="Arial Rounded MT Bol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1152360" y="343080"/>
            <a:ext cx="7772400" cy="1104840"/>
          </a:xfrm>
          <a:prstGeom prst="rect">
            <a:avLst/>
          </a:prstGeom>
          <a:noFill/>
          <a:ln w="0">
            <a:noFill/>
          </a:ln>
        </p:spPr>
        <p:txBody>
          <a:bodyPr lIns="0" rIns="0" tIns="0" bIns="0" anchor="t">
            <a:noAutofit/>
          </a:bodyPr>
          <a:p>
            <a:pPr>
              <a:lnSpc>
                <a:spcPct val="100000"/>
              </a:lnSpc>
            </a:pPr>
            <a:r>
              <a:rPr b="1" lang="en-US" sz="3600" spc="-1" strike="noStrike">
                <a:solidFill>
                  <a:srgbClr val="3333ff"/>
                </a:solidFill>
                <a:latin typeface="Arial Rounded MT Bold"/>
                <a:ea typeface="Arial Rounded MT Bold"/>
              </a:rPr>
              <a:t>GHG Mitigation is Worthwhile (1)</a:t>
            </a:r>
            <a:endParaRPr b="0" lang="en-US" sz="3600" spc="-1" strike="noStrike">
              <a:solidFill>
                <a:srgbClr val="000000"/>
              </a:solidFill>
              <a:latin typeface="Arial"/>
            </a:endParaRPr>
          </a:p>
        </p:txBody>
      </p:sp>
      <p:sp>
        <p:nvSpPr>
          <p:cNvPr id="155" name=""/>
          <p:cNvSpPr txBox="1"/>
          <p:nvPr/>
        </p:nvSpPr>
        <p:spPr>
          <a:xfrm>
            <a:off x="1152360" y="1752480"/>
            <a:ext cx="7772400" cy="4355280"/>
          </a:xfrm>
          <a:prstGeom prst="rect">
            <a:avLst/>
          </a:prstGeom>
          <a:noFill/>
          <a:ln w="0">
            <a:noFill/>
          </a:ln>
        </p:spPr>
        <p:txBody>
          <a:bodyPr lIns="0" rIns="0" tIns="0" bIns="0" anchor="t">
            <a:noAutofit/>
          </a:bodyPr>
          <a:p>
            <a:pPr marL="343080" indent="-343080">
              <a:lnSpc>
                <a:spcPct val="100000"/>
              </a:lnSpc>
              <a:spcBef>
                <a:spcPts val="479"/>
              </a:spcBef>
              <a:buClr>
                <a:srgbClr val="b2b2b2"/>
              </a:buClr>
              <a:buSzPct val="75000"/>
              <a:buFont typeface="Monotype Sorts"/>
              <a:buChar char=""/>
            </a:pPr>
            <a:r>
              <a:rPr b="1" lang="en-US" sz="3200" spc="-1" strike="noStrike">
                <a:solidFill>
                  <a:srgbClr val="330099"/>
                </a:solidFill>
                <a:latin typeface="Arial Rounded MT Bold"/>
                <a:ea typeface="Arial Rounded MT Bold"/>
              </a:rPr>
              <a:t>Combined Benefits: </a:t>
            </a:r>
            <a:br>
              <a:rPr sz="3200"/>
            </a:br>
            <a:r>
              <a:rPr b="1" lang="en-US" sz="3200" spc="-1" strike="noStrike">
                <a:solidFill>
                  <a:srgbClr val="330099"/>
                </a:solidFill>
                <a:latin typeface="Arial Rounded MT Bold"/>
                <a:ea typeface="Arial Rounded MT Bold"/>
              </a:rPr>
              <a:t>The win-win-options </a:t>
            </a:r>
            <a:endParaRPr b="0" lang="en-US" sz="3200" spc="-1" strike="noStrike">
              <a:solidFill>
                <a:srgbClr val="000000"/>
              </a:solidFill>
              <a:latin typeface="Arial"/>
            </a:endParaRPr>
          </a:p>
          <a:p>
            <a:pPr lvl="1" marL="743040" indent="-285840">
              <a:lnSpc>
                <a:spcPct val="100000"/>
              </a:lnSpc>
              <a:spcBef>
                <a:spcPts val="479"/>
              </a:spcBef>
              <a:buClr>
                <a:srgbClr val="b2b2b2"/>
              </a:buClr>
              <a:buSzPct val="75000"/>
              <a:buFont typeface="Monotype Sorts"/>
              <a:buChar char=""/>
            </a:pPr>
            <a:r>
              <a:rPr b="1" lang="en-US" sz="2800" spc="-1" strike="noStrike">
                <a:solidFill>
                  <a:srgbClr val="009900"/>
                </a:solidFill>
                <a:latin typeface="Arial Rounded MT Bold"/>
                <a:ea typeface="Arial Rounded MT Bold"/>
              </a:rPr>
              <a:t>Increase of economic efficiency</a:t>
            </a:r>
            <a:endParaRPr b="0" lang="en-US" sz="2800" spc="-1" strike="noStrike">
              <a:solidFill>
                <a:srgbClr val="000000"/>
              </a:solidFill>
              <a:latin typeface="Arial"/>
            </a:endParaRPr>
          </a:p>
          <a:p>
            <a:pPr lvl="1" marL="743040" indent="-285840">
              <a:lnSpc>
                <a:spcPct val="100000"/>
              </a:lnSpc>
              <a:spcBef>
                <a:spcPts val="479"/>
              </a:spcBef>
              <a:buClr>
                <a:srgbClr val="b2b2b2"/>
              </a:buClr>
              <a:buSzPct val="75000"/>
              <a:buFont typeface="Monotype Sorts"/>
              <a:buChar char=""/>
            </a:pPr>
            <a:r>
              <a:rPr b="1" lang="en-US" sz="2800" spc="-1" strike="noStrike">
                <a:solidFill>
                  <a:srgbClr val="009900"/>
                </a:solidFill>
                <a:latin typeface="Arial Rounded MT Bold"/>
                <a:ea typeface="Arial Rounded MT Bold"/>
              </a:rPr>
              <a:t>Reducing energy costs</a:t>
            </a:r>
            <a:endParaRPr b="0" lang="en-US" sz="2800" spc="-1" strike="noStrike">
              <a:solidFill>
                <a:srgbClr val="000000"/>
              </a:solidFill>
              <a:latin typeface="Arial"/>
            </a:endParaRPr>
          </a:p>
          <a:p>
            <a:pPr lvl="1" marL="743040" indent="-285840">
              <a:lnSpc>
                <a:spcPct val="100000"/>
              </a:lnSpc>
              <a:spcBef>
                <a:spcPts val="479"/>
              </a:spcBef>
              <a:buClr>
                <a:srgbClr val="b2b2b2"/>
              </a:buClr>
              <a:buSzPct val="75000"/>
              <a:buFont typeface="Monotype Sorts"/>
              <a:buChar char=""/>
            </a:pPr>
            <a:r>
              <a:rPr b="1" lang="en-US" sz="2800" spc="-1" strike="noStrike">
                <a:solidFill>
                  <a:srgbClr val="009900"/>
                </a:solidFill>
                <a:latin typeface="Arial Rounded MT Bold"/>
                <a:ea typeface="Arial Rounded MT Bold"/>
              </a:rPr>
              <a:t>Saving foreign currency and resources</a:t>
            </a:r>
            <a:endParaRPr b="0" lang="en-US" sz="2800" spc="-1" strike="noStrike">
              <a:solidFill>
                <a:srgbClr val="000000"/>
              </a:solidFill>
              <a:latin typeface="Arial"/>
            </a:endParaRPr>
          </a:p>
          <a:p>
            <a:pPr lvl="1" marL="743040" indent="-285840">
              <a:lnSpc>
                <a:spcPct val="100000"/>
              </a:lnSpc>
              <a:spcBef>
                <a:spcPts val="479"/>
              </a:spcBef>
              <a:buClr>
                <a:srgbClr val="b2b2b2"/>
              </a:buClr>
              <a:buSzPct val="75000"/>
              <a:buFont typeface="Monotype Sorts"/>
              <a:buChar char=""/>
            </a:pPr>
            <a:r>
              <a:rPr b="1" lang="en-US" sz="2800" spc="-1" strike="noStrike">
                <a:solidFill>
                  <a:srgbClr val="009900"/>
                </a:solidFill>
                <a:latin typeface="Arial Rounded MT Bold"/>
                <a:ea typeface="Arial Rounded MT Bold"/>
              </a:rPr>
              <a:t>Lower emissions of SO</a:t>
            </a:r>
            <a:r>
              <a:rPr b="1" lang="en-US" sz="2800" spc="-1" strike="noStrike" baseline="-25000">
                <a:solidFill>
                  <a:srgbClr val="009900"/>
                </a:solidFill>
                <a:latin typeface="Arial Rounded MT Bold"/>
                <a:ea typeface="Arial Rounded MT Bold"/>
              </a:rPr>
              <a:t>2</a:t>
            </a:r>
            <a:r>
              <a:rPr b="1" lang="en-US" sz="2800" spc="-1" strike="noStrike">
                <a:solidFill>
                  <a:srgbClr val="009900"/>
                </a:solidFill>
                <a:latin typeface="Arial Rounded MT Bold"/>
                <a:ea typeface="Arial Rounded MT Bold"/>
              </a:rPr>
              <a:t>, NO</a:t>
            </a:r>
            <a:r>
              <a:rPr b="1" lang="en-US" sz="2800" spc="-1" strike="noStrike" baseline="-25000">
                <a:solidFill>
                  <a:srgbClr val="009900"/>
                </a:solidFill>
                <a:latin typeface="Arial Rounded MT Bold"/>
                <a:ea typeface="Arial Rounded MT Bold"/>
              </a:rPr>
              <a:t>x</a:t>
            </a:r>
            <a:r>
              <a:rPr b="1" lang="en-US" sz="2800" spc="-1" strike="noStrike">
                <a:solidFill>
                  <a:srgbClr val="009900"/>
                </a:solidFill>
                <a:latin typeface="Arial Rounded MT Bold"/>
                <a:ea typeface="Arial Rounded MT Bold"/>
              </a:rPr>
              <a:t>, particulate etc.</a:t>
            </a:r>
            <a:endParaRPr b="0" lang="en-US" sz="2800" spc="-1" strike="noStrike">
              <a:solidFill>
                <a:srgbClr val="000000"/>
              </a:solidFill>
              <a:latin typeface="Arial"/>
            </a:endParaRPr>
          </a:p>
          <a:p>
            <a:pPr lvl="1" marL="743040" indent="-285840">
              <a:lnSpc>
                <a:spcPct val="100000"/>
              </a:lnSpc>
              <a:spcBef>
                <a:spcPts val="479"/>
              </a:spcBef>
              <a:buClr>
                <a:srgbClr val="b2b2b2"/>
              </a:buClr>
              <a:buSzPct val="75000"/>
              <a:buFont typeface="Monotype Sorts"/>
              <a:buChar char=""/>
            </a:pPr>
            <a:r>
              <a:rPr b="1" lang="en-US" sz="2800" spc="-1" strike="noStrike">
                <a:solidFill>
                  <a:srgbClr val="009900"/>
                </a:solidFill>
                <a:latin typeface="Arial Rounded MT Bold"/>
                <a:ea typeface="Arial Rounded MT Bold"/>
              </a:rPr>
              <a:t>Reduced GHG-emis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152360" y="343080"/>
            <a:ext cx="7772400" cy="1104840"/>
          </a:xfrm>
          <a:prstGeom prst="rect">
            <a:avLst/>
          </a:prstGeom>
          <a:noFill/>
          <a:ln w="0">
            <a:noFill/>
          </a:ln>
        </p:spPr>
        <p:txBody>
          <a:bodyPr lIns="0" rIns="0" tIns="0" bIns="0" anchor="t">
            <a:noAutofit/>
          </a:bodyPr>
          <a:p>
            <a:pPr>
              <a:lnSpc>
                <a:spcPct val="100000"/>
              </a:lnSpc>
            </a:pPr>
            <a:r>
              <a:rPr b="1" lang="en-US" sz="3600" spc="-1" strike="noStrike">
                <a:solidFill>
                  <a:srgbClr val="3333ff"/>
                </a:solidFill>
                <a:latin typeface="Arial Rounded MT Bold"/>
                <a:ea typeface="Arial Rounded MT Bold"/>
              </a:rPr>
              <a:t>GHG Mitigation is Worthwhile (2)</a:t>
            </a:r>
            <a:endParaRPr b="0" lang="en-US" sz="3600" spc="-1" strike="noStrike">
              <a:solidFill>
                <a:srgbClr val="000000"/>
              </a:solidFill>
              <a:latin typeface="Arial"/>
            </a:endParaRPr>
          </a:p>
        </p:txBody>
      </p:sp>
      <p:sp>
        <p:nvSpPr>
          <p:cNvPr id="157" name=""/>
          <p:cNvSpPr txBox="1"/>
          <p:nvPr/>
        </p:nvSpPr>
        <p:spPr>
          <a:xfrm>
            <a:off x="1152360" y="17524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b2b2b2"/>
              </a:buClr>
              <a:buSzPct val="75000"/>
              <a:buFont typeface="Monotype Sorts"/>
              <a:buChar char=""/>
            </a:pPr>
            <a:r>
              <a:rPr b="1" lang="en-US" sz="3200" spc="-1" strike="noStrike">
                <a:solidFill>
                  <a:srgbClr val="330099"/>
                </a:solidFill>
                <a:latin typeface="Arial Rounded MT Bold"/>
                <a:ea typeface="Arial Rounded MT Bold"/>
              </a:rPr>
              <a:t>Incremental cost funding </a:t>
            </a:r>
            <a:endParaRPr b="0" lang="en-US" sz="3200" spc="-1" strike="noStrike">
              <a:solidFill>
                <a:srgbClr val="000000"/>
              </a:solidFill>
              <a:latin typeface="Arial"/>
            </a:endParaRPr>
          </a:p>
          <a:p>
            <a:pPr lvl="1" marL="743040" indent="-285840">
              <a:lnSpc>
                <a:spcPct val="100000"/>
              </a:lnSpc>
              <a:spcBef>
                <a:spcPts val="479"/>
              </a:spcBef>
              <a:buClr>
                <a:srgbClr val="b2b2b2"/>
              </a:buClr>
              <a:buSzPct val="75000"/>
              <a:buFont typeface="Monotype Sorts"/>
              <a:buChar char=""/>
            </a:pPr>
            <a:r>
              <a:rPr b="1" lang="en-US" sz="2800" spc="-1" strike="noStrike">
                <a:solidFill>
                  <a:srgbClr val="009900"/>
                </a:solidFill>
                <a:latin typeface="Arial Rounded MT Bold"/>
                <a:ea typeface="Arial Rounded MT Bold"/>
              </a:rPr>
              <a:t>GEF</a:t>
            </a:r>
            <a:endParaRPr b="0" lang="en-US" sz="2800" spc="-1" strike="noStrike">
              <a:solidFill>
                <a:srgbClr val="000000"/>
              </a:solidFill>
              <a:latin typeface="Arial"/>
            </a:endParaRPr>
          </a:p>
          <a:p>
            <a:pPr lvl="1" marL="743040" indent="-285840">
              <a:lnSpc>
                <a:spcPct val="100000"/>
              </a:lnSpc>
              <a:spcBef>
                <a:spcPts val="479"/>
              </a:spcBef>
              <a:buClr>
                <a:srgbClr val="b2b2b2"/>
              </a:buClr>
              <a:buSzPct val="75000"/>
              <a:buFont typeface="Monotype Sorts"/>
              <a:buChar char=""/>
            </a:pPr>
            <a:r>
              <a:rPr b="1" lang="en-US" sz="2800" spc="-1" strike="noStrike">
                <a:solidFill>
                  <a:srgbClr val="009900"/>
                </a:solidFill>
                <a:latin typeface="Arial Rounded MT Bold"/>
                <a:ea typeface="Arial Rounded MT Bold"/>
              </a:rPr>
              <a:t>BMZ regional concepts</a:t>
            </a:r>
            <a:br>
              <a:rPr sz="2800"/>
            </a:br>
            <a:r>
              <a:rPr b="1" lang="en-US" sz="2800" spc="-1" strike="noStrike">
                <a:solidFill>
                  <a:srgbClr val="009900"/>
                </a:solidFill>
                <a:latin typeface="Arial Rounded MT Bold"/>
              </a:rPr>
              <a:t> </a:t>
            </a:r>
            <a:endParaRPr b="0" lang="en-US" sz="28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1" lang="en-US" sz="3200" spc="-1" strike="noStrike">
                <a:solidFill>
                  <a:srgbClr val="330099"/>
                </a:solidFill>
                <a:latin typeface="Arial"/>
                <a:ea typeface="Arial"/>
              </a:rPr>
              <a:t>Clean Development Mechanism</a:t>
            </a:r>
            <a:endParaRPr b="0" lang="en-US" sz="3200" spc="-1" strike="noStrike">
              <a:solidFill>
                <a:srgbClr val="000000"/>
              </a:solidFill>
              <a:latin typeface="Arial"/>
            </a:endParaRPr>
          </a:p>
          <a:p>
            <a:pPr lvl="1" marL="743040" indent="-285840">
              <a:lnSpc>
                <a:spcPct val="100000"/>
              </a:lnSpc>
              <a:spcBef>
                <a:spcPts val="479"/>
              </a:spcBef>
              <a:buClr>
                <a:srgbClr val="b2b2b2"/>
              </a:buClr>
              <a:buSzPct val="75000"/>
              <a:buFont typeface="Monotype Sorts"/>
              <a:buChar char=""/>
            </a:pPr>
            <a:r>
              <a:rPr b="1" lang="en-US" sz="2800" spc="-1" strike="noStrike">
                <a:solidFill>
                  <a:srgbClr val="009900"/>
                </a:solidFill>
                <a:latin typeface="Arial Rounded MT Bold"/>
                <a:ea typeface="Arial Rounded MT Bold"/>
              </a:rPr>
              <a:t>new and additional investments</a:t>
            </a:r>
            <a:endParaRPr b="0" lang="en-US" sz="2800" spc="-1" strike="noStrike">
              <a:solidFill>
                <a:srgbClr val="000000"/>
              </a:solidFill>
              <a:latin typeface="Arial"/>
            </a:endParaRPr>
          </a:p>
          <a:p>
            <a:pPr lvl="1" marL="743040" indent="-285840">
              <a:lnSpc>
                <a:spcPct val="100000"/>
              </a:lnSpc>
              <a:spcBef>
                <a:spcPts val="479"/>
              </a:spcBef>
              <a:buClr>
                <a:srgbClr val="b2b2b2"/>
              </a:buClr>
              <a:buSzPct val="75000"/>
              <a:buFont typeface="Monotype Sorts"/>
              <a:buChar char=""/>
            </a:pPr>
            <a:r>
              <a:rPr b="1" lang="en-US" sz="2800" spc="-1" strike="noStrike">
                <a:solidFill>
                  <a:srgbClr val="009900"/>
                </a:solidFill>
                <a:latin typeface="Arial Rounded MT Bold"/>
                <a:ea typeface="Arial Rounded MT Bold"/>
              </a:rPr>
              <a:t>technology trans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
          <p:cNvGrpSpPr/>
          <p:nvPr/>
        </p:nvGrpSpPr>
        <p:grpSpPr>
          <a:xfrm>
            <a:off x="2560680" y="3195720"/>
            <a:ext cx="4318200" cy="1806840"/>
            <a:chOff x="2560680" y="3195720"/>
            <a:chExt cx="4318200" cy="1806840"/>
          </a:xfrm>
        </p:grpSpPr>
        <p:sp>
          <p:nvSpPr>
            <p:cNvPr id="159" name=""/>
            <p:cNvSpPr/>
            <p:nvPr/>
          </p:nvSpPr>
          <p:spPr>
            <a:xfrm>
              <a:off x="4638600" y="4524480"/>
              <a:ext cx="311400" cy="327240"/>
            </a:xfrm>
            <a:custGeom>
              <a:avLst/>
              <a:gdLst/>
              <a:ahLst/>
              <a:rect l="0" t="0" r="r" b="b"/>
              <a:pathLst>
                <a:path w="865" h="909">
                  <a:moveTo>
                    <a:pt x="0" y="22"/>
                  </a:moveTo>
                  <a:lnTo>
                    <a:pt x="101" y="0"/>
                  </a:lnTo>
                  <a:lnTo>
                    <a:pt x="622" y="83"/>
                  </a:lnTo>
                  <a:lnTo>
                    <a:pt x="750" y="44"/>
                  </a:lnTo>
                  <a:lnTo>
                    <a:pt x="865" y="61"/>
                  </a:lnTo>
                  <a:lnTo>
                    <a:pt x="759" y="127"/>
                  </a:lnTo>
                  <a:lnTo>
                    <a:pt x="719" y="83"/>
                  </a:lnTo>
                  <a:lnTo>
                    <a:pt x="591" y="123"/>
                  </a:lnTo>
                  <a:lnTo>
                    <a:pt x="591" y="374"/>
                  </a:lnTo>
                  <a:lnTo>
                    <a:pt x="530" y="374"/>
                  </a:lnTo>
                  <a:lnTo>
                    <a:pt x="530" y="574"/>
                  </a:lnTo>
                  <a:lnTo>
                    <a:pt x="530" y="869"/>
                  </a:lnTo>
                  <a:lnTo>
                    <a:pt x="472" y="909"/>
                  </a:lnTo>
                  <a:lnTo>
                    <a:pt x="388" y="909"/>
                  </a:lnTo>
                  <a:lnTo>
                    <a:pt x="348" y="843"/>
                  </a:lnTo>
                  <a:lnTo>
                    <a:pt x="304" y="887"/>
                  </a:lnTo>
                  <a:lnTo>
                    <a:pt x="224" y="781"/>
                  </a:lnTo>
                  <a:lnTo>
                    <a:pt x="180" y="464"/>
                  </a:lnTo>
                  <a:lnTo>
                    <a:pt x="180" y="418"/>
                  </a:lnTo>
                  <a:lnTo>
                    <a:pt x="0" y="22"/>
                  </a:lnTo>
                  <a:close/>
                </a:path>
              </a:pathLst>
            </a:custGeom>
            <a:solidFill>
              <a:srgbClr val="cc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0" name=""/>
            <p:cNvSpPr/>
            <p:nvPr/>
          </p:nvSpPr>
          <p:spPr>
            <a:xfrm>
              <a:off x="2560680" y="3767040"/>
              <a:ext cx="276480" cy="427320"/>
            </a:xfrm>
            <a:custGeom>
              <a:avLst/>
              <a:gdLst/>
              <a:ahLst/>
              <a:rect l="0" t="0" r="r" b="b"/>
              <a:pathLst>
                <a:path w="768" h="1187">
                  <a:moveTo>
                    <a:pt x="0" y="790"/>
                  </a:moveTo>
                  <a:lnTo>
                    <a:pt x="88" y="869"/>
                  </a:lnTo>
                  <a:lnTo>
                    <a:pt x="224" y="887"/>
                  </a:lnTo>
                  <a:lnTo>
                    <a:pt x="361" y="1050"/>
                  </a:lnTo>
                  <a:lnTo>
                    <a:pt x="543" y="1068"/>
                  </a:lnTo>
                  <a:lnTo>
                    <a:pt x="521" y="1151"/>
                  </a:lnTo>
                  <a:lnTo>
                    <a:pt x="565" y="1187"/>
                  </a:lnTo>
                  <a:lnTo>
                    <a:pt x="587" y="971"/>
                  </a:lnTo>
                  <a:lnTo>
                    <a:pt x="556" y="847"/>
                  </a:lnTo>
                  <a:lnTo>
                    <a:pt x="627" y="847"/>
                  </a:lnTo>
                  <a:lnTo>
                    <a:pt x="583" y="772"/>
                  </a:lnTo>
                  <a:lnTo>
                    <a:pt x="724" y="746"/>
                  </a:lnTo>
                  <a:lnTo>
                    <a:pt x="768" y="790"/>
                  </a:lnTo>
                  <a:lnTo>
                    <a:pt x="706" y="688"/>
                  </a:lnTo>
                  <a:lnTo>
                    <a:pt x="724" y="436"/>
                  </a:lnTo>
                  <a:lnTo>
                    <a:pt x="600" y="445"/>
                  </a:lnTo>
                  <a:lnTo>
                    <a:pt x="556" y="392"/>
                  </a:lnTo>
                  <a:lnTo>
                    <a:pt x="437" y="374"/>
                  </a:lnTo>
                  <a:lnTo>
                    <a:pt x="357" y="229"/>
                  </a:lnTo>
                  <a:lnTo>
                    <a:pt x="472" y="35"/>
                  </a:lnTo>
                  <a:lnTo>
                    <a:pt x="459" y="0"/>
                  </a:lnTo>
                  <a:lnTo>
                    <a:pt x="242" y="101"/>
                  </a:lnTo>
                  <a:lnTo>
                    <a:pt x="119" y="313"/>
                  </a:lnTo>
                  <a:lnTo>
                    <a:pt x="88" y="260"/>
                  </a:lnTo>
                  <a:lnTo>
                    <a:pt x="48" y="366"/>
                  </a:lnTo>
                  <a:lnTo>
                    <a:pt x="88" y="605"/>
                  </a:lnTo>
                  <a:lnTo>
                    <a:pt x="119" y="605"/>
                  </a:lnTo>
                  <a:lnTo>
                    <a:pt x="0" y="790"/>
                  </a:lnTo>
                  <a:close/>
                </a:path>
              </a:pathLst>
            </a:custGeom>
            <a:solidFill>
              <a:srgbClr val="cc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1" name=""/>
            <p:cNvSpPr/>
            <p:nvPr/>
          </p:nvSpPr>
          <p:spPr>
            <a:xfrm>
              <a:off x="6719760" y="3476520"/>
              <a:ext cx="159120" cy="386280"/>
            </a:xfrm>
            <a:custGeom>
              <a:avLst/>
              <a:gdLst/>
              <a:ahLst/>
              <a:rect l="0" t="0" r="r" b="b"/>
              <a:pathLst>
                <a:path w="442" h="1073">
                  <a:moveTo>
                    <a:pt x="0" y="52"/>
                  </a:moveTo>
                  <a:lnTo>
                    <a:pt x="61" y="163"/>
                  </a:lnTo>
                  <a:lnTo>
                    <a:pt x="159" y="207"/>
                  </a:lnTo>
                  <a:lnTo>
                    <a:pt x="101" y="300"/>
                  </a:lnTo>
                  <a:lnTo>
                    <a:pt x="265" y="433"/>
                  </a:lnTo>
                  <a:lnTo>
                    <a:pt x="337" y="631"/>
                  </a:lnTo>
                  <a:lnTo>
                    <a:pt x="345" y="799"/>
                  </a:lnTo>
                  <a:lnTo>
                    <a:pt x="150" y="936"/>
                  </a:lnTo>
                  <a:lnTo>
                    <a:pt x="181" y="1073"/>
                  </a:lnTo>
                  <a:lnTo>
                    <a:pt x="247" y="976"/>
                  </a:lnTo>
                  <a:lnTo>
                    <a:pt x="274" y="1007"/>
                  </a:lnTo>
                  <a:lnTo>
                    <a:pt x="292" y="950"/>
                  </a:lnTo>
                  <a:lnTo>
                    <a:pt x="442" y="848"/>
                  </a:lnTo>
                  <a:lnTo>
                    <a:pt x="416" y="578"/>
                  </a:lnTo>
                  <a:lnTo>
                    <a:pt x="217" y="331"/>
                  </a:lnTo>
                  <a:lnTo>
                    <a:pt x="239" y="238"/>
                  </a:lnTo>
                  <a:lnTo>
                    <a:pt x="363" y="132"/>
                  </a:lnTo>
                  <a:lnTo>
                    <a:pt x="186" y="0"/>
                  </a:lnTo>
                  <a:lnTo>
                    <a:pt x="0" y="52"/>
                  </a:lnTo>
                  <a:close/>
                </a:path>
              </a:pathLst>
            </a:custGeom>
            <a:solidFill>
              <a:srgbClr val="cc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2" name=""/>
            <p:cNvSpPr/>
            <p:nvPr/>
          </p:nvSpPr>
          <p:spPr>
            <a:xfrm>
              <a:off x="5170320" y="3195720"/>
              <a:ext cx="101880" cy="119520"/>
            </a:xfrm>
            <a:custGeom>
              <a:avLst/>
              <a:gdLst/>
              <a:ahLst/>
              <a:rect l="0" t="0" r="r" b="b"/>
              <a:pathLst>
                <a:path w="283" h="332">
                  <a:moveTo>
                    <a:pt x="0" y="155"/>
                  </a:moveTo>
                  <a:lnTo>
                    <a:pt x="8" y="84"/>
                  </a:lnTo>
                  <a:lnTo>
                    <a:pt x="44" y="48"/>
                  </a:lnTo>
                  <a:lnTo>
                    <a:pt x="105" y="74"/>
                  </a:lnTo>
                  <a:lnTo>
                    <a:pt x="252" y="0"/>
                  </a:lnTo>
                  <a:lnTo>
                    <a:pt x="283" y="84"/>
                  </a:lnTo>
                  <a:lnTo>
                    <a:pt x="142" y="142"/>
                  </a:lnTo>
                  <a:lnTo>
                    <a:pt x="203" y="221"/>
                  </a:lnTo>
                  <a:lnTo>
                    <a:pt x="172" y="266"/>
                  </a:lnTo>
                  <a:lnTo>
                    <a:pt x="83" y="332"/>
                  </a:lnTo>
                  <a:lnTo>
                    <a:pt x="8" y="306"/>
                  </a:lnTo>
                  <a:lnTo>
                    <a:pt x="44" y="142"/>
                  </a:lnTo>
                  <a:lnTo>
                    <a:pt x="0" y="155"/>
                  </a:lnTo>
                  <a:close/>
                </a:path>
              </a:pathLst>
            </a:custGeom>
            <a:solidFill>
              <a:srgbClr val="cc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3" name=""/>
            <p:cNvSpPr/>
            <p:nvPr/>
          </p:nvSpPr>
          <p:spPr>
            <a:xfrm>
              <a:off x="4749840" y="4664160"/>
              <a:ext cx="376560" cy="338400"/>
            </a:xfrm>
            <a:custGeom>
              <a:avLst/>
              <a:gdLst/>
              <a:ahLst/>
              <a:rect l="0" t="0" r="r" b="b"/>
              <a:pathLst>
                <a:path w="1046" h="940">
                  <a:moveTo>
                    <a:pt x="0" y="494"/>
                  </a:moveTo>
                  <a:lnTo>
                    <a:pt x="39" y="458"/>
                  </a:lnTo>
                  <a:lnTo>
                    <a:pt x="83" y="521"/>
                  </a:lnTo>
                  <a:lnTo>
                    <a:pt x="163" y="521"/>
                  </a:lnTo>
                  <a:lnTo>
                    <a:pt x="220" y="481"/>
                  </a:lnTo>
                  <a:lnTo>
                    <a:pt x="220" y="185"/>
                  </a:lnTo>
                  <a:lnTo>
                    <a:pt x="273" y="264"/>
                  </a:lnTo>
                  <a:lnTo>
                    <a:pt x="273" y="343"/>
                  </a:lnTo>
                  <a:lnTo>
                    <a:pt x="361" y="335"/>
                  </a:lnTo>
                  <a:lnTo>
                    <a:pt x="440" y="246"/>
                  </a:lnTo>
                  <a:lnTo>
                    <a:pt x="578" y="246"/>
                  </a:lnTo>
                  <a:lnTo>
                    <a:pt x="821" y="0"/>
                  </a:lnTo>
                  <a:lnTo>
                    <a:pt x="966" y="30"/>
                  </a:lnTo>
                  <a:lnTo>
                    <a:pt x="988" y="264"/>
                  </a:lnTo>
                  <a:lnTo>
                    <a:pt x="918" y="335"/>
                  </a:lnTo>
                  <a:lnTo>
                    <a:pt x="957" y="379"/>
                  </a:lnTo>
                  <a:lnTo>
                    <a:pt x="993" y="343"/>
                  </a:lnTo>
                  <a:lnTo>
                    <a:pt x="1046" y="343"/>
                  </a:lnTo>
                  <a:lnTo>
                    <a:pt x="1028" y="481"/>
                  </a:lnTo>
                  <a:lnTo>
                    <a:pt x="869" y="697"/>
                  </a:lnTo>
                  <a:lnTo>
                    <a:pt x="684" y="878"/>
                  </a:lnTo>
                  <a:lnTo>
                    <a:pt x="538" y="940"/>
                  </a:lnTo>
                  <a:lnTo>
                    <a:pt x="127" y="940"/>
                  </a:lnTo>
                  <a:lnTo>
                    <a:pt x="88" y="838"/>
                  </a:lnTo>
                  <a:lnTo>
                    <a:pt x="105" y="750"/>
                  </a:lnTo>
                  <a:lnTo>
                    <a:pt x="0" y="494"/>
                  </a:lnTo>
                  <a:close/>
                </a:path>
              </a:pathLst>
            </a:custGeom>
            <a:solidFill>
              <a:srgbClr val="cc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164" name=""/>
            <p:cNvGrpSpPr/>
            <p:nvPr/>
          </p:nvGrpSpPr>
          <p:grpSpPr>
            <a:xfrm>
              <a:off x="6075360" y="3363840"/>
              <a:ext cx="127440" cy="357840"/>
              <a:chOff x="6075360" y="3363840"/>
              <a:chExt cx="127440" cy="357840"/>
            </a:xfrm>
          </p:grpSpPr>
          <p:sp>
            <p:nvSpPr>
              <p:cNvPr id="165" name=""/>
              <p:cNvSpPr/>
              <p:nvPr/>
            </p:nvSpPr>
            <p:spPr>
              <a:xfrm>
                <a:off x="6086520" y="3613320"/>
                <a:ext cx="116280" cy="108360"/>
              </a:xfrm>
              <a:custGeom>
                <a:avLst/>
                <a:gdLst/>
                <a:ahLst/>
                <a:rect l="0" t="0" r="r" b="b"/>
                <a:pathLst>
                  <a:path w="323" h="301">
                    <a:moveTo>
                      <a:pt x="8" y="120"/>
                    </a:moveTo>
                    <a:lnTo>
                      <a:pt x="146" y="0"/>
                    </a:lnTo>
                    <a:lnTo>
                      <a:pt x="275" y="8"/>
                    </a:lnTo>
                    <a:lnTo>
                      <a:pt x="297" y="120"/>
                    </a:lnTo>
                    <a:lnTo>
                      <a:pt x="323" y="231"/>
                    </a:lnTo>
                    <a:lnTo>
                      <a:pt x="195" y="301"/>
                    </a:lnTo>
                    <a:lnTo>
                      <a:pt x="98" y="288"/>
                    </a:lnTo>
                    <a:lnTo>
                      <a:pt x="39" y="240"/>
                    </a:lnTo>
                    <a:lnTo>
                      <a:pt x="0" y="120"/>
                    </a:lnTo>
                    <a:lnTo>
                      <a:pt x="8" y="120"/>
                    </a:lnTo>
                    <a:close/>
                  </a:path>
                </a:pathLst>
              </a:custGeom>
              <a:solidFill>
                <a:srgbClr val="cc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6" name=""/>
              <p:cNvSpPr/>
              <p:nvPr/>
            </p:nvSpPr>
            <p:spPr>
              <a:xfrm>
                <a:off x="6075360" y="3363840"/>
                <a:ext cx="74520" cy="68400"/>
              </a:xfrm>
              <a:prstGeom prst="ellipse">
                <a:avLst/>
              </a:prstGeom>
              <a:solidFill>
                <a:srgbClr val="cc0000"/>
              </a:solidFill>
              <a:ln w="12600">
                <a:solidFill>
                  <a:srgbClr val="000000"/>
                </a:solidFill>
                <a:round/>
              </a:ln>
            </p:spPr>
            <p:txBody>
              <a:bodyPr lIns="96120" rIns="96120" tIns="17280" bIns="17280" anchor="t">
                <a:noAutofit/>
              </a:bodyPr>
              <a:p>
                <a:endParaRPr b="0" lang="en-US" sz="1800" spc="-1" strike="noStrike">
                  <a:solidFill>
                    <a:srgbClr val="ffffff"/>
                  </a:solidFill>
                  <a:latin typeface="Arial"/>
                </a:endParaRPr>
              </a:p>
            </p:txBody>
          </p:sp>
        </p:grpSp>
      </p:grpSp>
      <p:sp>
        <p:nvSpPr>
          <p:cNvPr id="167" name=""/>
          <p:cNvSpPr/>
          <p:nvPr/>
        </p:nvSpPr>
        <p:spPr>
          <a:xfrm>
            <a:off x="390600" y="990720"/>
            <a:ext cx="9053640" cy="514368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2825640" y="3603600"/>
            <a:ext cx="33840" cy="25920"/>
          </a:xfrm>
          <a:custGeom>
            <a:avLst/>
            <a:gdLst/>
            <a:ahLst/>
            <a:rect l="0" t="0" r="r" b="b"/>
            <a:pathLst>
              <a:path fill="none" w="94" h="72">
                <a:moveTo>
                  <a:pt x="0" y="0"/>
                </a:moveTo>
                <a:lnTo>
                  <a:pt x="8" y="72"/>
                </a:lnTo>
                <a:lnTo>
                  <a:pt x="94" y="36"/>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69" name=""/>
          <p:cNvSpPr/>
          <p:nvPr/>
        </p:nvSpPr>
        <p:spPr>
          <a:xfrm>
            <a:off x="5765760" y="3041640"/>
            <a:ext cx="325800" cy="263880"/>
          </a:xfrm>
          <a:custGeom>
            <a:avLst/>
            <a:gdLst/>
            <a:ahLst/>
            <a:rect l="0" t="0" r="r" b="b"/>
            <a:pathLst>
              <a:path fill="none" w="905" h="733">
                <a:moveTo>
                  <a:pt x="0" y="357"/>
                </a:moveTo>
                <a:lnTo>
                  <a:pt x="0" y="543"/>
                </a:lnTo>
                <a:lnTo>
                  <a:pt x="74" y="596"/>
                </a:lnTo>
                <a:lnTo>
                  <a:pt x="17" y="697"/>
                </a:lnTo>
                <a:lnTo>
                  <a:pt x="127" y="733"/>
                </a:lnTo>
                <a:lnTo>
                  <a:pt x="353" y="697"/>
                </a:lnTo>
                <a:lnTo>
                  <a:pt x="402" y="591"/>
                </a:lnTo>
                <a:lnTo>
                  <a:pt x="556" y="530"/>
                </a:lnTo>
                <a:lnTo>
                  <a:pt x="569" y="437"/>
                </a:lnTo>
                <a:lnTo>
                  <a:pt x="627" y="411"/>
                </a:lnTo>
                <a:lnTo>
                  <a:pt x="600" y="375"/>
                </a:lnTo>
                <a:lnTo>
                  <a:pt x="658" y="367"/>
                </a:lnTo>
                <a:lnTo>
                  <a:pt x="698" y="273"/>
                </a:lnTo>
                <a:lnTo>
                  <a:pt x="681" y="189"/>
                </a:lnTo>
                <a:lnTo>
                  <a:pt x="897" y="123"/>
                </a:lnTo>
                <a:lnTo>
                  <a:pt x="905" y="101"/>
                </a:lnTo>
                <a:lnTo>
                  <a:pt x="817" y="83"/>
                </a:lnTo>
                <a:lnTo>
                  <a:pt x="707" y="149"/>
                </a:lnTo>
                <a:lnTo>
                  <a:pt x="658" y="0"/>
                </a:lnTo>
                <a:lnTo>
                  <a:pt x="556" y="114"/>
                </a:lnTo>
                <a:lnTo>
                  <a:pt x="274" y="101"/>
                </a:lnTo>
                <a:lnTo>
                  <a:pt x="136" y="273"/>
                </a:lnTo>
                <a:lnTo>
                  <a:pt x="44" y="216"/>
                </a:lnTo>
                <a:lnTo>
                  <a:pt x="0" y="35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4815000" y="2919240"/>
            <a:ext cx="41760" cy="89280"/>
          </a:xfrm>
          <a:custGeom>
            <a:avLst/>
            <a:gdLst/>
            <a:ahLst/>
            <a:rect l="0" t="0" r="r" b="b"/>
            <a:pathLst>
              <a:path fill="none" w="116" h="248">
                <a:moveTo>
                  <a:pt x="0" y="187"/>
                </a:moveTo>
                <a:lnTo>
                  <a:pt x="0" y="57"/>
                </a:lnTo>
                <a:lnTo>
                  <a:pt x="62" y="0"/>
                </a:lnTo>
                <a:lnTo>
                  <a:pt x="116" y="146"/>
                </a:lnTo>
                <a:lnTo>
                  <a:pt x="62" y="248"/>
                </a:lnTo>
                <a:lnTo>
                  <a:pt x="0" y="187"/>
                </a:lnTo>
              </a:path>
            </a:pathLst>
          </a:custGeom>
          <a:ln w="12600">
            <a:solidFill>
              <a:srgbClr val="000000"/>
            </a:solidFill>
            <a:round/>
          </a:ln>
        </p:spPr>
        <p:txBody>
          <a:bodyPr lIns="96120" rIns="96120" tIns="38160" bIns="38160" anchor="t">
            <a:noAutofit/>
          </a:bodyPr>
          <a:p>
            <a:endParaRPr b="0" lang="en-US" sz="1800" spc="-1" strike="noStrike">
              <a:solidFill>
                <a:srgbClr val="000000"/>
              </a:solidFill>
              <a:latin typeface="Arial"/>
            </a:endParaRPr>
          </a:p>
        </p:txBody>
      </p:sp>
      <p:sp>
        <p:nvSpPr>
          <p:cNvPr id="171" name=""/>
          <p:cNvSpPr/>
          <p:nvPr/>
        </p:nvSpPr>
        <p:spPr>
          <a:xfrm>
            <a:off x="4176720" y="3087720"/>
            <a:ext cx="464040" cy="503640"/>
          </a:xfrm>
          <a:custGeom>
            <a:avLst/>
            <a:gdLst/>
            <a:ahLst/>
            <a:rect l="0" t="0" r="r" b="b"/>
            <a:pathLst>
              <a:path fill="none" w="1289" h="1399">
                <a:moveTo>
                  <a:pt x="0" y="746"/>
                </a:moveTo>
                <a:lnTo>
                  <a:pt x="0" y="768"/>
                </a:lnTo>
                <a:lnTo>
                  <a:pt x="233" y="940"/>
                </a:lnTo>
                <a:lnTo>
                  <a:pt x="741" y="1324"/>
                </a:lnTo>
                <a:lnTo>
                  <a:pt x="741" y="1399"/>
                </a:lnTo>
                <a:lnTo>
                  <a:pt x="803" y="1382"/>
                </a:lnTo>
                <a:lnTo>
                  <a:pt x="900" y="1360"/>
                </a:lnTo>
                <a:lnTo>
                  <a:pt x="1289" y="1064"/>
                </a:lnTo>
                <a:lnTo>
                  <a:pt x="1135" y="852"/>
                </a:lnTo>
                <a:lnTo>
                  <a:pt x="1135" y="534"/>
                </a:lnTo>
                <a:lnTo>
                  <a:pt x="1126" y="393"/>
                </a:lnTo>
                <a:lnTo>
                  <a:pt x="1016" y="251"/>
                </a:lnTo>
                <a:lnTo>
                  <a:pt x="1073" y="198"/>
                </a:lnTo>
                <a:lnTo>
                  <a:pt x="1095" y="0"/>
                </a:lnTo>
                <a:lnTo>
                  <a:pt x="636" y="30"/>
                </a:lnTo>
                <a:lnTo>
                  <a:pt x="402" y="149"/>
                </a:lnTo>
                <a:lnTo>
                  <a:pt x="464" y="384"/>
                </a:lnTo>
                <a:lnTo>
                  <a:pt x="358" y="393"/>
                </a:lnTo>
                <a:lnTo>
                  <a:pt x="299" y="419"/>
                </a:lnTo>
                <a:lnTo>
                  <a:pt x="313" y="481"/>
                </a:lnTo>
                <a:lnTo>
                  <a:pt x="22" y="627"/>
                </a:lnTo>
                <a:lnTo>
                  <a:pt x="0" y="746"/>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2687760" y="4656240"/>
            <a:ext cx="451080" cy="913320"/>
          </a:xfrm>
          <a:custGeom>
            <a:avLst/>
            <a:gdLst/>
            <a:ahLst/>
            <a:rect l="0" t="0" r="r" b="b"/>
            <a:pathLst>
              <a:path fill="none" w="1253" h="2537">
                <a:moveTo>
                  <a:pt x="0" y="2343"/>
                </a:moveTo>
                <a:lnTo>
                  <a:pt x="4" y="2392"/>
                </a:lnTo>
                <a:lnTo>
                  <a:pt x="61" y="2378"/>
                </a:lnTo>
                <a:lnTo>
                  <a:pt x="83" y="2506"/>
                </a:lnTo>
                <a:lnTo>
                  <a:pt x="308" y="2537"/>
                </a:lnTo>
                <a:lnTo>
                  <a:pt x="251" y="2471"/>
                </a:lnTo>
                <a:lnTo>
                  <a:pt x="291" y="2299"/>
                </a:lnTo>
                <a:lnTo>
                  <a:pt x="343" y="2325"/>
                </a:lnTo>
                <a:lnTo>
                  <a:pt x="480" y="2083"/>
                </a:lnTo>
                <a:lnTo>
                  <a:pt x="374" y="1951"/>
                </a:lnTo>
                <a:lnTo>
                  <a:pt x="493" y="1866"/>
                </a:lnTo>
                <a:lnTo>
                  <a:pt x="515" y="1747"/>
                </a:lnTo>
                <a:lnTo>
                  <a:pt x="577" y="1685"/>
                </a:lnTo>
                <a:lnTo>
                  <a:pt x="524" y="1672"/>
                </a:lnTo>
                <a:lnTo>
                  <a:pt x="612" y="1672"/>
                </a:lnTo>
                <a:lnTo>
                  <a:pt x="604" y="1610"/>
                </a:lnTo>
                <a:lnTo>
                  <a:pt x="564" y="1645"/>
                </a:lnTo>
                <a:lnTo>
                  <a:pt x="524" y="1610"/>
                </a:lnTo>
                <a:lnTo>
                  <a:pt x="515" y="1513"/>
                </a:lnTo>
                <a:lnTo>
                  <a:pt x="688" y="1517"/>
                </a:lnTo>
                <a:lnTo>
                  <a:pt x="706" y="1328"/>
                </a:lnTo>
                <a:lnTo>
                  <a:pt x="979" y="1301"/>
                </a:lnTo>
                <a:lnTo>
                  <a:pt x="1054" y="1173"/>
                </a:lnTo>
                <a:lnTo>
                  <a:pt x="949" y="940"/>
                </a:lnTo>
                <a:lnTo>
                  <a:pt x="1006" y="640"/>
                </a:lnTo>
                <a:lnTo>
                  <a:pt x="1253" y="392"/>
                </a:lnTo>
                <a:lnTo>
                  <a:pt x="1244" y="295"/>
                </a:lnTo>
                <a:lnTo>
                  <a:pt x="1191" y="286"/>
                </a:lnTo>
                <a:lnTo>
                  <a:pt x="1125" y="410"/>
                </a:lnTo>
                <a:lnTo>
                  <a:pt x="949" y="410"/>
                </a:lnTo>
                <a:lnTo>
                  <a:pt x="993" y="260"/>
                </a:lnTo>
                <a:lnTo>
                  <a:pt x="680" y="30"/>
                </a:lnTo>
                <a:lnTo>
                  <a:pt x="577" y="22"/>
                </a:lnTo>
                <a:lnTo>
                  <a:pt x="577" y="66"/>
                </a:lnTo>
                <a:lnTo>
                  <a:pt x="454" y="0"/>
                </a:lnTo>
                <a:lnTo>
                  <a:pt x="383" y="74"/>
                </a:lnTo>
                <a:lnTo>
                  <a:pt x="379" y="167"/>
                </a:lnTo>
                <a:lnTo>
                  <a:pt x="308" y="207"/>
                </a:lnTo>
                <a:lnTo>
                  <a:pt x="308" y="379"/>
                </a:lnTo>
                <a:lnTo>
                  <a:pt x="233" y="471"/>
                </a:lnTo>
                <a:lnTo>
                  <a:pt x="171" y="724"/>
                </a:lnTo>
                <a:lnTo>
                  <a:pt x="220" y="957"/>
                </a:lnTo>
                <a:lnTo>
                  <a:pt x="132" y="1160"/>
                </a:lnTo>
                <a:lnTo>
                  <a:pt x="83" y="1650"/>
                </a:lnTo>
                <a:lnTo>
                  <a:pt x="123" y="1835"/>
                </a:lnTo>
                <a:lnTo>
                  <a:pt x="83" y="1848"/>
                </a:lnTo>
                <a:lnTo>
                  <a:pt x="101" y="2008"/>
                </a:lnTo>
                <a:lnTo>
                  <a:pt x="0" y="234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2792520" y="5583240"/>
            <a:ext cx="82800" cy="78120"/>
          </a:xfrm>
          <a:custGeom>
            <a:avLst/>
            <a:gdLst/>
            <a:ahLst/>
            <a:rect l="0" t="0" r="r" b="b"/>
            <a:pathLst>
              <a:path fill="none" w="230" h="217">
                <a:moveTo>
                  <a:pt x="0" y="0"/>
                </a:moveTo>
                <a:lnTo>
                  <a:pt x="8" y="217"/>
                </a:lnTo>
                <a:lnTo>
                  <a:pt x="230" y="190"/>
                </a:lnTo>
                <a:lnTo>
                  <a:pt x="57" y="97"/>
                </a:lnTo>
                <a:lnTo>
                  <a:pt x="0" y="0"/>
                </a:lnTo>
              </a:path>
            </a:pathLst>
          </a:custGeom>
          <a:ln w="12600">
            <a:solidFill>
              <a:srgbClr val="000000"/>
            </a:solidFill>
            <a:round/>
          </a:ln>
        </p:spPr>
        <p:txBody>
          <a:bodyPr lIns="96120" rIns="96120" tIns="27000" bIns="27000" anchor="t">
            <a:noAutofit/>
          </a:bodyPr>
          <a:p>
            <a:endParaRPr b="0" lang="en-US" sz="1800" spc="-1" strike="noStrike">
              <a:solidFill>
                <a:srgbClr val="000000"/>
              </a:solidFill>
              <a:latin typeface="Arial"/>
            </a:endParaRPr>
          </a:p>
        </p:txBody>
      </p:sp>
      <p:sp>
        <p:nvSpPr>
          <p:cNvPr id="174" name=""/>
          <p:cNvSpPr/>
          <p:nvPr/>
        </p:nvSpPr>
        <p:spPr>
          <a:xfrm>
            <a:off x="6970680" y="4363920"/>
            <a:ext cx="929160" cy="784440"/>
          </a:xfrm>
          <a:custGeom>
            <a:avLst/>
            <a:gdLst/>
            <a:ahLst/>
            <a:rect l="0" t="0" r="r" b="b"/>
            <a:pathLst>
              <a:path fill="none" w="2581" h="2179">
                <a:moveTo>
                  <a:pt x="0" y="1147"/>
                </a:moveTo>
                <a:lnTo>
                  <a:pt x="44" y="1160"/>
                </a:lnTo>
                <a:lnTo>
                  <a:pt x="22" y="1099"/>
                </a:lnTo>
                <a:lnTo>
                  <a:pt x="70" y="1129"/>
                </a:lnTo>
                <a:lnTo>
                  <a:pt x="22" y="1005"/>
                </a:lnTo>
                <a:lnTo>
                  <a:pt x="57" y="815"/>
                </a:lnTo>
                <a:lnTo>
                  <a:pt x="70" y="864"/>
                </a:lnTo>
                <a:lnTo>
                  <a:pt x="229" y="718"/>
                </a:lnTo>
                <a:lnTo>
                  <a:pt x="493" y="643"/>
                </a:lnTo>
                <a:lnTo>
                  <a:pt x="582" y="529"/>
                </a:lnTo>
                <a:lnTo>
                  <a:pt x="582" y="458"/>
                </a:lnTo>
                <a:lnTo>
                  <a:pt x="612" y="410"/>
                </a:lnTo>
                <a:lnTo>
                  <a:pt x="658" y="493"/>
                </a:lnTo>
                <a:lnTo>
                  <a:pt x="658" y="401"/>
                </a:lnTo>
                <a:lnTo>
                  <a:pt x="719" y="418"/>
                </a:lnTo>
                <a:lnTo>
                  <a:pt x="719" y="352"/>
                </a:lnTo>
                <a:lnTo>
                  <a:pt x="816" y="238"/>
                </a:lnTo>
                <a:lnTo>
                  <a:pt x="922" y="246"/>
                </a:lnTo>
                <a:lnTo>
                  <a:pt x="949" y="352"/>
                </a:lnTo>
                <a:lnTo>
                  <a:pt x="979" y="291"/>
                </a:lnTo>
                <a:lnTo>
                  <a:pt x="1059" y="326"/>
                </a:lnTo>
                <a:lnTo>
                  <a:pt x="1032" y="260"/>
                </a:lnTo>
                <a:lnTo>
                  <a:pt x="1090" y="141"/>
                </a:lnTo>
                <a:lnTo>
                  <a:pt x="1244" y="101"/>
                </a:lnTo>
                <a:lnTo>
                  <a:pt x="1200" y="26"/>
                </a:lnTo>
                <a:lnTo>
                  <a:pt x="1495" y="119"/>
                </a:lnTo>
                <a:lnTo>
                  <a:pt x="1429" y="313"/>
                </a:lnTo>
                <a:lnTo>
                  <a:pt x="1725" y="507"/>
                </a:lnTo>
                <a:lnTo>
                  <a:pt x="1791" y="427"/>
                </a:lnTo>
                <a:lnTo>
                  <a:pt x="1831" y="101"/>
                </a:lnTo>
                <a:lnTo>
                  <a:pt x="1901" y="0"/>
                </a:lnTo>
                <a:lnTo>
                  <a:pt x="1959" y="260"/>
                </a:lnTo>
                <a:lnTo>
                  <a:pt x="2061" y="313"/>
                </a:lnTo>
                <a:lnTo>
                  <a:pt x="2123" y="599"/>
                </a:lnTo>
                <a:lnTo>
                  <a:pt x="2286" y="692"/>
                </a:lnTo>
                <a:lnTo>
                  <a:pt x="2339" y="864"/>
                </a:lnTo>
                <a:lnTo>
                  <a:pt x="2400" y="855"/>
                </a:lnTo>
                <a:lnTo>
                  <a:pt x="2405" y="939"/>
                </a:lnTo>
                <a:lnTo>
                  <a:pt x="2537" y="1067"/>
                </a:lnTo>
                <a:lnTo>
                  <a:pt x="2581" y="1306"/>
                </a:lnTo>
                <a:lnTo>
                  <a:pt x="2555" y="1526"/>
                </a:lnTo>
                <a:lnTo>
                  <a:pt x="2436" y="1716"/>
                </a:lnTo>
                <a:lnTo>
                  <a:pt x="2356" y="2042"/>
                </a:lnTo>
                <a:lnTo>
                  <a:pt x="2215" y="2077"/>
                </a:lnTo>
                <a:lnTo>
                  <a:pt x="2123" y="2135"/>
                </a:lnTo>
                <a:lnTo>
                  <a:pt x="2123" y="2179"/>
                </a:lnTo>
                <a:lnTo>
                  <a:pt x="2034" y="2064"/>
                </a:lnTo>
                <a:lnTo>
                  <a:pt x="1928" y="2144"/>
                </a:lnTo>
                <a:lnTo>
                  <a:pt x="1804" y="2113"/>
                </a:lnTo>
                <a:lnTo>
                  <a:pt x="1716" y="2033"/>
                </a:lnTo>
                <a:lnTo>
                  <a:pt x="1672" y="1870"/>
                </a:lnTo>
                <a:lnTo>
                  <a:pt x="1601" y="1883"/>
                </a:lnTo>
                <a:lnTo>
                  <a:pt x="1592" y="1773"/>
                </a:lnTo>
                <a:lnTo>
                  <a:pt x="1570" y="1848"/>
                </a:lnTo>
                <a:lnTo>
                  <a:pt x="1513" y="1853"/>
                </a:lnTo>
                <a:lnTo>
                  <a:pt x="1570" y="1632"/>
                </a:lnTo>
                <a:lnTo>
                  <a:pt x="1465" y="1835"/>
                </a:lnTo>
                <a:lnTo>
                  <a:pt x="1407" y="1795"/>
                </a:lnTo>
                <a:lnTo>
                  <a:pt x="1350" y="1641"/>
                </a:lnTo>
                <a:lnTo>
                  <a:pt x="1160" y="1557"/>
                </a:lnTo>
                <a:lnTo>
                  <a:pt x="816" y="1614"/>
                </a:lnTo>
                <a:lnTo>
                  <a:pt x="680" y="1738"/>
                </a:lnTo>
                <a:lnTo>
                  <a:pt x="436" y="1747"/>
                </a:lnTo>
                <a:lnTo>
                  <a:pt x="304" y="1848"/>
                </a:lnTo>
                <a:lnTo>
                  <a:pt x="127" y="1773"/>
                </a:lnTo>
                <a:lnTo>
                  <a:pt x="167" y="1562"/>
                </a:lnTo>
                <a:lnTo>
                  <a:pt x="0" y="114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7699320" y="5191200"/>
            <a:ext cx="81360" cy="90720"/>
          </a:xfrm>
          <a:custGeom>
            <a:avLst/>
            <a:gdLst/>
            <a:ahLst/>
            <a:rect l="0" t="0" r="r" b="b"/>
            <a:pathLst>
              <a:path fill="none" w="226" h="252">
                <a:moveTo>
                  <a:pt x="0" y="52"/>
                </a:moveTo>
                <a:lnTo>
                  <a:pt x="0" y="0"/>
                </a:lnTo>
                <a:lnTo>
                  <a:pt x="115" y="44"/>
                </a:lnTo>
                <a:lnTo>
                  <a:pt x="204" y="8"/>
                </a:lnTo>
                <a:lnTo>
                  <a:pt x="226" y="66"/>
                </a:lnTo>
                <a:lnTo>
                  <a:pt x="226" y="146"/>
                </a:lnTo>
                <a:lnTo>
                  <a:pt x="137" y="252"/>
                </a:lnTo>
                <a:lnTo>
                  <a:pt x="84" y="243"/>
                </a:lnTo>
                <a:lnTo>
                  <a:pt x="0" y="52"/>
                </a:lnTo>
              </a:path>
            </a:pathLst>
          </a:custGeom>
          <a:ln w="12600">
            <a:solidFill>
              <a:srgbClr val="000000"/>
            </a:solidFill>
            <a:round/>
          </a:ln>
        </p:spPr>
        <p:txBody>
          <a:bodyPr lIns="96120" rIns="96120" tIns="39600" bIns="39600" anchor="t">
            <a:noAutofit/>
          </a:bodyPr>
          <a:p>
            <a:endParaRPr b="0" lang="en-US" sz="1800" spc="-1" strike="noStrike">
              <a:solidFill>
                <a:srgbClr val="000000"/>
              </a:solidFill>
              <a:latin typeface="Arial"/>
            </a:endParaRPr>
          </a:p>
        </p:txBody>
      </p:sp>
      <p:sp>
        <p:nvSpPr>
          <p:cNvPr id="176" name=""/>
          <p:cNvSpPr/>
          <p:nvPr/>
        </p:nvSpPr>
        <p:spPr>
          <a:xfrm>
            <a:off x="4589640" y="2719440"/>
            <a:ext cx="176400" cy="74880"/>
          </a:xfrm>
          <a:custGeom>
            <a:avLst/>
            <a:gdLst/>
            <a:ahLst/>
            <a:rect l="0" t="0" r="r" b="b"/>
            <a:pathLst>
              <a:path fill="none" w="490" h="208">
                <a:moveTo>
                  <a:pt x="0" y="115"/>
                </a:moveTo>
                <a:lnTo>
                  <a:pt x="4" y="120"/>
                </a:lnTo>
                <a:lnTo>
                  <a:pt x="4" y="164"/>
                </a:lnTo>
                <a:lnTo>
                  <a:pt x="61" y="172"/>
                </a:lnTo>
                <a:lnTo>
                  <a:pt x="158" y="146"/>
                </a:lnTo>
                <a:lnTo>
                  <a:pt x="265" y="208"/>
                </a:lnTo>
                <a:lnTo>
                  <a:pt x="419" y="172"/>
                </a:lnTo>
                <a:lnTo>
                  <a:pt x="490" y="66"/>
                </a:lnTo>
                <a:lnTo>
                  <a:pt x="459" y="0"/>
                </a:lnTo>
                <a:lnTo>
                  <a:pt x="265" y="0"/>
                </a:lnTo>
                <a:lnTo>
                  <a:pt x="216" y="111"/>
                </a:lnTo>
                <a:lnTo>
                  <a:pt x="0" y="115"/>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77" name=""/>
          <p:cNvSpPr/>
          <p:nvPr/>
        </p:nvSpPr>
        <p:spPr>
          <a:xfrm>
            <a:off x="6391440" y="3387600"/>
            <a:ext cx="109800" cy="151200"/>
          </a:xfrm>
          <a:custGeom>
            <a:avLst/>
            <a:gdLst/>
            <a:ahLst/>
            <a:rect l="0" t="0" r="r" b="b"/>
            <a:pathLst>
              <a:path fill="none" w="305" h="420">
                <a:moveTo>
                  <a:pt x="0" y="124"/>
                </a:moveTo>
                <a:lnTo>
                  <a:pt x="39" y="168"/>
                </a:lnTo>
                <a:lnTo>
                  <a:pt x="70" y="372"/>
                </a:lnTo>
                <a:lnTo>
                  <a:pt x="141" y="354"/>
                </a:lnTo>
                <a:lnTo>
                  <a:pt x="186" y="261"/>
                </a:lnTo>
                <a:lnTo>
                  <a:pt x="243" y="292"/>
                </a:lnTo>
                <a:lnTo>
                  <a:pt x="283" y="420"/>
                </a:lnTo>
                <a:lnTo>
                  <a:pt x="305" y="345"/>
                </a:lnTo>
                <a:lnTo>
                  <a:pt x="269" y="208"/>
                </a:lnTo>
                <a:lnTo>
                  <a:pt x="243" y="256"/>
                </a:lnTo>
                <a:lnTo>
                  <a:pt x="203" y="190"/>
                </a:lnTo>
                <a:lnTo>
                  <a:pt x="283" y="111"/>
                </a:lnTo>
                <a:lnTo>
                  <a:pt x="127" y="92"/>
                </a:lnTo>
                <a:lnTo>
                  <a:pt x="39" y="0"/>
                </a:lnTo>
                <a:lnTo>
                  <a:pt x="8" y="44"/>
                </a:lnTo>
                <a:lnTo>
                  <a:pt x="39" y="92"/>
                </a:lnTo>
                <a:lnTo>
                  <a:pt x="0" y="12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4437000" y="2628720"/>
            <a:ext cx="74880" cy="62280"/>
          </a:xfrm>
          <a:custGeom>
            <a:avLst/>
            <a:gdLst/>
            <a:ahLst/>
            <a:rect l="0" t="0" r="r" b="b"/>
            <a:pathLst>
              <a:path fill="none" w="208" h="173">
                <a:moveTo>
                  <a:pt x="0" y="39"/>
                </a:moveTo>
                <a:lnTo>
                  <a:pt x="48" y="13"/>
                </a:lnTo>
                <a:lnTo>
                  <a:pt x="133" y="0"/>
                </a:lnTo>
                <a:lnTo>
                  <a:pt x="208" y="71"/>
                </a:lnTo>
                <a:lnTo>
                  <a:pt x="208" y="124"/>
                </a:lnTo>
                <a:lnTo>
                  <a:pt x="190" y="173"/>
                </a:lnTo>
                <a:lnTo>
                  <a:pt x="0" y="39"/>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179" name=""/>
          <p:cNvSpPr/>
          <p:nvPr/>
        </p:nvSpPr>
        <p:spPr>
          <a:xfrm>
            <a:off x="6415200" y="3336840"/>
            <a:ext cx="70200" cy="44640"/>
          </a:xfrm>
          <a:custGeom>
            <a:avLst/>
            <a:gdLst/>
            <a:ahLst/>
            <a:rect l="0" t="0" r="r" b="b"/>
            <a:pathLst>
              <a:path fill="none" w="195" h="124">
                <a:moveTo>
                  <a:pt x="0" y="75"/>
                </a:moveTo>
                <a:lnTo>
                  <a:pt x="26" y="124"/>
                </a:lnTo>
                <a:lnTo>
                  <a:pt x="195" y="98"/>
                </a:lnTo>
                <a:lnTo>
                  <a:pt x="186" y="35"/>
                </a:lnTo>
                <a:lnTo>
                  <a:pt x="57" y="0"/>
                </a:lnTo>
                <a:lnTo>
                  <a:pt x="0" y="75"/>
                </a:lnTo>
              </a:path>
            </a:pathLst>
          </a:custGeom>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sp>
        <p:nvSpPr>
          <p:cNvPr id="180" name=""/>
          <p:cNvSpPr/>
          <p:nvPr/>
        </p:nvSpPr>
        <p:spPr>
          <a:xfrm>
            <a:off x="2770200" y="4330800"/>
            <a:ext cx="275040" cy="354240"/>
          </a:xfrm>
          <a:custGeom>
            <a:avLst/>
            <a:gdLst/>
            <a:ahLst/>
            <a:rect l="0" t="0" r="r" b="b"/>
            <a:pathLst>
              <a:path fill="none" w="764" h="984">
                <a:moveTo>
                  <a:pt x="0" y="101"/>
                </a:moveTo>
                <a:lnTo>
                  <a:pt x="52" y="207"/>
                </a:lnTo>
                <a:lnTo>
                  <a:pt x="17" y="427"/>
                </a:lnTo>
                <a:lnTo>
                  <a:pt x="52" y="449"/>
                </a:lnTo>
                <a:lnTo>
                  <a:pt x="44" y="480"/>
                </a:lnTo>
                <a:lnTo>
                  <a:pt x="0" y="578"/>
                </a:lnTo>
                <a:lnTo>
                  <a:pt x="70" y="710"/>
                </a:lnTo>
                <a:lnTo>
                  <a:pt x="110" y="975"/>
                </a:lnTo>
                <a:lnTo>
                  <a:pt x="149" y="984"/>
                </a:lnTo>
                <a:lnTo>
                  <a:pt x="230" y="904"/>
                </a:lnTo>
                <a:lnTo>
                  <a:pt x="349" y="975"/>
                </a:lnTo>
                <a:lnTo>
                  <a:pt x="349" y="913"/>
                </a:lnTo>
                <a:lnTo>
                  <a:pt x="446" y="940"/>
                </a:lnTo>
                <a:lnTo>
                  <a:pt x="490" y="741"/>
                </a:lnTo>
                <a:lnTo>
                  <a:pt x="681" y="710"/>
                </a:lnTo>
                <a:lnTo>
                  <a:pt x="747" y="777"/>
                </a:lnTo>
                <a:lnTo>
                  <a:pt x="764" y="622"/>
                </a:lnTo>
                <a:lnTo>
                  <a:pt x="716" y="503"/>
                </a:lnTo>
                <a:lnTo>
                  <a:pt x="619" y="494"/>
                </a:lnTo>
                <a:lnTo>
                  <a:pt x="569" y="291"/>
                </a:lnTo>
                <a:lnTo>
                  <a:pt x="287" y="167"/>
                </a:lnTo>
                <a:lnTo>
                  <a:pt x="269" y="0"/>
                </a:lnTo>
                <a:lnTo>
                  <a:pt x="79" y="101"/>
                </a:lnTo>
                <a:lnTo>
                  <a:pt x="0" y="10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2674800" y="3952800"/>
            <a:ext cx="897120" cy="1032120"/>
          </a:xfrm>
          <a:custGeom>
            <a:avLst/>
            <a:gdLst/>
            <a:ahLst/>
            <a:rect l="0" t="0" r="r" b="b"/>
            <a:pathLst>
              <a:path fill="none" w="2492" h="2867">
                <a:moveTo>
                  <a:pt x="0" y="899"/>
                </a:moveTo>
                <a:lnTo>
                  <a:pt x="44" y="1045"/>
                </a:lnTo>
                <a:lnTo>
                  <a:pt x="141" y="1084"/>
                </a:lnTo>
                <a:lnTo>
                  <a:pt x="202" y="1036"/>
                </a:lnTo>
                <a:lnTo>
                  <a:pt x="202" y="1150"/>
                </a:lnTo>
                <a:lnTo>
                  <a:pt x="264" y="1150"/>
                </a:lnTo>
                <a:lnTo>
                  <a:pt x="343" y="1164"/>
                </a:lnTo>
                <a:lnTo>
                  <a:pt x="533" y="1049"/>
                </a:lnTo>
                <a:lnTo>
                  <a:pt x="551" y="1217"/>
                </a:lnTo>
                <a:lnTo>
                  <a:pt x="829" y="1340"/>
                </a:lnTo>
                <a:lnTo>
                  <a:pt x="881" y="1544"/>
                </a:lnTo>
                <a:lnTo>
                  <a:pt x="978" y="1548"/>
                </a:lnTo>
                <a:lnTo>
                  <a:pt x="1023" y="1672"/>
                </a:lnTo>
                <a:lnTo>
                  <a:pt x="1009" y="1822"/>
                </a:lnTo>
                <a:lnTo>
                  <a:pt x="1018" y="1963"/>
                </a:lnTo>
                <a:lnTo>
                  <a:pt x="1146" y="1985"/>
                </a:lnTo>
                <a:lnTo>
                  <a:pt x="1168" y="2091"/>
                </a:lnTo>
                <a:lnTo>
                  <a:pt x="1234" y="2113"/>
                </a:lnTo>
                <a:lnTo>
                  <a:pt x="1225" y="2241"/>
                </a:lnTo>
                <a:lnTo>
                  <a:pt x="1279" y="2241"/>
                </a:lnTo>
                <a:lnTo>
                  <a:pt x="1288" y="2346"/>
                </a:lnTo>
                <a:lnTo>
                  <a:pt x="1040" y="2593"/>
                </a:lnTo>
                <a:lnTo>
                  <a:pt x="1080" y="2571"/>
                </a:lnTo>
                <a:lnTo>
                  <a:pt x="1279" y="2735"/>
                </a:lnTo>
                <a:lnTo>
                  <a:pt x="1323" y="2787"/>
                </a:lnTo>
                <a:lnTo>
                  <a:pt x="1297" y="2867"/>
                </a:lnTo>
                <a:lnTo>
                  <a:pt x="1606" y="2443"/>
                </a:lnTo>
                <a:lnTo>
                  <a:pt x="1623" y="2223"/>
                </a:lnTo>
                <a:lnTo>
                  <a:pt x="1866" y="2029"/>
                </a:lnTo>
                <a:lnTo>
                  <a:pt x="2016" y="2029"/>
                </a:lnTo>
                <a:lnTo>
                  <a:pt x="2086" y="1963"/>
                </a:lnTo>
                <a:lnTo>
                  <a:pt x="2214" y="1632"/>
                </a:lnTo>
                <a:lnTo>
                  <a:pt x="2227" y="1314"/>
                </a:lnTo>
                <a:lnTo>
                  <a:pt x="2470" y="1014"/>
                </a:lnTo>
                <a:lnTo>
                  <a:pt x="2492" y="881"/>
                </a:lnTo>
                <a:lnTo>
                  <a:pt x="2452" y="745"/>
                </a:lnTo>
                <a:lnTo>
                  <a:pt x="2351" y="727"/>
                </a:lnTo>
                <a:lnTo>
                  <a:pt x="2188" y="590"/>
                </a:lnTo>
                <a:lnTo>
                  <a:pt x="1875" y="555"/>
                </a:lnTo>
                <a:lnTo>
                  <a:pt x="1853" y="480"/>
                </a:lnTo>
                <a:lnTo>
                  <a:pt x="1711" y="414"/>
                </a:lnTo>
                <a:lnTo>
                  <a:pt x="1650" y="414"/>
                </a:lnTo>
                <a:lnTo>
                  <a:pt x="1562" y="542"/>
                </a:lnTo>
                <a:lnTo>
                  <a:pt x="1562" y="493"/>
                </a:lnTo>
                <a:lnTo>
                  <a:pt x="1425" y="520"/>
                </a:lnTo>
                <a:lnTo>
                  <a:pt x="1487" y="493"/>
                </a:lnTo>
                <a:lnTo>
                  <a:pt x="1425" y="392"/>
                </a:lnTo>
                <a:lnTo>
                  <a:pt x="1526" y="260"/>
                </a:lnTo>
                <a:lnTo>
                  <a:pt x="1425" y="74"/>
                </a:lnTo>
                <a:lnTo>
                  <a:pt x="1332" y="220"/>
                </a:lnTo>
                <a:lnTo>
                  <a:pt x="1243" y="207"/>
                </a:lnTo>
                <a:lnTo>
                  <a:pt x="1111" y="238"/>
                </a:lnTo>
                <a:lnTo>
                  <a:pt x="930" y="260"/>
                </a:lnTo>
                <a:lnTo>
                  <a:pt x="890" y="194"/>
                </a:lnTo>
                <a:lnTo>
                  <a:pt x="899" y="44"/>
                </a:lnTo>
                <a:lnTo>
                  <a:pt x="842" y="0"/>
                </a:lnTo>
                <a:lnTo>
                  <a:pt x="692" y="88"/>
                </a:lnTo>
                <a:lnTo>
                  <a:pt x="577" y="61"/>
                </a:lnTo>
                <a:lnTo>
                  <a:pt x="612" y="198"/>
                </a:lnTo>
                <a:lnTo>
                  <a:pt x="670" y="207"/>
                </a:lnTo>
                <a:lnTo>
                  <a:pt x="515" y="313"/>
                </a:lnTo>
                <a:lnTo>
                  <a:pt x="445" y="273"/>
                </a:lnTo>
                <a:lnTo>
                  <a:pt x="405" y="229"/>
                </a:lnTo>
                <a:lnTo>
                  <a:pt x="264" y="255"/>
                </a:lnTo>
                <a:lnTo>
                  <a:pt x="308" y="326"/>
                </a:lnTo>
                <a:lnTo>
                  <a:pt x="238" y="326"/>
                </a:lnTo>
                <a:lnTo>
                  <a:pt x="268" y="454"/>
                </a:lnTo>
                <a:lnTo>
                  <a:pt x="246" y="665"/>
                </a:lnTo>
                <a:lnTo>
                  <a:pt x="88" y="736"/>
                </a:lnTo>
                <a:lnTo>
                  <a:pt x="0" y="89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2322360" y="3603600"/>
            <a:ext cx="25920" cy="68760"/>
          </a:xfrm>
          <a:custGeom>
            <a:avLst/>
            <a:gdLst/>
            <a:ahLst/>
            <a:rect l="0" t="0" r="r" b="b"/>
            <a:pathLst>
              <a:path fill="none" w="72" h="191">
                <a:moveTo>
                  <a:pt x="0" y="35"/>
                </a:moveTo>
                <a:lnTo>
                  <a:pt x="36" y="191"/>
                </a:lnTo>
                <a:lnTo>
                  <a:pt x="72" y="0"/>
                </a:lnTo>
                <a:lnTo>
                  <a:pt x="0" y="35"/>
                </a:lnTo>
              </a:path>
            </a:pathLst>
          </a:custGeom>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183" name=""/>
          <p:cNvSpPr/>
          <p:nvPr/>
        </p:nvSpPr>
        <p:spPr>
          <a:xfrm>
            <a:off x="6994440" y="3956040"/>
            <a:ext cx="27360" cy="25920"/>
          </a:xfrm>
          <a:custGeom>
            <a:avLst/>
            <a:gdLst/>
            <a:ahLst/>
            <a:rect l="0" t="0" r="r" b="b"/>
            <a:pathLst>
              <a:path fill="none" w="76" h="72">
                <a:moveTo>
                  <a:pt x="0" y="31"/>
                </a:moveTo>
                <a:lnTo>
                  <a:pt x="36" y="72"/>
                </a:lnTo>
                <a:lnTo>
                  <a:pt x="76" y="0"/>
                </a:lnTo>
                <a:lnTo>
                  <a:pt x="0" y="31"/>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84" name=""/>
          <p:cNvSpPr/>
          <p:nvPr/>
        </p:nvSpPr>
        <p:spPr>
          <a:xfrm>
            <a:off x="4886280" y="2865600"/>
            <a:ext cx="144720" cy="93960"/>
          </a:xfrm>
          <a:custGeom>
            <a:avLst/>
            <a:gdLst/>
            <a:ahLst/>
            <a:rect l="0" t="0" r="r" b="b"/>
            <a:pathLst>
              <a:path fill="none" w="402" h="261">
                <a:moveTo>
                  <a:pt x="0" y="177"/>
                </a:moveTo>
                <a:lnTo>
                  <a:pt x="22" y="0"/>
                </a:lnTo>
                <a:lnTo>
                  <a:pt x="402" y="39"/>
                </a:lnTo>
                <a:lnTo>
                  <a:pt x="327" y="146"/>
                </a:lnTo>
                <a:lnTo>
                  <a:pt x="353" y="203"/>
                </a:lnTo>
                <a:lnTo>
                  <a:pt x="261" y="208"/>
                </a:lnTo>
                <a:lnTo>
                  <a:pt x="198" y="261"/>
                </a:lnTo>
                <a:lnTo>
                  <a:pt x="39" y="261"/>
                </a:lnTo>
                <a:lnTo>
                  <a:pt x="0" y="177"/>
                </a:lnTo>
              </a:path>
            </a:pathLst>
          </a:custGeom>
          <a:ln w="12600">
            <a:solidFill>
              <a:srgbClr val="000000"/>
            </a:solidFill>
            <a:round/>
          </a:ln>
        </p:spPr>
        <p:txBody>
          <a:bodyPr lIns="96120" rIns="96120" tIns="42840" bIns="42840" anchor="t">
            <a:noAutofit/>
          </a:bodyPr>
          <a:p>
            <a:endParaRPr b="0" lang="en-US" sz="1800" spc="-1" strike="noStrike">
              <a:solidFill>
                <a:srgbClr val="000000"/>
              </a:solidFill>
              <a:latin typeface="Arial"/>
            </a:endParaRPr>
          </a:p>
        </p:txBody>
      </p:sp>
      <p:sp>
        <p:nvSpPr>
          <p:cNvPr id="185" name=""/>
          <p:cNvSpPr/>
          <p:nvPr/>
        </p:nvSpPr>
        <p:spPr>
          <a:xfrm>
            <a:off x="6494400" y="3341520"/>
            <a:ext cx="205200" cy="481320"/>
          </a:xfrm>
          <a:custGeom>
            <a:avLst/>
            <a:gdLst/>
            <a:ahLst/>
            <a:rect l="0" t="0" r="r" b="b"/>
            <a:pathLst>
              <a:path fill="none" w="570" h="1337">
                <a:moveTo>
                  <a:pt x="0" y="542"/>
                </a:moveTo>
                <a:lnTo>
                  <a:pt x="17" y="467"/>
                </a:lnTo>
                <a:lnTo>
                  <a:pt x="181" y="123"/>
                </a:lnTo>
                <a:lnTo>
                  <a:pt x="296" y="74"/>
                </a:lnTo>
                <a:lnTo>
                  <a:pt x="327" y="0"/>
                </a:lnTo>
                <a:lnTo>
                  <a:pt x="402" y="35"/>
                </a:lnTo>
                <a:lnTo>
                  <a:pt x="402" y="105"/>
                </a:lnTo>
                <a:lnTo>
                  <a:pt x="344" y="317"/>
                </a:lnTo>
                <a:lnTo>
                  <a:pt x="411" y="304"/>
                </a:lnTo>
                <a:lnTo>
                  <a:pt x="447" y="458"/>
                </a:lnTo>
                <a:lnTo>
                  <a:pt x="570" y="498"/>
                </a:lnTo>
                <a:lnTo>
                  <a:pt x="513" y="555"/>
                </a:lnTo>
                <a:lnTo>
                  <a:pt x="375" y="652"/>
                </a:lnTo>
                <a:lnTo>
                  <a:pt x="344" y="728"/>
                </a:lnTo>
                <a:lnTo>
                  <a:pt x="411" y="896"/>
                </a:lnTo>
                <a:lnTo>
                  <a:pt x="380" y="993"/>
                </a:lnTo>
                <a:lnTo>
                  <a:pt x="478" y="1204"/>
                </a:lnTo>
                <a:lnTo>
                  <a:pt x="402" y="1337"/>
                </a:lnTo>
                <a:lnTo>
                  <a:pt x="344" y="878"/>
                </a:lnTo>
                <a:lnTo>
                  <a:pt x="287" y="807"/>
                </a:lnTo>
                <a:lnTo>
                  <a:pt x="195" y="927"/>
                </a:lnTo>
                <a:lnTo>
                  <a:pt x="119" y="904"/>
                </a:lnTo>
                <a:lnTo>
                  <a:pt x="127" y="737"/>
                </a:lnTo>
                <a:lnTo>
                  <a:pt x="0" y="54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6727680" y="3703680"/>
            <a:ext cx="119520" cy="111600"/>
          </a:xfrm>
          <a:custGeom>
            <a:avLst/>
            <a:gdLst/>
            <a:ahLst/>
            <a:rect l="0" t="0" r="r" b="b"/>
            <a:pathLst>
              <a:path fill="none" w="332" h="310">
                <a:moveTo>
                  <a:pt x="0" y="61"/>
                </a:moveTo>
                <a:lnTo>
                  <a:pt x="30" y="217"/>
                </a:lnTo>
                <a:lnTo>
                  <a:pt x="70" y="301"/>
                </a:lnTo>
                <a:lnTo>
                  <a:pt x="137" y="310"/>
                </a:lnTo>
                <a:lnTo>
                  <a:pt x="332" y="168"/>
                </a:lnTo>
                <a:lnTo>
                  <a:pt x="315" y="0"/>
                </a:lnTo>
                <a:lnTo>
                  <a:pt x="172" y="26"/>
                </a:lnTo>
                <a:lnTo>
                  <a:pt x="44" y="26"/>
                </a:lnTo>
                <a:lnTo>
                  <a:pt x="0" y="6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1130400" y="1808280"/>
            <a:ext cx="1964160" cy="1130760"/>
          </a:xfrm>
          <a:custGeom>
            <a:avLst/>
            <a:gdLst/>
            <a:ahLst/>
            <a:rect l="0" t="0" r="r" b="b"/>
            <a:pathLst>
              <a:path fill="none" w="5456" h="3141">
                <a:moveTo>
                  <a:pt x="0" y="1385"/>
                </a:moveTo>
                <a:lnTo>
                  <a:pt x="0" y="291"/>
                </a:lnTo>
                <a:lnTo>
                  <a:pt x="436" y="445"/>
                </a:lnTo>
                <a:lnTo>
                  <a:pt x="405" y="379"/>
                </a:lnTo>
                <a:lnTo>
                  <a:pt x="454" y="343"/>
                </a:lnTo>
                <a:lnTo>
                  <a:pt x="723" y="220"/>
                </a:lnTo>
                <a:lnTo>
                  <a:pt x="515" y="370"/>
                </a:lnTo>
                <a:lnTo>
                  <a:pt x="630" y="326"/>
                </a:lnTo>
                <a:lnTo>
                  <a:pt x="630" y="357"/>
                </a:lnTo>
                <a:lnTo>
                  <a:pt x="855" y="229"/>
                </a:lnTo>
                <a:lnTo>
                  <a:pt x="829" y="189"/>
                </a:lnTo>
                <a:lnTo>
                  <a:pt x="970" y="335"/>
                </a:lnTo>
                <a:lnTo>
                  <a:pt x="1058" y="251"/>
                </a:lnTo>
                <a:lnTo>
                  <a:pt x="1053" y="335"/>
                </a:lnTo>
                <a:lnTo>
                  <a:pt x="1168" y="277"/>
                </a:lnTo>
                <a:lnTo>
                  <a:pt x="1495" y="388"/>
                </a:lnTo>
                <a:lnTo>
                  <a:pt x="1641" y="388"/>
                </a:lnTo>
                <a:lnTo>
                  <a:pt x="1725" y="449"/>
                </a:lnTo>
                <a:lnTo>
                  <a:pt x="1619" y="498"/>
                </a:lnTo>
                <a:lnTo>
                  <a:pt x="1681" y="529"/>
                </a:lnTo>
                <a:lnTo>
                  <a:pt x="1976" y="498"/>
                </a:lnTo>
                <a:lnTo>
                  <a:pt x="2104" y="590"/>
                </a:lnTo>
                <a:lnTo>
                  <a:pt x="2117" y="648"/>
                </a:lnTo>
                <a:lnTo>
                  <a:pt x="2152" y="612"/>
                </a:lnTo>
                <a:lnTo>
                  <a:pt x="2104" y="529"/>
                </a:lnTo>
                <a:lnTo>
                  <a:pt x="2241" y="423"/>
                </a:lnTo>
                <a:lnTo>
                  <a:pt x="2108" y="493"/>
                </a:lnTo>
                <a:lnTo>
                  <a:pt x="2060" y="463"/>
                </a:lnTo>
                <a:lnTo>
                  <a:pt x="2227" y="379"/>
                </a:lnTo>
                <a:lnTo>
                  <a:pt x="2320" y="493"/>
                </a:lnTo>
                <a:lnTo>
                  <a:pt x="2408" y="493"/>
                </a:lnTo>
                <a:lnTo>
                  <a:pt x="2470" y="542"/>
                </a:lnTo>
                <a:lnTo>
                  <a:pt x="2721" y="529"/>
                </a:lnTo>
                <a:lnTo>
                  <a:pt x="2712" y="493"/>
                </a:lnTo>
                <a:lnTo>
                  <a:pt x="2783" y="560"/>
                </a:lnTo>
                <a:lnTo>
                  <a:pt x="2796" y="498"/>
                </a:lnTo>
                <a:lnTo>
                  <a:pt x="2743" y="524"/>
                </a:lnTo>
                <a:lnTo>
                  <a:pt x="2699" y="458"/>
                </a:lnTo>
                <a:lnTo>
                  <a:pt x="2792" y="449"/>
                </a:lnTo>
                <a:lnTo>
                  <a:pt x="2836" y="498"/>
                </a:lnTo>
                <a:lnTo>
                  <a:pt x="2867" y="485"/>
                </a:lnTo>
                <a:lnTo>
                  <a:pt x="2858" y="564"/>
                </a:lnTo>
                <a:lnTo>
                  <a:pt x="2920" y="599"/>
                </a:lnTo>
                <a:lnTo>
                  <a:pt x="2902" y="493"/>
                </a:lnTo>
                <a:lnTo>
                  <a:pt x="3034" y="432"/>
                </a:lnTo>
                <a:lnTo>
                  <a:pt x="2990" y="379"/>
                </a:lnTo>
                <a:lnTo>
                  <a:pt x="2959" y="418"/>
                </a:lnTo>
                <a:lnTo>
                  <a:pt x="3026" y="321"/>
                </a:lnTo>
                <a:lnTo>
                  <a:pt x="2840" y="251"/>
                </a:lnTo>
                <a:lnTo>
                  <a:pt x="2858" y="92"/>
                </a:lnTo>
                <a:lnTo>
                  <a:pt x="2902" y="92"/>
                </a:lnTo>
                <a:lnTo>
                  <a:pt x="2920" y="0"/>
                </a:lnTo>
                <a:lnTo>
                  <a:pt x="3065" y="92"/>
                </a:lnTo>
                <a:lnTo>
                  <a:pt x="3070" y="158"/>
                </a:lnTo>
                <a:lnTo>
                  <a:pt x="3162" y="233"/>
                </a:lnTo>
                <a:lnTo>
                  <a:pt x="3096" y="233"/>
                </a:lnTo>
                <a:lnTo>
                  <a:pt x="3127" y="260"/>
                </a:lnTo>
                <a:lnTo>
                  <a:pt x="3087" y="299"/>
                </a:lnTo>
                <a:lnTo>
                  <a:pt x="3202" y="321"/>
                </a:lnTo>
                <a:lnTo>
                  <a:pt x="3167" y="335"/>
                </a:lnTo>
                <a:lnTo>
                  <a:pt x="3237" y="471"/>
                </a:lnTo>
                <a:lnTo>
                  <a:pt x="3290" y="357"/>
                </a:lnTo>
                <a:lnTo>
                  <a:pt x="3378" y="396"/>
                </a:lnTo>
                <a:lnTo>
                  <a:pt x="3392" y="476"/>
                </a:lnTo>
                <a:lnTo>
                  <a:pt x="3356" y="498"/>
                </a:lnTo>
                <a:lnTo>
                  <a:pt x="3431" y="599"/>
                </a:lnTo>
                <a:lnTo>
                  <a:pt x="3475" y="577"/>
                </a:lnTo>
                <a:lnTo>
                  <a:pt x="3537" y="432"/>
                </a:lnTo>
                <a:lnTo>
                  <a:pt x="3594" y="418"/>
                </a:lnTo>
                <a:lnTo>
                  <a:pt x="3555" y="282"/>
                </a:lnTo>
                <a:lnTo>
                  <a:pt x="3731" y="299"/>
                </a:lnTo>
                <a:lnTo>
                  <a:pt x="3806" y="370"/>
                </a:lnTo>
                <a:lnTo>
                  <a:pt x="3780" y="405"/>
                </a:lnTo>
                <a:lnTo>
                  <a:pt x="3815" y="432"/>
                </a:lnTo>
                <a:lnTo>
                  <a:pt x="3731" y="458"/>
                </a:lnTo>
                <a:lnTo>
                  <a:pt x="3802" y="621"/>
                </a:lnTo>
                <a:lnTo>
                  <a:pt x="3687" y="709"/>
                </a:lnTo>
                <a:lnTo>
                  <a:pt x="3643" y="665"/>
                </a:lnTo>
                <a:lnTo>
                  <a:pt x="3661" y="723"/>
                </a:lnTo>
                <a:lnTo>
                  <a:pt x="3480" y="687"/>
                </a:lnTo>
                <a:lnTo>
                  <a:pt x="3511" y="736"/>
                </a:lnTo>
                <a:lnTo>
                  <a:pt x="3436" y="825"/>
                </a:lnTo>
                <a:lnTo>
                  <a:pt x="3255" y="754"/>
                </a:lnTo>
                <a:lnTo>
                  <a:pt x="3321" y="825"/>
                </a:lnTo>
                <a:lnTo>
                  <a:pt x="3458" y="843"/>
                </a:lnTo>
                <a:lnTo>
                  <a:pt x="3361" y="975"/>
                </a:lnTo>
                <a:lnTo>
                  <a:pt x="3264" y="966"/>
                </a:lnTo>
                <a:lnTo>
                  <a:pt x="3215" y="1046"/>
                </a:lnTo>
                <a:lnTo>
                  <a:pt x="3039" y="984"/>
                </a:lnTo>
                <a:lnTo>
                  <a:pt x="3202" y="1046"/>
                </a:lnTo>
                <a:lnTo>
                  <a:pt x="3224" y="1094"/>
                </a:lnTo>
                <a:lnTo>
                  <a:pt x="3096" y="1121"/>
                </a:lnTo>
                <a:lnTo>
                  <a:pt x="3127" y="1138"/>
                </a:lnTo>
                <a:lnTo>
                  <a:pt x="3096" y="1138"/>
                </a:lnTo>
                <a:lnTo>
                  <a:pt x="3096" y="1191"/>
                </a:lnTo>
                <a:lnTo>
                  <a:pt x="2959" y="1275"/>
                </a:lnTo>
                <a:lnTo>
                  <a:pt x="2937" y="1526"/>
                </a:lnTo>
                <a:lnTo>
                  <a:pt x="2986" y="1579"/>
                </a:lnTo>
                <a:lnTo>
                  <a:pt x="3056" y="1548"/>
                </a:lnTo>
                <a:lnTo>
                  <a:pt x="3083" y="1751"/>
                </a:lnTo>
                <a:lnTo>
                  <a:pt x="3189" y="1707"/>
                </a:lnTo>
                <a:lnTo>
                  <a:pt x="3303" y="1756"/>
                </a:lnTo>
                <a:lnTo>
                  <a:pt x="3555" y="1901"/>
                </a:lnTo>
                <a:lnTo>
                  <a:pt x="3537" y="1950"/>
                </a:lnTo>
                <a:lnTo>
                  <a:pt x="3559" y="1914"/>
                </a:lnTo>
                <a:lnTo>
                  <a:pt x="3744" y="1923"/>
                </a:lnTo>
                <a:lnTo>
                  <a:pt x="3744" y="2139"/>
                </a:lnTo>
                <a:lnTo>
                  <a:pt x="3802" y="2201"/>
                </a:lnTo>
                <a:lnTo>
                  <a:pt x="3762" y="2223"/>
                </a:lnTo>
                <a:lnTo>
                  <a:pt x="3850" y="2258"/>
                </a:lnTo>
                <a:lnTo>
                  <a:pt x="3824" y="2324"/>
                </a:lnTo>
                <a:lnTo>
                  <a:pt x="3908" y="2320"/>
                </a:lnTo>
                <a:lnTo>
                  <a:pt x="4027" y="2210"/>
                </a:lnTo>
                <a:lnTo>
                  <a:pt x="3982" y="2179"/>
                </a:lnTo>
                <a:lnTo>
                  <a:pt x="3908" y="1980"/>
                </a:lnTo>
                <a:lnTo>
                  <a:pt x="4138" y="1808"/>
                </a:lnTo>
                <a:lnTo>
                  <a:pt x="4107" y="1808"/>
                </a:lnTo>
                <a:lnTo>
                  <a:pt x="4057" y="1606"/>
                </a:lnTo>
                <a:lnTo>
                  <a:pt x="3974" y="1548"/>
                </a:lnTo>
                <a:lnTo>
                  <a:pt x="4084" y="1460"/>
                </a:lnTo>
                <a:lnTo>
                  <a:pt x="4044" y="1416"/>
                </a:lnTo>
                <a:lnTo>
                  <a:pt x="4057" y="1345"/>
                </a:lnTo>
                <a:lnTo>
                  <a:pt x="4018" y="1337"/>
                </a:lnTo>
                <a:lnTo>
                  <a:pt x="4057" y="1257"/>
                </a:lnTo>
                <a:lnTo>
                  <a:pt x="4009" y="1213"/>
                </a:lnTo>
                <a:lnTo>
                  <a:pt x="4035" y="1138"/>
                </a:lnTo>
                <a:lnTo>
                  <a:pt x="4213" y="1187"/>
                </a:lnTo>
                <a:lnTo>
                  <a:pt x="4292" y="1156"/>
                </a:lnTo>
                <a:lnTo>
                  <a:pt x="4438" y="1257"/>
                </a:lnTo>
                <a:lnTo>
                  <a:pt x="4438" y="1297"/>
                </a:lnTo>
                <a:lnTo>
                  <a:pt x="4561" y="1310"/>
                </a:lnTo>
                <a:lnTo>
                  <a:pt x="4574" y="1416"/>
                </a:lnTo>
                <a:lnTo>
                  <a:pt x="4455" y="1416"/>
                </a:lnTo>
                <a:lnTo>
                  <a:pt x="4557" y="1434"/>
                </a:lnTo>
                <a:lnTo>
                  <a:pt x="4592" y="1491"/>
                </a:lnTo>
                <a:lnTo>
                  <a:pt x="4486" y="1584"/>
                </a:lnTo>
                <a:lnTo>
                  <a:pt x="4627" y="1539"/>
                </a:lnTo>
                <a:lnTo>
                  <a:pt x="4645" y="1619"/>
                </a:lnTo>
                <a:lnTo>
                  <a:pt x="4574" y="1650"/>
                </a:lnTo>
                <a:lnTo>
                  <a:pt x="4667" y="1570"/>
                </a:lnTo>
                <a:lnTo>
                  <a:pt x="4680" y="1619"/>
                </a:lnTo>
                <a:lnTo>
                  <a:pt x="4773" y="1539"/>
                </a:lnTo>
                <a:lnTo>
                  <a:pt x="4790" y="1584"/>
                </a:lnTo>
                <a:lnTo>
                  <a:pt x="4839" y="1478"/>
                </a:lnTo>
                <a:lnTo>
                  <a:pt x="4821" y="1451"/>
                </a:lnTo>
                <a:lnTo>
                  <a:pt x="4887" y="1385"/>
                </a:lnTo>
                <a:lnTo>
                  <a:pt x="4967" y="1504"/>
                </a:lnTo>
                <a:lnTo>
                  <a:pt x="4905" y="1531"/>
                </a:lnTo>
                <a:lnTo>
                  <a:pt x="4976" y="1517"/>
                </a:lnTo>
                <a:lnTo>
                  <a:pt x="4998" y="1570"/>
                </a:lnTo>
                <a:lnTo>
                  <a:pt x="4949" y="1579"/>
                </a:lnTo>
                <a:lnTo>
                  <a:pt x="5007" y="1592"/>
                </a:lnTo>
                <a:lnTo>
                  <a:pt x="4976" y="1628"/>
                </a:lnTo>
                <a:lnTo>
                  <a:pt x="5007" y="1619"/>
                </a:lnTo>
                <a:lnTo>
                  <a:pt x="5051" y="1667"/>
                </a:lnTo>
                <a:lnTo>
                  <a:pt x="5024" y="1685"/>
                </a:lnTo>
                <a:lnTo>
                  <a:pt x="5095" y="1729"/>
                </a:lnTo>
                <a:lnTo>
                  <a:pt x="4993" y="1778"/>
                </a:lnTo>
                <a:lnTo>
                  <a:pt x="5059" y="1778"/>
                </a:lnTo>
                <a:lnTo>
                  <a:pt x="5051" y="1817"/>
                </a:lnTo>
                <a:lnTo>
                  <a:pt x="5152" y="1853"/>
                </a:lnTo>
                <a:lnTo>
                  <a:pt x="5192" y="1950"/>
                </a:lnTo>
                <a:lnTo>
                  <a:pt x="5236" y="1914"/>
                </a:lnTo>
                <a:lnTo>
                  <a:pt x="5342" y="1980"/>
                </a:lnTo>
                <a:lnTo>
                  <a:pt x="5104" y="2069"/>
                </a:lnTo>
                <a:lnTo>
                  <a:pt x="5152" y="2104"/>
                </a:lnTo>
                <a:lnTo>
                  <a:pt x="5350" y="2011"/>
                </a:lnTo>
                <a:lnTo>
                  <a:pt x="5350" y="2091"/>
                </a:lnTo>
                <a:lnTo>
                  <a:pt x="5439" y="2077"/>
                </a:lnTo>
                <a:lnTo>
                  <a:pt x="5456" y="2113"/>
                </a:lnTo>
                <a:lnTo>
                  <a:pt x="5412" y="2113"/>
                </a:lnTo>
                <a:lnTo>
                  <a:pt x="5456" y="2210"/>
                </a:lnTo>
                <a:lnTo>
                  <a:pt x="5174" y="2400"/>
                </a:lnTo>
                <a:lnTo>
                  <a:pt x="4782" y="2400"/>
                </a:lnTo>
                <a:lnTo>
                  <a:pt x="4610" y="2524"/>
                </a:lnTo>
                <a:lnTo>
                  <a:pt x="4473" y="2709"/>
                </a:lnTo>
                <a:lnTo>
                  <a:pt x="4610" y="2572"/>
                </a:lnTo>
                <a:lnTo>
                  <a:pt x="4821" y="2480"/>
                </a:lnTo>
                <a:lnTo>
                  <a:pt x="4905" y="2546"/>
                </a:lnTo>
                <a:lnTo>
                  <a:pt x="4760" y="2603"/>
                </a:lnTo>
                <a:lnTo>
                  <a:pt x="4874" y="2625"/>
                </a:lnTo>
                <a:lnTo>
                  <a:pt x="4839" y="2678"/>
                </a:lnTo>
                <a:lnTo>
                  <a:pt x="4927" y="2788"/>
                </a:lnTo>
                <a:lnTo>
                  <a:pt x="5104" y="2833"/>
                </a:lnTo>
                <a:lnTo>
                  <a:pt x="5134" y="2696"/>
                </a:lnTo>
                <a:lnTo>
                  <a:pt x="5134" y="2775"/>
                </a:lnTo>
                <a:lnTo>
                  <a:pt x="5187" y="2771"/>
                </a:lnTo>
                <a:lnTo>
                  <a:pt x="5104" y="2855"/>
                </a:lnTo>
                <a:lnTo>
                  <a:pt x="4905" y="2908"/>
                </a:lnTo>
                <a:lnTo>
                  <a:pt x="4839" y="3005"/>
                </a:lnTo>
                <a:lnTo>
                  <a:pt x="4790" y="2912"/>
                </a:lnTo>
                <a:lnTo>
                  <a:pt x="4967" y="2841"/>
                </a:lnTo>
                <a:lnTo>
                  <a:pt x="4874" y="2846"/>
                </a:lnTo>
                <a:lnTo>
                  <a:pt x="4887" y="2788"/>
                </a:lnTo>
                <a:lnTo>
                  <a:pt x="4724" y="2855"/>
                </a:lnTo>
                <a:lnTo>
                  <a:pt x="4680" y="2815"/>
                </a:lnTo>
                <a:lnTo>
                  <a:pt x="4680" y="2696"/>
                </a:lnTo>
                <a:lnTo>
                  <a:pt x="4574" y="2652"/>
                </a:lnTo>
                <a:lnTo>
                  <a:pt x="4491" y="2846"/>
                </a:lnTo>
                <a:lnTo>
                  <a:pt x="4169" y="2912"/>
                </a:lnTo>
                <a:lnTo>
                  <a:pt x="3947" y="2982"/>
                </a:lnTo>
                <a:lnTo>
                  <a:pt x="3903" y="3022"/>
                </a:lnTo>
                <a:lnTo>
                  <a:pt x="3960" y="3031"/>
                </a:lnTo>
                <a:lnTo>
                  <a:pt x="3969" y="3057"/>
                </a:lnTo>
                <a:lnTo>
                  <a:pt x="3696" y="3141"/>
                </a:lnTo>
                <a:lnTo>
                  <a:pt x="3705" y="3102"/>
                </a:lnTo>
                <a:lnTo>
                  <a:pt x="3731" y="3084"/>
                </a:lnTo>
                <a:lnTo>
                  <a:pt x="3736" y="3044"/>
                </a:lnTo>
                <a:lnTo>
                  <a:pt x="3780" y="3018"/>
                </a:lnTo>
                <a:lnTo>
                  <a:pt x="3793" y="2855"/>
                </a:lnTo>
                <a:lnTo>
                  <a:pt x="3833" y="2908"/>
                </a:lnTo>
                <a:lnTo>
                  <a:pt x="3912" y="2881"/>
                </a:lnTo>
                <a:lnTo>
                  <a:pt x="3850" y="2788"/>
                </a:lnTo>
                <a:lnTo>
                  <a:pt x="3608" y="2740"/>
                </a:lnTo>
                <a:lnTo>
                  <a:pt x="3603" y="2740"/>
                </a:lnTo>
                <a:lnTo>
                  <a:pt x="3581" y="2612"/>
                </a:lnTo>
                <a:lnTo>
                  <a:pt x="3537" y="2616"/>
                </a:lnTo>
                <a:lnTo>
                  <a:pt x="3489" y="2541"/>
                </a:lnTo>
                <a:lnTo>
                  <a:pt x="3436" y="2528"/>
                </a:lnTo>
                <a:lnTo>
                  <a:pt x="3436" y="2577"/>
                </a:lnTo>
                <a:lnTo>
                  <a:pt x="3378" y="2515"/>
                </a:lnTo>
                <a:lnTo>
                  <a:pt x="3273" y="2612"/>
                </a:lnTo>
                <a:lnTo>
                  <a:pt x="2964" y="2541"/>
                </a:lnTo>
                <a:lnTo>
                  <a:pt x="2920" y="2480"/>
                </a:lnTo>
                <a:lnTo>
                  <a:pt x="2920" y="2515"/>
                </a:lnTo>
                <a:lnTo>
                  <a:pt x="1168" y="2515"/>
                </a:lnTo>
                <a:lnTo>
                  <a:pt x="1142" y="2444"/>
                </a:lnTo>
                <a:lnTo>
                  <a:pt x="1045" y="2422"/>
                </a:lnTo>
                <a:lnTo>
                  <a:pt x="1049" y="2378"/>
                </a:lnTo>
                <a:lnTo>
                  <a:pt x="855" y="2311"/>
                </a:lnTo>
                <a:lnTo>
                  <a:pt x="877" y="2280"/>
                </a:lnTo>
                <a:lnTo>
                  <a:pt x="833" y="2192"/>
                </a:lnTo>
                <a:lnTo>
                  <a:pt x="789" y="2179"/>
                </a:lnTo>
                <a:lnTo>
                  <a:pt x="674" y="1994"/>
                </a:lnTo>
                <a:lnTo>
                  <a:pt x="696" y="1932"/>
                </a:lnTo>
                <a:lnTo>
                  <a:pt x="696" y="1831"/>
                </a:lnTo>
                <a:lnTo>
                  <a:pt x="573" y="1778"/>
                </a:lnTo>
                <a:lnTo>
                  <a:pt x="348" y="1447"/>
                </a:lnTo>
                <a:lnTo>
                  <a:pt x="220" y="1539"/>
                </a:lnTo>
                <a:lnTo>
                  <a:pt x="194" y="1491"/>
                </a:lnTo>
                <a:lnTo>
                  <a:pt x="176" y="1487"/>
                </a:lnTo>
                <a:lnTo>
                  <a:pt x="123" y="1385"/>
                </a:lnTo>
                <a:lnTo>
                  <a:pt x="0" y="138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1424160" y="2655720"/>
            <a:ext cx="114840" cy="73440"/>
          </a:xfrm>
          <a:custGeom>
            <a:avLst/>
            <a:gdLst/>
            <a:ahLst/>
            <a:rect l="0" t="0" r="r" b="b"/>
            <a:pathLst>
              <a:path fill="none" w="319" h="204">
                <a:moveTo>
                  <a:pt x="0" y="0"/>
                </a:moveTo>
                <a:lnTo>
                  <a:pt x="177" y="35"/>
                </a:lnTo>
                <a:lnTo>
                  <a:pt x="319" y="204"/>
                </a:lnTo>
                <a:lnTo>
                  <a:pt x="225" y="169"/>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189" name=""/>
          <p:cNvSpPr/>
          <p:nvPr/>
        </p:nvSpPr>
        <p:spPr>
          <a:xfrm>
            <a:off x="1479600" y="1681200"/>
            <a:ext cx="240120" cy="170280"/>
          </a:xfrm>
          <a:custGeom>
            <a:avLst/>
            <a:gdLst/>
            <a:ahLst/>
            <a:rect l="0" t="0" r="r" b="b"/>
            <a:pathLst>
              <a:path fill="none" w="667" h="473">
                <a:moveTo>
                  <a:pt x="0" y="349"/>
                </a:moveTo>
                <a:lnTo>
                  <a:pt x="26" y="287"/>
                </a:lnTo>
                <a:lnTo>
                  <a:pt x="119" y="101"/>
                </a:lnTo>
                <a:lnTo>
                  <a:pt x="74" y="17"/>
                </a:lnTo>
                <a:lnTo>
                  <a:pt x="283" y="0"/>
                </a:lnTo>
                <a:lnTo>
                  <a:pt x="419" y="74"/>
                </a:lnTo>
                <a:lnTo>
                  <a:pt x="526" y="30"/>
                </a:lnTo>
                <a:lnTo>
                  <a:pt x="667" y="142"/>
                </a:lnTo>
                <a:lnTo>
                  <a:pt x="362" y="314"/>
                </a:lnTo>
                <a:lnTo>
                  <a:pt x="331" y="416"/>
                </a:lnTo>
                <a:lnTo>
                  <a:pt x="177" y="473"/>
                </a:lnTo>
                <a:lnTo>
                  <a:pt x="114" y="381"/>
                </a:lnTo>
                <a:lnTo>
                  <a:pt x="0" y="34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1546200" y="1523880"/>
            <a:ext cx="170280" cy="92520"/>
          </a:xfrm>
          <a:custGeom>
            <a:avLst/>
            <a:gdLst/>
            <a:ahLst/>
            <a:rect l="0" t="0" r="r" b="b"/>
            <a:pathLst>
              <a:path fill="none" w="473" h="257">
                <a:moveTo>
                  <a:pt x="0" y="190"/>
                </a:moveTo>
                <a:lnTo>
                  <a:pt x="110" y="235"/>
                </a:lnTo>
                <a:lnTo>
                  <a:pt x="137" y="190"/>
                </a:lnTo>
                <a:lnTo>
                  <a:pt x="155" y="257"/>
                </a:lnTo>
                <a:lnTo>
                  <a:pt x="208" y="235"/>
                </a:lnTo>
                <a:lnTo>
                  <a:pt x="203" y="168"/>
                </a:lnTo>
                <a:lnTo>
                  <a:pt x="243" y="209"/>
                </a:lnTo>
                <a:lnTo>
                  <a:pt x="278" y="115"/>
                </a:lnTo>
                <a:lnTo>
                  <a:pt x="322" y="102"/>
                </a:lnTo>
                <a:lnTo>
                  <a:pt x="336" y="190"/>
                </a:lnTo>
                <a:lnTo>
                  <a:pt x="438" y="128"/>
                </a:lnTo>
                <a:lnTo>
                  <a:pt x="407" y="48"/>
                </a:lnTo>
                <a:lnTo>
                  <a:pt x="473" y="30"/>
                </a:lnTo>
                <a:lnTo>
                  <a:pt x="407" y="0"/>
                </a:lnTo>
                <a:lnTo>
                  <a:pt x="234" y="30"/>
                </a:lnTo>
                <a:lnTo>
                  <a:pt x="0" y="190"/>
                </a:lnTo>
              </a:path>
            </a:pathLst>
          </a:custGeom>
          <a:ln w="12600">
            <a:solidFill>
              <a:srgbClr val="000000"/>
            </a:solidFill>
            <a:round/>
          </a:ln>
        </p:spPr>
        <p:txBody>
          <a:bodyPr lIns="96120" rIns="96120" tIns="41400" bIns="41400" anchor="t">
            <a:noAutofit/>
          </a:bodyPr>
          <a:p>
            <a:endParaRPr b="0" lang="en-US" sz="1800" spc="-1" strike="noStrike">
              <a:solidFill>
                <a:srgbClr val="000000"/>
              </a:solidFill>
              <a:latin typeface="Arial"/>
            </a:endParaRPr>
          </a:p>
        </p:txBody>
      </p:sp>
      <p:sp>
        <p:nvSpPr>
          <p:cNvPr id="191" name=""/>
          <p:cNvSpPr/>
          <p:nvPr/>
        </p:nvSpPr>
        <p:spPr>
          <a:xfrm>
            <a:off x="1635120" y="1739880"/>
            <a:ext cx="414720" cy="230400"/>
          </a:xfrm>
          <a:custGeom>
            <a:avLst/>
            <a:gdLst/>
            <a:ahLst/>
            <a:rect l="0" t="0" r="r" b="b"/>
            <a:pathLst>
              <a:path fill="none" w="1152" h="640">
                <a:moveTo>
                  <a:pt x="0" y="202"/>
                </a:moveTo>
                <a:lnTo>
                  <a:pt x="57" y="163"/>
                </a:lnTo>
                <a:lnTo>
                  <a:pt x="30" y="127"/>
                </a:lnTo>
                <a:lnTo>
                  <a:pt x="171" y="44"/>
                </a:lnTo>
                <a:lnTo>
                  <a:pt x="277" y="0"/>
                </a:lnTo>
                <a:lnTo>
                  <a:pt x="318" y="61"/>
                </a:lnTo>
                <a:lnTo>
                  <a:pt x="277" y="101"/>
                </a:lnTo>
                <a:lnTo>
                  <a:pt x="380" y="57"/>
                </a:lnTo>
                <a:lnTo>
                  <a:pt x="490" y="92"/>
                </a:lnTo>
                <a:lnTo>
                  <a:pt x="459" y="145"/>
                </a:lnTo>
                <a:lnTo>
                  <a:pt x="583" y="114"/>
                </a:lnTo>
                <a:lnTo>
                  <a:pt x="547" y="61"/>
                </a:lnTo>
                <a:lnTo>
                  <a:pt x="605" y="61"/>
                </a:lnTo>
                <a:lnTo>
                  <a:pt x="702" y="238"/>
                </a:lnTo>
                <a:lnTo>
                  <a:pt x="741" y="194"/>
                </a:lnTo>
                <a:lnTo>
                  <a:pt x="702" y="13"/>
                </a:lnTo>
                <a:lnTo>
                  <a:pt x="781" y="13"/>
                </a:lnTo>
                <a:lnTo>
                  <a:pt x="875" y="79"/>
                </a:lnTo>
                <a:lnTo>
                  <a:pt x="928" y="317"/>
                </a:lnTo>
                <a:lnTo>
                  <a:pt x="1152" y="424"/>
                </a:lnTo>
                <a:lnTo>
                  <a:pt x="1152" y="490"/>
                </a:lnTo>
                <a:lnTo>
                  <a:pt x="1091" y="455"/>
                </a:lnTo>
                <a:lnTo>
                  <a:pt x="1016" y="503"/>
                </a:lnTo>
                <a:lnTo>
                  <a:pt x="1117" y="547"/>
                </a:lnTo>
                <a:lnTo>
                  <a:pt x="1025" y="605"/>
                </a:lnTo>
                <a:lnTo>
                  <a:pt x="879" y="574"/>
                </a:lnTo>
                <a:lnTo>
                  <a:pt x="794" y="512"/>
                </a:lnTo>
                <a:lnTo>
                  <a:pt x="605" y="622"/>
                </a:lnTo>
                <a:lnTo>
                  <a:pt x="371" y="640"/>
                </a:lnTo>
                <a:lnTo>
                  <a:pt x="322" y="534"/>
                </a:lnTo>
                <a:lnTo>
                  <a:pt x="189" y="534"/>
                </a:lnTo>
                <a:lnTo>
                  <a:pt x="105" y="446"/>
                </a:lnTo>
                <a:lnTo>
                  <a:pt x="441" y="393"/>
                </a:lnTo>
                <a:lnTo>
                  <a:pt x="88" y="371"/>
                </a:lnTo>
                <a:lnTo>
                  <a:pt x="44" y="317"/>
                </a:lnTo>
                <a:lnTo>
                  <a:pt x="220" y="255"/>
                </a:lnTo>
                <a:lnTo>
                  <a:pt x="57" y="260"/>
                </a:lnTo>
                <a:lnTo>
                  <a:pt x="74" y="238"/>
                </a:lnTo>
                <a:lnTo>
                  <a:pt x="0" y="20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1668600" y="1558800"/>
            <a:ext cx="281520" cy="128880"/>
          </a:xfrm>
          <a:custGeom>
            <a:avLst/>
            <a:gdLst/>
            <a:ahLst/>
            <a:rect l="0" t="0" r="r" b="b"/>
            <a:pathLst>
              <a:path fill="none" w="782" h="358">
                <a:moveTo>
                  <a:pt x="0" y="225"/>
                </a:moveTo>
                <a:lnTo>
                  <a:pt x="22" y="203"/>
                </a:lnTo>
                <a:lnTo>
                  <a:pt x="167" y="171"/>
                </a:lnTo>
                <a:lnTo>
                  <a:pt x="22" y="181"/>
                </a:lnTo>
                <a:lnTo>
                  <a:pt x="180" y="141"/>
                </a:lnTo>
                <a:lnTo>
                  <a:pt x="57" y="141"/>
                </a:lnTo>
                <a:lnTo>
                  <a:pt x="66" y="101"/>
                </a:lnTo>
                <a:lnTo>
                  <a:pt x="185" y="101"/>
                </a:lnTo>
                <a:lnTo>
                  <a:pt x="97" y="97"/>
                </a:lnTo>
                <a:lnTo>
                  <a:pt x="171" y="57"/>
                </a:lnTo>
                <a:lnTo>
                  <a:pt x="327" y="101"/>
                </a:lnTo>
                <a:lnTo>
                  <a:pt x="402" y="190"/>
                </a:lnTo>
                <a:lnTo>
                  <a:pt x="552" y="195"/>
                </a:lnTo>
                <a:lnTo>
                  <a:pt x="494" y="141"/>
                </a:lnTo>
                <a:lnTo>
                  <a:pt x="530" y="101"/>
                </a:lnTo>
                <a:lnTo>
                  <a:pt x="459" y="66"/>
                </a:lnTo>
                <a:lnTo>
                  <a:pt x="561" y="0"/>
                </a:lnTo>
                <a:lnTo>
                  <a:pt x="606" y="74"/>
                </a:lnTo>
                <a:lnTo>
                  <a:pt x="574" y="110"/>
                </a:lnTo>
                <a:lnTo>
                  <a:pt x="637" y="127"/>
                </a:lnTo>
                <a:lnTo>
                  <a:pt x="614" y="158"/>
                </a:lnTo>
                <a:lnTo>
                  <a:pt x="689" y="171"/>
                </a:lnTo>
                <a:lnTo>
                  <a:pt x="729" y="119"/>
                </a:lnTo>
                <a:lnTo>
                  <a:pt x="782" y="181"/>
                </a:lnTo>
                <a:lnTo>
                  <a:pt x="738" y="256"/>
                </a:lnTo>
                <a:lnTo>
                  <a:pt x="565" y="256"/>
                </a:lnTo>
                <a:lnTo>
                  <a:pt x="318" y="358"/>
                </a:lnTo>
                <a:lnTo>
                  <a:pt x="203" y="296"/>
                </a:lnTo>
                <a:lnTo>
                  <a:pt x="433" y="221"/>
                </a:lnTo>
                <a:lnTo>
                  <a:pt x="239" y="278"/>
                </a:lnTo>
                <a:lnTo>
                  <a:pt x="269" y="203"/>
                </a:lnTo>
                <a:lnTo>
                  <a:pt x="176" y="278"/>
                </a:lnTo>
                <a:lnTo>
                  <a:pt x="66" y="256"/>
                </a:lnTo>
                <a:lnTo>
                  <a:pt x="0" y="22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1947960" y="1427040"/>
            <a:ext cx="144720" cy="79560"/>
          </a:xfrm>
          <a:custGeom>
            <a:avLst/>
            <a:gdLst/>
            <a:ahLst/>
            <a:rect l="0" t="0" r="r" b="b"/>
            <a:pathLst>
              <a:path fill="none" w="402" h="221">
                <a:moveTo>
                  <a:pt x="0" y="0"/>
                </a:moveTo>
                <a:lnTo>
                  <a:pt x="26" y="74"/>
                </a:lnTo>
                <a:lnTo>
                  <a:pt x="127" y="74"/>
                </a:lnTo>
                <a:lnTo>
                  <a:pt x="97" y="92"/>
                </a:lnTo>
                <a:lnTo>
                  <a:pt x="119" y="115"/>
                </a:lnTo>
                <a:lnTo>
                  <a:pt x="26" y="128"/>
                </a:lnTo>
                <a:lnTo>
                  <a:pt x="176" y="164"/>
                </a:lnTo>
                <a:lnTo>
                  <a:pt x="402" y="221"/>
                </a:lnTo>
                <a:lnTo>
                  <a:pt x="367" y="92"/>
                </a:lnTo>
                <a:lnTo>
                  <a:pt x="208" y="22"/>
                </a:lnTo>
                <a:lnTo>
                  <a:pt x="154" y="52"/>
                </a:lnTo>
                <a:lnTo>
                  <a:pt x="132" y="0"/>
                </a:lnTo>
                <a:lnTo>
                  <a:pt x="0" y="0"/>
                </a:lnTo>
              </a:path>
            </a:pathLst>
          </a:custGeom>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sp>
        <p:nvSpPr>
          <p:cNvPr id="194" name=""/>
          <p:cNvSpPr/>
          <p:nvPr/>
        </p:nvSpPr>
        <p:spPr>
          <a:xfrm>
            <a:off x="2016000" y="1577880"/>
            <a:ext cx="116280" cy="82800"/>
          </a:xfrm>
          <a:custGeom>
            <a:avLst/>
            <a:gdLst/>
            <a:ahLst/>
            <a:rect l="0" t="0" r="r" b="b"/>
            <a:pathLst>
              <a:path fill="none" w="323" h="230">
                <a:moveTo>
                  <a:pt x="0" y="146"/>
                </a:moveTo>
                <a:lnTo>
                  <a:pt x="30" y="92"/>
                </a:lnTo>
                <a:lnTo>
                  <a:pt x="89" y="97"/>
                </a:lnTo>
                <a:lnTo>
                  <a:pt x="17" y="44"/>
                </a:lnTo>
                <a:lnTo>
                  <a:pt x="30" y="17"/>
                </a:lnTo>
                <a:lnTo>
                  <a:pt x="159" y="88"/>
                </a:lnTo>
                <a:lnTo>
                  <a:pt x="89" y="17"/>
                </a:lnTo>
                <a:lnTo>
                  <a:pt x="288" y="0"/>
                </a:lnTo>
                <a:lnTo>
                  <a:pt x="323" y="164"/>
                </a:lnTo>
                <a:lnTo>
                  <a:pt x="279" y="137"/>
                </a:lnTo>
                <a:lnTo>
                  <a:pt x="270" y="230"/>
                </a:lnTo>
                <a:lnTo>
                  <a:pt x="120" y="217"/>
                </a:lnTo>
                <a:lnTo>
                  <a:pt x="155" y="195"/>
                </a:lnTo>
                <a:lnTo>
                  <a:pt x="111" y="155"/>
                </a:lnTo>
                <a:lnTo>
                  <a:pt x="225" y="114"/>
                </a:lnTo>
                <a:lnTo>
                  <a:pt x="0" y="146"/>
                </a:lnTo>
              </a:path>
            </a:pathLst>
          </a:custGeom>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195" name=""/>
          <p:cNvSpPr/>
          <p:nvPr/>
        </p:nvSpPr>
        <p:spPr>
          <a:xfrm>
            <a:off x="2017800" y="1716120"/>
            <a:ext cx="136800" cy="125640"/>
          </a:xfrm>
          <a:custGeom>
            <a:avLst/>
            <a:gdLst/>
            <a:ahLst/>
            <a:rect l="0" t="0" r="r" b="b"/>
            <a:pathLst>
              <a:path fill="none" w="380" h="349">
                <a:moveTo>
                  <a:pt x="0" y="167"/>
                </a:moveTo>
                <a:lnTo>
                  <a:pt x="17" y="127"/>
                </a:lnTo>
                <a:lnTo>
                  <a:pt x="141" y="154"/>
                </a:lnTo>
                <a:lnTo>
                  <a:pt x="127" y="101"/>
                </a:lnTo>
                <a:lnTo>
                  <a:pt x="154" y="101"/>
                </a:lnTo>
                <a:lnTo>
                  <a:pt x="79" y="61"/>
                </a:lnTo>
                <a:lnTo>
                  <a:pt x="119" y="57"/>
                </a:lnTo>
                <a:lnTo>
                  <a:pt x="83" y="30"/>
                </a:lnTo>
                <a:lnTo>
                  <a:pt x="327" y="0"/>
                </a:lnTo>
                <a:lnTo>
                  <a:pt x="331" y="79"/>
                </a:lnTo>
                <a:lnTo>
                  <a:pt x="252" y="136"/>
                </a:lnTo>
                <a:lnTo>
                  <a:pt x="371" y="154"/>
                </a:lnTo>
                <a:lnTo>
                  <a:pt x="380" y="278"/>
                </a:lnTo>
                <a:lnTo>
                  <a:pt x="212" y="349"/>
                </a:lnTo>
                <a:lnTo>
                  <a:pt x="141" y="252"/>
                </a:lnTo>
                <a:lnTo>
                  <a:pt x="0" y="16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2114640" y="1446120"/>
            <a:ext cx="81360" cy="66960"/>
          </a:xfrm>
          <a:custGeom>
            <a:avLst/>
            <a:gdLst/>
            <a:ahLst/>
            <a:rect l="0" t="0" r="r" b="b"/>
            <a:pathLst>
              <a:path fill="none" w="226" h="186">
                <a:moveTo>
                  <a:pt x="0" y="0"/>
                </a:moveTo>
                <a:lnTo>
                  <a:pt x="26" y="111"/>
                </a:lnTo>
                <a:lnTo>
                  <a:pt x="93" y="115"/>
                </a:lnTo>
                <a:lnTo>
                  <a:pt x="35" y="120"/>
                </a:lnTo>
                <a:lnTo>
                  <a:pt x="62" y="186"/>
                </a:lnTo>
                <a:lnTo>
                  <a:pt x="200" y="146"/>
                </a:lnTo>
                <a:lnTo>
                  <a:pt x="226" y="92"/>
                </a:lnTo>
                <a:lnTo>
                  <a:pt x="0" y="0"/>
                </a:lnTo>
              </a:path>
            </a:pathLst>
          </a:custGeom>
          <a:ln w="12600">
            <a:solidFill>
              <a:srgbClr val="000000"/>
            </a:solidFill>
            <a:round/>
          </a:ln>
        </p:spPr>
        <p:txBody>
          <a:bodyPr lIns="96120" rIns="96120" tIns="15840" bIns="15840" anchor="t">
            <a:noAutofit/>
          </a:bodyPr>
          <a:p>
            <a:endParaRPr b="0" lang="en-US" sz="1800" spc="-1" strike="noStrike">
              <a:solidFill>
                <a:srgbClr val="000000"/>
              </a:solidFill>
              <a:latin typeface="Arial"/>
            </a:endParaRPr>
          </a:p>
        </p:txBody>
      </p:sp>
      <p:sp>
        <p:nvSpPr>
          <p:cNvPr id="197" name=""/>
          <p:cNvSpPr/>
          <p:nvPr/>
        </p:nvSpPr>
        <p:spPr>
          <a:xfrm>
            <a:off x="2141640" y="1542960"/>
            <a:ext cx="395640" cy="144720"/>
          </a:xfrm>
          <a:custGeom>
            <a:avLst/>
            <a:gdLst/>
            <a:ahLst/>
            <a:rect l="0" t="0" r="r" b="b"/>
            <a:pathLst>
              <a:path fill="none" w="1099" h="402">
                <a:moveTo>
                  <a:pt x="0" y="66"/>
                </a:moveTo>
                <a:lnTo>
                  <a:pt x="74" y="0"/>
                </a:lnTo>
                <a:lnTo>
                  <a:pt x="167" y="35"/>
                </a:lnTo>
                <a:lnTo>
                  <a:pt x="229" y="66"/>
                </a:lnTo>
                <a:lnTo>
                  <a:pt x="216" y="110"/>
                </a:lnTo>
                <a:lnTo>
                  <a:pt x="343" y="74"/>
                </a:lnTo>
                <a:lnTo>
                  <a:pt x="418" y="110"/>
                </a:lnTo>
                <a:lnTo>
                  <a:pt x="348" y="110"/>
                </a:lnTo>
                <a:lnTo>
                  <a:pt x="485" y="136"/>
                </a:lnTo>
                <a:lnTo>
                  <a:pt x="343" y="154"/>
                </a:lnTo>
                <a:lnTo>
                  <a:pt x="418" y="180"/>
                </a:lnTo>
                <a:lnTo>
                  <a:pt x="361" y="208"/>
                </a:lnTo>
                <a:lnTo>
                  <a:pt x="440" y="185"/>
                </a:lnTo>
                <a:lnTo>
                  <a:pt x="511" y="265"/>
                </a:lnTo>
                <a:lnTo>
                  <a:pt x="524" y="225"/>
                </a:lnTo>
                <a:lnTo>
                  <a:pt x="728" y="265"/>
                </a:lnTo>
                <a:lnTo>
                  <a:pt x="927" y="185"/>
                </a:lnTo>
                <a:lnTo>
                  <a:pt x="1099" y="269"/>
                </a:lnTo>
                <a:lnTo>
                  <a:pt x="1050" y="322"/>
                </a:lnTo>
                <a:lnTo>
                  <a:pt x="1072" y="380"/>
                </a:lnTo>
                <a:lnTo>
                  <a:pt x="971" y="402"/>
                </a:lnTo>
                <a:lnTo>
                  <a:pt x="856" y="336"/>
                </a:lnTo>
                <a:lnTo>
                  <a:pt x="856" y="380"/>
                </a:lnTo>
                <a:lnTo>
                  <a:pt x="790" y="389"/>
                </a:lnTo>
                <a:lnTo>
                  <a:pt x="546" y="402"/>
                </a:lnTo>
                <a:lnTo>
                  <a:pt x="524" y="340"/>
                </a:lnTo>
                <a:lnTo>
                  <a:pt x="463" y="389"/>
                </a:lnTo>
                <a:lnTo>
                  <a:pt x="388" y="340"/>
                </a:lnTo>
                <a:lnTo>
                  <a:pt x="335" y="371"/>
                </a:lnTo>
                <a:lnTo>
                  <a:pt x="238" y="119"/>
                </a:lnTo>
                <a:lnTo>
                  <a:pt x="127" y="145"/>
                </a:lnTo>
                <a:lnTo>
                  <a:pt x="0" y="66"/>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2162160" y="1305000"/>
            <a:ext cx="257400" cy="186120"/>
          </a:xfrm>
          <a:custGeom>
            <a:avLst/>
            <a:gdLst/>
            <a:ahLst/>
            <a:rect l="0" t="0" r="r" b="b"/>
            <a:pathLst>
              <a:path fill="none" w="715" h="517">
                <a:moveTo>
                  <a:pt x="0" y="159"/>
                </a:moveTo>
                <a:lnTo>
                  <a:pt x="167" y="133"/>
                </a:lnTo>
                <a:lnTo>
                  <a:pt x="70" y="61"/>
                </a:lnTo>
                <a:lnTo>
                  <a:pt x="220" y="17"/>
                </a:lnTo>
                <a:lnTo>
                  <a:pt x="105" y="0"/>
                </a:lnTo>
                <a:lnTo>
                  <a:pt x="291" y="35"/>
                </a:lnTo>
                <a:lnTo>
                  <a:pt x="348" y="133"/>
                </a:lnTo>
                <a:lnTo>
                  <a:pt x="455" y="137"/>
                </a:lnTo>
                <a:lnTo>
                  <a:pt x="490" y="203"/>
                </a:lnTo>
                <a:lnTo>
                  <a:pt x="494" y="159"/>
                </a:lnTo>
                <a:lnTo>
                  <a:pt x="543" y="159"/>
                </a:lnTo>
                <a:lnTo>
                  <a:pt x="521" y="203"/>
                </a:lnTo>
                <a:lnTo>
                  <a:pt x="578" y="239"/>
                </a:lnTo>
                <a:lnTo>
                  <a:pt x="543" y="278"/>
                </a:lnTo>
                <a:lnTo>
                  <a:pt x="649" y="274"/>
                </a:lnTo>
                <a:lnTo>
                  <a:pt x="715" y="344"/>
                </a:lnTo>
                <a:lnTo>
                  <a:pt x="569" y="371"/>
                </a:lnTo>
                <a:lnTo>
                  <a:pt x="534" y="434"/>
                </a:lnTo>
                <a:lnTo>
                  <a:pt x="508" y="371"/>
                </a:lnTo>
                <a:lnTo>
                  <a:pt x="477" y="517"/>
                </a:lnTo>
                <a:lnTo>
                  <a:pt x="384" y="438"/>
                </a:lnTo>
                <a:lnTo>
                  <a:pt x="428" y="517"/>
                </a:lnTo>
                <a:lnTo>
                  <a:pt x="260" y="513"/>
                </a:lnTo>
                <a:lnTo>
                  <a:pt x="207" y="465"/>
                </a:lnTo>
                <a:lnTo>
                  <a:pt x="286" y="456"/>
                </a:lnTo>
                <a:lnTo>
                  <a:pt x="202" y="447"/>
                </a:lnTo>
                <a:lnTo>
                  <a:pt x="180" y="420"/>
                </a:lnTo>
                <a:lnTo>
                  <a:pt x="220" y="416"/>
                </a:lnTo>
                <a:lnTo>
                  <a:pt x="158" y="384"/>
                </a:lnTo>
                <a:lnTo>
                  <a:pt x="375" y="340"/>
                </a:lnTo>
                <a:lnTo>
                  <a:pt x="105" y="344"/>
                </a:lnTo>
                <a:lnTo>
                  <a:pt x="52" y="296"/>
                </a:lnTo>
                <a:lnTo>
                  <a:pt x="158" y="274"/>
                </a:lnTo>
                <a:lnTo>
                  <a:pt x="0" y="239"/>
                </a:lnTo>
                <a:lnTo>
                  <a:pt x="39" y="239"/>
                </a:lnTo>
                <a:lnTo>
                  <a:pt x="0" y="195"/>
                </a:lnTo>
                <a:lnTo>
                  <a:pt x="167" y="195"/>
                </a:lnTo>
                <a:lnTo>
                  <a:pt x="0" y="1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2162160" y="1627200"/>
            <a:ext cx="62280" cy="49680"/>
          </a:xfrm>
          <a:custGeom>
            <a:avLst/>
            <a:gdLst/>
            <a:ahLst/>
            <a:rect l="0" t="0" r="r" b="b"/>
            <a:pathLst>
              <a:path fill="none" w="173" h="138">
                <a:moveTo>
                  <a:pt x="0" y="93"/>
                </a:moveTo>
                <a:lnTo>
                  <a:pt x="26" y="0"/>
                </a:lnTo>
                <a:lnTo>
                  <a:pt x="134" y="30"/>
                </a:lnTo>
                <a:lnTo>
                  <a:pt x="173" y="138"/>
                </a:lnTo>
                <a:lnTo>
                  <a:pt x="0" y="93"/>
                </a:lnTo>
              </a:path>
            </a:pathLst>
          </a:custGeom>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sp>
        <p:nvSpPr>
          <p:cNvPr id="200" name=""/>
          <p:cNvSpPr/>
          <p:nvPr/>
        </p:nvSpPr>
        <p:spPr>
          <a:xfrm>
            <a:off x="2162160" y="1512720"/>
            <a:ext cx="68760" cy="25920"/>
          </a:xfrm>
          <a:custGeom>
            <a:avLst/>
            <a:gdLst/>
            <a:ahLst/>
            <a:rect l="0" t="0" r="r" b="b"/>
            <a:pathLst>
              <a:path fill="none" w="191" h="72">
                <a:moveTo>
                  <a:pt x="0" y="17"/>
                </a:moveTo>
                <a:lnTo>
                  <a:pt x="35" y="72"/>
                </a:lnTo>
                <a:lnTo>
                  <a:pt x="191" y="17"/>
                </a:lnTo>
                <a:lnTo>
                  <a:pt x="49" y="0"/>
                </a:lnTo>
                <a:lnTo>
                  <a:pt x="0" y="17"/>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01" name=""/>
          <p:cNvSpPr/>
          <p:nvPr/>
        </p:nvSpPr>
        <p:spPr>
          <a:xfrm>
            <a:off x="2171520" y="1708200"/>
            <a:ext cx="124200" cy="100440"/>
          </a:xfrm>
          <a:custGeom>
            <a:avLst/>
            <a:gdLst/>
            <a:ahLst/>
            <a:rect l="0" t="0" r="r" b="b"/>
            <a:pathLst>
              <a:path fill="none" w="345" h="279">
                <a:moveTo>
                  <a:pt x="0" y="35"/>
                </a:moveTo>
                <a:lnTo>
                  <a:pt x="8" y="172"/>
                </a:lnTo>
                <a:lnTo>
                  <a:pt x="39" y="203"/>
                </a:lnTo>
                <a:lnTo>
                  <a:pt x="35" y="279"/>
                </a:lnTo>
                <a:lnTo>
                  <a:pt x="83" y="279"/>
                </a:lnTo>
                <a:lnTo>
                  <a:pt x="142" y="213"/>
                </a:lnTo>
                <a:lnTo>
                  <a:pt x="83" y="172"/>
                </a:lnTo>
                <a:lnTo>
                  <a:pt x="221" y="172"/>
                </a:lnTo>
                <a:lnTo>
                  <a:pt x="345" y="17"/>
                </a:lnTo>
                <a:lnTo>
                  <a:pt x="26" y="0"/>
                </a:lnTo>
                <a:lnTo>
                  <a:pt x="70" y="52"/>
                </a:lnTo>
                <a:lnTo>
                  <a:pt x="0" y="35"/>
                </a:lnTo>
              </a:path>
            </a:pathLst>
          </a:custGeom>
          <a:ln w="12600">
            <a:solidFill>
              <a:srgbClr val="000000"/>
            </a:solidFill>
            <a:round/>
          </a:ln>
        </p:spPr>
        <p:txBody>
          <a:bodyPr lIns="96120" rIns="96120" tIns="49320" bIns="49320" anchor="t">
            <a:noAutofit/>
          </a:bodyPr>
          <a:p>
            <a:endParaRPr b="0" lang="en-US" sz="1800" spc="-1" strike="noStrike">
              <a:solidFill>
                <a:srgbClr val="000000"/>
              </a:solidFill>
              <a:latin typeface="Arial"/>
            </a:endParaRPr>
          </a:p>
        </p:txBody>
      </p:sp>
      <p:sp>
        <p:nvSpPr>
          <p:cNvPr id="202" name=""/>
          <p:cNvSpPr/>
          <p:nvPr/>
        </p:nvSpPr>
        <p:spPr>
          <a:xfrm>
            <a:off x="2257560" y="1197000"/>
            <a:ext cx="706680" cy="403560"/>
          </a:xfrm>
          <a:custGeom>
            <a:avLst/>
            <a:gdLst/>
            <a:ahLst/>
            <a:rect l="0" t="0" r="r" b="b"/>
            <a:pathLst>
              <a:path fill="none" w="1963" h="1121">
                <a:moveTo>
                  <a:pt x="0" y="251"/>
                </a:moveTo>
                <a:lnTo>
                  <a:pt x="167" y="251"/>
                </a:lnTo>
                <a:lnTo>
                  <a:pt x="105" y="299"/>
                </a:lnTo>
                <a:lnTo>
                  <a:pt x="348" y="264"/>
                </a:lnTo>
                <a:lnTo>
                  <a:pt x="141" y="299"/>
                </a:lnTo>
                <a:lnTo>
                  <a:pt x="207" y="313"/>
                </a:lnTo>
                <a:lnTo>
                  <a:pt x="132" y="321"/>
                </a:lnTo>
                <a:lnTo>
                  <a:pt x="158" y="343"/>
                </a:lnTo>
                <a:lnTo>
                  <a:pt x="471" y="308"/>
                </a:lnTo>
                <a:lnTo>
                  <a:pt x="167" y="383"/>
                </a:lnTo>
                <a:lnTo>
                  <a:pt x="304" y="427"/>
                </a:lnTo>
                <a:lnTo>
                  <a:pt x="427" y="343"/>
                </a:lnTo>
                <a:lnTo>
                  <a:pt x="630" y="339"/>
                </a:lnTo>
                <a:lnTo>
                  <a:pt x="410" y="370"/>
                </a:lnTo>
                <a:lnTo>
                  <a:pt x="366" y="427"/>
                </a:lnTo>
                <a:lnTo>
                  <a:pt x="485" y="440"/>
                </a:lnTo>
                <a:lnTo>
                  <a:pt x="630" y="370"/>
                </a:lnTo>
                <a:lnTo>
                  <a:pt x="533" y="432"/>
                </a:lnTo>
                <a:lnTo>
                  <a:pt x="630" y="432"/>
                </a:lnTo>
                <a:lnTo>
                  <a:pt x="771" y="392"/>
                </a:lnTo>
                <a:lnTo>
                  <a:pt x="754" y="321"/>
                </a:lnTo>
                <a:lnTo>
                  <a:pt x="912" y="273"/>
                </a:lnTo>
                <a:lnTo>
                  <a:pt x="802" y="383"/>
                </a:lnTo>
                <a:lnTo>
                  <a:pt x="1054" y="361"/>
                </a:lnTo>
                <a:lnTo>
                  <a:pt x="551" y="463"/>
                </a:lnTo>
                <a:lnTo>
                  <a:pt x="661" y="574"/>
                </a:lnTo>
                <a:lnTo>
                  <a:pt x="758" y="574"/>
                </a:lnTo>
                <a:lnTo>
                  <a:pt x="709" y="596"/>
                </a:lnTo>
                <a:lnTo>
                  <a:pt x="520" y="480"/>
                </a:lnTo>
                <a:lnTo>
                  <a:pt x="348" y="463"/>
                </a:lnTo>
                <a:lnTo>
                  <a:pt x="343" y="511"/>
                </a:lnTo>
                <a:lnTo>
                  <a:pt x="423" y="537"/>
                </a:lnTo>
                <a:lnTo>
                  <a:pt x="343" y="555"/>
                </a:lnTo>
                <a:lnTo>
                  <a:pt x="551" y="680"/>
                </a:lnTo>
                <a:lnTo>
                  <a:pt x="463" y="688"/>
                </a:lnTo>
                <a:lnTo>
                  <a:pt x="661" y="693"/>
                </a:lnTo>
                <a:lnTo>
                  <a:pt x="555" y="719"/>
                </a:lnTo>
                <a:lnTo>
                  <a:pt x="608" y="755"/>
                </a:lnTo>
                <a:lnTo>
                  <a:pt x="436" y="693"/>
                </a:lnTo>
                <a:lnTo>
                  <a:pt x="326" y="724"/>
                </a:lnTo>
                <a:lnTo>
                  <a:pt x="286" y="816"/>
                </a:lnTo>
                <a:lnTo>
                  <a:pt x="379" y="790"/>
                </a:lnTo>
                <a:lnTo>
                  <a:pt x="370" y="816"/>
                </a:lnTo>
                <a:lnTo>
                  <a:pt x="410" y="816"/>
                </a:lnTo>
                <a:lnTo>
                  <a:pt x="463" y="746"/>
                </a:lnTo>
                <a:lnTo>
                  <a:pt x="449" y="812"/>
                </a:lnTo>
                <a:lnTo>
                  <a:pt x="502" y="816"/>
                </a:lnTo>
                <a:lnTo>
                  <a:pt x="392" y="856"/>
                </a:lnTo>
                <a:lnTo>
                  <a:pt x="463" y="856"/>
                </a:lnTo>
                <a:lnTo>
                  <a:pt x="410" y="878"/>
                </a:lnTo>
                <a:lnTo>
                  <a:pt x="449" y="918"/>
                </a:lnTo>
                <a:lnTo>
                  <a:pt x="533" y="918"/>
                </a:lnTo>
                <a:lnTo>
                  <a:pt x="608" y="838"/>
                </a:lnTo>
                <a:lnTo>
                  <a:pt x="471" y="944"/>
                </a:lnTo>
                <a:lnTo>
                  <a:pt x="343" y="856"/>
                </a:lnTo>
                <a:lnTo>
                  <a:pt x="229" y="882"/>
                </a:lnTo>
                <a:lnTo>
                  <a:pt x="326" y="962"/>
                </a:lnTo>
                <a:lnTo>
                  <a:pt x="158" y="1015"/>
                </a:lnTo>
                <a:lnTo>
                  <a:pt x="180" y="1081"/>
                </a:lnTo>
                <a:lnTo>
                  <a:pt x="216" y="1024"/>
                </a:lnTo>
                <a:lnTo>
                  <a:pt x="216" y="1081"/>
                </a:lnTo>
                <a:lnTo>
                  <a:pt x="326" y="1054"/>
                </a:lnTo>
                <a:lnTo>
                  <a:pt x="410" y="1112"/>
                </a:lnTo>
                <a:lnTo>
                  <a:pt x="463" y="1103"/>
                </a:lnTo>
                <a:lnTo>
                  <a:pt x="436" y="1063"/>
                </a:lnTo>
                <a:lnTo>
                  <a:pt x="551" y="1081"/>
                </a:lnTo>
                <a:lnTo>
                  <a:pt x="533" y="1041"/>
                </a:lnTo>
                <a:lnTo>
                  <a:pt x="582" y="1081"/>
                </a:lnTo>
                <a:lnTo>
                  <a:pt x="612" y="1076"/>
                </a:lnTo>
                <a:lnTo>
                  <a:pt x="599" y="1041"/>
                </a:lnTo>
                <a:lnTo>
                  <a:pt x="692" y="1076"/>
                </a:lnTo>
                <a:lnTo>
                  <a:pt x="692" y="1121"/>
                </a:lnTo>
                <a:lnTo>
                  <a:pt x="859" y="1076"/>
                </a:lnTo>
                <a:lnTo>
                  <a:pt x="886" y="1006"/>
                </a:lnTo>
                <a:lnTo>
                  <a:pt x="815" y="1024"/>
                </a:lnTo>
                <a:lnTo>
                  <a:pt x="815" y="957"/>
                </a:lnTo>
                <a:lnTo>
                  <a:pt x="630" y="957"/>
                </a:lnTo>
                <a:lnTo>
                  <a:pt x="877" y="944"/>
                </a:lnTo>
                <a:lnTo>
                  <a:pt x="912" y="891"/>
                </a:lnTo>
                <a:lnTo>
                  <a:pt x="877" y="843"/>
                </a:lnTo>
                <a:lnTo>
                  <a:pt x="1019" y="856"/>
                </a:lnTo>
                <a:lnTo>
                  <a:pt x="1046" y="816"/>
                </a:lnTo>
                <a:lnTo>
                  <a:pt x="956" y="812"/>
                </a:lnTo>
                <a:lnTo>
                  <a:pt x="1081" y="803"/>
                </a:lnTo>
                <a:lnTo>
                  <a:pt x="1002" y="763"/>
                </a:lnTo>
                <a:lnTo>
                  <a:pt x="1094" y="737"/>
                </a:lnTo>
                <a:lnTo>
                  <a:pt x="1094" y="715"/>
                </a:lnTo>
                <a:lnTo>
                  <a:pt x="895" y="693"/>
                </a:lnTo>
                <a:lnTo>
                  <a:pt x="1006" y="671"/>
                </a:lnTo>
                <a:lnTo>
                  <a:pt x="895" y="662"/>
                </a:lnTo>
                <a:lnTo>
                  <a:pt x="1094" y="688"/>
                </a:lnTo>
                <a:lnTo>
                  <a:pt x="1112" y="658"/>
                </a:lnTo>
                <a:lnTo>
                  <a:pt x="895" y="640"/>
                </a:lnTo>
                <a:lnTo>
                  <a:pt x="1165" y="596"/>
                </a:lnTo>
                <a:lnTo>
                  <a:pt x="1094" y="561"/>
                </a:lnTo>
                <a:lnTo>
                  <a:pt x="1288" y="574"/>
                </a:lnTo>
                <a:lnTo>
                  <a:pt x="1350" y="511"/>
                </a:lnTo>
                <a:lnTo>
                  <a:pt x="1253" y="502"/>
                </a:lnTo>
                <a:lnTo>
                  <a:pt x="1376" y="502"/>
                </a:lnTo>
                <a:lnTo>
                  <a:pt x="1359" y="458"/>
                </a:lnTo>
                <a:lnTo>
                  <a:pt x="1425" y="463"/>
                </a:lnTo>
                <a:lnTo>
                  <a:pt x="1756" y="286"/>
                </a:lnTo>
                <a:lnTo>
                  <a:pt x="1390" y="343"/>
                </a:lnTo>
                <a:lnTo>
                  <a:pt x="1588" y="264"/>
                </a:lnTo>
                <a:lnTo>
                  <a:pt x="1469" y="273"/>
                </a:lnTo>
                <a:lnTo>
                  <a:pt x="1442" y="238"/>
                </a:lnTo>
                <a:lnTo>
                  <a:pt x="1667" y="251"/>
                </a:lnTo>
                <a:lnTo>
                  <a:pt x="1963" y="163"/>
                </a:lnTo>
                <a:lnTo>
                  <a:pt x="1963" y="114"/>
                </a:lnTo>
                <a:lnTo>
                  <a:pt x="1831" y="114"/>
                </a:lnTo>
                <a:lnTo>
                  <a:pt x="1800" y="30"/>
                </a:lnTo>
                <a:lnTo>
                  <a:pt x="1469" y="74"/>
                </a:lnTo>
                <a:lnTo>
                  <a:pt x="1614" y="22"/>
                </a:lnTo>
                <a:lnTo>
                  <a:pt x="1165" y="0"/>
                </a:lnTo>
                <a:lnTo>
                  <a:pt x="1129" y="30"/>
                </a:lnTo>
                <a:lnTo>
                  <a:pt x="1165" y="48"/>
                </a:lnTo>
                <a:lnTo>
                  <a:pt x="1081" y="8"/>
                </a:lnTo>
                <a:lnTo>
                  <a:pt x="877" y="22"/>
                </a:lnTo>
                <a:lnTo>
                  <a:pt x="1028" y="97"/>
                </a:lnTo>
                <a:lnTo>
                  <a:pt x="961" y="114"/>
                </a:lnTo>
                <a:lnTo>
                  <a:pt x="895" y="30"/>
                </a:lnTo>
                <a:lnTo>
                  <a:pt x="718" y="26"/>
                </a:lnTo>
                <a:lnTo>
                  <a:pt x="754" y="66"/>
                </a:lnTo>
                <a:lnTo>
                  <a:pt x="612" y="48"/>
                </a:lnTo>
                <a:lnTo>
                  <a:pt x="683" y="101"/>
                </a:lnTo>
                <a:lnTo>
                  <a:pt x="568" y="74"/>
                </a:lnTo>
                <a:lnTo>
                  <a:pt x="608" y="101"/>
                </a:lnTo>
                <a:lnTo>
                  <a:pt x="551" y="114"/>
                </a:lnTo>
                <a:lnTo>
                  <a:pt x="683" y="194"/>
                </a:lnTo>
                <a:lnTo>
                  <a:pt x="374" y="101"/>
                </a:lnTo>
                <a:lnTo>
                  <a:pt x="304" y="167"/>
                </a:lnTo>
                <a:lnTo>
                  <a:pt x="423" y="194"/>
                </a:lnTo>
                <a:lnTo>
                  <a:pt x="216" y="176"/>
                </a:lnTo>
                <a:lnTo>
                  <a:pt x="0" y="25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2301840" y="1719360"/>
            <a:ext cx="659160" cy="525960"/>
          </a:xfrm>
          <a:custGeom>
            <a:avLst/>
            <a:gdLst/>
            <a:ahLst/>
            <a:rect l="0" t="0" r="r" b="b"/>
            <a:pathLst>
              <a:path fill="none" w="1831" h="1461">
                <a:moveTo>
                  <a:pt x="0" y="321"/>
                </a:moveTo>
                <a:lnTo>
                  <a:pt x="8" y="158"/>
                </a:lnTo>
                <a:lnTo>
                  <a:pt x="88" y="48"/>
                </a:lnTo>
                <a:lnTo>
                  <a:pt x="216" y="0"/>
                </a:lnTo>
                <a:lnTo>
                  <a:pt x="317" y="26"/>
                </a:lnTo>
                <a:lnTo>
                  <a:pt x="202" y="158"/>
                </a:lnTo>
                <a:lnTo>
                  <a:pt x="233" y="255"/>
                </a:lnTo>
                <a:lnTo>
                  <a:pt x="317" y="339"/>
                </a:lnTo>
                <a:lnTo>
                  <a:pt x="216" y="375"/>
                </a:lnTo>
                <a:lnTo>
                  <a:pt x="326" y="375"/>
                </a:lnTo>
                <a:lnTo>
                  <a:pt x="335" y="295"/>
                </a:lnTo>
                <a:lnTo>
                  <a:pt x="255" y="246"/>
                </a:lnTo>
                <a:lnTo>
                  <a:pt x="326" y="194"/>
                </a:lnTo>
                <a:lnTo>
                  <a:pt x="268" y="123"/>
                </a:lnTo>
                <a:lnTo>
                  <a:pt x="379" y="145"/>
                </a:lnTo>
                <a:lnTo>
                  <a:pt x="282" y="105"/>
                </a:lnTo>
                <a:lnTo>
                  <a:pt x="392" y="114"/>
                </a:lnTo>
                <a:lnTo>
                  <a:pt x="317" y="70"/>
                </a:lnTo>
                <a:lnTo>
                  <a:pt x="405" y="70"/>
                </a:lnTo>
                <a:lnTo>
                  <a:pt x="458" y="26"/>
                </a:lnTo>
                <a:lnTo>
                  <a:pt x="537" y="8"/>
                </a:lnTo>
                <a:lnTo>
                  <a:pt x="537" y="79"/>
                </a:lnTo>
                <a:lnTo>
                  <a:pt x="595" y="105"/>
                </a:lnTo>
                <a:lnTo>
                  <a:pt x="568" y="255"/>
                </a:lnTo>
                <a:lnTo>
                  <a:pt x="648" y="185"/>
                </a:lnTo>
                <a:lnTo>
                  <a:pt x="692" y="224"/>
                </a:lnTo>
                <a:lnTo>
                  <a:pt x="789" y="145"/>
                </a:lnTo>
                <a:lnTo>
                  <a:pt x="940" y="185"/>
                </a:lnTo>
                <a:lnTo>
                  <a:pt x="1002" y="255"/>
                </a:lnTo>
                <a:lnTo>
                  <a:pt x="957" y="295"/>
                </a:lnTo>
                <a:lnTo>
                  <a:pt x="1046" y="277"/>
                </a:lnTo>
                <a:lnTo>
                  <a:pt x="1019" y="321"/>
                </a:lnTo>
                <a:lnTo>
                  <a:pt x="1076" y="339"/>
                </a:lnTo>
                <a:lnTo>
                  <a:pt x="1116" y="286"/>
                </a:lnTo>
                <a:lnTo>
                  <a:pt x="1182" y="313"/>
                </a:lnTo>
                <a:lnTo>
                  <a:pt x="1204" y="357"/>
                </a:lnTo>
                <a:lnTo>
                  <a:pt x="1138" y="375"/>
                </a:lnTo>
                <a:lnTo>
                  <a:pt x="1235" y="375"/>
                </a:lnTo>
                <a:lnTo>
                  <a:pt x="1218" y="428"/>
                </a:lnTo>
                <a:lnTo>
                  <a:pt x="1284" y="397"/>
                </a:lnTo>
                <a:lnTo>
                  <a:pt x="1244" y="446"/>
                </a:lnTo>
                <a:lnTo>
                  <a:pt x="1372" y="437"/>
                </a:lnTo>
                <a:lnTo>
                  <a:pt x="1306" y="486"/>
                </a:lnTo>
                <a:lnTo>
                  <a:pt x="1359" y="486"/>
                </a:lnTo>
                <a:lnTo>
                  <a:pt x="1345" y="516"/>
                </a:lnTo>
                <a:lnTo>
                  <a:pt x="1403" y="468"/>
                </a:lnTo>
                <a:lnTo>
                  <a:pt x="1451" y="525"/>
                </a:lnTo>
                <a:lnTo>
                  <a:pt x="1350" y="561"/>
                </a:lnTo>
                <a:lnTo>
                  <a:pt x="1504" y="591"/>
                </a:lnTo>
                <a:lnTo>
                  <a:pt x="1372" y="609"/>
                </a:lnTo>
                <a:lnTo>
                  <a:pt x="1425" y="636"/>
                </a:lnTo>
                <a:lnTo>
                  <a:pt x="1381" y="680"/>
                </a:lnTo>
                <a:lnTo>
                  <a:pt x="1535" y="768"/>
                </a:lnTo>
                <a:lnTo>
                  <a:pt x="1610" y="746"/>
                </a:lnTo>
                <a:lnTo>
                  <a:pt x="1650" y="847"/>
                </a:lnTo>
                <a:lnTo>
                  <a:pt x="1725" y="843"/>
                </a:lnTo>
                <a:lnTo>
                  <a:pt x="1707" y="891"/>
                </a:lnTo>
                <a:lnTo>
                  <a:pt x="1831" y="913"/>
                </a:lnTo>
                <a:lnTo>
                  <a:pt x="1808" y="971"/>
                </a:lnTo>
                <a:lnTo>
                  <a:pt x="1747" y="962"/>
                </a:lnTo>
                <a:lnTo>
                  <a:pt x="1778" y="1002"/>
                </a:lnTo>
                <a:lnTo>
                  <a:pt x="1747" y="1050"/>
                </a:lnTo>
                <a:lnTo>
                  <a:pt x="1698" y="1024"/>
                </a:lnTo>
                <a:lnTo>
                  <a:pt x="1685" y="1130"/>
                </a:lnTo>
                <a:lnTo>
                  <a:pt x="1478" y="940"/>
                </a:lnTo>
                <a:lnTo>
                  <a:pt x="1403" y="957"/>
                </a:lnTo>
                <a:lnTo>
                  <a:pt x="1451" y="1002"/>
                </a:lnTo>
                <a:lnTo>
                  <a:pt x="1420" y="1050"/>
                </a:lnTo>
                <a:lnTo>
                  <a:pt x="1447" y="1037"/>
                </a:lnTo>
                <a:lnTo>
                  <a:pt x="1491" y="1135"/>
                </a:lnTo>
                <a:lnTo>
                  <a:pt x="1597" y="1161"/>
                </a:lnTo>
                <a:lnTo>
                  <a:pt x="1579" y="1214"/>
                </a:lnTo>
                <a:lnTo>
                  <a:pt x="1637" y="1263"/>
                </a:lnTo>
                <a:lnTo>
                  <a:pt x="1610" y="1386"/>
                </a:lnTo>
                <a:lnTo>
                  <a:pt x="1350" y="1254"/>
                </a:lnTo>
                <a:lnTo>
                  <a:pt x="1531" y="1461"/>
                </a:lnTo>
                <a:lnTo>
                  <a:pt x="1200" y="1342"/>
                </a:lnTo>
                <a:lnTo>
                  <a:pt x="1151" y="1276"/>
                </a:lnTo>
                <a:lnTo>
                  <a:pt x="1191" y="1276"/>
                </a:lnTo>
                <a:lnTo>
                  <a:pt x="1085" y="1232"/>
                </a:lnTo>
                <a:lnTo>
                  <a:pt x="1059" y="1161"/>
                </a:lnTo>
                <a:lnTo>
                  <a:pt x="979" y="1130"/>
                </a:lnTo>
                <a:lnTo>
                  <a:pt x="971" y="1183"/>
                </a:lnTo>
                <a:lnTo>
                  <a:pt x="918" y="1161"/>
                </a:lnTo>
                <a:lnTo>
                  <a:pt x="851" y="1205"/>
                </a:lnTo>
                <a:lnTo>
                  <a:pt x="762" y="1161"/>
                </a:lnTo>
                <a:lnTo>
                  <a:pt x="811" y="1068"/>
                </a:lnTo>
                <a:lnTo>
                  <a:pt x="1046" y="1068"/>
                </a:lnTo>
                <a:lnTo>
                  <a:pt x="993" y="975"/>
                </a:lnTo>
                <a:lnTo>
                  <a:pt x="1129" y="843"/>
                </a:lnTo>
                <a:lnTo>
                  <a:pt x="1037" y="671"/>
                </a:lnTo>
                <a:lnTo>
                  <a:pt x="962" y="653"/>
                </a:lnTo>
                <a:lnTo>
                  <a:pt x="1002" y="627"/>
                </a:lnTo>
                <a:lnTo>
                  <a:pt x="851" y="680"/>
                </a:lnTo>
                <a:lnTo>
                  <a:pt x="851" y="627"/>
                </a:lnTo>
                <a:lnTo>
                  <a:pt x="903" y="591"/>
                </a:lnTo>
                <a:lnTo>
                  <a:pt x="789" y="530"/>
                </a:lnTo>
                <a:lnTo>
                  <a:pt x="789" y="477"/>
                </a:lnTo>
                <a:lnTo>
                  <a:pt x="683" y="450"/>
                </a:lnTo>
                <a:lnTo>
                  <a:pt x="714" y="525"/>
                </a:lnTo>
                <a:lnTo>
                  <a:pt x="537" y="499"/>
                </a:lnTo>
                <a:lnTo>
                  <a:pt x="577" y="538"/>
                </a:lnTo>
                <a:lnTo>
                  <a:pt x="123" y="468"/>
                </a:lnTo>
                <a:lnTo>
                  <a:pt x="35" y="375"/>
                </a:lnTo>
                <a:lnTo>
                  <a:pt x="176" y="375"/>
                </a:lnTo>
                <a:lnTo>
                  <a:pt x="0" y="32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2367000" y="2079720"/>
            <a:ext cx="155880" cy="116280"/>
          </a:xfrm>
          <a:custGeom>
            <a:avLst/>
            <a:gdLst/>
            <a:ahLst/>
            <a:rect l="0" t="0" r="r" b="b"/>
            <a:pathLst>
              <a:path fill="none" w="433" h="323">
                <a:moveTo>
                  <a:pt x="0" y="266"/>
                </a:moveTo>
                <a:lnTo>
                  <a:pt x="66" y="208"/>
                </a:lnTo>
                <a:lnTo>
                  <a:pt x="101" y="0"/>
                </a:lnTo>
                <a:lnTo>
                  <a:pt x="136" y="79"/>
                </a:lnTo>
                <a:lnTo>
                  <a:pt x="247" y="98"/>
                </a:lnTo>
                <a:lnTo>
                  <a:pt x="433" y="239"/>
                </a:lnTo>
                <a:lnTo>
                  <a:pt x="397" y="293"/>
                </a:lnTo>
                <a:lnTo>
                  <a:pt x="225" y="221"/>
                </a:lnTo>
                <a:lnTo>
                  <a:pt x="123" y="323"/>
                </a:lnTo>
                <a:lnTo>
                  <a:pt x="101" y="239"/>
                </a:lnTo>
                <a:lnTo>
                  <a:pt x="0" y="266"/>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3006720" y="2622600"/>
            <a:ext cx="157680" cy="171720"/>
          </a:xfrm>
          <a:custGeom>
            <a:avLst/>
            <a:gdLst/>
            <a:ahLst/>
            <a:rect l="0" t="0" r="r" b="b"/>
            <a:pathLst>
              <a:path fill="none" w="438" h="477">
                <a:moveTo>
                  <a:pt x="0" y="371"/>
                </a:moveTo>
                <a:lnTo>
                  <a:pt x="177" y="30"/>
                </a:lnTo>
                <a:lnTo>
                  <a:pt x="243" y="0"/>
                </a:lnTo>
                <a:lnTo>
                  <a:pt x="168" y="189"/>
                </a:lnTo>
                <a:lnTo>
                  <a:pt x="225" y="141"/>
                </a:lnTo>
                <a:lnTo>
                  <a:pt x="256" y="220"/>
                </a:lnTo>
                <a:lnTo>
                  <a:pt x="372" y="220"/>
                </a:lnTo>
                <a:lnTo>
                  <a:pt x="354" y="292"/>
                </a:lnTo>
                <a:lnTo>
                  <a:pt x="407" y="283"/>
                </a:lnTo>
                <a:lnTo>
                  <a:pt x="372" y="362"/>
                </a:lnTo>
                <a:lnTo>
                  <a:pt x="425" y="314"/>
                </a:lnTo>
                <a:lnTo>
                  <a:pt x="438" y="389"/>
                </a:lnTo>
                <a:lnTo>
                  <a:pt x="381" y="477"/>
                </a:lnTo>
                <a:lnTo>
                  <a:pt x="372" y="411"/>
                </a:lnTo>
                <a:lnTo>
                  <a:pt x="341" y="441"/>
                </a:lnTo>
                <a:lnTo>
                  <a:pt x="341" y="353"/>
                </a:lnTo>
                <a:lnTo>
                  <a:pt x="243" y="441"/>
                </a:lnTo>
                <a:lnTo>
                  <a:pt x="300" y="380"/>
                </a:lnTo>
                <a:lnTo>
                  <a:pt x="212" y="389"/>
                </a:lnTo>
                <a:lnTo>
                  <a:pt x="225" y="353"/>
                </a:lnTo>
                <a:lnTo>
                  <a:pt x="0" y="37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6208560" y="3832200"/>
            <a:ext cx="43200" cy="98640"/>
          </a:xfrm>
          <a:custGeom>
            <a:avLst/>
            <a:gdLst/>
            <a:ahLst/>
            <a:rect l="0" t="0" r="r" b="b"/>
            <a:pathLst>
              <a:path fill="none" w="120" h="274">
                <a:moveTo>
                  <a:pt x="0" y="0"/>
                </a:moveTo>
                <a:lnTo>
                  <a:pt x="22" y="274"/>
                </a:lnTo>
                <a:lnTo>
                  <a:pt x="120" y="217"/>
                </a:lnTo>
                <a:lnTo>
                  <a:pt x="67" y="61"/>
                </a:lnTo>
                <a:lnTo>
                  <a:pt x="0" y="0"/>
                </a:lnTo>
              </a:path>
            </a:pathLst>
          </a:custGeom>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07" name=""/>
          <p:cNvSpPr/>
          <p:nvPr/>
        </p:nvSpPr>
        <p:spPr>
          <a:xfrm>
            <a:off x="2638440" y="4540320"/>
            <a:ext cx="187560" cy="1082880"/>
          </a:xfrm>
          <a:custGeom>
            <a:avLst/>
            <a:gdLst/>
            <a:ahLst/>
            <a:rect l="0" t="0" r="r" b="b"/>
            <a:pathLst>
              <a:path fill="none" w="521" h="3008">
                <a:moveTo>
                  <a:pt x="0" y="2346"/>
                </a:moveTo>
                <a:lnTo>
                  <a:pt x="30" y="2267"/>
                </a:lnTo>
                <a:lnTo>
                  <a:pt x="105" y="2324"/>
                </a:lnTo>
                <a:lnTo>
                  <a:pt x="171" y="2174"/>
                </a:lnTo>
                <a:lnTo>
                  <a:pt x="145" y="2113"/>
                </a:lnTo>
                <a:lnTo>
                  <a:pt x="202" y="1901"/>
                </a:lnTo>
                <a:lnTo>
                  <a:pt x="101" y="1879"/>
                </a:lnTo>
                <a:lnTo>
                  <a:pt x="119" y="1539"/>
                </a:lnTo>
                <a:lnTo>
                  <a:pt x="246" y="1177"/>
                </a:lnTo>
                <a:lnTo>
                  <a:pt x="246" y="873"/>
                </a:lnTo>
                <a:lnTo>
                  <a:pt x="336" y="299"/>
                </a:lnTo>
                <a:lnTo>
                  <a:pt x="305" y="39"/>
                </a:lnTo>
                <a:lnTo>
                  <a:pt x="371" y="0"/>
                </a:lnTo>
                <a:lnTo>
                  <a:pt x="437" y="127"/>
                </a:lnTo>
                <a:lnTo>
                  <a:pt x="477" y="392"/>
                </a:lnTo>
                <a:lnTo>
                  <a:pt x="521" y="396"/>
                </a:lnTo>
                <a:lnTo>
                  <a:pt x="516" y="493"/>
                </a:lnTo>
                <a:lnTo>
                  <a:pt x="446" y="529"/>
                </a:lnTo>
                <a:lnTo>
                  <a:pt x="446" y="701"/>
                </a:lnTo>
                <a:lnTo>
                  <a:pt x="371" y="793"/>
                </a:lnTo>
                <a:lnTo>
                  <a:pt x="305" y="1045"/>
                </a:lnTo>
                <a:lnTo>
                  <a:pt x="358" y="1278"/>
                </a:lnTo>
                <a:lnTo>
                  <a:pt x="269" y="1486"/>
                </a:lnTo>
                <a:lnTo>
                  <a:pt x="216" y="1976"/>
                </a:lnTo>
                <a:lnTo>
                  <a:pt x="261" y="2157"/>
                </a:lnTo>
                <a:lnTo>
                  <a:pt x="220" y="2174"/>
                </a:lnTo>
                <a:lnTo>
                  <a:pt x="238" y="2329"/>
                </a:lnTo>
                <a:lnTo>
                  <a:pt x="132" y="2668"/>
                </a:lnTo>
                <a:lnTo>
                  <a:pt x="141" y="2712"/>
                </a:lnTo>
                <a:lnTo>
                  <a:pt x="198" y="2704"/>
                </a:lnTo>
                <a:lnTo>
                  <a:pt x="216" y="2823"/>
                </a:lnTo>
                <a:lnTo>
                  <a:pt x="446" y="2858"/>
                </a:lnTo>
                <a:lnTo>
                  <a:pt x="296" y="2902"/>
                </a:lnTo>
                <a:lnTo>
                  <a:pt x="269" y="3008"/>
                </a:lnTo>
                <a:lnTo>
                  <a:pt x="202" y="2977"/>
                </a:lnTo>
                <a:lnTo>
                  <a:pt x="283" y="2911"/>
                </a:lnTo>
                <a:lnTo>
                  <a:pt x="171" y="2889"/>
                </a:lnTo>
                <a:lnTo>
                  <a:pt x="149" y="2779"/>
                </a:lnTo>
                <a:lnTo>
                  <a:pt x="127" y="2832"/>
                </a:lnTo>
                <a:lnTo>
                  <a:pt x="83" y="2730"/>
                </a:lnTo>
                <a:lnTo>
                  <a:pt x="105" y="2708"/>
                </a:lnTo>
                <a:lnTo>
                  <a:pt x="57" y="2655"/>
                </a:lnTo>
                <a:lnTo>
                  <a:pt x="101" y="2607"/>
                </a:lnTo>
                <a:lnTo>
                  <a:pt x="57" y="2457"/>
                </a:lnTo>
                <a:lnTo>
                  <a:pt x="141" y="2474"/>
                </a:lnTo>
                <a:lnTo>
                  <a:pt x="57" y="2404"/>
                </a:lnTo>
                <a:lnTo>
                  <a:pt x="79" y="2338"/>
                </a:lnTo>
                <a:lnTo>
                  <a:pt x="0" y="2346"/>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2676600" y="5610240"/>
            <a:ext cx="32040" cy="25920"/>
          </a:xfrm>
          <a:custGeom>
            <a:avLst/>
            <a:gdLst/>
            <a:ahLst/>
            <a:rect l="0" t="0" r="r" b="b"/>
            <a:pathLst>
              <a:path fill="none" w="89" h="72">
                <a:moveTo>
                  <a:pt x="0" y="0"/>
                </a:moveTo>
                <a:lnTo>
                  <a:pt x="89" y="8"/>
                </a:lnTo>
                <a:lnTo>
                  <a:pt x="89"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09" name=""/>
          <p:cNvSpPr/>
          <p:nvPr/>
        </p:nvSpPr>
        <p:spPr>
          <a:xfrm>
            <a:off x="2684520" y="5556240"/>
            <a:ext cx="44640" cy="54360"/>
          </a:xfrm>
          <a:custGeom>
            <a:avLst/>
            <a:gdLst/>
            <a:ahLst/>
            <a:rect l="0" t="0" r="r" b="b"/>
            <a:pathLst>
              <a:path fill="none" w="124" h="151">
                <a:moveTo>
                  <a:pt x="0" y="26"/>
                </a:moveTo>
                <a:lnTo>
                  <a:pt x="35" y="0"/>
                </a:lnTo>
                <a:lnTo>
                  <a:pt x="22" y="75"/>
                </a:lnTo>
                <a:lnTo>
                  <a:pt x="124" y="98"/>
                </a:lnTo>
                <a:lnTo>
                  <a:pt x="67" y="151"/>
                </a:lnTo>
                <a:lnTo>
                  <a:pt x="0" y="26"/>
                </a:lnTo>
              </a:path>
            </a:pathLst>
          </a:custGeom>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10" name=""/>
          <p:cNvSpPr/>
          <p:nvPr/>
        </p:nvSpPr>
        <p:spPr>
          <a:xfrm>
            <a:off x="2717640" y="5626080"/>
            <a:ext cx="25920" cy="25920"/>
          </a:xfrm>
          <a:custGeom>
            <a:avLst/>
            <a:gdLst/>
            <a:ahLst/>
            <a:rect l="0" t="0" r="r" b="b"/>
            <a:pathLst>
              <a:path fill="none" w="72" h="72">
                <a:moveTo>
                  <a:pt x="0" y="45"/>
                </a:moveTo>
                <a:lnTo>
                  <a:pt x="17" y="0"/>
                </a:lnTo>
                <a:lnTo>
                  <a:pt x="72" y="72"/>
                </a:lnTo>
                <a:lnTo>
                  <a:pt x="0" y="45"/>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11" name=""/>
          <p:cNvSpPr/>
          <p:nvPr/>
        </p:nvSpPr>
        <p:spPr>
          <a:xfrm>
            <a:off x="2732040" y="5583240"/>
            <a:ext cx="65520" cy="78120"/>
          </a:xfrm>
          <a:custGeom>
            <a:avLst/>
            <a:gdLst/>
            <a:ahLst/>
            <a:rect l="0" t="0" r="r" b="b"/>
            <a:pathLst>
              <a:path fill="none" w="182" h="217">
                <a:moveTo>
                  <a:pt x="0" y="168"/>
                </a:moveTo>
                <a:lnTo>
                  <a:pt x="35" y="137"/>
                </a:lnTo>
                <a:lnTo>
                  <a:pt x="128" y="159"/>
                </a:lnTo>
                <a:lnTo>
                  <a:pt x="84" y="97"/>
                </a:lnTo>
                <a:lnTo>
                  <a:pt x="128" y="70"/>
                </a:lnTo>
                <a:lnTo>
                  <a:pt x="58" y="61"/>
                </a:lnTo>
                <a:lnTo>
                  <a:pt x="58" y="0"/>
                </a:lnTo>
                <a:lnTo>
                  <a:pt x="169" y="0"/>
                </a:lnTo>
                <a:lnTo>
                  <a:pt x="182" y="217"/>
                </a:lnTo>
                <a:lnTo>
                  <a:pt x="0" y="168"/>
                </a:lnTo>
              </a:path>
            </a:pathLst>
          </a:custGeom>
          <a:ln w="12600">
            <a:solidFill>
              <a:srgbClr val="000000"/>
            </a:solidFill>
            <a:round/>
          </a:ln>
        </p:spPr>
        <p:txBody>
          <a:bodyPr lIns="96120" rIns="96120" tIns="27000" bIns="27000" anchor="t">
            <a:noAutofit/>
          </a:bodyPr>
          <a:p>
            <a:endParaRPr b="0" lang="en-US" sz="1800" spc="-1" strike="noStrike">
              <a:solidFill>
                <a:srgbClr val="000000"/>
              </a:solidFill>
              <a:latin typeface="Arial"/>
            </a:endParaRPr>
          </a:p>
        </p:txBody>
      </p:sp>
      <p:sp>
        <p:nvSpPr>
          <p:cNvPr id="212" name=""/>
          <p:cNvSpPr/>
          <p:nvPr/>
        </p:nvSpPr>
        <p:spPr>
          <a:xfrm>
            <a:off x="2765520" y="5673600"/>
            <a:ext cx="49680" cy="25920"/>
          </a:xfrm>
          <a:custGeom>
            <a:avLst/>
            <a:gdLst/>
            <a:ahLst/>
            <a:rect l="0" t="0" r="r" b="b"/>
            <a:pathLst>
              <a:path fill="none" w="138" h="72">
                <a:moveTo>
                  <a:pt x="0" y="0"/>
                </a:moveTo>
                <a:lnTo>
                  <a:pt x="121" y="17"/>
                </a:lnTo>
                <a:lnTo>
                  <a:pt x="138"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13" name=""/>
          <p:cNvSpPr/>
          <p:nvPr/>
        </p:nvSpPr>
        <p:spPr>
          <a:xfrm>
            <a:off x="2811600" y="5661000"/>
            <a:ext cx="25920" cy="25920"/>
          </a:xfrm>
          <a:custGeom>
            <a:avLst/>
            <a:gdLst/>
            <a:ahLst/>
            <a:rect l="0" t="0" r="r" b="b"/>
            <a:pathLst>
              <a:path fill="none" w="72" h="72">
                <a:moveTo>
                  <a:pt x="0" y="72"/>
                </a:moveTo>
                <a:lnTo>
                  <a:pt x="13" y="0"/>
                </a:lnTo>
                <a:lnTo>
                  <a:pt x="72" y="72"/>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14" name=""/>
          <p:cNvSpPr/>
          <p:nvPr/>
        </p:nvSpPr>
        <p:spPr>
          <a:xfrm>
            <a:off x="6067440" y="2557440"/>
            <a:ext cx="1405440" cy="999000"/>
          </a:xfrm>
          <a:custGeom>
            <a:avLst/>
            <a:gdLst/>
            <a:ahLst/>
            <a:rect l="0" t="0" r="r" b="b"/>
            <a:pathLst>
              <a:path fill="none" w="3904" h="2775">
                <a:moveTo>
                  <a:pt x="0" y="1319"/>
                </a:moveTo>
                <a:lnTo>
                  <a:pt x="22" y="1222"/>
                </a:lnTo>
                <a:lnTo>
                  <a:pt x="158" y="1187"/>
                </a:lnTo>
                <a:lnTo>
                  <a:pt x="414" y="1046"/>
                </a:lnTo>
                <a:lnTo>
                  <a:pt x="449" y="935"/>
                </a:lnTo>
                <a:lnTo>
                  <a:pt x="396" y="799"/>
                </a:lnTo>
                <a:lnTo>
                  <a:pt x="551" y="772"/>
                </a:lnTo>
                <a:lnTo>
                  <a:pt x="595" y="590"/>
                </a:lnTo>
                <a:lnTo>
                  <a:pt x="749" y="595"/>
                </a:lnTo>
                <a:lnTo>
                  <a:pt x="771" y="489"/>
                </a:lnTo>
                <a:lnTo>
                  <a:pt x="899" y="432"/>
                </a:lnTo>
                <a:lnTo>
                  <a:pt x="961" y="524"/>
                </a:lnTo>
                <a:lnTo>
                  <a:pt x="1050" y="560"/>
                </a:lnTo>
                <a:lnTo>
                  <a:pt x="1090" y="772"/>
                </a:lnTo>
                <a:lnTo>
                  <a:pt x="1368" y="852"/>
                </a:lnTo>
                <a:lnTo>
                  <a:pt x="1491" y="984"/>
                </a:lnTo>
                <a:lnTo>
                  <a:pt x="1720" y="975"/>
                </a:lnTo>
                <a:lnTo>
                  <a:pt x="1980" y="1090"/>
                </a:lnTo>
                <a:lnTo>
                  <a:pt x="2333" y="984"/>
                </a:lnTo>
                <a:lnTo>
                  <a:pt x="2439" y="900"/>
                </a:lnTo>
                <a:lnTo>
                  <a:pt x="2439" y="790"/>
                </a:lnTo>
                <a:lnTo>
                  <a:pt x="2536" y="807"/>
                </a:lnTo>
                <a:lnTo>
                  <a:pt x="2752" y="657"/>
                </a:lnTo>
                <a:lnTo>
                  <a:pt x="2915" y="635"/>
                </a:lnTo>
                <a:lnTo>
                  <a:pt x="2845" y="520"/>
                </a:lnTo>
                <a:lnTo>
                  <a:pt x="2673" y="551"/>
                </a:lnTo>
                <a:lnTo>
                  <a:pt x="2673" y="418"/>
                </a:lnTo>
                <a:lnTo>
                  <a:pt x="2717" y="339"/>
                </a:lnTo>
                <a:lnTo>
                  <a:pt x="2809" y="374"/>
                </a:lnTo>
                <a:lnTo>
                  <a:pt x="2907" y="339"/>
                </a:lnTo>
                <a:lnTo>
                  <a:pt x="3005" y="154"/>
                </a:lnTo>
                <a:lnTo>
                  <a:pt x="2956" y="88"/>
                </a:lnTo>
                <a:lnTo>
                  <a:pt x="3190" y="0"/>
                </a:lnTo>
                <a:lnTo>
                  <a:pt x="3318" y="57"/>
                </a:lnTo>
                <a:lnTo>
                  <a:pt x="3432" y="366"/>
                </a:lnTo>
                <a:lnTo>
                  <a:pt x="3631" y="432"/>
                </a:lnTo>
                <a:lnTo>
                  <a:pt x="3662" y="551"/>
                </a:lnTo>
                <a:lnTo>
                  <a:pt x="3904" y="471"/>
                </a:lnTo>
                <a:lnTo>
                  <a:pt x="3789" y="781"/>
                </a:lnTo>
                <a:lnTo>
                  <a:pt x="3648" y="821"/>
                </a:lnTo>
                <a:lnTo>
                  <a:pt x="3670" y="935"/>
                </a:lnTo>
                <a:lnTo>
                  <a:pt x="3631" y="1002"/>
                </a:lnTo>
                <a:lnTo>
                  <a:pt x="3595" y="975"/>
                </a:lnTo>
                <a:lnTo>
                  <a:pt x="3476" y="1059"/>
                </a:lnTo>
                <a:lnTo>
                  <a:pt x="3476" y="1112"/>
                </a:lnTo>
                <a:lnTo>
                  <a:pt x="3393" y="1090"/>
                </a:lnTo>
                <a:lnTo>
                  <a:pt x="3229" y="1226"/>
                </a:lnTo>
                <a:lnTo>
                  <a:pt x="3044" y="1337"/>
                </a:lnTo>
                <a:lnTo>
                  <a:pt x="3102" y="1187"/>
                </a:lnTo>
                <a:lnTo>
                  <a:pt x="3075" y="1138"/>
                </a:lnTo>
                <a:lnTo>
                  <a:pt x="2809" y="1306"/>
                </a:lnTo>
                <a:lnTo>
                  <a:pt x="2805" y="1345"/>
                </a:lnTo>
                <a:lnTo>
                  <a:pt x="2889" y="1456"/>
                </a:lnTo>
                <a:lnTo>
                  <a:pt x="3009" y="1407"/>
                </a:lnTo>
                <a:lnTo>
                  <a:pt x="3119" y="1451"/>
                </a:lnTo>
                <a:lnTo>
                  <a:pt x="2969" y="1535"/>
                </a:lnTo>
                <a:lnTo>
                  <a:pt x="2907" y="1650"/>
                </a:lnTo>
                <a:lnTo>
                  <a:pt x="3084" y="1906"/>
                </a:lnTo>
                <a:lnTo>
                  <a:pt x="2960" y="1875"/>
                </a:lnTo>
                <a:lnTo>
                  <a:pt x="3084" y="1967"/>
                </a:lnTo>
                <a:lnTo>
                  <a:pt x="2960" y="2020"/>
                </a:lnTo>
                <a:lnTo>
                  <a:pt x="3084" y="2047"/>
                </a:lnTo>
                <a:lnTo>
                  <a:pt x="2876" y="2444"/>
                </a:lnTo>
                <a:lnTo>
                  <a:pt x="2726" y="2564"/>
                </a:lnTo>
                <a:lnTo>
                  <a:pt x="2585" y="2608"/>
                </a:lnTo>
                <a:lnTo>
                  <a:pt x="2576" y="2608"/>
                </a:lnTo>
                <a:lnTo>
                  <a:pt x="2536" y="2581"/>
                </a:lnTo>
                <a:lnTo>
                  <a:pt x="2501" y="2647"/>
                </a:lnTo>
                <a:lnTo>
                  <a:pt x="2333" y="2696"/>
                </a:lnTo>
                <a:lnTo>
                  <a:pt x="2316" y="2775"/>
                </a:lnTo>
                <a:lnTo>
                  <a:pt x="2294" y="2674"/>
                </a:lnTo>
                <a:lnTo>
                  <a:pt x="2183" y="2683"/>
                </a:lnTo>
                <a:lnTo>
                  <a:pt x="2007" y="2555"/>
                </a:lnTo>
                <a:lnTo>
                  <a:pt x="1817" y="2608"/>
                </a:lnTo>
                <a:lnTo>
                  <a:pt x="1778" y="2608"/>
                </a:lnTo>
                <a:lnTo>
                  <a:pt x="1782" y="2696"/>
                </a:lnTo>
                <a:lnTo>
                  <a:pt x="1751" y="2674"/>
                </a:lnTo>
                <a:lnTo>
                  <a:pt x="1632" y="2639"/>
                </a:lnTo>
                <a:lnTo>
                  <a:pt x="1597" y="2484"/>
                </a:lnTo>
                <a:lnTo>
                  <a:pt x="1531" y="2497"/>
                </a:lnTo>
                <a:lnTo>
                  <a:pt x="1588" y="2286"/>
                </a:lnTo>
                <a:lnTo>
                  <a:pt x="1588" y="2224"/>
                </a:lnTo>
                <a:lnTo>
                  <a:pt x="1513" y="2180"/>
                </a:lnTo>
                <a:lnTo>
                  <a:pt x="1447" y="2145"/>
                </a:lnTo>
                <a:lnTo>
                  <a:pt x="1420" y="2069"/>
                </a:lnTo>
                <a:lnTo>
                  <a:pt x="1151" y="2202"/>
                </a:lnTo>
                <a:lnTo>
                  <a:pt x="1024" y="2162"/>
                </a:lnTo>
                <a:lnTo>
                  <a:pt x="970" y="2242"/>
                </a:lnTo>
                <a:lnTo>
                  <a:pt x="956" y="2184"/>
                </a:lnTo>
                <a:lnTo>
                  <a:pt x="912" y="2202"/>
                </a:lnTo>
                <a:lnTo>
                  <a:pt x="771" y="2202"/>
                </a:lnTo>
                <a:lnTo>
                  <a:pt x="670" y="2083"/>
                </a:lnTo>
                <a:lnTo>
                  <a:pt x="467" y="2011"/>
                </a:lnTo>
                <a:lnTo>
                  <a:pt x="343" y="1954"/>
                </a:lnTo>
                <a:lnTo>
                  <a:pt x="304" y="1826"/>
                </a:lnTo>
                <a:lnTo>
                  <a:pt x="366" y="1817"/>
                </a:lnTo>
                <a:lnTo>
                  <a:pt x="330" y="1720"/>
                </a:lnTo>
                <a:lnTo>
                  <a:pt x="418" y="1597"/>
                </a:lnTo>
                <a:lnTo>
                  <a:pt x="348" y="1553"/>
                </a:lnTo>
                <a:lnTo>
                  <a:pt x="255" y="1597"/>
                </a:lnTo>
                <a:lnTo>
                  <a:pt x="57" y="1469"/>
                </a:lnTo>
                <a:lnTo>
                  <a:pt x="66" y="1451"/>
                </a:lnTo>
                <a:lnTo>
                  <a:pt x="66" y="1354"/>
                </a:lnTo>
                <a:lnTo>
                  <a:pt x="0" y="131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6872400" y="3562200"/>
            <a:ext cx="51120" cy="49680"/>
          </a:xfrm>
          <a:custGeom>
            <a:avLst/>
            <a:gdLst/>
            <a:ahLst/>
            <a:rect l="0" t="0" r="r" b="b"/>
            <a:pathLst>
              <a:path fill="none" w="142" h="138">
                <a:moveTo>
                  <a:pt x="0" y="102"/>
                </a:moveTo>
                <a:lnTo>
                  <a:pt x="44" y="0"/>
                </a:lnTo>
                <a:lnTo>
                  <a:pt x="142" y="26"/>
                </a:lnTo>
                <a:lnTo>
                  <a:pt x="61" y="138"/>
                </a:lnTo>
                <a:lnTo>
                  <a:pt x="0" y="102"/>
                </a:lnTo>
              </a:path>
            </a:pathLst>
          </a:custGeom>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sp>
        <p:nvSpPr>
          <p:cNvPr id="216" name=""/>
          <p:cNvSpPr/>
          <p:nvPr/>
        </p:nvSpPr>
        <p:spPr>
          <a:xfrm>
            <a:off x="7155000" y="3354480"/>
            <a:ext cx="38520" cy="84600"/>
          </a:xfrm>
          <a:custGeom>
            <a:avLst/>
            <a:gdLst/>
            <a:ahLst/>
            <a:rect l="0" t="0" r="r" b="b"/>
            <a:pathLst>
              <a:path fill="none" w="107" h="235">
                <a:moveTo>
                  <a:pt x="0" y="89"/>
                </a:moveTo>
                <a:lnTo>
                  <a:pt x="49" y="235"/>
                </a:lnTo>
                <a:lnTo>
                  <a:pt x="107" y="0"/>
                </a:lnTo>
                <a:lnTo>
                  <a:pt x="53" y="0"/>
                </a:lnTo>
                <a:lnTo>
                  <a:pt x="0" y="89"/>
                </a:lnTo>
              </a:path>
            </a:pathLst>
          </a:custGeom>
          <a:ln w="12600">
            <a:solidFill>
              <a:srgbClr val="000000"/>
            </a:solidFill>
            <a:round/>
          </a:ln>
        </p:spPr>
        <p:txBody>
          <a:bodyPr lIns="96120" rIns="96120" tIns="33480" bIns="33480" anchor="t">
            <a:noAutofit/>
          </a:bodyPr>
          <a:p>
            <a:endParaRPr b="0" lang="en-US" sz="1800" spc="-1" strike="noStrike">
              <a:solidFill>
                <a:srgbClr val="000000"/>
              </a:solidFill>
              <a:latin typeface="Arial"/>
            </a:endParaRPr>
          </a:p>
        </p:txBody>
      </p:sp>
      <p:sp>
        <p:nvSpPr>
          <p:cNvPr id="217" name=""/>
          <p:cNvSpPr/>
          <p:nvPr/>
        </p:nvSpPr>
        <p:spPr>
          <a:xfrm>
            <a:off x="2403360" y="3801960"/>
            <a:ext cx="70200" cy="70200"/>
          </a:xfrm>
          <a:custGeom>
            <a:avLst/>
            <a:gdLst/>
            <a:ahLst/>
            <a:rect l="0" t="0" r="r" b="b"/>
            <a:pathLst>
              <a:path fill="none" w="195" h="195">
                <a:moveTo>
                  <a:pt x="0" y="0"/>
                </a:moveTo>
                <a:lnTo>
                  <a:pt x="0" y="74"/>
                </a:lnTo>
                <a:lnTo>
                  <a:pt x="44" y="57"/>
                </a:lnTo>
                <a:lnTo>
                  <a:pt x="164" y="195"/>
                </a:lnTo>
                <a:lnTo>
                  <a:pt x="195" y="88"/>
                </a:lnTo>
                <a:lnTo>
                  <a:pt x="124" y="4"/>
                </a:lnTo>
                <a:lnTo>
                  <a:pt x="0" y="0"/>
                </a:lnTo>
              </a:path>
            </a:pathLst>
          </a:custGeom>
          <a:ln w="12600">
            <a:solidFill>
              <a:srgbClr val="000000"/>
            </a:solidFill>
            <a:round/>
          </a:ln>
        </p:spPr>
        <p:txBody>
          <a:bodyPr lIns="96120" rIns="96120" tIns="19080" bIns="19080" anchor="t">
            <a:noAutofit/>
          </a:bodyPr>
          <a:p>
            <a:endParaRPr b="0" lang="en-US" sz="1800" spc="-1" strike="noStrike">
              <a:solidFill>
                <a:srgbClr val="000000"/>
              </a:solidFill>
              <a:latin typeface="Arial"/>
            </a:endParaRPr>
          </a:p>
        </p:txBody>
      </p:sp>
      <p:sp>
        <p:nvSpPr>
          <p:cNvPr id="218" name=""/>
          <p:cNvSpPr/>
          <p:nvPr/>
        </p:nvSpPr>
        <p:spPr>
          <a:xfrm>
            <a:off x="2419200" y="3481560"/>
            <a:ext cx="248040" cy="87840"/>
          </a:xfrm>
          <a:custGeom>
            <a:avLst/>
            <a:gdLst/>
            <a:ahLst/>
            <a:rect l="0" t="0" r="r" b="b"/>
            <a:pathLst>
              <a:path fill="none" w="689" h="244">
                <a:moveTo>
                  <a:pt x="0" y="93"/>
                </a:moveTo>
                <a:lnTo>
                  <a:pt x="97" y="0"/>
                </a:lnTo>
                <a:lnTo>
                  <a:pt x="269" y="0"/>
                </a:lnTo>
                <a:lnTo>
                  <a:pt x="689" y="200"/>
                </a:lnTo>
                <a:lnTo>
                  <a:pt x="464" y="244"/>
                </a:lnTo>
                <a:lnTo>
                  <a:pt x="503" y="191"/>
                </a:lnTo>
                <a:lnTo>
                  <a:pt x="393" y="120"/>
                </a:lnTo>
                <a:lnTo>
                  <a:pt x="186" y="71"/>
                </a:lnTo>
                <a:lnTo>
                  <a:pt x="199" y="39"/>
                </a:lnTo>
                <a:lnTo>
                  <a:pt x="0" y="93"/>
                </a:lnTo>
              </a:path>
            </a:pathLst>
          </a:custGeom>
          <a:ln w="12600">
            <a:solidFill>
              <a:srgbClr val="000000"/>
            </a:solidFill>
            <a:round/>
          </a:ln>
        </p:spPr>
        <p:txBody>
          <a:bodyPr lIns="96120" rIns="96120" tIns="36720" bIns="36720" anchor="t">
            <a:noAutofit/>
          </a:bodyPr>
          <a:p>
            <a:endParaRPr b="0" lang="en-US" sz="1800" spc="-1" strike="noStrike">
              <a:solidFill>
                <a:srgbClr val="000000"/>
              </a:solidFill>
              <a:latin typeface="Arial"/>
            </a:endParaRPr>
          </a:p>
        </p:txBody>
      </p:sp>
      <p:sp>
        <p:nvSpPr>
          <p:cNvPr id="219" name=""/>
          <p:cNvSpPr/>
          <p:nvPr/>
        </p:nvSpPr>
        <p:spPr>
          <a:xfrm>
            <a:off x="4646520" y="2641680"/>
            <a:ext cx="240120" cy="113040"/>
          </a:xfrm>
          <a:custGeom>
            <a:avLst/>
            <a:gdLst/>
            <a:ahLst/>
            <a:rect l="0" t="0" r="r" b="b"/>
            <a:pathLst>
              <a:path fill="none" w="667" h="314">
                <a:moveTo>
                  <a:pt x="0" y="74"/>
                </a:moveTo>
                <a:lnTo>
                  <a:pt x="105" y="212"/>
                </a:lnTo>
                <a:lnTo>
                  <a:pt x="300" y="212"/>
                </a:lnTo>
                <a:lnTo>
                  <a:pt x="327" y="283"/>
                </a:lnTo>
                <a:lnTo>
                  <a:pt x="419" y="314"/>
                </a:lnTo>
                <a:lnTo>
                  <a:pt x="553" y="234"/>
                </a:lnTo>
                <a:lnTo>
                  <a:pt x="650" y="256"/>
                </a:lnTo>
                <a:lnTo>
                  <a:pt x="667" y="186"/>
                </a:lnTo>
                <a:lnTo>
                  <a:pt x="509" y="168"/>
                </a:lnTo>
                <a:lnTo>
                  <a:pt x="172" y="30"/>
                </a:lnTo>
                <a:lnTo>
                  <a:pt x="136" y="0"/>
                </a:lnTo>
                <a:lnTo>
                  <a:pt x="0" y="7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4560840" y="2409840"/>
            <a:ext cx="57600" cy="100440"/>
          </a:xfrm>
          <a:custGeom>
            <a:avLst/>
            <a:gdLst/>
            <a:ahLst/>
            <a:rect l="0" t="0" r="r" b="b"/>
            <a:pathLst>
              <a:path fill="none" w="160" h="279">
                <a:moveTo>
                  <a:pt x="0" y="218"/>
                </a:moveTo>
                <a:lnTo>
                  <a:pt x="8" y="80"/>
                </a:lnTo>
                <a:lnTo>
                  <a:pt x="143" y="0"/>
                </a:lnTo>
                <a:lnTo>
                  <a:pt x="121" y="106"/>
                </a:lnTo>
                <a:lnTo>
                  <a:pt x="160" y="137"/>
                </a:lnTo>
                <a:lnTo>
                  <a:pt x="80" y="203"/>
                </a:lnTo>
                <a:lnTo>
                  <a:pt x="80" y="279"/>
                </a:lnTo>
                <a:lnTo>
                  <a:pt x="30" y="279"/>
                </a:lnTo>
                <a:lnTo>
                  <a:pt x="0" y="218"/>
                </a:lnTo>
              </a:path>
            </a:pathLst>
          </a:custGeom>
          <a:ln w="12600">
            <a:solidFill>
              <a:srgbClr val="000000"/>
            </a:solidFill>
            <a:round/>
          </a:ln>
        </p:spPr>
        <p:txBody>
          <a:bodyPr lIns="96120" rIns="96120" tIns="49320" bIns="49320" anchor="t">
            <a:noAutofit/>
          </a:bodyPr>
          <a:p>
            <a:endParaRPr b="0" lang="en-US" sz="1800" spc="-1" strike="noStrike">
              <a:solidFill>
                <a:srgbClr val="000000"/>
              </a:solidFill>
              <a:latin typeface="Arial"/>
            </a:endParaRPr>
          </a:p>
        </p:txBody>
      </p:sp>
      <p:sp>
        <p:nvSpPr>
          <p:cNvPr id="221" name=""/>
          <p:cNvSpPr/>
          <p:nvPr/>
        </p:nvSpPr>
        <p:spPr>
          <a:xfrm>
            <a:off x="4600440" y="2484360"/>
            <a:ext cx="25920" cy="25920"/>
          </a:xfrm>
          <a:custGeom>
            <a:avLst/>
            <a:gdLst/>
            <a:ahLst/>
            <a:rect l="0" t="0" r="r" b="b"/>
            <a:pathLst>
              <a:path fill="none" w="72" h="72">
                <a:moveTo>
                  <a:pt x="0" y="72"/>
                </a:moveTo>
                <a:lnTo>
                  <a:pt x="53" y="0"/>
                </a:lnTo>
                <a:lnTo>
                  <a:pt x="72" y="63"/>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22" name=""/>
          <p:cNvSpPr/>
          <p:nvPr/>
        </p:nvSpPr>
        <p:spPr>
          <a:xfrm>
            <a:off x="4626000" y="2462040"/>
            <a:ext cx="38520" cy="44640"/>
          </a:xfrm>
          <a:custGeom>
            <a:avLst/>
            <a:gdLst/>
            <a:ahLst/>
            <a:rect l="0" t="0" r="r" b="b"/>
            <a:pathLst>
              <a:path fill="none" w="107" h="124">
                <a:moveTo>
                  <a:pt x="0" y="61"/>
                </a:moveTo>
                <a:lnTo>
                  <a:pt x="71" y="124"/>
                </a:lnTo>
                <a:lnTo>
                  <a:pt x="107" y="61"/>
                </a:lnTo>
                <a:lnTo>
                  <a:pt x="85" y="0"/>
                </a:lnTo>
                <a:lnTo>
                  <a:pt x="0" y="61"/>
                </a:lnTo>
              </a:path>
            </a:pathLst>
          </a:custGeom>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sp>
        <p:nvSpPr>
          <p:cNvPr id="223" name=""/>
          <p:cNvSpPr/>
          <p:nvPr/>
        </p:nvSpPr>
        <p:spPr>
          <a:xfrm>
            <a:off x="2720880" y="3568680"/>
            <a:ext cx="76680" cy="47880"/>
          </a:xfrm>
          <a:custGeom>
            <a:avLst/>
            <a:gdLst/>
            <a:ahLst/>
            <a:rect l="0" t="0" r="r" b="b"/>
            <a:pathLst>
              <a:path w="213" h="133">
                <a:moveTo>
                  <a:pt x="0" y="0"/>
                </a:moveTo>
                <a:lnTo>
                  <a:pt x="0" y="133"/>
                </a:lnTo>
                <a:lnTo>
                  <a:pt x="213" y="84"/>
                </a:lnTo>
                <a:lnTo>
                  <a:pt x="120" y="4"/>
                </a:lnTo>
                <a:lnTo>
                  <a:pt x="0" y="0"/>
                </a:lnTo>
                <a:close/>
              </a:path>
            </a:pathLst>
          </a:custGeom>
          <a:solidFill>
            <a:srgbClr val="ffffff"/>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24" name=""/>
          <p:cNvSpPr/>
          <p:nvPr/>
        </p:nvSpPr>
        <p:spPr>
          <a:xfrm>
            <a:off x="2516040" y="4051440"/>
            <a:ext cx="124200" cy="159120"/>
          </a:xfrm>
          <a:custGeom>
            <a:avLst/>
            <a:gdLst/>
            <a:ahLst/>
            <a:rect l="0" t="0" r="r" b="b"/>
            <a:pathLst>
              <a:path fill="none" w="345" h="442">
                <a:moveTo>
                  <a:pt x="0" y="168"/>
                </a:moveTo>
                <a:lnTo>
                  <a:pt x="0" y="252"/>
                </a:lnTo>
                <a:lnTo>
                  <a:pt x="52" y="278"/>
                </a:lnTo>
                <a:lnTo>
                  <a:pt x="30" y="350"/>
                </a:lnTo>
                <a:lnTo>
                  <a:pt x="22" y="425"/>
                </a:lnTo>
                <a:lnTo>
                  <a:pt x="102" y="442"/>
                </a:lnTo>
                <a:lnTo>
                  <a:pt x="168" y="314"/>
                </a:lnTo>
                <a:lnTo>
                  <a:pt x="315" y="221"/>
                </a:lnTo>
                <a:lnTo>
                  <a:pt x="345" y="97"/>
                </a:lnTo>
                <a:lnTo>
                  <a:pt x="212" y="79"/>
                </a:lnTo>
                <a:lnTo>
                  <a:pt x="124" y="0"/>
                </a:lnTo>
                <a:lnTo>
                  <a:pt x="39" y="39"/>
                </a:lnTo>
                <a:lnTo>
                  <a:pt x="0" y="16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2303640" y="3711600"/>
            <a:ext cx="51120" cy="27360"/>
          </a:xfrm>
          <a:custGeom>
            <a:avLst/>
            <a:gdLst/>
            <a:ahLst/>
            <a:rect l="0" t="0" r="r" b="b"/>
            <a:pathLst>
              <a:path fill="none" w="142" h="76">
                <a:moveTo>
                  <a:pt x="0" y="53"/>
                </a:moveTo>
                <a:lnTo>
                  <a:pt x="30" y="0"/>
                </a:lnTo>
                <a:lnTo>
                  <a:pt x="142" y="76"/>
                </a:lnTo>
                <a:lnTo>
                  <a:pt x="0" y="53"/>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226" name=""/>
          <p:cNvSpPr/>
          <p:nvPr/>
        </p:nvSpPr>
        <p:spPr>
          <a:xfrm>
            <a:off x="2973240" y="5538960"/>
            <a:ext cx="33840" cy="25920"/>
          </a:xfrm>
          <a:custGeom>
            <a:avLst/>
            <a:gdLst/>
            <a:ahLst/>
            <a:rect l="0" t="0" r="r" b="b"/>
            <a:pathLst>
              <a:path fill="none" w="94" h="72">
                <a:moveTo>
                  <a:pt x="0" y="72"/>
                </a:moveTo>
                <a:lnTo>
                  <a:pt x="53" y="36"/>
                </a:lnTo>
                <a:lnTo>
                  <a:pt x="27" y="0"/>
                </a:lnTo>
                <a:lnTo>
                  <a:pt x="94" y="8"/>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27" name=""/>
          <p:cNvSpPr/>
          <p:nvPr/>
        </p:nvSpPr>
        <p:spPr>
          <a:xfrm>
            <a:off x="3000240" y="5535720"/>
            <a:ext cx="41760" cy="28800"/>
          </a:xfrm>
          <a:custGeom>
            <a:avLst/>
            <a:gdLst/>
            <a:ahLst/>
            <a:rect l="0" t="0" r="r" b="b"/>
            <a:pathLst>
              <a:path fill="none" w="116" h="80">
                <a:moveTo>
                  <a:pt x="0" y="80"/>
                </a:moveTo>
                <a:lnTo>
                  <a:pt x="53" y="0"/>
                </a:lnTo>
                <a:lnTo>
                  <a:pt x="116" y="22"/>
                </a:lnTo>
                <a:lnTo>
                  <a:pt x="0" y="8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228" name=""/>
          <p:cNvSpPr/>
          <p:nvPr/>
        </p:nvSpPr>
        <p:spPr>
          <a:xfrm>
            <a:off x="4843440" y="1901880"/>
            <a:ext cx="251280" cy="424080"/>
          </a:xfrm>
          <a:custGeom>
            <a:avLst/>
            <a:gdLst/>
            <a:ahLst/>
            <a:rect l="0" t="0" r="r" b="b"/>
            <a:pathLst>
              <a:path fill="none" w="698" h="1178">
                <a:moveTo>
                  <a:pt x="0" y="119"/>
                </a:moveTo>
                <a:lnTo>
                  <a:pt x="44" y="83"/>
                </a:lnTo>
                <a:lnTo>
                  <a:pt x="119" y="158"/>
                </a:lnTo>
                <a:lnTo>
                  <a:pt x="256" y="163"/>
                </a:lnTo>
                <a:lnTo>
                  <a:pt x="327" y="119"/>
                </a:lnTo>
                <a:lnTo>
                  <a:pt x="349" y="22"/>
                </a:lnTo>
                <a:lnTo>
                  <a:pt x="477" y="0"/>
                </a:lnTo>
                <a:lnTo>
                  <a:pt x="548" y="39"/>
                </a:lnTo>
                <a:lnTo>
                  <a:pt x="544" y="119"/>
                </a:lnTo>
                <a:lnTo>
                  <a:pt x="512" y="202"/>
                </a:lnTo>
                <a:lnTo>
                  <a:pt x="606" y="304"/>
                </a:lnTo>
                <a:lnTo>
                  <a:pt x="548" y="379"/>
                </a:lnTo>
                <a:lnTo>
                  <a:pt x="619" y="507"/>
                </a:lnTo>
                <a:lnTo>
                  <a:pt x="592" y="622"/>
                </a:lnTo>
                <a:lnTo>
                  <a:pt x="698" y="874"/>
                </a:lnTo>
                <a:lnTo>
                  <a:pt x="459" y="1103"/>
                </a:lnTo>
                <a:lnTo>
                  <a:pt x="158" y="1178"/>
                </a:lnTo>
                <a:lnTo>
                  <a:pt x="141" y="1125"/>
                </a:lnTo>
                <a:lnTo>
                  <a:pt x="44" y="1094"/>
                </a:lnTo>
                <a:lnTo>
                  <a:pt x="39" y="865"/>
                </a:lnTo>
                <a:lnTo>
                  <a:pt x="318" y="613"/>
                </a:lnTo>
                <a:lnTo>
                  <a:pt x="225" y="493"/>
                </a:lnTo>
                <a:lnTo>
                  <a:pt x="190" y="238"/>
                </a:lnTo>
                <a:lnTo>
                  <a:pt x="0" y="11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4267080" y="2644920"/>
            <a:ext cx="290880" cy="279720"/>
          </a:xfrm>
          <a:custGeom>
            <a:avLst/>
            <a:gdLst/>
            <a:ahLst/>
            <a:rect l="0" t="0" r="r" b="b"/>
            <a:pathLst>
              <a:path fill="none" w="808" h="777">
                <a:moveTo>
                  <a:pt x="0" y="229"/>
                </a:moveTo>
                <a:lnTo>
                  <a:pt x="26" y="299"/>
                </a:lnTo>
                <a:lnTo>
                  <a:pt x="189" y="352"/>
                </a:lnTo>
                <a:lnTo>
                  <a:pt x="163" y="389"/>
                </a:lnTo>
                <a:lnTo>
                  <a:pt x="225" y="437"/>
                </a:lnTo>
                <a:lnTo>
                  <a:pt x="256" y="530"/>
                </a:lnTo>
                <a:lnTo>
                  <a:pt x="180" y="693"/>
                </a:lnTo>
                <a:lnTo>
                  <a:pt x="384" y="759"/>
                </a:lnTo>
                <a:lnTo>
                  <a:pt x="402" y="768"/>
                </a:lnTo>
                <a:lnTo>
                  <a:pt x="490" y="777"/>
                </a:lnTo>
                <a:lnTo>
                  <a:pt x="490" y="706"/>
                </a:lnTo>
                <a:lnTo>
                  <a:pt x="552" y="680"/>
                </a:lnTo>
                <a:lnTo>
                  <a:pt x="685" y="719"/>
                </a:lnTo>
                <a:lnTo>
                  <a:pt x="764" y="653"/>
                </a:lnTo>
                <a:lnTo>
                  <a:pt x="720" y="556"/>
                </a:lnTo>
                <a:lnTo>
                  <a:pt x="738" y="464"/>
                </a:lnTo>
                <a:lnTo>
                  <a:pt x="676" y="415"/>
                </a:lnTo>
                <a:lnTo>
                  <a:pt x="764" y="308"/>
                </a:lnTo>
                <a:lnTo>
                  <a:pt x="808" y="194"/>
                </a:lnTo>
                <a:lnTo>
                  <a:pt x="685" y="132"/>
                </a:lnTo>
                <a:lnTo>
                  <a:pt x="663" y="127"/>
                </a:lnTo>
                <a:lnTo>
                  <a:pt x="472" y="0"/>
                </a:lnTo>
                <a:lnTo>
                  <a:pt x="402" y="22"/>
                </a:lnTo>
                <a:lnTo>
                  <a:pt x="340" y="145"/>
                </a:lnTo>
                <a:lnTo>
                  <a:pt x="176" y="119"/>
                </a:lnTo>
                <a:lnTo>
                  <a:pt x="203" y="224"/>
                </a:lnTo>
                <a:lnTo>
                  <a:pt x="0" y="22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4568760" y="2905200"/>
            <a:ext cx="25920" cy="54360"/>
          </a:xfrm>
          <a:custGeom>
            <a:avLst/>
            <a:gdLst/>
            <a:ahLst/>
            <a:rect l="0" t="0" r="r" b="b"/>
            <a:pathLst>
              <a:path fill="none" w="72" h="151">
                <a:moveTo>
                  <a:pt x="0" y="67"/>
                </a:moveTo>
                <a:lnTo>
                  <a:pt x="72" y="151"/>
                </a:lnTo>
                <a:lnTo>
                  <a:pt x="72" y="0"/>
                </a:lnTo>
                <a:lnTo>
                  <a:pt x="0" y="67"/>
                </a:lnTo>
              </a:path>
            </a:pathLst>
          </a:custGeom>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31" name=""/>
          <p:cNvSpPr/>
          <p:nvPr/>
        </p:nvSpPr>
        <p:spPr>
          <a:xfrm>
            <a:off x="3122640" y="3944880"/>
            <a:ext cx="66960" cy="87840"/>
          </a:xfrm>
          <a:custGeom>
            <a:avLst/>
            <a:gdLst/>
            <a:ahLst/>
            <a:rect l="0" t="0" r="r" b="b"/>
            <a:pathLst>
              <a:path fill="none" w="186" h="244">
                <a:moveTo>
                  <a:pt x="0" y="231"/>
                </a:moveTo>
                <a:lnTo>
                  <a:pt x="17" y="0"/>
                </a:lnTo>
                <a:lnTo>
                  <a:pt x="186" y="98"/>
                </a:lnTo>
                <a:lnTo>
                  <a:pt x="88" y="244"/>
                </a:lnTo>
                <a:lnTo>
                  <a:pt x="0" y="231"/>
                </a:lnTo>
              </a:path>
            </a:pathLst>
          </a:custGeom>
          <a:ln w="12600">
            <a:solidFill>
              <a:srgbClr val="000000"/>
            </a:solidFill>
            <a:round/>
          </a:ln>
        </p:spPr>
        <p:txBody>
          <a:bodyPr lIns="96120" rIns="96120" tIns="36720" bIns="36720" anchor="t">
            <a:noAutofit/>
          </a:bodyPr>
          <a:p>
            <a:endParaRPr b="0" lang="en-US" sz="1800" spc="-1" strike="noStrike">
              <a:solidFill>
                <a:srgbClr val="000000"/>
              </a:solidFill>
              <a:latin typeface="Arial"/>
            </a:endParaRPr>
          </a:p>
        </p:txBody>
      </p:sp>
      <p:sp>
        <p:nvSpPr>
          <p:cNvPr id="232" name=""/>
          <p:cNvSpPr/>
          <p:nvPr/>
        </p:nvSpPr>
        <p:spPr>
          <a:xfrm>
            <a:off x="4511520" y="2509920"/>
            <a:ext cx="197280" cy="252720"/>
          </a:xfrm>
          <a:custGeom>
            <a:avLst/>
            <a:gdLst/>
            <a:ahLst/>
            <a:rect l="0" t="0" r="r" b="b"/>
            <a:pathLst>
              <a:path fill="none" w="548" h="702">
                <a:moveTo>
                  <a:pt x="0" y="291"/>
                </a:moveTo>
                <a:lnTo>
                  <a:pt x="0" y="402"/>
                </a:lnTo>
                <a:lnTo>
                  <a:pt x="0" y="455"/>
                </a:lnTo>
                <a:lnTo>
                  <a:pt x="13" y="508"/>
                </a:lnTo>
                <a:lnTo>
                  <a:pt x="123" y="565"/>
                </a:lnTo>
                <a:lnTo>
                  <a:pt x="83" y="684"/>
                </a:lnTo>
                <a:lnTo>
                  <a:pt x="212" y="702"/>
                </a:lnTo>
                <a:lnTo>
                  <a:pt x="429" y="693"/>
                </a:lnTo>
                <a:lnTo>
                  <a:pt x="482" y="578"/>
                </a:lnTo>
                <a:lnTo>
                  <a:pt x="375" y="441"/>
                </a:lnTo>
                <a:lnTo>
                  <a:pt x="513" y="367"/>
                </a:lnTo>
                <a:lnTo>
                  <a:pt x="548" y="384"/>
                </a:lnTo>
                <a:lnTo>
                  <a:pt x="513" y="105"/>
                </a:lnTo>
                <a:lnTo>
                  <a:pt x="412" y="35"/>
                </a:lnTo>
                <a:lnTo>
                  <a:pt x="292" y="83"/>
                </a:lnTo>
                <a:lnTo>
                  <a:pt x="309" y="52"/>
                </a:lnTo>
                <a:lnTo>
                  <a:pt x="212" y="0"/>
                </a:lnTo>
                <a:lnTo>
                  <a:pt x="168" y="0"/>
                </a:lnTo>
                <a:lnTo>
                  <a:pt x="159" y="154"/>
                </a:lnTo>
                <a:lnTo>
                  <a:pt x="101" y="119"/>
                </a:lnTo>
                <a:lnTo>
                  <a:pt x="70" y="154"/>
                </a:lnTo>
                <a:lnTo>
                  <a:pt x="61" y="251"/>
                </a:lnTo>
                <a:lnTo>
                  <a:pt x="0" y="29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4836960" y="2940120"/>
            <a:ext cx="143280" cy="165600"/>
          </a:xfrm>
          <a:custGeom>
            <a:avLst/>
            <a:gdLst/>
            <a:ahLst/>
            <a:rect l="0" t="0" r="r" b="b"/>
            <a:pathLst>
              <a:path fill="none" w="398" h="460">
                <a:moveTo>
                  <a:pt x="0" y="190"/>
                </a:moveTo>
                <a:lnTo>
                  <a:pt x="48" y="88"/>
                </a:lnTo>
                <a:lnTo>
                  <a:pt x="177" y="48"/>
                </a:lnTo>
                <a:lnTo>
                  <a:pt x="337" y="48"/>
                </a:lnTo>
                <a:lnTo>
                  <a:pt x="398" y="0"/>
                </a:lnTo>
                <a:lnTo>
                  <a:pt x="376" y="97"/>
                </a:lnTo>
                <a:lnTo>
                  <a:pt x="265" y="74"/>
                </a:lnTo>
                <a:lnTo>
                  <a:pt x="208" y="159"/>
                </a:lnTo>
                <a:lnTo>
                  <a:pt x="150" y="120"/>
                </a:lnTo>
                <a:lnTo>
                  <a:pt x="199" y="234"/>
                </a:lnTo>
                <a:lnTo>
                  <a:pt x="133" y="261"/>
                </a:lnTo>
                <a:lnTo>
                  <a:pt x="243" y="305"/>
                </a:lnTo>
                <a:lnTo>
                  <a:pt x="243" y="354"/>
                </a:lnTo>
                <a:lnTo>
                  <a:pt x="159" y="368"/>
                </a:lnTo>
                <a:lnTo>
                  <a:pt x="190" y="460"/>
                </a:lnTo>
                <a:lnTo>
                  <a:pt x="88" y="425"/>
                </a:lnTo>
                <a:lnTo>
                  <a:pt x="61" y="344"/>
                </a:lnTo>
                <a:lnTo>
                  <a:pt x="190" y="314"/>
                </a:lnTo>
                <a:lnTo>
                  <a:pt x="61" y="296"/>
                </a:lnTo>
                <a:lnTo>
                  <a:pt x="0" y="19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4911840" y="3133800"/>
            <a:ext cx="68760" cy="25920"/>
          </a:xfrm>
          <a:custGeom>
            <a:avLst/>
            <a:gdLst/>
            <a:ahLst/>
            <a:rect l="0" t="0" r="r" b="b"/>
            <a:pathLst>
              <a:path fill="none" w="191" h="72">
                <a:moveTo>
                  <a:pt x="0" y="72"/>
                </a:moveTo>
                <a:lnTo>
                  <a:pt x="17" y="0"/>
                </a:lnTo>
                <a:lnTo>
                  <a:pt x="191" y="72"/>
                </a:lnTo>
                <a:lnTo>
                  <a:pt x="62" y="72"/>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35" name=""/>
          <p:cNvSpPr/>
          <p:nvPr/>
        </p:nvSpPr>
        <p:spPr>
          <a:xfrm>
            <a:off x="2692440" y="1166760"/>
            <a:ext cx="1400400" cy="1149840"/>
          </a:xfrm>
          <a:custGeom>
            <a:avLst/>
            <a:gdLst/>
            <a:ahLst/>
            <a:rect l="0" t="0" r="r" b="b"/>
            <a:pathLst>
              <a:path fill="none" w="3890" h="3194">
                <a:moveTo>
                  <a:pt x="0" y="891"/>
                </a:moveTo>
                <a:lnTo>
                  <a:pt x="22" y="847"/>
                </a:lnTo>
                <a:lnTo>
                  <a:pt x="273" y="754"/>
                </a:lnTo>
                <a:lnTo>
                  <a:pt x="445" y="754"/>
                </a:lnTo>
                <a:lnTo>
                  <a:pt x="529" y="679"/>
                </a:lnTo>
                <a:lnTo>
                  <a:pt x="502" y="657"/>
                </a:lnTo>
                <a:lnTo>
                  <a:pt x="564" y="635"/>
                </a:lnTo>
                <a:lnTo>
                  <a:pt x="511" y="621"/>
                </a:lnTo>
                <a:lnTo>
                  <a:pt x="590" y="586"/>
                </a:lnTo>
                <a:lnTo>
                  <a:pt x="564" y="560"/>
                </a:lnTo>
                <a:lnTo>
                  <a:pt x="458" y="612"/>
                </a:lnTo>
                <a:lnTo>
                  <a:pt x="343" y="546"/>
                </a:lnTo>
                <a:lnTo>
                  <a:pt x="480" y="507"/>
                </a:lnTo>
                <a:lnTo>
                  <a:pt x="564" y="414"/>
                </a:lnTo>
                <a:lnTo>
                  <a:pt x="732" y="401"/>
                </a:lnTo>
                <a:lnTo>
                  <a:pt x="723" y="299"/>
                </a:lnTo>
                <a:lnTo>
                  <a:pt x="855" y="299"/>
                </a:lnTo>
                <a:lnTo>
                  <a:pt x="992" y="374"/>
                </a:lnTo>
                <a:lnTo>
                  <a:pt x="833" y="273"/>
                </a:lnTo>
                <a:lnTo>
                  <a:pt x="1120" y="198"/>
                </a:lnTo>
                <a:lnTo>
                  <a:pt x="1190" y="251"/>
                </a:lnTo>
                <a:lnTo>
                  <a:pt x="1208" y="348"/>
                </a:lnTo>
                <a:lnTo>
                  <a:pt x="1239" y="264"/>
                </a:lnTo>
                <a:lnTo>
                  <a:pt x="1433" y="326"/>
                </a:lnTo>
                <a:lnTo>
                  <a:pt x="1367" y="273"/>
                </a:lnTo>
                <a:lnTo>
                  <a:pt x="1455" y="277"/>
                </a:lnTo>
                <a:lnTo>
                  <a:pt x="1375" y="229"/>
                </a:lnTo>
                <a:lnTo>
                  <a:pt x="1358" y="185"/>
                </a:lnTo>
                <a:lnTo>
                  <a:pt x="1389" y="180"/>
                </a:lnTo>
                <a:lnTo>
                  <a:pt x="1768" y="313"/>
                </a:lnTo>
                <a:lnTo>
                  <a:pt x="1741" y="264"/>
                </a:lnTo>
                <a:lnTo>
                  <a:pt x="1825" y="260"/>
                </a:lnTo>
                <a:lnTo>
                  <a:pt x="1768" y="220"/>
                </a:lnTo>
                <a:lnTo>
                  <a:pt x="1891" y="229"/>
                </a:lnTo>
                <a:lnTo>
                  <a:pt x="1688" y="127"/>
                </a:lnTo>
                <a:lnTo>
                  <a:pt x="2055" y="185"/>
                </a:lnTo>
                <a:lnTo>
                  <a:pt x="1985" y="127"/>
                </a:lnTo>
                <a:lnTo>
                  <a:pt x="1763" y="114"/>
                </a:lnTo>
                <a:lnTo>
                  <a:pt x="1834" y="114"/>
                </a:lnTo>
                <a:lnTo>
                  <a:pt x="1710" y="66"/>
                </a:lnTo>
                <a:lnTo>
                  <a:pt x="1860" y="79"/>
                </a:lnTo>
                <a:lnTo>
                  <a:pt x="1803" y="61"/>
                </a:lnTo>
                <a:lnTo>
                  <a:pt x="1869" y="44"/>
                </a:lnTo>
                <a:lnTo>
                  <a:pt x="2135" y="127"/>
                </a:lnTo>
                <a:lnTo>
                  <a:pt x="2108" y="101"/>
                </a:lnTo>
                <a:lnTo>
                  <a:pt x="2214" y="66"/>
                </a:lnTo>
                <a:lnTo>
                  <a:pt x="2117" y="61"/>
                </a:lnTo>
                <a:lnTo>
                  <a:pt x="2117" y="13"/>
                </a:lnTo>
                <a:lnTo>
                  <a:pt x="2183" y="0"/>
                </a:lnTo>
                <a:lnTo>
                  <a:pt x="2902" y="22"/>
                </a:lnTo>
                <a:lnTo>
                  <a:pt x="2951" y="35"/>
                </a:lnTo>
                <a:lnTo>
                  <a:pt x="2924" y="61"/>
                </a:lnTo>
                <a:lnTo>
                  <a:pt x="2452" y="61"/>
                </a:lnTo>
                <a:lnTo>
                  <a:pt x="2501" y="83"/>
                </a:lnTo>
                <a:lnTo>
                  <a:pt x="2324" y="114"/>
                </a:lnTo>
                <a:lnTo>
                  <a:pt x="2995" y="66"/>
                </a:lnTo>
                <a:lnTo>
                  <a:pt x="3017" y="105"/>
                </a:lnTo>
                <a:lnTo>
                  <a:pt x="2924" y="141"/>
                </a:lnTo>
                <a:lnTo>
                  <a:pt x="3092" y="114"/>
                </a:lnTo>
                <a:lnTo>
                  <a:pt x="3264" y="171"/>
                </a:lnTo>
                <a:lnTo>
                  <a:pt x="2995" y="251"/>
                </a:lnTo>
                <a:lnTo>
                  <a:pt x="2563" y="242"/>
                </a:lnTo>
                <a:lnTo>
                  <a:pt x="2668" y="260"/>
                </a:lnTo>
                <a:lnTo>
                  <a:pt x="2483" y="299"/>
                </a:lnTo>
                <a:lnTo>
                  <a:pt x="2483" y="330"/>
                </a:lnTo>
                <a:lnTo>
                  <a:pt x="2964" y="273"/>
                </a:lnTo>
                <a:lnTo>
                  <a:pt x="2995" y="299"/>
                </a:lnTo>
                <a:lnTo>
                  <a:pt x="2902" y="366"/>
                </a:lnTo>
                <a:lnTo>
                  <a:pt x="3206" y="260"/>
                </a:lnTo>
                <a:lnTo>
                  <a:pt x="3224" y="357"/>
                </a:lnTo>
                <a:lnTo>
                  <a:pt x="3074" y="529"/>
                </a:lnTo>
                <a:lnTo>
                  <a:pt x="3365" y="330"/>
                </a:lnTo>
                <a:lnTo>
                  <a:pt x="3365" y="366"/>
                </a:lnTo>
                <a:lnTo>
                  <a:pt x="3506" y="357"/>
                </a:lnTo>
                <a:lnTo>
                  <a:pt x="3542" y="299"/>
                </a:lnTo>
                <a:lnTo>
                  <a:pt x="3696" y="277"/>
                </a:lnTo>
                <a:lnTo>
                  <a:pt x="3890" y="343"/>
                </a:lnTo>
                <a:lnTo>
                  <a:pt x="3705" y="427"/>
                </a:lnTo>
                <a:lnTo>
                  <a:pt x="3713" y="463"/>
                </a:lnTo>
                <a:lnTo>
                  <a:pt x="3295" y="507"/>
                </a:lnTo>
                <a:lnTo>
                  <a:pt x="3621" y="515"/>
                </a:lnTo>
                <a:lnTo>
                  <a:pt x="3356" y="586"/>
                </a:lnTo>
                <a:lnTo>
                  <a:pt x="3365" y="639"/>
                </a:lnTo>
                <a:lnTo>
                  <a:pt x="3555" y="586"/>
                </a:lnTo>
                <a:lnTo>
                  <a:pt x="3422" y="657"/>
                </a:lnTo>
                <a:lnTo>
                  <a:pt x="3400" y="745"/>
                </a:lnTo>
                <a:lnTo>
                  <a:pt x="3449" y="723"/>
                </a:lnTo>
                <a:lnTo>
                  <a:pt x="3317" y="799"/>
                </a:lnTo>
                <a:lnTo>
                  <a:pt x="3268" y="962"/>
                </a:lnTo>
                <a:lnTo>
                  <a:pt x="3339" y="922"/>
                </a:lnTo>
                <a:lnTo>
                  <a:pt x="3436" y="962"/>
                </a:lnTo>
                <a:lnTo>
                  <a:pt x="3347" y="962"/>
                </a:lnTo>
                <a:lnTo>
                  <a:pt x="3347" y="1010"/>
                </a:lnTo>
                <a:lnTo>
                  <a:pt x="3497" y="1024"/>
                </a:lnTo>
                <a:lnTo>
                  <a:pt x="3506" y="1085"/>
                </a:lnTo>
                <a:lnTo>
                  <a:pt x="3273" y="1085"/>
                </a:lnTo>
                <a:lnTo>
                  <a:pt x="3339" y="1107"/>
                </a:lnTo>
                <a:lnTo>
                  <a:pt x="3215" y="1121"/>
                </a:lnTo>
                <a:lnTo>
                  <a:pt x="3273" y="1182"/>
                </a:lnTo>
                <a:lnTo>
                  <a:pt x="3396" y="1191"/>
                </a:lnTo>
                <a:lnTo>
                  <a:pt x="3321" y="1231"/>
                </a:lnTo>
                <a:lnTo>
                  <a:pt x="3414" y="1262"/>
                </a:lnTo>
                <a:lnTo>
                  <a:pt x="3414" y="1345"/>
                </a:lnTo>
                <a:lnTo>
                  <a:pt x="3250" y="1293"/>
                </a:lnTo>
                <a:lnTo>
                  <a:pt x="3347" y="1341"/>
                </a:lnTo>
                <a:lnTo>
                  <a:pt x="3286" y="1372"/>
                </a:lnTo>
                <a:lnTo>
                  <a:pt x="3339" y="1368"/>
                </a:lnTo>
                <a:lnTo>
                  <a:pt x="3321" y="1416"/>
                </a:lnTo>
                <a:lnTo>
                  <a:pt x="3440" y="1447"/>
                </a:lnTo>
                <a:lnTo>
                  <a:pt x="3259" y="1434"/>
                </a:lnTo>
                <a:lnTo>
                  <a:pt x="3224" y="1456"/>
                </a:lnTo>
                <a:lnTo>
                  <a:pt x="3365" y="1531"/>
                </a:lnTo>
                <a:lnTo>
                  <a:pt x="3347" y="1579"/>
                </a:lnTo>
                <a:lnTo>
                  <a:pt x="3224" y="1610"/>
                </a:lnTo>
                <a:lnTo>
                  <a:pt x="3114" y="1531"/>
                </a:lnTo>
                <a:lnTo>
                  <a:pt x="2951" y="1606"/>
                </a:lnTo>
                <a:lnTo>
                  <a:pt x="3070" y="1645"/>
                </a:lnTo>
                <a:lnTo>
                  <a:pt x="2951" y="1685"/>
                </a:lnTo>
                <a:lnTo>
                  <a:pt x="3078" y="1685"/>
                </a:lnTo>
                <a:lnTo>
                  <a:pt x="3034" y="1764"/>
                </a:lnTo>
                <a:lnTo>
                  <a:pt x="3092" y="1716"/>
                </a:lnTo>
                <a:lnTo>
                  <a:pt x="3224" y="1786"/>
                </a:lnTo>
                <a:lnTo>
                  <a:pt x="3180" y="1844"/>
                </a:lnTo>
                <a:lnTo>
                  <a:pt x="3259" y="1817"/>
                </a:lnTo>
                <a:lnTo>
                  <a:pt x="3224" y="1875"/>
                </a:lnTo>
                <a:lnTo>
                  <a:pt x="3273" y="1844"/>
                </a:lnTo>
                <a:lnTo>
                  <a:pt x="3286" y="1985"/>
                </a:lnTo>
                <a:lnTo>
                  <a:pt x="3224" y="1941"/>
                </a:lnTo>
                <a:lnTo>
                  <a:pt x="3224" y="1985"/>
                </a:lnTo>
                <a:lnTo>
                  <a:pt x="3162" y="1985"/>
                </a:lnTo>
                <a:lnTo>
                  <a:pt x="3092" y="1866"/>
                </a:lnTo>
                <a:lnTo>
                  <a:pt x="2902" y="1804"/>
                </a:lnTo>
                <a:lnTo>
                  <a:pt x="3034" y="1879"/>
                </a:lnTo>
                <a:lnTo>
                  <a:pt x="2862" y="1923"/>
                </a:lnTo>
                <a:lnTo>
                  <a:pt x="2805" y="1985"/>
                </a:lnTo>
                <a:lnTo>
                  <a:pt x="2968" y="2003"/>
                </a:lnTo>
                <a:lnTo>
                  <a:pt x="2840" y="2038"/>
                </a:lnTo>
                <a:lnTo>
                  <a:pt x="3039" y="1994"/>
                </a:lnTo>
                <a:lnTo>
                  <a:pt x="3233" y="2047"/>
                </a:lnTo>
                <a:lnTo>
                  <a:pt x="2986" y="2205"/>
                </a:lnTo>
                <a:lnTo>
                  <a:pt x="2735" y="2272"/>
                </a:lnTo>
                <a:lnTo>
                  <a:pt x="2651" y="2280"/>
                </a:lnTo>
                <a:lnTo>
                  <a:pt x="2589" y="2214"/>
                </a:lnTo>
                <a:lnTo>
                  <a:pt x="2611" y="2280"/>
                </a:lnTo>
                <a:lnTo>
                  <a:pt x="2549" y="2324"/>
                </a:lnTo>
                <a:lnTo>
                  <a:pt x="2452" y="2497"/>
                </a:lnTo>
                <a:lnTo>
                  <a:pt x="2369" y="2493"/>
                </a:lnTo>
                <a:lnTo>
                  <a:pt x="2360" y="2533"/>
                </a:lnTo>
                <a:lnTo>
                  <a:pt x="2289" y="2550"/>
                </a:lnTo>
                <a:lnTo>
                  <a:pt x="2249" y="2533"/>
                </a:lnTo>
                <a:lnTo>
                  <a:pt x="2298" y="2497"/>
                </a:lnTo>
                <a:lnTo>
                  <a:pt x="2249" y="2493"/>
                </a:lnTo>
                <a:lnTo>
                  <a:pt x="2214" y="2572"/>
                </a:lnTo>
                <a:lnTo>
                  <a:pt x="2100" y="2586"/>
                </a:lnTo>
                <a:lnTo>
                  <a:pt x="2108" y="2656"/>
                </a:lnTo>
                <a:lnTo>
                  <a:pt x="2029" y="2665"/>
                </a:lnTo>
                <a:lnTo>
                  <a:pt x="2095" y="2718"/>
                </a:lnTo>
                <a:lnTo>
                  <a:pt x="2007" y="2727"/>
                </a:lnTo>
                <a:lnTo>
                  <a:pt x="2077" y="2788"/>
                </a:lnTo>
                <a:lnTo>
                  <a:pt x="2025" y="2788"/>
                </a:lnTo>
                <a:lnTo>
                  <a:pt x="2064" y="2797"/>
                </a:lnTo>
                <a:lnTo>
                  <a:pt x="2025" y="2872"/>
                </a:lnTo>
                <a:lnTo>
                  <a:pt x="1985" y="2855"/>
                </a:lnTo>
                <a:lnTo>
                  <a:pt x="2007" y="2890"/>
                </a:lnTo>
                <a:lnTo>
                  <a:pt x="1931" y="2916"/>
                </a:lnTo>
                <a:lnTo>
                  <a:pt x="1985" y="3005"/>
                </a:lnTo>
                <a:lnTo>
                  <a:pt x="1931" y="3141"/>
                </a:lnTo>
                <a:lnTo>
                  <a:pt x="1874" y="3141"/>
                </a:lnTo>
                <a:lnTo>
                  <a:pt x="1918" y="3194"/>
                </a:lnTo>
                <a:lnTo>
                  <a:pt x="1781" y="3194"/>
                </a:lnTo>
                <a:lnTo>
                  <a:pt x="1768" y="3097"/>
                </a:lnTo>
                <a:lnTo>
                  <a:pt x="1587" y="3119"/>
                </a:lnTo>
                <a:lnTo>
                  <a:pt x="1631" y="3093"/>
                </a:lnTo>
                <a:lnTo>
                  <a:pt x="1538" y="3057"/>
                </a:lnTo>
                <a:lnTo>
                  <a:pt x="1583" y="3040"/>
                </a:lnTo>
                <a:lnTo>
                  <a:pt x="1516" y="3040"/>
                </a:lnTo>
                <a:lnTo>
                  <a:pt x="1543" y="2974"/>
                </a:lnTo>
                <a:lnTo>
                  <a:pt x="1499" y="2987"/>
                </a:lnTo>
                <a:lnTo>
                  <a:pt x="1375" y="2797"/>
                </a:lnTo>
                <a:lnTo>
                  <a:pt x="1375" y="2749"/>
                </a:lnTo>
                <a:lnTo>
                  <a:pt x="1464" y="2696"/>
                </a:lnTo>
                <a:lnTo>
                  <a:pt x="1433" y="2669"/>
                </a:lnTo>
                <a:lnTo>
                  <a:pt x="1340" y="2740"/>
                </a:lnTo>
                <a:lnTo>
                  <a:pt x="1340" y="2599"/>
                </a:lnTo>
                <a:lnTo>
                  <a:pt x="1256" y="2533"/>
                </a:lnTo>
                <a:lnTo>
                  <a:pt x="1278" y="2422"/>
                </a:lnTo>
                <a:lnTo>
                  <a:pt x="1230" y="2377"/>
                </a:lnTo>
                <a:lnTo>
                  <a:pt x="1296" y="2280"/>
                </a:lnTo>
                <a:lnTo>
                  <a:pt x="1256" y="2272"/>
                </a:lnTo>
                <a:lnTo>
                  <a:pt x="1411" y="2272"/>
                </a:lnTo>
                <a:lnTo>
                  <a:pt x="1389" y="2236"/>
                </a:lnTo>
                <a:lnTo>
                  <a:pt x="1292" y="2245"/>
                </a:lnTo>
                <a:lnTo>
                  <a:pt x="1450" y="2161"/>
                </a:lnTo>
                <a:lnTo>
                  <a:pt x="1411" y="2126"/>
                </a:lnTo>
                <a:lnTo>
                  <a:pt x="1450" y="2038"/>
                </a:lnTo>
                <a:lnTo>
                  <a:pt x="1322" y="2033"/>
                </a:lnTo>
                <a:lnTo>
                  <a:pt x="1177" y="1963"/>
                </a:lnTo>
                <a:lnTo>
                  <a:pt x="1433" y="2003"/>
                </a:lnTo>
                <a:lnTo>
                  <a:pt x="1384" y="1972"/>
                </a:lnTo>
                <a:lnTo>
                  <a:pt x="1433" y="1950"/>
                </a:lnTo>
                <a:lnTo>
                  <a:pt x="1336" y="1901"/>
                </a:lnTo>
                <a:lnTo>
                  <a:pt x="1367" y="1866"/>
                </a:lnTo>
                <a:lnTo>
                  <a:pt x="1314" y="1892"/>
                </a:lnTo>
                <a:lnTo>
                  <a:pt x="1349" y="1853"/>
                </a:lnTo>
                <a:lnTo>
                  <a:pt x="1278" y="1853"/>
                </a:lnTo>
                <a:lnTo>
                  <a:pt x="1358" y="1831"/>
                </a:lnTo>
                <a:lnTo>
                  <a:pt x="1239" y="1778"/>
                </a:lnTo>
                <a:lnTo>
                  <a:pt x="1225" y="1853"/>
                </a:lnTo>
                <a:lnTo>
                  <a:pt x="1120" y="1853"/>
                </a:lnTo>
                <a:lnTo>
                  <a:pt x="1098" y="1831"/>
                </a:lnTo>
                <a:lnTo>
                  <a:pt x="1172" y="1778"/>
                </a:lnTo>
                <a:lnTo>
                  <a:pt x="1115" y="1778"/>
                </a:lnTo>
                <a:lnTo>
                  <a:pt x="1177" y="1663"/>
                </a:lnTo>
                <a:lnTo>
                  <a:pt x="1111" y="1641"/>
                </a:lnTo>
                <a:lnTo>
                  <a:pt x="1146" y="1588"/>
                </a:lnTo>
                <a:lnTo>
                  <a:pt x="1040" y="1447"/>
                </a:lnTo>
                <a:lnTo>
                  <a:pt x="1075" y="1434"/>
                </a:lnTo>
                <a:lnTo>
                  <a:pt x="926" y="1310"/>
                </a:lnTo>
                <a:lnTo>
                  <a:pt x="926" y="1262"/>
                </a:lnTo>
                <a:lnTo>
                  <a:pt x="776" y="1200"/>
                </a:lnTo>
                <a:lnTo>
                  <a:pt x="635" y="1165"/>
                </a:lnTo>
                <a:lnTo>
                  <a:pt x="493" y="1226"/>
                </a:lnTo>
                <a:lnTo>
                  <a:pt x="392" y="1182"/>
                </a:lnTo>
                <a:lnTo>
                  <a:pt x="440" y="1240"/>
                </a:lnTo>
                <a:lnTo>
                  <a:pt x="317" y="1218"/>
                </a:lnTo>
                <a:lnTo>
                  <a:pt x="220" y="1160"/>
                </a:lnTo>
                <a:lnTo>
                  <a:pt x="317" y="1121"/>
                </a:lnTo>
                <a:lnTo>
                  <a:pt x="97" y="1085"/>
                </a:lnTo>
                <a:lnTo>
                  <a:pt x="176" y="1037"/>
                </a:lnTo>
                <a:lnTo>
                  <a:pt x="445" y="1046"/>
                </a:lnTo>
                <a:lnTo>
                  <a:pt x="467" y="1037"/>
                </a:lnTo>
                <a:lnTo>
                  <a:pt x="432" y="1002"/>
                </a:lnTo>
                <a:lnTo>
                  <a:pt x="467" y="975"/>
                </a:lnTo>
                <a:lnTo>
                  <a:pt x="233" y="1002"/>
                </a:lnTo>
                <a:lnTo>
                  <a:pt x="0" y="89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2251080" y="3618000"/>
            <a:ext cx="89280" cy="114840"/>
          </a:xfrm>
          <a:custGeom>
            <a:avLst/>
            <a:gdLst/>
            <a:ahLst/>
            <a:rect l="0" t="0" r="r" b="b"/>
            <a:pathLst>
              <a:path fill="none" w="248" h="319">
                <a:moveTo>
                  <a:pt x="0" y="262"/>
                </a:moveTo>
                <a:lnTo>
                  <a:pt x="52" y="142"/>
                </a:lnTo>
                <a:lnTo>
                  <a:pt x="115" y="142"/>
                </a:lnTo>
                <a:lnTo>
                  <a:pt x="44" y="39"/>
                </a:lnTo>
                <a:lnTo>
                  <a:pt x="191" y="0"/>
                </a:lnTo>
                <a:lnTo>
                  <a:pt x="213" y="146"/>
                </a:lnTo>
                <a:lnTo>
                  <a:pt x="248" y="159"/>
                </a:lnTo>
                <a:lnTo>
                  <a:pt x="172" y="262"/>
                </a:lnTo>
                <a:lnTo>
                  <a:pt x="137" y="319"/>
                </a:lnTo>
                <a:lnTo>
                  <a:pt x="0" y="26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2967120" y="3871800"/>
            <a:ext cx="106560" cy="174960"/>
          </a:xfrm>
          <a:custGeom>
            <a:avLst/>
            <a:gdLst/>
            <a:ahLst/>
            <a:rect l="0" t="0" r="r" b="b"/>
            <a:pathLst>
              <a:path fill="none" w="296" h="486">
                <a:moveTo>
                  <a:pt x="0" y="154"/>
                </a:moveTo>
                <a:lnTo>
                  <a:pt x="30" y="224"/>
                </a:lnTo>
                <a:lnTo>
                  <a:pt x="88" y="269"/>
                </a:lnTo>
                <a:lnTo>
                  <a:pt x="83" y="419"/>
                </a:lnTo>
                <a:lnTo>
                  <a:pt x="119" y="486"/>
                </a:lnTo>
                <a:lnTo>
                  <a:pt x="296" y="450"/>
                </a:lnTo>
                <a:lnTo>
                  <a:pt x="199" y="300"/>
                </a:lnTo>
                <a:lnTo>
                  <a:pt x="261" y="171"/>
                </a:lnTo>
                <a:lnTo>
                  <a:pt x="83" y="0"/>
                </a:lnTo>
                <a:lnTo>
                  <a:pt x="17" y="44"/>
                </a:lnTo>
                <a:lnTo>
                  <a:pt x="48" y="88"/>
                </a:lnTo>
                <a:lnTo>
                  <a:pt x="0" y="15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2660760" y="3568680"/>
            <a:ext cx="60840" cy="47880"/>
          </a:xfrm>
          <a:custGeom>
            <a:avLst/>
            <a:gdLst/>
            <a:ahLst/>
            <a:rect l="0" t="0" r="r" b="b"/>
            <a:pathLst>
              <a:path fill="none" w="169" h="133">
                <a:moveTo>
                  <a:pt x="0" y="98"/>
                </a:moveTo>
                <a:lnTo>
                  <a:pt x="129" y="93"/>
                </a:lnTo>
                <a:lnTo>
                  <a:pt x="71" y="4"/>
                </a:lnTo>
                <a:lnTo>
                  <a:pt x="169" y="0"/>
                </a:lnTo>
                <a:lnTo>
                  <a:pt x="169" y="133"/>
                </a:lnTo>
                <a:lnTo>
                  <a:pt x="0" y="98"/>
                </a:lnTo>
              </a:path>
            </a:pathLst>
          </a:custGeom>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39" name=""/>
          <p:cNvSpPr/>
          <p:nvPr/>
        </p:nvSpPr>
        <p:spPr>
          <a:xfrm>
            <a:off x="2314440" y="3672000"/>
            <a:ext cx="143280" cy="78120"/>
          </a:xfrm>
          <a:custGeom>
            <a:avLst/>
            <a:gdLst/>
            <a:ahLst/>
            <a:rect l="0" t="0" r="r" b="b"/>
            <a:pathLst>
              <a:path fill="none" w="398" h="217">
                <a:moveTo>
                  <a:pt x="0" y="111"/>
                </a:moveTo>
                <a:lnTo>
                  <a:pt x="70" y="8"/>
                </a:lnTo>
                <a:lnTo>
                  <a:pt x="283" y="0"/>
                </a:lnTo>
                <a:lnTo>
                  <a:pt x="398" y="66"/>
                </a:lnTo>
                <a:lnTo>
                  <a:pt x="301" y="83"/>
                </a:lnTo>
                <a:lnTo>
                  <a:pt x="142" y="217"/>
                </a:lnTo>
                <a:lnTo>
                  <a:pt x="111" y="186"/>
                </a:lnTo>
                <a:lnTo>
                  <a:pt x="0" y="111"/>
                </a:lnTo>
              </a:path>
            </a:pathLst>
          </a:custGeom>
          <a:ln w="12600">
            <a:solidFill>
              <a:srgbClr val="000000"/>
            </a:solidFill>
            <a:round/>
          </a:ln>
        </p:spPr>
        <p:txBody>
          <a:bodyPr lIns="96120" rIns="96120" tIns="27000" bIns="27000" anchor="t">
            <a:noAutofit/>
          </a:bodyPr>
          <a:p>
            <a:endParaRPr b="0" lang="en-US" sz="1800" spc="-1" strike="noStrike">
              <a:solidFill>
                <a:srgbClr val="000000"/>
              </a:solidFill>
              <a:latin typeface="Arial"/>
            </a:endParaRPr>
          </a:p>
        </p:txBody>
      </p:sp>
      <p:sp>
        <p:nvSpPr>
          <p:cNvPr id="240" name=""/>
          <p:cNvSpPr/>
          <p:nvPr/>
        </p:nvSpPr>
        <p:spPr>
          <a:xfrm>
            <a:off x="4741920" y="2728800"/>
            <a:ext cx="152640" cy="89280"/>
          </a:xfrm>
          <a:custGeom>
            <a:avLst/>
            <a:gdLst/>
            <a:ahLst/>
            <a:rect l="0" t="0" r="r" b="b"/>
            <a:pathLst>
              <a:path fill="none" w="424" h="248">
                <a:moveTo>
                  <a:pt x="0" y="146"/>
                </a:moveTo>
                <a:lnTo>
                  <a:pt x="61" y="39"/>
                </a:lnTo>
                <a:lnTo>
                  <a:pt x="154" y="67"/>
                </a:lnTo>
                <a:lnTo>
                  <a:pt x="296" y="0"/>
                </a:lnTo>
                <a:lnTo>
                  <a:pt x="380" y="13"/>
                </a:lnTo>
                <a:lnTo>
                  <a:pt x="424" y="52"/>
                </a:lnTo>
                <a:lnTo>
                  <a:pt x="265" y="218"/>
                </a:lnTo>
                <a:lnTo>
                  <a:pt x="123" y="248"/>
                </a:lnTo>
                <a:lnTo>
                  <a:pt x="0" y="146"/>
                </a:lnTo>
              </a:path>
            </a:pathLst>
          </a:custGeom>
          <a:ln w="12600">
            <a:solidFill>
              <a:srgbClr val="000000"/>
            </a:solidFill>
            <a:round/>
          </a:ln>
        </p:spPr>
        <p:txBody>
          <a:bodyPr lIns="96120" rIns="96120" tIns="38160" bIns="38160" anchor="t">
            <a:noAutofit/>
          </a:bodyPr>
          <a:p>
            <a:endParaRPr b="0" lang="en-US" sz="1800" spc="-1" strike="noStrike">
              <a:solidFill>
                <a:srgbClr val="000000"/>
              </a:solidFill>
              <a:latin typeface="Arial"/>
            </a:endParaRPr>
          </a:p>
        </p:txBody>
      </p:sp>
      <p:sp>
        <p:nvSpPr>
          <p:cNvPr id="241" name=""/>
          <p:cNvSpPr/>
          <p:nvPr/>
        </p:nvSpPr>
        <p:spPr>
          <a:xfrm>
            <a:off x="3809880" y="2057400"/>
            <a:ext cx="254520" cy="130680"/>
          </a:xfrm>
          <a:custGeom>
            <a:avLst/>
            <a:gdLst/>
            <a:ahLst/>
            <a:rect l="0" t="0" r="r" b="b"/>
            <a:pathLst>
              <a:path fill="none" w="707" h="363">
                <a:moveTo>
                  <a:pt x="0" y="128"/>
                </a:moveTo>
                <a:lnTo>
                  <a:pt x="39" y="111"/>
                </a:lnTo>
                <a:lnTo>
                  <a:pt x="13" y="74"/>
                </a:lnTo>
                <a:lnTo>
                  <a:pt x="79" y="98"/>
                </a:lnTo>
                <a:lnTo>
                  <a:pt x="52" y="35"/>
                </a:lnTo>
                <a:lnTo>
                  <a:pt x="123" y="70"/>
                </a:lnTo>
                <a:lnTo>
                  <a:pt x="88" y="0"/>
                </a:lnTo>
                <a:lnTo>
                  <a:pt x="199" y="61"/>
                </a:lnTo>
                <a:lnTo>
                  <a:pt x="208" y="150"/>
                </a:lnTo>
                <a:lnTo>
                  <a:pt x="265" y="44"/>
                </a:lnTo>
                <a:lnTo>
                  <a:pt x="318" y="83"/>
                </a:lnTo>
                <a:lnTo>
                  <a:pt x="362" y="30"/>
                </a:lnTo>
                <a:lnTo>
                  <a:pt x="402" y="98"/>
                </a:lnTo>
                <a:lnTo>
                  <a:pt x="397" y="35"/>
                </a:lnTo>
                <a:lnTo>
                  <a:pt x="508" y="35"/>
                </a:lnTo>
                <a:lnTo>
                  <a:pt x="521" y="0"/>
                </a:lnTo>
                <a:lnTo>
                  <a:pt x="575" y="30"/>
                </a:lnTo>
                <a:lnTo>
                  <a:pt x="641" y="22"/>
                </a:lnTo>
                <a:lnTo>
                  <a:pt x="592" y="44"/>
                </a:lnTo>
                <a:lnTo>
                  <a:pt x="707" y="159"/>
                </a:lnTo>
                <a:lnTo>
                  <a:pt x="614" y="256"/>
                </a:lnTo>
                <a:lnTo>
                  <a:pt x="349" y="363"/>
                </a:lnTo>
                <a:lnTo>
                  <a:pt x="110" y="315"/>
                </a:lnTo>
                <a:lnTo>
                  <a:pt x="171" y="221"/>
                </a:lnTo>
                <a:lnTo>
                  <a:pt x="35" y="190"/>
                </a:lnTo>
                <a:lnTo>
                  <a:pt x="167" y="181"/>
                </a:lnTo>
                <a:lnTo>
                  <a:pt x="123" y="159"/>
                </a:lnTo>
                <a:lnTo>
                  <a:pt x="171" y="128"/>
                </a:lnTo>
                <a:lnTo>
                  <a:pt x="0" y="12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5937120" y="3117960"/>
            <a:ext cx="671760" cy="759240"/>
          </a:xfrm>
          <a:custGeom>
            <a:avLst/>
            <a:gdLst/>
            <a:ahLst/>
            <a:rect l="0" t="0" r="r" b="b"/>
            <a:pathLst>
              <a:path fill="none" w="1866" h="2109">
                <a:moveTo>
                  <a:pt x="0" y="962"/>
                </a:moveTo>
                <a:lnTo>
                  <a:pt x="52" y="909"/>
                </a:lnTo>
                <a:lnTo>
                  <a:pt x="189" y="909"/>
                </a:lnTo>
                <a:lnTo>
                  <a:pt x="83" y="688"/>
                </a:lnTo>
                <a:lnTo>
                  <a:pt x="154" y="627"/>
                </a:lnTo>
                <a:lnTo>
                  <a:pt x="238" y="640"/>
                </a:lnTo>
                <a:lnTo>
                  <a:pt x="427" y="392"/>
                </a:lnTo>
                <a:lnTo>
                  <a:pt x="405" y="330"/>
                </a:lnTo>
                <a:lnTo>
                  <a:pt x="458" y="291"/>
                </a:lnTo>
                <a:lnTo>
                  <a:pt x="374" y="220"/>
                </a:lnTo>
                <a:lnTo>
                  <a:pt x="374" y="101"/>
                </a:lnTo>
                <a:lnTo>
                  <a:pt x="560" y="101"/>
                </a:lnTo>
                <a:lnTo>
                  <a:pt x="604" y="39"/>
                </a:lnTo>
                <a:lnTo>
                  <a:pt x="705" y="0"/>
                </a:lnTo>
                <a:lnTo>
                  <a:pt x="780" y="39"/>
                </a:lnTo>
                <a:lnTo>
                  <a:pt x="692" y="163"/>
                </a:lnTo>
                <a:lnTo>
                  <a:pt x="727" y="260"/>
                </a:lnTo>
                <a:lnTo>
                  <a:pt x="665" y="268"/>
                </a:lnTo>
                <a:lnTo>
                  <a:pt x="692" y="396"/>
                </a:lnTo>
                <a:lnTo>
                  <a:pt x="824" y="458"/>
                </a:lnTo>
                <a:lnTo>
                  <a:pt x="758" y="574"/>
                </a:lnTo>
                <a:lnTo>
                  <a:pt x="930" y="684"/>
                </a:lnTo>
                <a:lnTo>
                  <a:pt x="1262" y="755"/>
                </a:lnTo>
                <a:lnTo>
                  <a:pt x="1271" y="644"/>
                </a:lnTo>
                <a:lnTo>
                  <a:pt x="1315" y="627"/>
                </a:lnTo>
                <a:lnTo>
                  <a:pt x="1323" y="684"/>
                </a:lnTo>
                <a:lnTo>
                  <a:pt x="1350" y="728"/>
                </a:lnTo>
                <a:lnTo>
                  <a:pt x="1517" y="706"/>
                </a:lnTo>
                <a:lnTo>
                  <a:pt x="1513" y="644"/>
                </a:lnTo>
                <a:lnTo>
                  <a:pt x="1778" y="511"/>
                </a:lnTo>
                <a:lnTo>
                  <a:pt x="1804" y="591"/>
                </a:lnTo>
                <a:lnTo>
                  <a:pt x="1866" y="622"/>
                </a:lnTo>
                <a:lnTo>
                  <a:pt x="1835" y="697"/>
                </a:lnTo>
                <a:lnTo>
                  <a:pt x="1725" y="746"/>
                </a:lnTo>
                <a:lnTo>
                  <a:pt x="1562" y="1090"/>
                </a:lnTo>
                <a:lnTo>
                  <a:pt x="1522" y="953"/>
                </a:lnTo>
                <a:lnTo>
                  <a:pt x="1495" y="1006"/>
                </a:lnTo>
                <a:lnTo>
                  <a:pt x="1465" y="940"/>
                </a:lnTo>
                <a:lnTo>
                  <a:pt x="1531" y="856"/>
                </a:lnTo>
                <a:lnTo>
                  <a:pt x="1385" y="838"/>
                </a:lnTo>
                <a:lnTo>
                  <a:pt x="1301" y="746"/>
                </a:lnTo>
                <a:lnTo>
                  <a:pt x="1262" y="790"/>
                </a:lnTo>
                <a:lnTo>
                  <a:pt x="1301" y="838"/>
                </a:lnTo>
                <a:lnTo>
                  <a:pt x="1257" y="869"/>
                </a:lnTo>
                <a:lnTo>
                  <a:pt x="1301" y="918"/>
                </a:lnTo>
                <a:lnTo>
                  <a:pt x="1323" y="1116"/>
                </a:lnTo>
                <a:lnTo>
                  <a:pt x="1262" y="1085"/>
                </a:lnTo>
                <a:lnTo>
                  <a:pt x="1169" y="1240"/>
                </a:lnTo>
                <a:lnTo>
                  <a:pt x="776" y="1557"/>
                </a:lnTo>
                <a:lnTo>
                  <a:pt x="740" y="1951"/>
                </a:lnTo>
                <a:lnTo>
                  <a:pt x="586" y="2109"/>
                </a:lnTo>
                <a:lnTo>
                  <a:pt x="440" y="1801"/>
                </a:lnTo>
                <a:lnTo>
                  <a:pt x="383" y="1566"/>
                </a:lnTo>
                <a:lnTo>
                  <a:pt x="330" y="1509"/>
                </a:lnTo>
                <a:lnTo>
                  <a:pt x="291" y="1068"/>
                </a:lnTo>
                <a:lnTo>
                  <a:pt x="260" y="1054"/>
                </a:lnTo>
                <a:lnTo>
                  <a:pt x="238" y="1151"/>
                </a:lnTo>
                <a:lnTo>
                  <a:pt x="149" y="1178"/>
                </a:lnTo>
                <a:lnTo>
                  <a:pt x="52" y="1059"/>
                </a:lnTo>
                <a:lnTo>
                  <a:pt x="141" y="1006"/>
                </a:lnTo>
                <a:lnTo>
                  <a:pt x="52" y="1024"/>
                </a:lnTo>
                <a:lnTo>
                  <a:pt x="0" y="96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7058160" y="4303800"/>
            <a:ext cx="57600" cy="25920"/>
          </a:xfrm>
          <a:custGeom>
            <a:avLst/>
            <a:gdLst/>
            <a:ahLst/>
            <a:rect l="0" t="0" r="r" b="b"/>
            <a:pathLst>
              <a:path w="160" h="72">
                <a:moveTo>
                  <a:pt x="0" y="8"/>
                </a:moveTo>
                <a:lnTo>
                  <a:pt x="13" y="72"/>
                </a:lnTo>
                <a:lnTo>
                  <a:pt x="160" y="8"/>
                </a:lnTo>
                <a:lnTo>
                  <a:pt x="53" y="0"/>
                </a:lnTo>
                <a:lnTo>
                  <a:pt x="0" y="8"/>
                </a:lnTo>
                <a:close/>
              </a:path>
            </a:pathLst>
          </a:custGeom>
          <a:blipFill rotWithShape="0">
            <a:blip r:embed="rId1"/>
            <a:tile tx="0" ty="0" sx="133018" sy="133018" algn="ctr"/>
          </a:blip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44" name=""/>
          <p:cNvSpPr/>
          <p:nvPr/>
        </p:nvSpPr>
        <p:spPr>
          <a:xfrm>
            <a:off x="5386320" y="3000240"/>
            <a:ext cx="438480" cy="422640"/>
          </a:xfrm>
          <a:custGeom>
            <a:avLst/>
            <a:gdLst/>
            <a:ahLst/>
            <a:rect l="0" t="0" r="r" b="b"/>
            <a:pathLst>
              <a:path fill="none" w="1218" h="1174">
                <a:moveTo>
                  <a:pt x="0" y="35"/>
                </a:moveTo>
                <a:lnTo>
                  <a:pt x="35" y="0"/>
                </a:lnTo>
                <a:lnTo>
                  <a:pt x="127" y="92"/>
                </a:lnTo>
                <a:lnTo>
                  <a:pt x="246" y="22"/>
                </a:lnTo>
                <a:lnTo>
                  <a:pt x="255" y="79"/>
                </a:lnTo>
                <a:lnTo>
                  <a:pt x="304" y="114"/>
                </a:lnTo>
                <a:lnTo>
                  <a:pt x="321" y="185"/>
                </a:lnTo>
                <a:lnTo>
                  <a:pt x="485" y="273"/>
                </a:lnTo>
                <a:lnTo>
                  <a:pt x="640" y="246"/>
                </a:lnTo>
                <a:lnTo>
                  <a:pt x="622" y="198"/>
                </a:lnTo>
                <a:lnTo>
                  <a:pt x="825" y="123"/>
                </a:lnTo>
                <a:lnTo>
                  <a:pt x="1085" y="255"/>
                </a:lnTo>
                <a:lnTo>
                  <a:pt x="1099" y="331"/>
                </a:lnTo>
                <a:lnTo>
                  <a:pt x="1050" y="472"/>
                </a:lnTo>
                <a:lnTo>
                  <a:pt x="1054" y="658"/>
                </a:lnTo>
                <a:lnTo>
                  <a:pt x="1129" y="715"/>
                </a:lnTo>
                <a:lnTo>
                  <a:pt x="1072" y="812"/>
                </a:lnTo>
                <a:lnTo>
                  <a:pt x="1218" y="1025"/>
                </a:lnTo>
                <a:lnTo>
                  <a:pt x="1121" y="1174"/>
                </a:lnTo>
                <a:lnTo>
                  <a:pt x="847" y="1130"/>
                </a:lnTo>
                <a:lnTo>
                  <a:pt x="785" y="1025"/>
                </a:lnTo>
                <a:lnTo>
                  <a:pt x="595" y="1055"/>
                </a:lnTo>
                <a:lnTo>
                  <a:pt x="471" y="972"/>
                </a:lnTo>
                <a:lnTo>
                  <a:pt x="374" y="790"/>
                </a:lnTo>
                <a:lnTo>
                  <a:pt x="304" y="759"/>
                </a:lnTo>
                <a:lnTo>
                  <a:pt x="286" y="794"/>
                </a:lnTo>
                <a:lnTo>
                  <a:pt x="202" y="618"/>
                </a:lnTo>
                <a:lnTo>
                  <a:pt x="83" y="508"/>
                </a:lnTo>
                <a:lnTo>
                  <a:pt x="141" y="331"/>
                </a:lnTo>
                <a:lnTo>
                  <a:pt x="92" y="309"/>
                </a:lnTo>
                <a:lnTo>
                  <a:pt x="44" y="220"/>
                </a:lnTo>
                <a:lnTo>
                  <a:pt x="0" y="3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5261040" y="3079800"/>
            <a:ext cx="228960" cy="235440"/>
          </a:xfrm>
          <a:custGeom>
            <a:avLst/>
            <a:gdLst/>
            <a:ahLst/>
            <a:rect l="0" t="0" r="r" b="b"/>
            <a:pathLst>
              <a:path fill="none" w="636" h="654">
                <a:moveTo>
                  <a:pt x="0" y="309"/>
                </a:moveTo>
                <a:lnTo>
                  <a:pt x="26" y="406"/>
                </a:lnTo>
                <a:lnTo>
                  <a:pt x="313" y="548"/>
                </a:lnTo>
                <a:lnTo>
                  <a:pt x="317" y="614"/>
                </a:lnTo>
                <a:lnTo>
                  <a:pt x="393" y="645"/>
                </a:lnTo>
                <a:lnTo>
                  <a:pt x="499" y="654"/>
                </a:lnTo>
                <a:lnTo>
                  <a:pt x="600" y="588"/>
                </a:lnTo>
                <a:lnTo>
                  <a:pt x="636" y="579"/>
                </a:lnTo>
                <a:lnTo>
                  <a:pt x="547" y="389"/>
                </a:lnTo>
                <a:lnTo>
                  <a:pt x="433" y="278"/>
                </a:lnTo>
                <a:lnTo>
                  <a:pt x="490" y="110"/>
                </a:lnTo>
                <a:lnTo>
                  <a:pt x="441" y="88"/>
                </a:lnTo>
                <a:lnTo>
                  <a:pt x="393" y="0"/>
                </a:lnTo>
                <a:lnTo>
                  <a:pt x="246" y="4"/>
                </a:lnTo>
                <a:lnTo>
                  <a:pt x="171" y="57"/>
                </a:lnTo>
                <a:lnTo>
                  <a:pt x="145" y="221"/>
                </a:lnTo>
                <a:lnTo>
                  <a:pt x="0" y="30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4527720" y="2773440"/>
            <a:ext cx="271800" cy="284400"/>
          </a:xfrm>
          <a:custGeom>
            <a:avLst/>
            <a:gdLst/>
            <a:ahLst/>
            <a:rect l="0" t="0" r="r" b="b"/>
            <a:pathLst>
              <a:path fill="none" w="755" h="790">
                <a:moveTo>
                  <a:pt x="0" y="198"/>
                </a:moveTo>
                <a:lnTo>
                  <a:pt x="17" y="105"/>
                </a:lnTo>
                <a:lnTo>
                  <a:pt x="101" y="61"/>
                </a:lnTo>
                <a:lnTo>
                  <a:pt x="145" y="105"/>
                </a:lnTo>
                <a:lnTo>
                  <a:pt x="233" y="22"/>
                </a:lnTo>
                <a:lnTo>
                  <a:pt x="330" y="0"/>
                </a:lnTo>
                <a:lnTo>
                  <a:pt x="441" y="61"/>
                </a:lnTo>
                <a:lnTo>
                  <a:pt x="441" y="149"/>
                </a:lnTo>
                <a:lnTo>
                  <a:pt x="348" y="158"/>
                </a:lnTo>
                <a:lnTo>
                  <a:pt x="357" y="260"/>
                </a:lnTo>
                <a:lnTo>
                  <a:pt x="503" y="446"/>
                </a:lnTo>
                <a:lnTo>
                  <a:pt x="591" y="459"/>
                </a:lnTo>
                <a:lnTo>
                  <a:pt x="583" y="490"/>
                </a:lnTo>
                <a:lnTo>
                  <a:pt x="755" y="613"/>
                </a:lnTo>
                <a:lnTo>
                  <a:pt x="640" y="591"/>
                </a:lnTo>
                <a:lnTo>
                  <a:pt x="662" y="706"/>
                </a:lnTo>
                <a:lnTo>
                  <a:pt x="591" y="790"/>
                </a:lnTo>
                <a:lnTo>
                  <a:pt x="561" y="613"/>
                </a:lnTo>
                <a:lnTo>
                  <a:pt x="277" y="411"/>
                </a:lnTo>
                <a:lnTo>
                  <a:pt x="220" y="277"/>
                </a:lnTo>
                <a:lnTo>
                  <a:pt x="132" y="242"/>
                </a:lnTo>
                <a:lnTo>
                  <a:pt x="44" y="295"/>
                </a:lnTo>
                <a:lnTo>
                  <a:pt x="0" y="19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4562640" y="2959200"/>
            <a:ext cx="30600" cy="70200"/>
          </a:xfrm>
          <a:custGeom>
            <a:avLst/>
            <a:gdLst/>
            <a:ahLst/>
            <a:rect l="0" t="0" r="r" b="b"/>
            <a:pathLst>
              <a:path fill="none" w="85" h="195">
                <a:moveTo>
                  <a:pt x="0" y="26"/>
                </a:moveTo>
                <a:lnTo>
                  <a:pt x="13" y="177"/>
                </a:lnTo>
                <a:lnTo>
                  <a:pt x="53" y="195"/>
                </a:lnTo>
                <a:lnTo>
                  <a:pt x="85" y="74"/>
                </a:lnTo>
                <a:lnTo>
                  <a:pt x="53" y="0"/>
                </a:lnTo>
                <a:lnTo>
                  <a:pt x="0" y="26"/>
                </a:lnTo>
              </a:path>
            </a:pathLst>
          </a:custGeom>
          <a:ln w="12600">
            <a:solidFill>
              <a:srgbClr val="000000"/>
            </a:solidFill>
            <a:round/>
          </a:ln>
        </p:spPr>
        <p:txBody>
          <a:bodyPr lIns="96120" rIns="96120" tIns="19080" bIns="19080" anchor="t">
            <a:noAutofit/>
          </a:bodyPr>
          <a:p>
            <a:endParaRPr b="0" lang="en-US" sz="1800" spc="-1" strike="noStrike">
              <a:solidFill>
                <a:srgbClr val="000000"/>
              </a:solidFill>
              <a:latin typeface="Arial"/>
            </a:endParaRPr>
          </a:p>
        </p:txBody>
      </p:sp>
      <p:sp>
        <p:nvSpPr>
          <p:cNvPr id="248" name=""/>
          <p:cNvSpPr/>
          <p:nvPr/>
        </p:nvSpPr>
        <p:spPr>
          <a:xfrm>
            <a:off x="4659480" y="3051000"/>
            <a:ext cx="70200" cy="46440"/>
          </a:xfrm>
          <a:custGeom>
            <a:avLst/>
            <a:gdLst/>
            <a:ahLst/>
            <a:rect l="0" t="0" r="r" b="b"/>
            <a:pathLst>
              <a:path fill="none" w="195" h="129">
                <a:moveTo>
                  <a:pt x="0" y="17"/>
                </a:moveTo>
                <a:lnTo>
                  <a:pt x="168" y="129"/>
                </a:lnTo>
                <a:lnTo>
                  <a:pt x="195" y="0"/>
                </a:lnTo>
                <a:lnTo>
                  <a:pt x="0" y="17"/>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49" name=""/>
          <p:cNvSpPr/>
          <p:nvPr/>
        </p:nvSpPr>
        <p:spPr>
          <a:xfrm>
            <a:off x="7354800" y="3181320"/>
            <a:ext cx="51120" cy="70200"/>
          </a:xfrm>
          <a:custGeom>
            <a:avLst/>
            <a:gdLst/>
            <a:ahLst/>
            <a:rect l="0" t="0" r="r" b="b"/>
            <a:pathLst>
              <a:path fill="none" w="142" h="195">
                <a:moveTo>
                  <a:pt x="0" y="52"/>
                </a:moveTo>
                <a:lnTo>
                  <a:pt x="0" y="98"/>
                </a:lnTo>
                <a:lnTo>
                  <a:pt x="35" y="52"/>
                </a:lnTo>
                <a:lnTo>
                  <a:pt x="52" y="74"/>
                </a:lnTo>
                <a:lnTo>
                  <a:pt x="35" y="195"/>
                </a:lnTo>
                <a:lnTo>
                  <a:pt x="102" y="195"/>
                </a:lnTo>
                <a:lnTo>
                  <a:pt x="142" y="74"/>
                </a:lnTo>
                <a:lnTo>
                  <a:pt x="124" y="4"/>
                </a:lnTo>
                <a:lnTo>
                  <a:pt x="52" y="0"/>
                </a:lnTo>
                <a:lnTo>
                  <a:pt x="0" y="52"/>
                </a:lnTo>
              </a:path>
            </a:pathLst>
          </a:custGeom>
          <a:ln w="12600">
            <a:solidFill>
              <a:srgbClr val="000000"/>
            </a:solidFill>
            <a:round/>
          </a:ln>
        </p:spPr>
        <p:txBody>
          <a:bodyPr lIns="96120" rIns="96120" tIns="19080" bIns="19080" anchor="t">
            <a:noAutofit/>
          </a:bodyPr>
          <a:p>
            <a:endParaRPr b="0" lang="en-US" sz="1800" spc="-1" strike="noStrike">
              <a:solidFill>
                <a:srgbClr val="000000"/>
              </a:solidFill>
              <a:latin typeface="Arial"/>
            </a:endParaRPr>
          </a:p>
        </p:txBody>
      </p:sp>
      <p:sp>
        <p:nvSpPr>
          <p:cNvPr id="250" name=""/>
          <p:cNvSpPr/>
          <p:nvPr/>
        </p:nvSpPr>
        <p:spPr>
          <a:xfrm>
            <a:off x="7381800" y="2955960"/>
            <a:ext cx="259200" cy="235440"/>
          </a:xfrm>
          <a:custGeom>
            <a:avLst/>
            <a:gdLst/>
            <a:ahLst/>
            <a:rect l="0" t="0" r="r" b="b"/>
            <a:pathLst>
              <a:path fill="none" w="720" h="654">
                <a:moveTo>
                  <a:pt x="0" y="619"/>
                </a:moveTo>
                <a:lnTo>
                  <a:pt x="123" y="491"/>
                </a:lnTo>
                <a:lnTo>
                  <a:pt x="309" y="491"/>
                </a:lnTo>
                <a:lnTo>
                  <a:pt x="380" y="344"/>
                </a:lnTo>
                <a:lnTo>
                  <a:pt x="419" y="331"/>
                </a:lnTo>
                <a:lnTo>
                  <a:pt x="419" y="389"/>
                </a:lnTo>
                <a:lnTo>
                  <a:pt x="499" y="331"/>
                </a:lnTo>
                <a:lnTo>
                  <a:pt x="570" y="217"/>
                </a:lnTo>
                <a:lnTo>
                  <a:pt x="597" y="30"/>
                </a:lnTo>
                <a:lnTo>
                  <a:pt x="654" y="44"/>
                </a:lnTo>
                <a:lnTo>
                  <a:pt x="645" y="0"/>
                </a:lnTo>
                <a:lnTo>
                  <a:pt x="672" y="4"/>
                </a:lnTo>
                <a:lnTo>
                  <a:pt x="720" y="154"/>
                </a:lnTo>
                <a:lnTo>
                  <a:pt x="654" y="269"/>
                </a:lnTo>
                <a:lnTo>
                  <a:pt x="654" y="362"/>
                </a:lnTo>
                <a:lnTo>
                  <a:pt x="614" y="517"/>
                </a:lnTo>
                <a:lnTo>
                  <a:pt x="579" y="539"/>
                </a:lnTo>
                <a:lnTo>
                  <a:pt x="579" y="481"/>
                </a:lnTo>
                <a:lnTo>
                  <a:pt x="472" y="566"/>
                </a:lnTo>
                <a:lnTo>
                  <a:pt x="380" y="526"/>
                </a:lnTo>
                <a:lnTo>
                  <a:pt x="393" y="597"/>
                </a:lnTo>
                <a:lnTo>
                  <a:pt x="314" y="654"/>
                </a:lnTo>
                <a:lnTo>
                  <a:pt x="287" y="553"/>
                </a:lnTo>
                <a:lnTo>
                  <a:pt x="0" y="61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7412040" y="3171960"/>
            <a:ext cx="52920" cy="41760"/>
          </a:xfrm>
          <a:custGeom>
            <a:avLst/>
            <a:gdLst/>
            <a:ahLst/>
            <a:rect l="0" t="0" r="r" b="b"/>
            <a:pathLst>
              <a:path fill="none" w="147" h="116">
                <a:moveTo>
                  <a:pt x="0" y="53"/>
                </a:moveTo>
                <a:lnTo>
                  <a:pt x="53" y="116"/>
                </a:lnTo>
                <a:lnTo>
                  <a:pt x="143" y="71"/>
                </a:lnTo>
                <a:lnTo>
                  <a:pt x="147" y="0"/>
                </a:lnTo>
                <a:lnTo>
                  <a:pt x="0" y="53"/>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252" name=""/>
          <p:cNvSpPr/>
          <p:nvPr/>
        </p:nvSpPr>
        <p:spPr>
          <a:xfrm>
            <a:off x="7589880" y="2830680"/>
            <a:ext cx="133560" cy="128880"/>
          </a:xfrm>
          <a:custGeom>
            <a:avLst/>
            <a:gdLst/>
            <a:ahLst/>
            <a:rect l="0" t="0" r="r" b="b"/>
            <a:pathLst>
              <a:path fill="none" w="371" h="358">
                <a:moveTo>
                  <a:pt x="0" y="252"/>
                </a:moveTo>
                <a:lnTo>
                  <a:pt x="13" y="358"/>
                </a:lnTo>
                <a:lnTo>
                  <a:pt x="74" y="314"/>
                </a:lnTo>
                <a:lnTo>
                  <a:pt x="35" y="252"/>
                </a:lnTo>
                <a:lnTo>
                  <a:pt x="203" y="305"/>
                </a:lnTo>
                <a:lnTo>
                  <a:pt x="261" y="217"/>
                </a:lnTo>
                <a:lnTo>
                  <a:pt x="371" y="190"/>
                </a:lnTo>
                <a:lnTo>
                  <a:pt x="331" y="141"/>
                </a:lnTo>
                <a:lnTo>
                  <a:pt x="340" y="92"/>
                </a:lnTo>
                <a:lnTo>
                  <a:pt x="247" y="97"/>
                </a:lnTo>
                <a:lnTo>
                  <a:pt x="123" y="0"/>
                </a:lnTo>
                <a:lnTo>
                  <a:pt x="79" y="190"/>
                </a:lnTo>
                <a:lnTo>
                  <a:pt x="35" y="181"/>
                </a:lnTo>
                <a:lnTo>
                  <a:pt x="0" y="25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7229520" y="2909880"/>
            <a:ext cx="147960" cy="157680"/>
          </a:xfrm>
          <a:custGeom>
            <a:avLst/>
            <a:gdLst/>
            <a:ahLst/>
            <a:rect l="0" t="0" r="r" b="b"/>
            <a:pathLst>
              <a:path fill="none" w="411" h="438">
                <a:moveTo>
                  <a:pt x="0" y="247"/>
                </a:moveTo>
                <a:lnTo>
                  <a:pt x="74" y="278"/>
                </a:lnTo>
                <a:lnTo>
                  <a:pt x="30" y="407"/>
                </a:lnTo>
                <a:lnTo>
                  <a:pt x="141" y="438"/>
                </a:lnTo>
                <a:lnTo>
                  <a:pt x="261" y="359"/>
                </a:lnTo>
                <a:lnTo>
                  <a:pt x="202" y="256"/>
                </a:lnTo>
                <a:lnTo>
                  <a:pt x="344" y="172"/>
                </a:lnTo>
                <a:lnTo>
                  <a:pt x="411" y="30"/>
                </a:lnTo>
                <a:lnTo>
                  <a:pt x="402" y="26"/>
                </a:lnTo>
                <a:lnTo>
                  <a:pt x="367" y="0"/>
                </a:lnTo>
                <a:lnTo>
                  <a:pt x="247" y="79"/>
                </a:lnTo>
                <a:lnTo>
                  <a:pt x="247" y="133"/>
                </a:lnTo>
                <a:lnTo>
                  <a:pt x="163" y="115"/>
                </a:lnTo>
                <a:lnTo>
                  <a:pt x="0" y="24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7273800" y="3040200"/>
            <a:ext cx="79560" cy="127440"/>
          </a:xfrm>
          <a:custGeom>
            <a:avLst/>
            <a:gdLst/>
            <a:ahLst/>
            <a:rect l="0" t="0" r="r" b="b"/>
            <a:pathLst>
              <a:path fill="none" w="221" h="354">
                <a:moveTo>
                  <a:pt x="0" y="354"/>
                </a:moveTo>
                <a:lnTo>
                  <a:pt x="22" y="74"/>
                </a:lnTo>
                <a:lnTo>
                  <a:pt x="137" y="0"/>
                </a:lnTo>
                <a:lnTo>
                  <a:pt x="221" y="217"/>
                </a:lnTo>
                <a:lnTo>
                  <a:pt x="137" y="315"/>
                </a:lnTo>
                <a:lnTo>
                  <a:pt x="0" y="35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6678720" y="3497400"/>
            <a:ext cx="162360" cy="216360"/>
          </a:xfrm>
          <a:custGeom>
            <a:avLst/>
            <a:gdLst/>
            <a:ahLst/>
            <a:rect l="0" t="0" r="r" b="b"/>
            <a:pathLst>
              <a:path fill="none" w="451" h="601">
                <a:moveTo>
                  <a:pt x="0" y="123"/>
                </a:moveTo>
                <a:lnTo>
                  <a:pt x="52" y="212"/>
                </a:lnTo>
                <a:lnTo>
                  <a:pt x="35" y="362"/>
                </a:lnTo>
                <a:lnTo>
                  <a:pt x="199" y="296"/>
                </a:lnTo>
                <a:lnTo>
                  <a:pt x="269" y="362"/>
                </a:lnTo>
                <a:lnTo>
                  <a:pt x="331" y="513"/>
                </a:lnTo>
                <a:lnTo>
                  <a:pt x="309" y="601"/>
                </a:lnTo>
                <a:lnTo>
                  <a:pt x="451" y="570"/>
                </a:lnTo>
                <a:lnTo>
                  <a:pt x="390" y="375"/>
                </a:lnTo>
                <a:lnTo>
                  <a:pt x="225" y="234"/>
                </a:lnTo>
                <a:lnTo>
                  <a:pt x="274" y="155"/>
                </a:lnTo>
                <a:lnTo>
                  <a:pt x="181" y="105"/>
                </a:lnTo>
                <a:lnTo>
                  <a:pt x="120" y="0"/>
                </a:lnTo>
                <a:lnTo>
                  <a:pt x="79" y="0"/>
                </a:lnTo>
                <a:lnTo>
                  <a:pt x="83" y="74"/>
                </a:lnTo>
                <a:lnTo>
                  <a:pt x="52" y="66"/>
                </a:lnTo>
                <a:lnTo>
                  <a:pt x="0" y="12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4505400" y="2673360"/>
            <a:ext cx="25920" cy="25920"/>
          </a:xfrm>
          <a:custGeom>
            <a:avLst/>
            <a:gdLst/>
            <a:ahLst/>
            <a:rect l="0" t="0" r="r" b="b"/>
            <a:pathLst>
              <a:path fill="none" w="72" h="72">
                <a:moveTo>
                  <a:pt x="0" y="49"/>
                </a:moveTo>
                <a:lnTo>
                  <a:pt x="36" y="0"/>
                </a:lnTo>
                <a:lnTo>
                  <a:pt x="72" y="72"/>
                </a:lnTo>
                <a:lnTo>
                  <a:pt x="0" y="49"/>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57" name=""/>
          <p:cNvSpPr/>
          <p:nvPr/>
        </p:nvSpPr>
        <p:spPr>
          <a:xfrm>
            <a:off x="6678720" y="3916440"/>
            <a:ext cx="86040" cy="130680"/>
          </a:xfrm>
          <a:custGeom>
            <a:avLst/>
            <a:gdLst/>
            <a:ahLst/>
            <a:rect l="0" t="0" r="r" b="b"/>
            <a:pathLst>
              <a:path fill="none" w="239" h="363">
                <a:moveTo>
                  <a:pt x="0" y="0"/>
                </a:moveTo>
                <a:lnTo>
                  <a:pt x="44" y="0"/>
                </a:lnTo>
                <a:lnTo>
                  <a:pt x="52" y="61"/>
                </a:lnTo>
                <a:lnTo>
                  <a:pt x="120" y="22"/>
                </a:lnTo>
                <a:lnTo>
                  <a:pt x="199" y="106"/>
                </a:lnTo>
                <a:lnTo>
                  <a:pt x="239" y="363"/>
                </a:lnTo>
                <a:lnTo>
                  <a:pt x="230" y="363"/>
                </a:lnTo>
                <a:lnTo>
                  <a:pt x="74" y="247"/>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6894360" y="3908520"/>
            <a:ext cx="221040" cy="151200"/>
          </a:xfrm>
          <a:custGeom>
            <a:avLst/>
            <a:gdLst/>
            <a:ahLst/>
            <a:rect l="0" t="0" r="r" b="b"/>
            <a:pathLst>
              <a:path fill="none" w="614" h="420">
                <a:moveTo>
                  <a:pt x="0" y="381"/>
                </a:moveTo>
                <a:lnTo>
                  <a:pt x="48" y="420"/>
                </a:lnTo>
                <a:lnTo>
                  <a:pt x="247" y="407"/>
                </a:lnTo>
                <a:lnTo>
                  <a:pt x="309" y="385"/>
                </a:lnTo>
                <a:lnTo>
                  <a:pt x="389" y="177"/>
                </a:lnTo>
                <a:lnTo>
                  <a:pt x="509" y="195"/>
                </a:lnTo>
                <a:lnTo>
                  <a:pt x="614" y="124"/>
                </a:lnTo>
                <a:lnTo>
                  <a:pt x="513" y="70"/>
                </a:lnTo>
                <a:lnTo>
                  <a:pt x="473" y="0"/>
                </a:lnTo>
                <a:lnTo>
                  <a:pt x="349" y="128"/>
                </a:lnTo>
                <a:lnTo>
                  <a:pt x="314" y="199"/>
                </a:lnTo>
                <a:lnTo>
                  <a:pt x="278" y="159"/>
                </a:lnTo>
                <a:lnTo>
                  <a:pt x="195" y="265"/>
                </a:lnTo>
                <a:lnTo>
                  <a:pt x="119" y="283"/>
                </a:lnTo>
                <a:lnTo>
                  <a:pt x="88" y="385"/>
                </a:lnTo>
                <a:lnTo>
                  <a:pt x="0" y="38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1682640" y="3216240"/>
            <a:ext cx="692640" cy="495720"/>
          </a:xfrm>
          <a:custGeom>
            <a:avLst/>
            <a:gdLst/>
            <a:ahLst/>
            <a:rect l="0" t="0" r="r" b="b"/>
            <a:pathLst>
              <a:path fill="none" w="1924" h="1377">
                <a:moveTo>
                  <a:pt x="0" y="8"/>
                </a:moveTo>
                <a:lnTo>
                  <a:pt x="83" y="224"/>
                </a:lnTo>
                <a:lnTo>
                  <a:pt x="198" y="317"/>
                </a:lnTo>
                <a:lnTo>
                  <a:pt x="189" y="384"/>
                </a:lnTo>
                <a:lnTo>
                  <a:pt x="136" y="389"/>
                </a:lnTo>
                <a:lnTo>
                  <a:pt x="255" y="433"/>
                </a:lnTo>
                <a:lnTo>
                  <a:pt x="326" y="538"/>
                </a:lnTo>
                <a:lnTo>
                  <a:pt x="317" y="618"/>
                </a:lnTo>
                <a:lnTo>
                  <a:pt x="454" y="750"/>
                </a:lnTo>
                <a:lnTo>
                  <a:pt x="480" y="706"/>
                </a:lnTo>
                <a:lnTo>
                  <a:pt x="163" y="194"/>
                </a:lnTo>
                <a:lnTo>
                  <a:pt x="136" y="44"/>
                </a:lnTo>
                <a:lnTo>
                  <a:pt x="211" y="83"/>
                </a:lnTo>
                <a:lnTo>
                  <a:pt x="330" y="308"/>
                </a:lnTo>
                <a:lnTo>
                  <a:pt x="503" y="481"/>
                </a:lnTo>
                <a:lnTo>
                  <a:pt x="499" y="547"/>
                </a:lnTo>
                <a:lnTo>
                  <a:pt x="737" y="777"/>
                </a:lnTo>
                <a:lnTo>
                  <a:pt x="759" y="878"/>
                </a:lnTo>
                <a:lnTo>
                  <a:pt x="737" y="935"/>
                </a:lnTo>
                <a:lnTo>
                  <a:pt x="790" y="1024"/>
                </a:lnTo>
                <a:lnTo>
                  <a:pt x="1248" y="1263"/>
                </a:lnTo>
                <a:lnTo>
                  <a:pt x="1442" y="1254"/>
                </a:lnTo>
                <a:lnTo>
                  <a:pt x="1576" y="1377"/>
                </a:lnTo>
                <a:lnTo>
                  <a:pt x="1633" y="1254"/>
                </a:lnTo>
                <a:lnTo>
                  <a:pt x="1695" y="1254"/>
                </a:lnTo>
                <a:lnTo>
                  <a:pt x="1624" y="1157"/>
                </a:lnTo>
                <a:lnTo>
                  <a:pt x="1770" y="1113"/>
                </a:lnTo>
                <a:lnTo>
                  <a:pt x="1827" y="1077"/>
                </a:lnTo>
                <a:lnTo>
                  <a:pt x="1840" y="1055"/>
                </a:lnTo>
                <a:lnTo>
                  <a:pt x="1858" y="1104"/>
                </a:lnTo>
                <a:lnTo>
                  <a:pt x="1924" y="878"/>
                </a:lnTo>
                <a:lnTo>
                  <a:pt x="1840" y="847"/>
                </a:lnTo>
                <a:lnTo>
                  <a:pt x="1704" y="878"/>
                </a:lnTo>
                <a:lnTo>
                  <a:pt x="1615" y="1077"/>
                </a:lnTo>
                <a:lnTo>
                  <a:pt x="1438" y="1095"/>
                </a:lnTo>
                <a:lnTo>
                  <a:pt x="1354" y="1047"/>
                </a:lnTo>
                <a:lnTo>
                  <a:pt x="1235" y="807"/>
                </a:lnTo>
                <a:lnTo>
                  <a:pt x="1231" y="618"/>
                </a:lnTo>
                <a:lnTo>
                  <a:pt x="1266" y="521"/>
                </a:lnTo>
                <a:lnTo>
                  <a:pt x="1143" y="472"/>
                </a:lnTo>
                <a:lnTo>
                  <a:pt x="984" y="216"/>
                </a:lnTo>
                <a:lnTo>
                  <a:pt x="856" y="268"/>
                </a:lnTo>
                <a:lnTo>
                  <a:pt x="680" y="61"/>
                </a:lnTo>
                <a:lnTo>
                  <a:pt x="392" y="105"/>
                </a:lnTo>
                <a:lnTo>
                  <a:pt x="141" y="0"/>
                </a:lnTo>
                <a:lnTo>
                  <a:pt x="0" y="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6389640" y="2603520"/>
            <a:ext cx="727560" cy="348120"/>
          </a:xfrm>
          <a:custGeom>
            <a:avLst/>
            <a:gdLst/>
            <a:ahLst/>
            <a:rect l="0" t="0" r="r" b="b"/>
            <a:pathLst>
              <a:path fill="none" w="2021" h="967">
                <a:moveTo>
                  <a:pt x="0" y="305"/>
                </a:moveTo>
                <a:lnTo>
                  <a:pt x="66" y="397"/>
                </a:lnTo>
                <a:lnTo>
                  <a:pt x="154" y="433"/>
                </a:lnTo>
                <a:lnTo>
                  <a:pt x="189" y="644"/>
                </a:lnTo>
                <a:lnTo>
                  <a:pt x="467" y="724"/>
                </a:lnTo>
                <a:lnTo>
                  <a:pt x="583" y="866"/>
                </a:lnTo>
                <a:lnTo>
                  <a:pt x="825" y="848"/>
                </a:lnTo>
                <a:lnTo>
                  <a:pt x="1085" y="967"/>
                </a:lnTo>
                <a:lnTo>
                  <a:pt x="1438" y="866"/>
                </a:lnTo>
                <a:lnTo>
                  <a:pt x="1540" y="773"/>
                </a:lnTo>
                <a:lnTo>
                  <a:pt x="1540" y="666"/>
                </a:lnTo>
                <a:lnTo>
                  <a:pt x="1638" y="680"/>
                </a:lnTo>
                <a:lnTo>
                  <a:pt x="1854" y="530"/>
                </a:lnTo>
                <a:lnTo>
                  <a:pt x="2021" y="508"/>
                </a:lnTo>
                <a:lnTo>
                  <a:pt x="1946" y="393"/>
                </a:lnTo>
                <a:lnTo>
                  <a:pt x="1779" y="424"/>
                </a:lnTo>
                <a:lnTo>
                  <a:pt x="1779" y="292"/>
                </a:lnTo>
                <a:lnTo>
                  <a:pt x="1818" y="211"/>
                </a:lnTo>
                <a:lnTo>
                  <a:pt x="1704" y="194"/>
                </a:lnTo>
                <a:lnTo>
                  <a:pt x="1403" y="269"/>
                </a:lnTo>
                <a:lnTo>
                  <a:pt x="1134" y="154"/>
                </a:lnTo>
                <a:lnTo>
                  <a:pt x="966" y="171"/>
                </a:lnTo>
                <a:lnTo>
                  <a:pt x="900" y="66"/>
                </a:lnTo>
                <a:lnTo>
                  <a:pt x="737" y="0"/>
                </a:lnTo>
                <a:lnTo>
                  <a:pt x="649" y="74"/>
                </a:lnTo>
                <a:lnTo>
                  <a:pt x="636" y="211"/>
                </a:lnTo>
                <a:lnTo>
                  <a:pt x="255" y="149"/>
                </a:lnTo>
                <a:lnTo>
                  <a:pt x="0" y="30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5568840" y="3430440"/>
            <a:ext cx="176400" cy="227520"/>
          </a:xfrm>
          <a:custGeom>
            <a:avLst/>
            <a:gdLst/>
            <a:ahLst/>
            <a:rect l="0" t="0" r="r" b="b"/>
            <a:pathLst>
              <a:path fill="none" w="490" h="632">
                <a:moveTo>
                  <a:pt x="0" y="446"/>
                </a:moveTo>
                <a:lnTo>
                  <a:pt x="66" y="632"/>
                </a:lnTo>
                <a:lnTo>
                  <a:pt x="176" y="597"/>
                </a:lnTo>
                <a:lnTo>
                  <a:pt x="367" y="437"/>
                </a:lnTo>
                <a:lnTo>
                  <a:pt x="367" y="362"/>
                </a:lnTo>
                <a:lnTo>
                  <a:pt x="486" y="234"/>
                </a:lnTo>
                <a:lnTo>
                  <a:pt x="490" y="186"/>
                </a:lnTo>
                <a:lnTo>
                  <a:pt x="419" y="110"/>
                </a:lnTo>
                <a:lnTo>
                  <a:pt x="274" y="0"/>
                </a:lnTo>
                <a:lnTo>
                  <a:pt x="224" y="0"/>
                </a:lnTo>
                <a:lnTo>
                  <a:pt x="252" y="61"/>
                </a:lnTo>
                <a:lnTo>
                  <a:pt x="198" y="172"/>
                </a:lnTo>
                <a:lnTo>
                  <a:pt x="224" y="217"/>
                </a:lnTo>
                <a:lnTo>
                  <a:pt x="180" y="362"/>
                </a:lnTo>
                <a:lnTo>
                  <a:pt x="0" y="446"/>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6213600" y="3282840"/>
            <a:ext cx="182880" cy="106560"/>
          </a:xfrm>
          <a:custGeom>
            <a:avLst/>
            <a:gdLst/>
            <a:ahLst/>
            <a:rect l="0" t="0" r="r" b="b"/>
            <a:pathLst>
              <a:path fill="none" w="508" h="296">
                <a:moveTo>
                  <a:pt x="0" y="114"/>
                </a:moveTo>
                <a:lnTo>
                  <a:pt x="57" y="0"/>
                </a:lnTo>
                <a:lnTo>
                  <a:pt x="265" y="74"/>
                </a:lnTo>
                <a:lnTo>
                  <a:pt x="367" y="186"/>
                </a:lnTo>
                <a:lnTo>
                  <a:pt x="508" y="186"/>
                </a:lnTo>
                <a:lnTo>
                  <a:pt x="499" y="296"/>
                </a:lnTo>
                <a:lnTo>
                  <a:pt x="163" y="225"/>
                </a:lnTo>
                <a:lnTo>
                  <a:pt x="0" y="11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452840" y="2565360"/>
            <a:ext cx="84600" cy="90720"/>
          </a:xfrm>
          <a:custGeom>
            <a:avLst/>
            <a:gdLst/>
            <a:ahLst/>
            <a:rect l="0" t="0" r="r" b="b"/>
            <a:pathLst>
              <a:path fill="none" w="235" h="252">
                <a:moveTo>
                  <a:pt x="0" y="190"/>
                </a:moveTo>
                <a:lnTo>
                  <a:pt x="89" y="155"/>
                </a:lnTo>
                <a:lnTo>
                  <a:pt x="44" y="133"/>
                </a:lnTo>
                <a:lnTo>
                  <a:pt x="89" y="39"/>
                </a:lnTo>
                <a:lnTo>
                  <a:pt x="128" y="97"/>
                </a:lnTo>
                <a:lnTo>
                  <a:pt x="128" y="0"/>
                </a:lnTo>
                <a:lnTo>
                  <a:pt x="235" y="0"/>
                </a:lnTo>
                <a:lnTo>
                  <a:pt x="226" y="97"/>
                </a:lnTo>
                <a:lnTo>
                  <a:pt x="159" y="137"/>
                </a:lnTo>
                <a:lnTo>
                  <a:pt x="159" y="252"/>
                </a:lnTo>
                <a:lnTo>
                  <a:pt x="89" y="181"/>
                </a:lnTo>
                <a:lnTo>
                  <a:pt x="0" y="190"/>
                </a:lnTo>
              </a:path>
            </a:pathLst>
          </a:custGeom>
          <a:ln w="12600">
            <a:solidFill>
              <a:srgbClr val="000000"/>
            </a:solidFill>
            <a:round/>
          </a:ln>
        </p:spPr>
        <p:txBody>
          <a:bodyPr lIns="96120" rIns="96120" tIns="39600" bIns="39600" anchor="t">
            <a:noAutofit/>
          </a:bodyPr>
          <a:p>
            <a:endParaRPr b="0" lang="en-US" sz="1800" spc="-1" strike="noStrike">
              <a:solidFill>
                <a:srgbClr val="000000"/>
              </a:solidFill>
              <a:latin typeface="Arial"/>
            </a:endParaRPr>
          </a:p>
        </p:txBody>
      </p:sp>
      <p:sp>
        <p:nvSpPr>
          <p:cNvPr id="264" name=""/>
          <p:cNvSpPr/>
          <p:nvPr/>
        </p:nvSpPr>
        <p:spPr>
          <a:xfrm>
            <a:off x="8197920" y="5191200"/>
            <a:ext cx="178200" cy="190800"/>
          </a:xfrm>
          <a:custGeom>
            <a:avLst/>
            <a:gdLst/>
            <a:ahLst/>
            <a:rect l="0" t="0" r="r" b="b"/>
            <a:pathLst>
              <a:path fill="none" w="495" h="530">
                <a:moveTo>
                  <a:pt x="0" y="464"/>
                </a:moveTo>
                <a:lnTo>
                  <a:pt x="101" y="300"/>
                </a:lnTo>
                <a:lnTo>
                  <a:pt x="274" y="185"/>
                </a:lnTo>
                <a:lnTo>
                  <a:pt x="372" y="0"/>
                </a:lnTo>
                <a:lnTo>
                  <a:pt x="425" y="66"/>
                </a:lnTo>
                <a:lnTo>
                  <a:pt x="495" y="30"/>
                </a:lnTo>
                <a:lnTo>
                  <a:pt x="495" y="97"/>
                </a:lnTo>
                <a:lnTo>
                  <a:pt x="403" y="224"/>
                </a:lnTo>
                <a:lnTo>
                  <a:pt x="420" y="274"/>
                </a:lnTo>
                <a:lnTo>
                  <a:pt x="314" y="300"/>
                </a:lnTo>
                <a:lnTo>
                  <a:pt x="269" y="472"/>
                </a:lnTo>
                <a:lnTo>
                  <a:pt x="159" y="530"/>
                </a:lnTo>
                <a:lnTo>
                  <a:pt x="0" y="4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8339040" y="5010120"/>
            <a:ext cx="135360" cy="205200"/>
          </a:xfrm>
          <a:custGeom>
            <a:avLst/>
            <a:gdLst/>
            <a:ahLst/>
            <a:rect l="0" t="0" r="r" b="b"/>
            <a:pathLst>
              <a:path fill="none" w="376" h="570">
                <a:moveTo>
                  <a:pt x="0" y="0"/>
                </a:moveTo>
                <a:lnTo>
                  <a:pt x="98" y="57"/>
                </a:lnTo>
                <a:lnTo>
                  <a:pt x="133" y="190"/>
                </a:lnTo>
                <a:lnTo>
                  <a:pt x="177" y="225"/>
                </a:lnTo>
                <a:lnTo>
                  <a:pt x="203" y="177"/>
                </a:lnTo>
                <a:lnTo>
                  <a:pt x="217" y="252"/>
                </a:lnTo>
                <a:lnTo>
                  <a:pt x="376" y="252"/>
                </a:lnTo>
                <a:lnTo>
                  <a:pt x="337" y="384"/>
                </a:lnTo>
                <a:lnTo>
                  <a:pt x="261" y="402"/>
                </a:lnTo>
                <a:lnTo>
                  <a:pt x="203" y="570"/>
                </a:lnTo>
                <a:lnTo>
                  <a:pt x="133" y="570"/>
                </a:lnTo>
                <a:lnTo>
                  <a:pt x="155" y="513"/>
                </a:lnTo>
                <a:lnTo>
                  <a:pt x="66" y="402"/>
                </a:lnTo>
                <a:lnTo>
                  <a:pt x="142" y="292"/>
                </a:lnTo>
                <a:lnTo>
                  <a:pt x="133" y="203"/>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2367000" y="3697200"/>
            <a:ext cx="90720" cy="106560"/>
          </a:xfrm>
          <a:custGeom>
            <a:avLst/>
            <a:gdLst/>
            <a:ahLst/>
            <a:rect l="0" t="0" r="r" b="b"/>
            <a:pathLst>
              <a:path fill="none" w="252" h="296">
                <a:moveTo>
                  <a:pt x="0" y="145"/>
                </a:moveTo>
                <a:lnTo>
                  <a:pt x="101" y="287"/>
                </a:lnTo>
                <a:lnTo>
                  <a:pt x="225" y="296"/>
                </a:lnTo>
                <a:lnTo>
                  <a:pt x="252" y="0"/>
                </a:lnTo>
                <a:lnTo>
                  <a:pt x="155" y="13"/>
                </a:lnTo>
                <a:lnTo>
                  <a:pt x="0" y="14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4487760" y="1851120"/>
            <a:ext cx="595800" cy="536760"/>
          </a:xfrm>
          <a:custGeom>
            <a:avLst/>
            <a:gdLst/>
            <a:ahLst/>
            <a:rect l="0" t="0" r="r" b="b"/>
            <a:pathLst>
              <a:path fill="none" w="1655" h="1491">
                <a:moveTo>
                  <a:pt x="0" y="1121"/>
                </a:moveTo>
                <a:lnTo>
                  <a:pt x="0" y="1178"/>
                </a:lnTo>
                <a:lnTo>
                  <a:pt x="149" y="1138"/>
                </a:lnTo>
                <a:lnTo>
                  <a:pt x="158" y="1160"/>
                </a:lnTo>
                <a:lnTo>
                  <a:pt x="0" y="1213"/>
                </a:lnTo>
                <a:lnTo>
                  <a:pt x="44" y="1231"/>
                </a:lnTo>
                <a:lnTo>
                  <a:pt x="22" y="1310"/>
                </a:lnTo>
                <a:lnTo>
                  <a:pt x="132" y="1240"/>
                </a:lnTo>
                <a:lnTo>
                  <a:pt x="13" y="1354"/>
                </a:lnTo>
                <a:lnTo>
                  <a:pt x="79" y="1354"/>
                </a:lnTo>
                <a:lnTo>
                  <a:pt x="44" y="1451"/>
                </a:lnTo>
                <a:lnTo>
                  <a:pt x="198" y="1491"/>
                </a:lnTo>
                <a:lnTo>
                  <a:pt x="326" y="1394"/>
                </a:lnTo>
                <a:lnTo>
                  <a:pt x="352" y="1315"/>
                </a:lnTo>
                <a:lnTo>
                  <a:pt x="388" y="1394"/>
                </a:lnTo>
                <a:lnTo>
                  <a:pt x="468" y="1293"/>
                </a:lnTo>
                <a:lnTo>
                  <a:pt x="455" y="1196"/>
                </a:lnTo>
                <a:lnTo>
                  <a:pt x="490" y="1160"/>
                </a:lnTo>
                <a:lnTo>
                  <a:pt x="455" y="1116"/>
                </a:lnTo>
                <a:lnTo>
                  <a:pt x="455" y="896"/>
                </a:lnTo>
                <a:lnTo>
                  <a:pt x="578" y="847"/>
                </a:lnTo>
                <a:lnTo>
                  <a:pt x="547" y="785"/>
                </a:lnTo>
                <a:lnTo>
                  <a:pt x="609" y="617"/>
                </a:lnTo>
                <a:lnTo>
                  <a:pt x="719" y="498"/>
                </a:lnTo>
                <a:lnTo>
                  <a:pt x="741" y="401"/>
                </a:lnTo>
                <a:lnTo>
                  <a:pt x="816" y="379"/>
                </a:lnTo>
                <a:lnTo>
                  <a:pt x="843" y="326"/>
                </a:lnTo>
                <a:lnTo>
                  <a:pt x="971" y="335"/>
                </a:lnTo>
                <a:lnTo>
                  <a:pt x="971" y="260"/>
                </a:lnTo>
                <a:lnTo>
                  <a:pt x="984" y="260"/>
                </a:lnTo>
                <a:lnTo>
                  <a:pt x="1032" y="224"/>
                </a:lnTo>
                <a:lnTo>
                  <a:pt x="1107" y="295"/>
                </a:lnTo>
                <a:lnTo>
                  <a:pt x="1245" y="299"/>
                </a:lnTo>
                <a:lnTo>
                  <a:pt x="1316" y="260"/>
                </a:lnTo>
                <a:lnTo>
                  <a:pt x="1342" y="163"/>
                </a:lnTo>
                <a:lnTo>
                  <a:pt x="1466" y="136"/>
                </a:lnTo>
                <a:lnTo>
                  <a:pt x="1536" y="180"/>
                </a:lnTo>
                <a:lnTo>
                  <a:pt x="1532" y="260"/>
                </a:lnTo>
                <a:lnTo>
                  <a:pt x="1651" y="163"/>
                </a:lnTo>
                <a:lnTo>
                  <a:pt x="1571" y="180"/>
                </a:lnTo>
                <a:lnTo>
                  <a:pt x="1593" y="158"/>
                </a:lnTo>
                <a:lnTo>
                  <a:pt x="1510" y="132"/>
                </a:lnTo>
                <a:lnTo>
                  <a:pt x="1655" y="83"/>
                </a:lnTo>
                <a:lnTo>
                  <a:pt x="1536" y="30"/>
                </a:lnTo>
                <a:lnTo>
                  <a:pt x="1461" y="83"/>
                </a:lnTo>
                <a:lnTo>
                  <a:pt x="1501" y="4"/>
                </a:lnTo>
                <a:lnTo>
                  <a:pt x="1435" y="0"/>
                </a:lnTo>
                <a:lnTo>
                  <a:pt x="1391" y="83"/>
                </a:lnTo>
                <a:lnTo>
                  <a:pt x="1386" y="92"/>
                </a:lnTo>
                <a:lnTo>
                  <a:pt x="1386" y="22"/>
                </a:lnTo>
                <a:lnTo>
                  <a:pt x="1280" y="136"/>
                </a:lnTo>
                <a:lnTo>
                  <a:pt x="1324" y="30"/>
                </a:lnTo>
                <a:lnTo>
                  <a:pt x="1280" y="13"/>
                </a:lnTo>
                <a:lnTo>
                  <a:pt x="1160" y="136"/>
                </a:lnTo>
                <a:lnTo>
                  <a:pt x="1054" y="97"/>
                </a:lnTo>
                <a:lnTo>
                  <a:pt x="1085" y="180"/>
                </a:lnTo>
                <a:lnTo>
                  <a:pt x="1032" y="136"/>
                </a:lnTo>
                <a:lnTo>
                  <a:pt x="971" y="224"/>
                </a:lnTo>
                <a:lnTo>
                  <a:pt x="975" y="158"/>
                </a:lnTo>
                <a:lnTo>
                  <a:pt x="931" y="216"/>
                </a:lnTo>
                <a:lnTo>
                  <a:pt x="891" y="167"/>
                </a:lnTo>
                <a:lnTo>
                  <a:pt x="922" y="233"/>
                </a:lnTo>
                <a:lnTo>
                  <a:pt x="834" y="207"/>
                </a:lnTo>
                <a:lnTo>
                  <a:pt x="807" y="295"/>
                </a:lnTo>
                <a:lnTo>
                  <a:pt x="733" y="330"/>
                </a:lnTo>
                <a:lnTo>
                  <a:pt x="799" y="335"/>
                </a:lnTo>
                <a:lnTo>
                  <a:pt x="671" y="379"/>
                </a:lnTo>
                <a:lnTo>
                  <a:pt x="653" y="445"/>
                </a:lnTo>
                <a:lnTo>
                  <a:pt x="693" y="445"/>
                </a:lnTo>
                <a:lnTo>
                  <a:pt x="521" y="546"/>
                </a:lnTo>
                <a:lnTo>
                  <a:pt x="468" y="727"/>
                </a:lnTo>
                <a:lnTo>
                  <a:pt x="291" y="869"/>
                </a:lnTo>
                <a:lnTo>
                  <a:pt x="326" y="909"/>
                </a:lnTo>
                <a:lnTo>
                  <a:pt x="405" y="887"/>
                </a:lnTo>
                <a:lnTo>
                  <a:pt x="220" y="927"/>
                </a:lnTo>
                <a:lnTo>
                  <a:pt x="132" y="988"/>
                </a:lnTo>
                <a:lnTo>
                  <a:pt x="149" y="1019"/>
                </a:lnTo>
                <a:lnTo>
                  <a:pt x="83" y="1019"/>
                </a:lnTo>
                <a:lnTo>
                  <a:pt x="88" y="1063"/>
                </a:lnTo>
                <a:lnTo>
                  <a:pt x="4" y="1063"/>
                </a:lnTo>
                <a:lnTo>
                  <a:pt x="83" y="1090"/>
                </a:lnTo>
                <a:lnTo>
                  <a:pt x="0" y="112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2463840" y="3833640"/>
            <a:ext cx="130680" cy="68760"/>
          </a:xfrm>
          <a:custGeom>
            <a:avLst/>
            <a:gdLst/>
            <a:ahLst/>
            <a:rect l="0" t="0" r="r" b="b"/>
            <a:pathLst>
              <a:path fill="none" w="363" h="191">
                <a:moveTo>
                  <a:pt x="0" y="102"/>
                </a:moveTo>
                <a:lnTo>
                  <a:pt x="26" y="0"/>
                </a:lnTo>
                <a:lnTo>
                  <a:pt x="102" y="62"/>
                </a:lnTo>
                <a:lnTo>
                  <a:pt x="239" y="4"/>
                </a:lnTo>
                <a:lnTo>
                  <a:pt x="363" y="80"/>
                </a:lnTo>
                <a:lnTo>
                  <a:pt x="319" y="182"/>
                </a:lnTo>
                <a:lnTo>
                  <a:pt x="315" y="93"/>
                </a:lnTo>
                <a:lnTo>
                  <a:pt x="239" y="62"/>
                </a:lnTo>
                <a:lnTo>
                  <a:pt x="168" y="120"/>
                </a:lnTo>
                <a:lnTo>
                  <a:pt x="186" y="156"/>
                </a:lnTo>
                <a:lnTo>
                  <a:pt x="155" y="191"/>
                </a:lnTo>
                <a:lnTo>
                  <a:pt x="0" y="102"/>
                </a:lnTo>
              </a:path>
            </a:pathLst>
          </a:custGeom>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269" name=""/>
          <p:cNvSpPr/>
          <p:nvPr/>
        </p:nvSpPr>
        <p:spPr>
          <a:xfrm>
            <a:off x="7616880" y="4151160"/>
            <a:ext cx="227520" cy="201960"/>
          </a:xfrm>
          <a:custGeom>
            <a:avLst/>
            <a:gdLst/>
            <a:ahLst/>
            <a:rect l="0" t="0" r="r" b="b"/>
            <a:pathLst>
              <a:path fill="none" w="632" h="561">
                <a:moveTo>
                  <a:pt x="0" y="0"/>
                </a:moveTo>
                <a:lnTo>
                  <a:pt x="4" y="468"/>
                </a:lnTo>
                <a:lnTo>
                  <a:pt x="110" y="481"/>
                </a:lnTo>
                <a:lnTo>
                  <a:pt x="208" y="349"/>
                </a:lnTo>
                <a:lnTo>
                  <a:pt x="327" y="406"/>
                </a:lnTo>
                <a:lnTo>
                  <a:pt x="433" y="530"/>
                </a:lnTo>
                <a:lnTo>
                  <a:pt x="632" y="561"/>
                </a:lnTo>
                <a:lnTo>
                  <a:pt x="406" y="349"/>
                </a:lnTo>
                <a:lnTo>
                  <a:pt x="419" y="246"/>
                </a:lnTo>
                <a:lnTo>
                  <a:pt x="314" y="220"/>
                </a:lnTo>
                <a:lnTo>
                  <a:pt x="208" y="83"/>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7781760" y="4194000"/>
            <a:ext cx="97200" cy="52920"/>
          </a:xfrm>
          <a:custGeom>
            <a:avLst/>
            <a:gdLst/>
            <a:ahLst/>
            <a:rect l="0" t="0" r="r" b="b"/>
            <a:pathLst>
              <a:path fill="none" w="270" h="147">
                <a:moveTo>
                  <a:pt x="0" y="102"/>
                </a:moveTo>
                <a:lnTo>
                  <a:pt x="159" y="147"/>
                </a:lnTo>
                <a:lnTo>
                  <a:pt x="270" y="45"/>
                </a:lnTo>
                <a:lnTo>
                  <a:pt x="222" y="0"/>
                </a:lnTo>
                <a:lnTo>
                  <a:pt x="190" y="58"/>
                </a:lnTo>
                <a:lnTo>
                  <a:pt x="0" y="102"/>
                </a:lnTo>
              </a:path>
            </a:pathLst>
          </a:custGeom>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271" name=""/>
          <p:cNvSpPr/>
          <p:nvPr/>
        </p:nvSpPr>
        <p:spPr>
          <a:xfrm>
            <a:off x="7839000" y="4152960"/>
            <a:ext cx="52920" cy="52920"/>
          </a:xfrm>
          <a:custGeom>
            <a:avLst/>
            <a:gdLst/>
            <a:ahLst/>
            <a:rect l="0" t="0" r="r" b="b"/>
            <a:pathLst>
              <a:path fill="none" w="147" h="147">
                <a:moveTo>
                  <a:pt x="0" y="0"/>
                </a:moveTo>
                <a:lnTo>
                  <a:pt x="106" y="71"/>
                </a:lnTo>
                <a:lnTo>
                  <a:pt x="147" y="147"/>
                </a:lnTo>
                <a:lnTo>
                  <a:pt x="147" y="89"/>
                </a:lnTo>
                <a:lnTo>
                  <a:pt x="0" y="0"/>
                </a:lnTo>
              </a:path>
            </a:pathLst>
          </a:custGeom>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272" name=""/>
          <p:cNvSpPr/>
          <p:nvPr/>
        </p:nvSpPr>
        <p:spPr>
          <a:xfrm>
            <a:off x="2932200" y="4586400"/>
            <a:ext cx="187560" cy="217800"/>
          </a:xfrm>
          <a:custGeom>
            <a:avLst/>
            <a:gdLst/>
            <a:ahLst/>
            <a:rect l="0" t="0" r="r" b="b"/>
            <a:pathLst>
              <a:path fill="none" w="521" h="605">
                <a:moveTo>
                  <a:pt x="0" y="224"/>
                </a:moveTo>
                <a:lnTo>
                  <a:pt x="39" y="30"/>
                </a:lnTo>
                <a:lnTo>
                  <a:pt x="229" y="0"/>
                </a:lnTo>
                <a:lnTo>
                  <a:pt x="296" y="61"/>
                </a:lnTo>
                <a:lnTo>
                  <a:pt x="300" y="202"/>
                </a:lnTo>
                <a:lnTo>
                  <a:pt x="433" y="224"/>
                </a:lnTo>
                <a:lnTo>
                  <a:pt x="455" y="331"/>
                </a:lnTo>
                <a:lnTo>
                  <a:pt x="521" y="353"/>
                </a:lnTo>
                <a:lnTo>
                  <a:pt x="512" y="477"/>
                </a:lnTo>
                <a:lnTo>
                  <a:pt x="446" y="605"/>
                </a:lnTo>
                <a:lnTo>
                  <a:pt x="265" y="596"/>
                </a:lnTo>
                <a:lnTo>
                  <a:pt x="309" y="455"/>
                </a:lnTo>
                <a:lnTo>
                  <a:pt x="0" y="22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2503440" y="4087800"/>
            <a:ext cx="287640" cy="466920"/>
          </a:xfrm>
          <a:custGeom>
            <a:avLst/>
            <a:gdLst/>
            <a:ahLst/>
            <a:rect l="0" t="0" r="r" b="b"/>
            <a:pathLst>
              <a:path fill="none" w="799" h="1297">
                <a:moveTo>
                  <a:pt x="0" y="313"/>
                </a:moveTo>
                <a:lnTo>
                  <a:pt x="8" y="410"/>
                </a:lnTo>
                <a:lnTo>
                  <a:pt x="158" y="590"/>
                </a:lnTo>
                <a:lnTo>
                  <a:pt x="313" y="1024"/>
                </a:lnTo>
                <a:lnTo>
                  <a:pt x="680" y="1297"/>
                </a:lnTo>
                <a:lnTo>
                  <a:pt x="746" y="1253"/>
                </a:lnTo>
                <a:lnTo>
                  <a:pt x="785" y="1165"/>
                </a:lnTo>
                <a:lnTo>
                  <a:pt x="724" y="1125"/>
                </a:lnTo>
                <a:lnTo>
                  <a:pt x="759" y="1099"/>
                </a:lnTo>
                <a:lnTo>
                  <a:pt x="799" y="882"/>
                </a:lnTo>
                <a:lnTo>
                  <a:pt x="741" y="777"/>
                </a:lnTo>
                <a:lnTo>
                  <a:pt x="680" y="777"/>
                </a:lnTo>
                <a:lnTo>
                  <a:pt x="680" y="662"/>
                </a:lnTo>
                <a:lnTo>
                  <a:pt x="618" y="710"/>
                </a:lnTo>
                <a:lnTo>
                  <a:pt x="525" y="671"/>
                </a:lnTo>
                <a:lnTo>
                  <a:pt x="477" y="533"/>
                </a:lnTo>
                <a:lnTo>
                  <a:pt x="569" y="361"/>
                </a:lnTo>
                <a:lnTo>
                  <a:pt x="724" y="291"/>
                </a:lnTo>
                <a:lnTo>
                  <a:pt x="680" y="260"/>
                </a:lnTo>
                <a:lnTo>
                  <a:pt x="706" y="176"/>
                </a:lnTo>
                <a:lnTo>
                  <a:pt x="521" y="158"/>
                </a:lnTo>
                <a:lnTo>
                  <a:pt x="379" y="0"/>
                </a:lnTo>
                <a:lnTo>
                  <a:pt x="352" y="123"/>
                </a:lnTo>
                <a:lnTo>
                  <a:pt x="202" y="224"/>
                </a:lnTo>
                <a:lnTo>
                  <a:pt x="136" y="339"/>
                </a:lnTo>
                <a:lnTo>
                  <a:pt x="57" y="321"/>
                </a:lnTo>
                <a:lnTo>
                  <a:pt x="66" y="251"/>
                </a:lnTo>
                <a:lnTo>
                  <a:pt x="0" y="31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4697280" y="2511360"/>
            <a:ext cx="228960" cy="197280"/>
          </a:xfrm>
          <a:custGeom>
            <a:avLst/>
            <a:gdLst/>
            <a:ahLst/>
            <a:rect l="0" t="0" r="r" b="b"/>
            <a:pathLst>
              <a:path fill="none" w="636" h="548">
                <a:moveTo>
                  <a:pt x="0" y="101"/>
                </a:moveTo>
                <a:lnTo>
                  <a:pt x="30" y="389"/>
                </a:lnTo>
                <a:lnTo>
                  <a:pt x="367" y="526"/>
                </a:lnTo>
                <a:lnTo>
                  <a:pt x="525" y="548"/>
                </a:lnTo>
                <a:lnTo>
                  <a:pt x="636" y="406"/>
                </a:lnTo>
                <a:lnTo>
                  <a:pt x="583" y="239"/>
                </a:lnTo>
                <a:lnTo>
                  <a:pt x="618" y="199"/>
                </a:lnTo>
                <a:lnTo>
                  <a:pt x="587" y="70"/>
                </a:lnTo>
                <a:lnTo>
                  <a:pt x="349" y="30"/>
                </a:lnTo>
                <a:lnTo>
                  <a:pt x="194" y="0"/>
                </a:lnTo>
                <a:lnTo>
                  <a:pt x="0" y="10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4162320" y="2940120"/>
            <a:ext cx="71640" cy="147960"/>
          </a:xfrm>
          <a:custGeom>
            <a:avLst/>
            <a:gdLst/>
            <a:ahLst/>
            <a:rect l="0" t="0" r="r" b="b"/>
            <a:pathLst>
              <a:path fill="none" w="199" h="411">
                <a:moveTo>
                  <a:pt x="0" y="269"/>
                </a:moveTo>
                <a:lnTo>
                  <a:pt x="30" y="0"/>
                </a:lnTo>
                <a:lnTo>
                  <a:pt x="199" y="26"/>
                </a:lnTo>
                <a:lnTo>
                  <a:pt x="120" y="189"/>
                </a:lnTo>
                <a:lnTo>
                  <a:pt x="120" y="397"/>
                </a:lnTo>
                <a:lnTo>
                  <a:pt x="30" y="411"/>
                </a:lnTo>
                <a:lnTo>
                  <a:pt x="39" y="274"/>
                </a:lnTo>
                <a:lnTo>
                  <a:pt x="0" y="26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4836960" y="2735280"/>
            <a:ext cx="219600" cy="146520"/>
          </a:xfrm>
          <a:custGeom>
            <a:avLst/>
            <a:gdLst/>
            <a:ahLst/>
            <a:rect l="0" t="0" r="r" b="b"/>
            <a:pathLst>
              <a:path fill="none" w="610" h="407">
                <a:moveTo>
                  <a:pt x="0" y="199"/>
                </a:moveTo>
                <a:lnTo>
                  <a:pt x="159" y="363"/>
                </a:lnTo>
                <a:lnTo>
                  <a:pt x="535" y="407"/>
                </a:lnTo>
                <a:lnTo>
                  <a:pt x="610" y="265"/>
                </a:lnTo>
                <a:lnTo>
                  <a:pt x="513" y="256"/>
                </a:lnTo>
                <a:lnTo>
                  <a:pt x="504" y="133"/>
                </a:lnTo>
                <a:lnTo>
                  <a:pt x="411" y="0"/>
                </a:lnTo>
                <a:lnTo>
                  <a:pt x="159" y="30"/>
                </a:lnTo>
                <a:lnTo>
                  <a:pt x="0" y="19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5167440" y="3225960"/>
            <a:ext cx="484560" cy="457560"/>
          </a:xfrm>
          <a:custGeom>
            <a:avLst/>
            <a:gdLst/>
            <a:ahLst/>
            <a:rect l="0" t="0" r="r" b="b"/>
            <a:pathLst>
              <a:path fill="none" w="1346" h="1271">
                <a:moveTo>
                  <a:pt x="0" y="339"/>
                </a:moveTo>
                <a:lnTo>
                  <a:pt x="17" y="220"/>
                </a:lnTo>
                <a:lnTo>
                  <a:pt x="88" y="242"/>
                </a:lnTo>
                <a:lnTo>
                  <a:pt x="176" y="180"/>
                </a:lnTo>
                <a:lnTo>
                  <a:pt x="211" y="132"/>
                </a:lnTo>
                <a:lnTo>
                  <a:pt x="149" y="57"/>
                </a:lnTo>
                <a:lnTo>
                  <a:pt x="286" y="0"/>
                </a:lnTo>
                <a:lnTo>
                  <a:pt x="583" y="149"/>
                </a:lnTo>
                <a:lnTo>
                  <a:pt x="583" y="202"/>
                </a:lnTo>
                <a:lnTo>
                  <a:pt x="653" y="233"/>
                </a:lnTo>
                <a:lnTo>
                  <a:pt x="706" y="273"/>
                </a:lnTo>
                <a:lnTo>
                  <a:pt x="759" y="242"/>
                </a:lnTo>
                <a:lnTo>
                  <a:pt x="882" y="291"/>
                </a:lnTo>
                <a:lnTo>
                  <a:pt x="1033" y="568"/>
                </a:lnTo>
                <a:lnTo>
                  <a:pt x="1051" y="595"/>
                </a:lnTo>
                <a:lnTo>
                  <a:pt x="1117" y="706"/>
                </a:lnTo>
                <a:lnTo>
                  <a:pt x="1316" y="741"/>
                </a:lnTo>
                <a:lnTo>
                  <a:pt x="1346" y="785"/>
                </a:lnTo>
                <a:lnTo>
                  <a:pt x="1298" y="935"/>
                </a:lnTo>
                <a:lnTo>
                  <a:pt x="1117" y="1015"/>
                </a:lnTo>
                <a:lnTo>
                  <a:pt x="909" y="1063"/>
                </a:lnTo>
                <a:lnTo>
                  <a:pt x="750" y="1271"/>
                </a:lnTo>
                <a:lnTo>
                  <a:pt x="750" y="1191"/>
                </a:lnTo>
                <a:lnTo>
                  <a:pt x="627" y="1138"/>
                </a:lnTo>
                <a:lnTo>
                  <a:pt x="508" y="1200"/>
                </a:lnTo>
                <a:lnTo>
                  <a:pt x="397" y="975"/>
                </a:lnTo>
                <a:lnTo>
                  <a:pt x="299" y="891"/>
                </a:lnTo>
                <a:lnTo>
                  <a:pt x="242" y="658"/>
                </a:lnTo>
                <a:lnTo>
                  <a:pt x="0" y="33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4822920" y="1514520"/>
            <a:ext cx="3926160" cy="1424520"/>
          </a:xfrm>
          <a:custGeom>
            <a:avLst/>
            <a:gdLst/>
            <a:ahLst/>
            <a:rect l="0" t="0" r="r" b="b"/>
            <a:pathLst>
              <a:path fill="none" w="10906" h="3957">
                <a:moveTo>
                  <a:pt x="0" y="2801"/>
                </a:moveTo>
                <a:lnTo>
                  <a:pt x="88" y="2717"/>
                </a:lnTo>
                <a:lnTo>
                  <a:pt x="52" y="2748"/>
                </a:lnTo>
                <a:lnTo>
                  <a:pt x="101" y="2765"/>
                </a:lnTo>
                <a:lnTo>
                  <a:pt x="88" y="2571"/>
                </a:lnTo>
                <a:lnTo>
                  <a:pt x="123" y="2492"/>
                </a:lnTo>
                <a:lnTo>
                  <a:pt x="176" y="2483"/>
                </a:lnTo>
                <a:lnTo>
                  <a:pt x="282" y="2567"/>
                </a:lnTo>
                <a:lnTo>
                  <a:pt x="308" y="2404"/>
                </a:lnTo>
                <a:lnTo>
                  <a:pt x="264" y="2408"/>
                </a:lnTo>
                <a:lnTo>
                  <a:pt x="238" y="2311"/>
                </a:lnTo>
                <a:lnTo>
                  <a:pt x="679" y="2241"/>
                </a:lnTo>
                <a:lnTo>
                  <a:pt x="573" y="2205"/>
                </a:lnTo>
                <a:lnTo>
                  <a:pt x="573" y="2161"/>
                </a:lnTo>
                <a:lnTo>
                  <a:pt x="515" y="2174"/>
                </a:lnTo>
                <a:lnTo>
                  <a:pt x="749" y="1950"/>
                </a:lnTo>
                <a:lnTo>
                  <a:pt x="648" y="1698"/>
                </a:lnTo>
                <a:lnTo>
                  <a:pt x="674" y="1584"/>
                </a:lnTo>
                <a:lnTo>
                  <a:pt x="608" y="1456"/>
                </a:lnTo>
                <a:lnTo>
                  <a:pt x="661" y="1381"/>
                </a:lnTo>
                <a:lnTo>
                  <a:pt x="573" y="1284"/>
                </a:lnTo>
                <a:lnTo>
                  <a:pt x="599" y="1196"/>
                </a:lnTo>
                <a:lnTo>
                  <a:pt x="714" y="1099"/>
                </a:lnTo>
                <a:lnTo>
                  <a:pt x="784" y="1094"/>
                </a:lnTo>
                <a:lnTo>
                  <a:pt x="855" y="1107"/>
                </a:lnTo>
                <a:lnTo>
                  <a:pt x="789" y="1129"/>
                </a:lnTo>
                <a:lnTo>
                  <a:pt x="846" y="1160"/>
                </a:lnTo>
                <a:lnTo>
                  <a:pt x="1040" y="1178"/>
                </a:lnTo>
                <a:lnTo>
                  <a:pt x="1367" y="1376"/>
                </a:lnTo>
                <a:lnTo>
                  <a:pt x="1371" y="1478"/>
                </a:lnTo>
                <a:lnTo>
                  <a:pt x="1234" y="1553"/>
                </a:lnTo>
                <a:lnTo>
                  <a:pt x="784" y="1438"/>
                </a:lnTo>
                <a:lnTo>
                  <a:pt x="965" y="1579"/>
                </a:lnTo>
                <a:lnTo>
                  <a:pt x="965" y="1747"/>
                </a:lnTo>
                <a:lnTo>
                  <a:pt x="1146" y="1822"/>
                </a:lnTo>
                <a:lnTo>
                  <a:pt x="1190" y="1808"/>
                </a:lnTo>
                <a:lnTo>
                  <a:pt x="1159" y="1747"/>
                </a:lnTo>
                <a:lnTo>
                  <a:pt x="1084" y="1720"/>
                </a:lnTo>
                <a:lnTo>
                  <a:pt x="1106" y="1667"/>
                </a:lnTo>
                <a:lnTo>
                  <a:pt x="1190" y="1729"/>
                </a:lnTo>
                <a:lnTo>
                  <a:pt x="1362" y="1747"/>
                </a:lnTo>
                <a:lnTo>
                  <a:pt x="1278" y="1610"/>
                </a:lnTo>
                <a:lnTo>
                  <a:pt x="1450" y="1509"/>
                </a:lnTo>
                <a:lnTo>
                  <a:pt x="1561" y="1579"/>
                </a:lnTo>
                <a:lnTo>
                  <a:pt x="1561" y="1288"/>
                </a:lnTo>
                <a:lnTo>
                  <a:pt x="1516" y="1240"/>
                </a:lnTo>
                <a:lnTo>
                  <a:pt x="1706" y="1310"/>
                </a:lnTo>
                <a:lnTo>
                  <a:pt x="1719" y="1341"/>
                </a:lnTo>
                <a:lnTo>
                  <a:pt x="1618" y="1394"/>
                </a:lnTo>
                <a:lnTo>
                  <a:pt x="1719" y="1491"/>
                </a:lnTo>
                <a:lnTo>
                  <a:pt x="1816" y="1381"/>
                </a:lnTo>
                <a:lnTo>
                  <a:pt x="2182" y="1213"/>
                </a:lnTo>
                <a:lnTo>
                  <a:pt x="2244" y="1204"/>
                </a:lnTo>
                <a:lnTo>
                  <a:pt x="2182" y="1222"/>
                </a:lnTo>
                <a:lnTo>
                  <a:pt x="2248" y="1310"/>
                </a:lnTo>
                <a:lnTo>
                  <a:pt x="2504" y="1204"/>
                </a:lnTo>
                <a:lnTo>
                  <a:pt x="2566" y="1284"/>
                </a:lnTo>
                <a:lnTo>
                  <a:pt x="2632" y="1218"/>
                </a:lnTo>
                <a:lnTo>
                  <a:pt x="2601" y="1121"/>
                </a:lnTo>
                <a:lnTo>
                  <a:pt x="2637" y="1099"/>
                </a:lnTo>
                <a:lnTo>
                  <a:pt x="2835" y="1138"/>
                </a:lnTo>
                <a:lnTo>
                  <a:pt x="3108" y="1301"/>
                </a:lnTo>
                <a:lnTo>
                  <a:pt x="3157" y="1222"/>
                </a:lnTo>
                <a:lnTo>
                  <a:pt x="3100" y="1138"/>
                </a:lnTo>
                <a:lnTo>
                  <a:pt x="3020" y="1121"/>
                </a:lnTo>
                <a:lnTo>
                  <a:pt x="3051" y="987"/>
                </a:lnTo>
                <a:lnTo>
                  <a:pt x="2998" y="974"/>
                </a:lnTo>
                <a:lnTo>
                  <a:pt x="3011" y="908"/>
                </a:lnTo>
                <a:lnTo>
                  <a:pt x="3117" y="846"/>
                </a:lnTo>
                <a:lnTo>
                  <a:pt x="3175" y="687"/>
                </a:lnTo>
                <a:lnTo>
                  <a:pt x="3311" y="687"/>
                </a:lnTo>
                <a:lnTo>
                  <a:pt x="3382" y="714"/>
                </a:lnTo>
                <a:lnTo>
                  <a:pt x="3333" y="881"/>
                </a:lnTo>
                <a:lnTo>
                  <a:pt x="3386" y="965"/>
                </a:lnTo>
                <a:lnTo>
                  <a:pt x="3364" y="1196"/>
                </a:lnTo>
                <a:lnTo>
                  <a:pt x="3439" y="1284"/>
                </a:lnTo>
                <a:lnTo>
                  <a:pt x="3408" y="1359"/>
                </a:lnTo>
                <a:lnTo>
                  <a:pt x="3302" y="1416"/>
                </a:lnTo>
                <a:lnTo>
                  <a:pt x="3342" y="1456"/>
                </a:lnTo>
                <a:lnTo>
                  <a:pt x="3201" y="1482"/>
                </a:lnTo>
                <a:lnTo>
                  <a:pt x="3351" y="1539"/>
                </a:lnTo>
                <a:lnTo>
                  <a:pt x="3514" y="1359"/>
                </a:lnTo>
                <a:lnTo>
                  <a:pt x="3492" y="1240"/>
                </a:lnTo>
                <a:lnTo>
                  <a:pt x="3554" y="1222"/>
                </a:lnTo>
                <a:lnTo>
                  <a:pt x="3638" y="1204"/>
                </a:lnTo>
                <a:lnTo>
                  <a:pt x="3682" y="1275"/>
                </a:lnTo>
                <a:lnTo>
                  <a:pt x="3677" y="1359"/>
                </a:lnTo>
                <a:lnTo>
                  <a:pt x="3787" y="1381"/>
                </a:lnTo>
                <a:lnTo>
                  <a:pt x="3704" y="1350"/>
                </a:lnTo>
                <a:lnTo>
                  <a:pt x="3735" y="1301"/>
                </a:lnTo>
                <a:lnTo>
                  <a:pt x="3708" y="1222"/>
                </a:lnTo>
                <a:lnTo>
                  <a:pt x="3461" y="1178"/>
                </a:lnTo>
                <a:lnTo>
                  <a:pt x="3492" y="997"/>
                </a:lnTo>
                <a:lnTo>
                  <a:pt x="3408" y="881"/>
                </a:lnTo>
                <a:lnTo>
                  <a:pt x="3536" y="776"/>
                </a:lnTo>
                <a:lnTo>
                  <a:pt x="3514" y="705"/>
                </a:lnTo>
                <a:lnTo>
                  <a:pt x="3571" y="749"/>
                </a:lnTo>
                <a:lnTo>
                  <a:pt x="3549" y="886"/>
                </a:lnTo>
                <a:lnTo>
                  <a:pt x="3585" y="908"/>
                </a:lnTo>
                <a:lnTo>
                  <a:pt x="3761" y="956"/>
                </a:lnTo>
                <a:lnTo>
                  <a:pt x="3602" y="829"/>
                </a:lnTo>
                <a:lnTo>
                  <a:pt x="3712" y="837"/>
                </a:lnTo>
                <a:lnTo>
                  <a:pt x="3686" y="789"/>
                </a:lnTo>
                <a:lnTo>
                  <a:pt x="3761" y="771"/>
                </a:lnTo>
                <a:lnTo>
                  <a:pt x="4061" y="864"/>
                </a:lnTo>
                <a:lnTo>
                  <a:pt x="3999" y="926"/>
                </a:lnTo>
                <a:lnTo>
                  <a:pt x="3995" y="1019"/>
                </a:lnTo>
                <a:lnTo>
                  <a:pt x="4056" y="1076"/>
                </a:lnTo>
                <a:lnTo>
                  <a:pt x="4092" y="864"/>
                </a:lnTo>
                <a:lnTo>
                  <a:pt x="3924" y="754"/>
                </a:lnTo>
                <a:lnTo>
                  <a:pt x="3889" y="608"/>
                </a:lnTo>
                <a:lnTo>
                  <a:pt x="4277" y="560"/>
                </a:lnTo>
                <a:lnTo>
                  <a:pt x="4228" y="423"/>
                </a:lnTo>
                <a:lnTo>
                  <a:pt x="4277" y="454"/>
                </a:lnTo>
                <a:lnTo>
                  <a:pt x="4343" y="401"/>
                </a:lnTo>
                <a:lnTo>
                  <a:pt x="4303" y="379"/>
                </a:lnTo>
                <a:lnTo>
                  <a:pt x="4705" y="273"/>
                </a:lnTo>
                <a:lnTo>
                  <a:pt x="4678" y="251"/>
                </a:lnTo>
                <a:lnTo>
                  <a:pt x="4863" y="233"/>
                </a:lnTo>
                <a:lnTo>
                  <a:pt x="4859" y="273"/>
                </a:lnTo>
                <a:lnTo>
                  <a:pt x="4903" y="273"/>
                </a:lnTo>
                <a:lnTo>
                  <a:pt x="5044" y="220"/>
                </a:lnTo>
                <a:lnTo>
                  <a:pt x="5110" y="251"/>
                </a:lnTo>
                <a:lnTo>
                  <a:pt x="5044" y="194"/>
                </a:lnTo>
                <a:lnTo>
                  <a:pt x="5207" y="180"/>
                </a:lnTo>
                <a:lnTo>
                  <a:pt x="5207" y="101"/>
                </a:lnTo>
                <a:lnTo>
                  <a:pt x="5388" y="0"/>
                </a:lnTo>
                <a:lnTo>
                  <a:pt x="5521" y="61"/>
                </a:lnTo>
                <a:lnTo>
                  <a:pt x="5419" y="119"/>
                </a:lnTo>
                <a:lnTo>
                  <a:pt x="5601" y="119"/>
                </a:lnTo>
                <a:lnTo>
                  <a:pt x="5521" y="194"/>
                </a:lnTo>
                <a:lnTo>
                  <a:pt x="5835" y="158"/>
                </a:lnTo>
                <a:lnTo>
                  <a:pt x="6011" y="273"/>
                </a:lnTo>
                <a:lnTo>
                  <a:pt x="5989" y="313"/>
                </a:lnTo>
                <a:lnTo>
                  <a:pt x="5932" y="291"/>
                </a:lnTo>
                <a:lnTo>
                  <a:pt x="6007" y="326"/>
                </a:lnTo>
                <a:lnTo>
                  <a:pt x="5962" y="401"/>
                </a:lnTo>
                <a:lnTo>
                  <a:pt x="5388" y="749"/>
                </a:lnTo>
                <a:lnTo>
                  <a:pt x="5570" y="696"/>
                </a:lnTo>
                <a:lnTo>
                  <a:pt x="5544" y="648"/>
                </a:lnTo>
                <a:lnTo>
                  <a:pt x="5826" y="590"/>
                </a:lnTo>
                <a:lnTo>
                  <a:pt x="5751" y="599"/>
                </a:lnTo>
                <a:lnTo>
                  <a:pt x="5764" y="537"/>
                </a:lnTo>
                <a:lnTo>
                  <a:pt x="5932" y="590"/>
                </a:lnTo>
                <a:lnTo>
                  <a:pt x="5954" y="537"/>
                </a:lnTo>
                <a:lnTo>
                  <a:pt x="5989" y="648"/>
                </a:lnTo>
                <a:lnTo>
                  <a:pt x="6068" y="661"/>
                </a:lnTo>
                <a:lnTo>
                  <a:pt x="5993" y="608"/>
                </a:lnTo>
                <a:lnTo>
                  <a:pt x="6143" y="590"/>
                </a:lnTo>
                <a:lnTo>
                  <a:pt x="6333" y="608"/>
                </a:lnTo>
                <a:lnTo>
                  <a:pt x="6315" y="648"/>
                </a:lnTo>
                <a:lnTo>
                  <a:pt x="6478" y="687"/>
                </a:lnTo>
                <a:lnTo>
                  <a:pt x="6615" y="683"/>
                </a:lnTo>
                <a:lnTo>
                  <a:pt x="6619" y="568"/>
                </a:lnTo>
                <a:lnTo>
                  <a:pt x="6664" y="564"/>
                </a:lnTo>
                <a:lnTo>
                  <a:pt x="7016" y="683"/>
                </a:lnTo>
                <a:lnTo>
                  <a:pt x="6968" y="864"/>
                </a:lnTo>
                <a:lnTo>
                  <a:pt x="7135" y="987"/>
                </a:lnTo>
                <a:lnTo>
                  <a:pt x="7224" y="815"/>
                </a:lnTo>
                <a:lnTo>
                  <a:pt x="7285" y="886"/>
                </a:lnTo>
                <a:lnTo>
                  <a:pt x="7396" y="864"/>
                </a:lnTo>
                <a:lnTo>
                  <a:pt x="7554" y="926"/>
                </a:lnTo>
                <a:lnTo>
                  <a:pt x="7682" y="886"/>
                </a:lnTo>
                <a:lnTo>
                  <a:pt x="7665" y="815"/>
                </a:lnTo>
                <a:lnTo>
                  <a:pt x="7762" y="696"/>
                </a:lnTo>
                <a:lnTo>
                  <a:pt x="8295" y="789"/>
                </a:lnTo>
                <a:lnTo>
                  <a:pt x="8326" y="837"/>
                </a:lnTo>
                <a:lnTo>
                  <a:pt x="8256" y="864"/>
                </a:lnTo>
                <a:lnTo>
                  <a:pt x="8432" y="886"/>
                </a:lnTo>
                <a:lnTo>
                  <a:pt x="8489" y="974"/>
                </a:lnTo>
                <a:lnTo>
                  <a:pt x="8891" y="956"/>
                </a:lnTo>
                <a:lnTo>
                  <a:pt x="8970" y="1019"/>
                </a:lnTo>
                <a:lnTo>
                  <a:pt x="8939" y="1099"/>
                </a:lnTo>
                <a:lnTo>
                  <a:pt x="9058" y="1160"/>
                </a:lnTo>
                <a:lnTo>
                  <a:pt x="9120" y="1121"/>
                </a:lnTo>
                <a:lnTo>
                  <a:pt x="9398" y="1147"/>
                </a:lnTo>
                <a:lnTo>
                  <a:pt x="9455" y="1099"/>
                </a:lnTo>
                <a:lnTo>
                  <a:pt x="9490" y="1173"/>
                </a:lnTo>
                <a:lnTo>
                  <a:pt x="9605" y="1235"/>
                </a:lnTo>
                <a:lnTo>
                  <a:pt x="9667" y="1196"/>
                </a:lnTo>
                <a:lnTo>
                  <a:pt x="9605" y="1121"/>
                </a:lnTo>
                <a:lnTo>
                  <a:pt x="9645" y="1076"/>
                </a:lnTo>
                <a:lnTo>
                  <a:pt x="10143" y="1151"/>
                </a:lnTo>
                <a:lnTo>
                  <a:pt x="10465" y="1359"/>
                </a:lnTo>
                <a:lnTo>
                  <a:pt x="10531" y="1359"/>
                </a:lnTo>
                <a:lnTo>
                  <a:pt x="10615" y="1531"/>
                </a:lnTo>
                <a:lnTo>
                  <a:pt x="10584" y="1438"/>
                </a:lnTo>
                <a:lnTo>
                  <a:pt x="10637" y="1429"/>
                </a:lnTo>
                <a:lnTo>
                  <a:pt x="10681" y="1465"/>
                </a:lnTo>
                <a:lnTo>
                  <a:pt x="10765" y="1456"/>
                </a:lnTo>
                <a:lnTo>
                  <a:pt x="10906" y="1553"/>
                </a:lnTo>
                <a:lnTo>
                  <a:pt x="10707" y="1659"/>
                </a:lnTo>
                <a:lnTo>
                  <a:pt x="10751" y="1689"/>
                </a:lnTo>
                <a:lnTo>
                  <a:pt x="10681" y="1711"/>
                </a:lnTo>
                <a:lnTo>
                  <a:pt x="10738" y="1751"/>
                </a:lnTo>
                <a:lnTo>
                  <a:pt x="10615" y="1751"/>
                </a:lnTo>
                <a:lnTo>
                  <a:pt x="10584" y="1689"/>
                </a:lnTo>
                <a:lnTo>
                  <a:pt x="10535" y="1711"/>
                </a:lnTo>
                <a:lnTo>
                  <a:pt x="10465" y="1610"/>
                </a:lnTo>
                <a:lnTo>
                  <a:pt x="10332" y="1619"/>
                </a:lnTo>
                <a:lnTo>
                  <a:pt x="10306" y="1553"/>
                </a:lnTo>
                <a:lnTo>
                  <a:pt x="10328" y="1531"/>
                </a:lnTo>
                <a:lnTo>
                  <a:pt x="10284" y="1531"/>
                </a:lnTo>
                <a:lnTo>
                  <a:pt x="10240" y="1553"/>
                </a:lnTo>
                <a:lnTo>
                  <a:pt x="10288" y="1619"/>
                </a:lnTo>
                <a:lnTo>
                  <a:pt x="10262" y="1667"/>
                </a:lnTo>
                <a:lnTo>
                  <a:pt x="10152" y="1729"/>
                </a:lnTo>
                <a:lnTo>
                  <a:pt x="10077" y="1711"/>
                </a:lnTo>
                <a:lnTo>
                  <a:pt x="10200" y="1910"/>
                </a:lnTo>
                <a:lnTo>
                  <a:pt x="10178" y="1976"/>
                </a:lnTo>
                <a:lnTo>
                  <a:pt x="10055" y="1923"/>
                </a:lnTo>
                <a:lnTo>
                  <a:pt x="10059" y="1954"/>
                </a:lnTo>
                <a:lnTo>
                  <a:pt x="9825" y="2051"/>
                </a:lnTo>
                <a:lnTo>
                  <a:pt x="9623" y="2245"/>
                </a:lnTo>
                <a:lnTo>
                  <a:pt x="9481" y="2174"/>
                </a:lnTo>
                <a:lnTo>
                  <a:pt x="9354" y="2249"/>
                </a:lnTo>
                <a:lnTo>
                  <a:pt x="9354" y="2183"/>
                </a:lnTo>
                <a:lnTo>
                  <a:pt x="9283" y="2263"/>
                </a:lnTo>
                <a:lnTo>
                  <a:pt x="9190" y="2249"/>
                </a:lnTo>
                <a:lnTo>
                  <a:pt x="9093" y="2443"/>
                </a:lnTo>
                <a:lnTo>
                  <a:pt x="9173" y="2483"/>
                </a:lnTo>
                <a:lnTo>
                  <a:pt x="9137" y="2545"/>
                </a:lnTo>
                <a:lnTo>
                  <a:pt x="9177" y="2646"/>
                </a:lnTo>
                <a:lnTo>
                  <a:pt x="9107" y="2624"/>
                </a:lnTo>
                <a:lnTo>
                  <a:pt x="9076" y="2717"/>
                </a:lnTo>
                <a:lnTo>
                  <a:pt x="9093" y="2792"/>
                </a:lnTo>
                <a:lnTo>
                  <a:pt x="8957" y="2849"/>
                </a:lnTo>
                <a:lnTo>
                  <a:pt x="8970" y="2937"/>
                </a:lnTo>
                <a:lnTo>
                  <a:pt x="8873" y="2964"/>
                </a:lnTo>
                <a:lnTo>
                  <a:pt x="8851" y="3057"/>
                </a:lnTo>
                <a:lnTo>
                  <a:pt x="8767" y="3163"/>
                </a:lnTo>
                <a:lnTo>
                  <a:pt x="8692" y="2792"/>
                </a:lnTo>
                <a:lnTo>
                  <a:pt x="8696" y="2580"/>
                </a:lnTo>
                <a:lnTo>
                  <a:pt x="8767" y="2466"/>
                </a:lnTo>
                <a:lnTo>
                  <a:pt x="8868" y="2443"/>
                </a:lnTo>
                <a:lnTo>
                  <a:pt x="9085" y="2201"/>
                </a:lnTo>
                <a:lnTo>
                  <a:pt x="9199" y="2148"/>
                </a:lnTo>
                <a:lnTo>
                  <a:pt x="9230" y="2003"/>
                </a:lnTo>
                <a:lnTo>
                  <a:pt x="9283" y="1963"/>
                </a:lnTo>
                <a:lnTo>
                  <a:pt x="9190" y="1954"/>
                </a:lnTo>
                <a:lnTo>
                  <a:pt x="9173" y="2073"/>
                </a:lnTo>
                <a:lnTo>
                  <a:pt x="8974" y="2174"/>
                </a:lnTo>
                <a:lnTo>
                  <a:pt x="8992" y="2029"/>
                </a:lnTo>
                <a:lnTo>
                  <a:pt x="8785" y="2055"/>
                </a:lnTo>
                <a:lnTo>
                  <a:pt x="8591" y="2249"/>
                </a:lnTo>
                <a:lnTo>
                  <a:pt x="8635" y="2333"/>
                </a:lnTo>
                <a:lnTo>
                  <a:pt x="8427" y="2355"/>
                </a:lnTo>
                <a:lnTo>
                  <a:pt x="8397" y="2342"/>
                </a:lnTo>
                <a:lnTo>
                  <a:pt x="8467" y="2320"/>
                </a:lnTo>
                <a:lnTo>
                  <a:pt x="8295" y="2276"/>
                </a:lnTo>
                <a:lnTo>
                  <a:pt x="8256" y="2320"/>
                </a:lnTo>
                <a:lnTo>
                  <a:pt x="7859" y="2320"/>
                </a:lnTo>
                <a:lnTo>
                  <a:pt x="7387" y="2779"/>
                </a:lnTo>
                <a:lnTo>
                  <a:pt x="7479" y="2796"/>
                </a:lnTo>
                <a:lnTo>
                  <a:pt x="7479" y="2871"/>
                </a:lnTo>
                <a:lnTo>
                  <a:pt x="7541" y="2827"/>
                </a:lnTo>
                <a:lnTo>
                  <a:pt x="7519" y="2893"/>
                </a:lnTo>
                <a:lnTo>
                  <a:pt x="7590" y="2862"/>
                </a:lnTo>
                <a:lnTo>
                  <a:pt x="7581" y="2898"/>
                </a:lnTo>
                <a:lnTo>
                  <a:pt x="7607" y="2827"/>
                </a:lnTo>
                <a:lnTo>
                  <a:pt x="7665" y="2827"/>
                </a:lnTo>
                <a:lnTo>
                  <a:pt x="7770" y="2920"/>
                </a:lnTo>
                <a:lnTo>
                  <a:pt x="7682" y="2929"/>
                </a:lnTo>
                <a:lnTo>
                  <a:pt x="7762" y="2964"/>
                </a:lnTo>
                <a:lnTo>
                  <a:pt x="7779" y="3027"/>
                </a:lnTo>
                <a:lnTo>
                  <a:pt x="7722" y="3177"/>
                </a:lnTo>
                <a:lnTo>
                  <a:pt x="7704" y="3388"/>
                </a:lnTo>
                <a:lnTo>
                  <a:pt x="7374" y="3834"/>
                </a:lnTo>
                <a:lnTo>
                  <a:pt x="7259" y="3891"/>
                </a:lnTo>
                <a:lnTo>
                  <a:pt x="7166" y="3834"/>
                </a:lnTo>
                <a:lnTo>
                  <a:pt x="7096" y="3917"/>
                </a:lnTo>
                <a:lnTo>
                  <a:pt x="7087" y="3900"/>
                </a:lnTo>
                <a:lnTo>
                  <a:pt x="7127" y="3834"/>
                </a:lnTo>
                <a:lnTo>
                  <a:pt x="7105" y="3719"/>
                </a:lnTo>
                <a:lnTo>
                  <a:pt x="7246" y="3679"/>
                </a:lnTo>
                <a:lnTo>
                  <a:pt x="7360" y="3379"/>
                </a:lnTo>
                <a:lnTo>
                  <a:pt x="7118" y="3450"/>
                </a:lnTo>
                <a:lnTo>
                  <a:pt x="7087" y="3331"/>
                </a:lnTo>
                <a:lnTo>
                  <a:pt x="6888" y="3265"/>
                </a:lnTo>
                <a:lnTo>
                  <a:pt x="6774" y="2955"/>
                </a:lnTo>
                <a:lnTo>
                  <a:pt x="6646" y="2898"/>
                </a:lnTo>
                <a:lnTo>
                  <a:pt x="6412" y="2987"/>
                </a:lnTo>
                <a:lnTo>
                  <a:pt x="6461" y="3053"/>
                </a:lnTo>
                <a:lnTo>
                  <a:pt x="6364" y="3238"/>
                </a:lnTo>
                <a:lnTo>
                  <a:pt x="6267" y="3287"/>
                </a:lnTo>
                <a:lnTo>
                  <a:pt x="6174" y="3238"/>
                </a:lnTo>
                <a:lnTo>
                  <a:pt x="6055" y="3221"/>
                </a:lnTo>
                <a:lnTo>
                  <a:pt x="5755" y="3296"/>
                </a:lnTo>
                <a:lnTo>
                  <a:pt x="5486" y="3181"/>
                </a:lnTo>
                <a:lnTo>
                  <a:pt x="5322" y="3199"/>
                </a:lnTo>
                <a:lnTo>
                  <a:pt x="5251" y="3097"/>
                </a:lnTo>
                <a:lnTo>
                  <a:pt x="5088" y="3027"/>
                </a:lnTo>
                <a:lnTo>
                  <a:pt x="5000" y="3102"/>
                </a:lnTo>
                <a:lnTo>
                  <a:pt x="4987" y="3238"/>
                </a:lnTo>
                <a:lnTo>
                  <a:pt x="4608" y="3177"/>
                </a:lnTo>
                <a:lnTo>
                  <a:pt x="4409" y="3296"/>
                </a:lnTo>
                <a:lnTo>
                  <a:pt x="4303" y="3357"/>
                </a:lnTo>
                <a:lnTo>
                  <a:pt x="4158" y="3251"/>
                </a:lnTo>
                <a:lnTo>
                  <a:pt x="4070" y="3309"/>
                </a:lnTo>
                <a:lnTo>
                  <a:pt x="3911" y="3238"/>
                </a:lnTo>
                <a:lnTo>
                  <a:pt x="3845" y="3238"/>
                </a:lnTo>
                <a:lnTo>
                  <a:pt x="3801" y="3132"/>
                </a:lnTo>
                <a:lnTo>
                  <a:pt x="3712" y="3132"/>
                </a:lnTo>
                <a:lnTo>
                  <a:pt x="3682" y="3141"/>
                </a:lnTo>
                <a:lnTo>
                  <a:pt x="3611" y="3066"/>
                </a:lnTo>
                <a:lnTo>
                  <a:pt x="3563" y="3088"/>
                </a:lnTo>
                <a:lnTo>
                  <a:pt x="3523" y="3110"/>
                </a:lnTo>
                <a:lnTo>
                  <a:pt x="3342" y="2942"/>
                </a:lnTo>
                <a:lnTo>
                  <a:pt x="3289" y="2929"/>
                </a:lnTo>
                <a:lnTo>
                  <a:pt x="3166" y="2796"/>
                </a:lnTo>
                <a:lnTo>
                  <a:pt x="3051" y="2871"/>
                </a:lnTo>
                <a:lnTo>
                  <a:pt x="3033" y="2827"/>
                </a:lnTo>
                <a:lnTo>
                  <a:pt x="2866" y="2818"/>
                </a:lnTo>
                <a:lnTo>
                  <a:pt x="2804" y="2730"/>
                </a:lnTo>
                <a:lnTo>
                  <a:pt x="2707" y="2730"/>
                </a:lnTo>
                <a:lnTo>
                  <a:pt x="2681" y="2765"/>
                </a:lnTo>
                <a:lnTo>
                  <a:pt x="2566" y="2796"/>
                </a:lnTo>
                <a:lnTo>
                  <a:pt x="2540" y="2765"/>
                </a:lnTo>
                <a:lnTo>
                  <a:pt x="2500" y="2840"/>
                </a:lnTo>
                <a:lnTo>
                  <a:pt x="2460" y="2827"/>
                </a:lnTo>
                <a:lnTo>
                  <a:pt x="2328" y="2840"/>
                </a:lnTo>
                <a:lnTo>
                  <a:pt x="2275" y="2827"/>
                </a:lnTo>
                <a:lnTo>
                  <a:pt x="2266" y="2840"/>
                </a:lnTo>
                <a:lnTo>
                  <a:pt x="2328" y="2929"/>
                </a:lnTo>
                <a:lnTo>
                  <a:pt x="2293" y="2978"/>
                </a:lnTo>
                <a:lnTo>
                  <a:pt x="2293" y="3053"/>
                </a:lnTo>
                <a:lnTo>
                  <a:pt x="2368" y="3053"/>
                </a:lnTo>
                <a:lnTo>
                  <a:pt x="2394" y="3110"/>
                </a:lnTo>
                <a:lnTo>
                  <a:pt x="2381" y="3163"/>
                </a:lnTo>
                <a:lnTo>
                  <a:pt x="2328" y="3132"/>
                </a:lnTo>
                <a:lnTo>
                  <a:pt x="2275" y="3163"/>
                </a:lnTo>
                <a:lnTo>
                  <a:pt x="2244" y="3132"/>
                </a:lnTo>
                <a:lnTo>
                  <a:pt x="2218" y="3088"/>
                </a:lnTo>
                <a:lnTo>
                  <a:pt x="2160" y="3110"/>
                </a:lnTo>
                <a:lnTo>
                  <a:pt x="2129" y="3088"/>
                </a:lnTo>
                <a:lnTo>
                  <a:pt x="2081" y="3132"/>
                </a:lnTo>
                <a:lnTo>
                  <a:pt x="2024" y="3137"/>
                </a:lnTo>
                <a:lnTo>
                  <a:pt x="1988" y="3088"/>
                </a:lnTo>
                <a:lnTo>
                  <a:pt x="1777" y="3071"/>
                </a:lnTo>
                <a:lnTo>
                  <a:pt x="1763" y="3097"/>
                </a:lnTo>
                <a:lnTo>
                  <a:pt x="1737" y="3097"/>
                </a:lnTo>
                <a:lnTo>
                  <a:pt x="1706" y="3141"/>
                </a:lnTo>
                <a:lnTo>
                  <a:pt x="1706" y="3207"/>
                </a:lnTo>
                <a:lnTo>
                  <a:pt x="1688" y="3207"/>
                </a:lnTo>
                <a:lnTo>
                  <a:pt x="1666" y="3163"/>
                </a:lnTo>
                <a:lnTo>
                  <a:pt x="1640" y="3168"/>
                </a:lnTo>
                <a:lnTo>
                  <a:pt x="1631" y="3318"/>
                </a:lnTo>
                <a:lnTo>
                  <a:pt x="1662" y="3362"/>
                </a:lnTo>
                <a:lnTo>
                  <a:pt x="1662" y="3401"/>
                </a:lnTo>
                <a:lnTo>
                  <a:pt x="1697" y="3401"/>
                </a:lnTo>
                <a:lnTo>
                  <a:pt x="1737" y="3379"/>
                </a:lnTo>
                <a:lnTo>
                  <a:pt x="1768" y="3450"/>
                </a:lnTo>
                <a:lnTo>
                  <a:pt x="1807" y="3494"/>
                </a:lnTo>
                <a:lnTo>
                  <a:pt x="1838" y="3556"/>
                </a:lnTo>
                <a:lnTo>
                  <a:pt x="1878" y="3560"/>
                </a:lnTo>
                <a:lnTo>
                  <a:pt x="1816" y="3604"/>
                </a:lnTo>
                <a:lnTo>
                  <a:pt x="1777" y="3565"/>
                </a:lnTo>
                <a:lnTo>
                  <a:pt x="1737" y="3741"/>
                </a:lnTo>
                <a:lnTo>
                  <a:pt x="1785" y="3776"/>
                </a:lnTo>
                <a:lnTo>
                  <a:pt x="1825" y="3957"/>
                </a:lnTo>
                <a:lnTo>
                  <a:pt x="1790" y="3917"/>
                </a:lnTo>
                <a:lnTo>
                  <a:pt x="1746" y="3900"/>
                </a:lnTo>
                <a:lnTo>
                  <a:pt x="1697" y="3891"/>
                </a:lnTo>
                <a:lnTo>
                  <a:pt x="1662" y="3873"/>
                </a:lnTo>
                <a:lnTo>
                  <a:pt x="1631" y="3864"/>
                </a:lnTo>
                <a:lnTo>
                  <a:pt x="1596" y="3812"/>
                </a:lnTo>
                <a:lnTo>
                  <a:pt x="1538" y="3838"/>
                </a:lnTo>
                <a:lnTo>
                  <a:pt x="1472" y="3838"/>
                </a:lnTo>
                <a:lnTo>
                  <a:pt x="1441" y="3794"/>
                </a:lnTo>
                <a:lnTo>
                  <a:pt x="1336" y="3741"/>
                </a:lnTo>
                <a:lnTo>
                  <a:pt x="1230" y="3754"/>
                </a:lnTo>
                <a:lnTo>
                  <a:pt x="1128" y="3670"/>
                </a:lnTo>
                <a:lnTo>
                  <a:pt x="1208" y="3591"/>
                </a:lnTo>
                <a:lnTo>
                  <a:pt x="1217" y="3525"/>
                </a:lnTo>
                <a:lnTo>
                  <a:pt x="1217" y="3459"/>
                </a:lnTo>
                <a:lnTo>
                  <a:pt x="1225" y="3415"/>
                </a:lnTo>
                <a:lnTo>
                  <a:pt x="1274" y="3393"/>
                </a:lnTo>
                <a:lnTo>
                  <a:pt x="1256" y="3296"/>
                </a:lnTo>
                <a:lnTo>
                  <a:pt x="1177" y="3265"/>
                </a:lnTo>
                <a:lnTo>
                  <a:pt x="1150" y="3247"/>
                </a:lnTo>
                <a:lnTo>
                  <a:pt x="1106" y="3260"/>
                </a:lnTo>
                <a:lnTo>
                  <a:pt x="1014" y="3238"/>
                </a:lnTo>
                <a:lnTo>
                  <a:pt x="939" y="3141"/>
                </a:lnTo>
                <a:lnTo>
                  <a:pt x="873" y="3110"/>
                </a:lnTo>
                <a:lnTo>
                  <a:pt x="846" y="3018"/>
                </a:lnTo>
                <a:lnTo>
                  <a:pt x="789" y="3009"/>
                </a:lnTo>
                <a:lnTo>
                  <a:pt x="749" y="3040"/>
                </a:lnTo>
                <a:lnTo>
                  <a:pt x="705" y="3057"/>
                </a:lnTo>
                <a:lnTo>
                  <a:pt x="692" y="3018"/>
                </a:lnTo>
                <a:lnTo>
                  <a:pt x="661" y="2969"/>
                </a:lnTo>
                <a:lnTo>
                  <a:pt x="749" y="2969"/>
                </a:lnTo>
                <a:lnTo>
                  <a:pt x="736" y="2937"/>
                </a:lnTo>
                <a:lnTo>
                  <a:pt x="714" y="2920"/>
                </a:lnTo>
                <a:lnTo>
                  <a:pt x="692" y="2898"/>
                </a:lnTo>
                <a:lnTo>
                  <a:pt x="652" y="2796"/>
                </a:lnTo>
                <a:lnTo>
                  <a:pt x="599" y="2730"/>
                </a:lnTo>
                <a:lnTo>
                  <a:pt x="542" y="2730"/>
                </a:lnTo>
                <a:lnTo>
                  <a:pt x="485" y="2730"/>
                </a:lnTo>
                <a:lnTo>
                  <a:pt x="440" y="2699"/>
                </a:lnTo>
                <a:lnTo>
                  <a:pt x="401" y="2695"/>
                </a:lnTo>
                <a:lnTo>
                  <a:pt x="374" y="2695"/>
                </a:lnTo>
                <a:lnTo>
                  <a:pt x="348" y="2730"/>
                </a:lnTo>
                <a:lnTo>
                  <a:pt x="308" y="2765"/>
                </a:lnTo>
                <a:lnTo>
                  <a:pt x="304" y="2809"/>
                </a:lnTo>
                <a:lnTo>
                  <a:pt x="291" y="2827"/>
                </a:lnTo>
                <a:lnTo>
                  <a:pt x="264" y="2893"/>
                </a:lnTo>
                <a:lnTo>
                  <a:pt x="246" y="2871"/>
                </a:lnTo>
                <a:lnTo>
                  <a:pt x="238" y="2849"/>
                </a:lnTo>
                <a:lnTo>
                  <a:pt x="0" y="280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5443560" y="1330200"/>
            <a:ext cx="114840" cy="57600"/>
          </a:xfrm>
          <a:custGeom>
            <a:avLst/>
            <a:gdLst/>
            <a:ahLst/>
            <a:rect l="0" t="0" r="r" b="b"/>
            <a:pathLst>
              <a:path fill="none" w="319" h="160">
                <a:moveTo>
                  <a:pt x="0" y="106"/>
                </a:moveTo>
                <a:lnTo>
                  <a:pt x="61" y="75"/>
                </a:lnTo>
                <a:lnTo>
                  <a:pt x="13" y="45"/>
                </a:lnTo>
                <a:lnTo>
                  <a:pt x="244" y="0"/>
                </a:lnTo>
                <a:lnTo>
                  <a:pt x="275" y="8"/>
                </a:lnTo>
                <a:lnTo>
                  <a:pt x="234" y="35"/>
                </a:lnTo>
                <a:lnTo>
                  <a:pt x="319" y="35"/>
                </a:lnTo>
                <a:lnTo>
                  <a:pt x="115" y="129"/>
                </a:lnTo>
                <a:lnTo>
                  <a:pt x="61" y="160"/>
                </a:lnTo>
                <a:lnTo>
                  <a:pt x="79" y="115"/>
                </a:lnTo>
                <a:lnTo>
                  <a:pt x="0" y="106"/>
                </a:lnTo>
              </a:path>
            </a:pathLst>
          </a:custGeom>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sp>
        <p:nvSpPr>
          <p:cNvPr id="280" name=""/>
          <p:cNvSpPr/>
          <p:nvPr/>
        </p:nvSpPr>
        <p:spPr>
          <a:xfrm>
            <a:off x="5478480" y="1927080"/>
            <a:ext cx="46440" cy="28800"/>
          </a:xfrm>
          <a:custGeom>
            <a:avLst/>
            <a:gdLst/>
            <a:ahLst/>
            <a:rect l="0" t="0" r="r" b="b"/>
            <a:pathLst>
              <a:path fill="none" w="129" h="80">
                <a:moveTo>
                  <a:pt x="0" y="80"/>
                </a:moveTo>
                <a:lnTo>
                  <a:pt x="36" y="0"/>
                </a:lnTo>
                <a:lnTo>
                  <a:pt x="129" y="39"/>
                </a:lnTo>
                <a:lnTo>
                  <a:pt x="0" y="8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281" name=""/>
          <p:cNvSpPr/>
          <p:nvPr/>
        </p:nvSpPr>
        <p:spPr>
          <a:xfrm>
            <a:off x="5557680" y="1747800"/>
            <a:ext cx="141480" cy="119520"/>
          </a:xfrm>
          <a:custGeom>
            <a:avLst/>
            <a:gdLst/>
            <a:ahLst/>
            <a:rect l="0" t="0" r="r" b="b"/>
            <a:pathLst>
              <a:path fill="none" w="393" h="332">
                <a:moveTo>
                  <a:pt x="0" y="164"/>
                </a:moveTo>
                <a:lnTo>
                  <a:pt x="30" y="239"/>
                </a:lnTo>
                <a:lnTo>
                  <a:pt x="66" y="217"/>
                </a:lnTo>
                <a:lnTo>
                  <a:pt x="119" y="262"/>
                </a:lnTo>
                <a:lnTo>
                  <a:pt x="158" y="239"/>
                </a:lnTo>
                <a:lnTo>
                  <a:pt x="141" y="319"/>
                </a:lnTo>
                <a:lnTo>
                  <a:pt x="393" y="332"/>
                </a:lnTo>
                <a:lnTo>
                  <a:pt x="300" y="279"/>
                </a:lnTo>
                <a:lnTo>
                  <a:pt x="234" y="164"/>
                </a:lnTo>
                <a:lnTo>
                  <a:pt x="252" y="66"/>
                </a:lnTo>
                <a:lnTo>
                  <a:pt x="309" y="0"/>
                </a:lnTo>
                <a:lnTo>
                  <a:pt x="97" y="26"/>
                </a:lnTo>
                <a:lnTo>
                  <a:pt x="39" y="164"/>
                </a:lnTo>
                <a:lnTo>
                  <a:pt x="0" y="1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5607000" y="1554120"/>
            <a:ext cx="352800" cy="194040"/>
          </a:xfrm>
          <a:custGeom>
            <a:avLst/>
            <a:gdLst/>
            <a:ahLst/>
            <a:rect l="0" t="0" r="r" b="b"/>
            <a:pathLst>
              <a:path fill="none" w="980" h="539">
                <a:moveTo>
                  <a:pt x="0" y="460"/>
                </a:moveTo>
                <a:lnTo>
                  <a:pt x="88" y="482"/>
                </a:lnTo>
                <a:lnTo>
                  <a:pt x="26" y="531"/>
                </a:lnTo>
                <a:lnTo>
                  <a:pt x="194" y="539"/>
                </a:lnTo>
                <a:lnTo>
                  <a:pt x="194" y="482"/>
                </a:lnTo>
                <a:lnTo>
                  <a:pt x="247" y="491"/>
                </a:lnTo>
                <a:lnTo>
                  <a:pt x="194" y="456"/>
                </a:lnTo>
                <a:lnTo>
                  <a:pt x="265" y="460"/>
                </a:lnTo>
                <a:lnTo>
                  <a:pt x="247" y="389"/>
                </a:lnTo>
                <a:lnTo>
                  <a:pt x="278" y="438"/>
                </a:lnTo>
                <a:lnTo>
                  <a:pt x="322" y="402"/>
                </a:lnTo>
                <a:lnTo>
                  <a:pt x="296" y="349"/>
                </a:lnTo>
                <a:lnTo>
                  <a:pt x="397" y="358"/>
                </a:lnTo>
                <a:lnTo>
                  <a:pt x="375" y="336"/>
                </a:lnTo>
                <a:lnTo>
                  <a:pt x="411" y="336"/>
                </a:lnTo>
                <a:lnTo>
                  <a:pt x="437" y="292"/>
                </a:lnTo>
                <a:lnTo>
                  <a:pt x="923" y="114"/>
                </a:lnTo>
                <a:lnTo>
                  <a:pt x="980" y="44"/>
                </a:lnTo>
                <a:lnTo>
                  <a:pt x="883" y="0"/>
                </a:lnTo>
                <a:lnTo>
                  <a:pt x="680" y="105"/>
                </a:lnTo>
                <a:lnTo>
                  <a:pt x="468" y="105"/>
                </a:lnTo>
                <a:lnTo>
                  <a:pt x="233" y="256"/>
                </a:lnTo>
                <a:lnTo>
                  <a:pt x="119" y="269"/>
                </a:lnTo>
                <a:lnTo>
                  <a:pt x="123" y="336"/>
                </a:lnTo>
                <a:lnTo>
                  <a:pt x="189" y="336"/>
                </a:lnTo>
                <a:lnTo>
                  <a:pt x="114" y="340"/>
                </a:lnTo>
                <a:lnTo>
                  <a:pt x="145" y="367"/>
                </a:lnTo>
                <a:lnTo>
                  <a:pt x="88" y="402"/>
                </a:lnTo>
                <a:lnTo>
                  <a:pt x="163" y="429"/>
                </a:lnTo>
                <a:lnTo>
                  <a:pt x="0" y="46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5807160" y="1300320"/>
            <a:ext cx="71640" cy="41760"/>
          </a:xfrm>
          <a:custGeom>
            <a:avLst/>
            <a:gdLst/>
            <a:ahLst/>
            <a:rect l="0" t="0" r="r" b="b"/>
            <a:pathLst>
              <a:path fill="none" w="199" h="116">
                <a:moveTo>
                  <a:pt x="0" y="75"/>
                </a:moveTo>
                <a:lnTo>
                  <a:pt x="61" y="116"/>
                </a:lnTo>
                <a:lnTo>
                  <a:pt x="199" y="75"/>
                </a:lnTo>
                <a:lnTo>
                  <a:pt x="111" y="0"/>
                </a:lnTo>
                <a:lnTo>
                  <a:pt x="0" y="75"/>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284" name=""/>
          <p:cNvSpPr/>
          <p:nvPr/>
        </p:nvSpPr>
        <p:spPr>
          <a:xfrm>
            <a:off x="6465960" y="1378080"/>
            <a:ext cx="60840" cy="25920"/>
          </a:xfrm>
          <a:custGeom>
            <a:avLst/>
            <a:gdLst/>
            <a:ahLst/>
            <a:rect l="0" t="0" r="r" b="b"/>
            <a:pathLst>
              <a:path fill="none" w="169" h="72">
                <a:moveTo>
                  <a:pt x="0" y="0"/>
                </a:moveTo>
                <a:lnTo>
                  <a:pt x="80" y="68"/>
                </a:lnTo>
                <a:lnTo>
                  <a:pt x="45" y="72"/>
                </a:lnTo>
                <a:lnTo>
                  <a:pt x="115" y="72"/>
                </a:lnTo>
                <a:lnTo>
                  <a:pt x="169" y="36"/>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85" name=""/>
          <p:cNvSpPr/>
          <p:nvPr/>
        </p:nvSpPr>
        <p:spPr>
          <a:xfrm>
            <a:off x="6473880" y="1309680"/>
            <a:ext cx="146520" cy="71640"/>
          </a:xfrm>
          <a:custGeom>
            <a:avLst/>
            <a:gdLst/>
            <a:ahLst/>
            <a:rect l="0" t="0" r="r" b="b"/>
            <a:pathLst>
              <a:path fill="none" w="407" h="199">
                <a:moveTo>
                  <a:pt x="0" y="159"/>
                </a:moveTo>
                <a:lnTo>
                  <a:pt x="106" y="57"/>
                </a:lnTo>
                <a:lnTo>
                  <a:pt x="256" y="0"/>
                </a:lnTo>
                <a:lnTo>
                  <a:pt x="407" y="97"/>
                </a:lnTo>
                <a:lnTo>
                  <a:pt x="354" y="111"/>
                </a:lnTo>
                <a:lnTo>
                  <a:pt x="372" y="159"/>
                </a:lnTo>
                <a:lnTo>
                  <a:pt x="159" y="199"/>
                </a:lnTo>
                <a:lnTo>
                  <a:pt x="0" y="159"/>
                </a:lnTo>
              </a:path>
            </a:pathLst>
          </a:custGeom>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286" name=""/>
          <p:cNvSpPr/>
          <p:nvPr/>
        </p:nvSpPr>
        <p:spPr>
          <a:xfrm>
            <a:off x="6507000" y="1373040"/>
            <a:ext cx="162360" cy="84600"/>
          </a:xfrm>
          <a:custGeom>
            <a:avLst/>
            <a:gdLst/>
            <a:ahLst/>
            <a:rect l="0" t="0" r="r" b="b"/>
            <a:pathLst>
              <a:path fill="none" w="451" h="235">
                <a:moveTo>
                  <a:pt x="0" y="102"/>
                </a:moveTo>
                <a:lnTo>
                  <a:pt x="83" y="106"/>
                </a:lnTo>
                <a:lnTo>
                  <a:pt x="137" y="200"/>
                </a:lnTo>
                <a:lnTo>
                  <a:pt x="181" y="172"/>
                </a:lnTo>
                <a:lnTo>
                  <a:pt x="368" y="235"/>
                </a:lnTo>
                <a:lnTo>
                  <a:pt x="442" y="204"/>
                </a:lnTo>
                <a:lnTo>
                  <a:pt x="390" y="142"/>
                </a:lnTo>
                <a:lnTo>
                  <a:pt x="420" y="159"/>
                </a:lnTo>
                <a:lnTo>
                  <a:pt x="451" y="67"/>
                </a:lnTo>
                <a:lnTo>
                  <a:pt x="354" y="22"/>
                </a:lnTo>
                <a:lnTo>
                  <a:pt x="256" y="84"/>
                </a:lnTo>
                <a:lnTo>
                  <a:pt x="336" y="48"/>
                </a:lnTo>
                <a:lnTo>
                  <a:pt x="283" y="0"/>
                </a:lnTo>
                <a:lnTo>
                  <a:pt x="133" y="13"/>
                </a:lnTo>
                <a:lnTo>
                  <a:pt x="0" y="102"/>
                </a:lnTo>
              </a:path>
            </a:pathLst>
          </a:custGeom>
          <a:ln w="12600">
            <a:solidFill>
              <a:srgbClr val="000000"/>
            </a:solidFill>
            <a:round/>
          </a:ln>
        </p:spPr>
        <p:txBody>
          <a:bodyPr lIns="96120" rIns="96120" tIns="33480" bIns="33480" anchor="t">
            <a:noAutofit/>
          </a:bodyPr>
          <a:p>
            <a:endParaRPr b="0" lang="en-US" sz="1800" spc="-1" strike="noStrike">
              <a:solidFill>
                <a:srgbClr val="000000"/>
              </a:solidFill>
              <a:latin typeface="Arial"/>
            </a:endParaRPr>
          </a:p>
        </p:txBody>
      </p:sp>
      <p:sp>
        <p:nvSpPr>
          <p:cNvPr id="287" name=""/>
          <p:cNvSpPr/>
          <p:nvPr/>
        </p:nvSpPr>
        <p:spPr>
          <a:xfrm>
            <a:off x="6657840" y="1415880"/>
            <a:ext cx="141480" cy="84600"/>
          </a:xfrm>
          <a:custGeom>
            <a:avLst/>
            <a:gdLst/>
            <a:ahLst/>
            <a:rect l="0" t="0" r="r" b="b"/>
            <a:pathLst>
              <a:path fill="none" w="393" h="235">
                <a:moveTo>
                  <a:pt x="0" y="200"/>
                </a:moveTo>
                <a:lnTo>
                  <a:pt x="26" y="235"/>
                </a:lnTo>
                <a:lnTo>
                  <a:pt x="353" y="187"/>
                </a:lnTo>
                <a:lnTo>
                  <a:pt x="393" y="111"/>
                </a:lnTo>
                <a:lnTo>
                  <a:pt x="292" y="52"/>
                </a:lnTo>
                <a:lnTo>
                  <a:pt x="225" y="75"/>
                </a:lnTo>
                <a:lnTo>
                  <a:pt x="230" y="22"/>
                </a:lnTo>
                <a:lnTo>
                  <a:pt x="185" y="0"/>
                </a:lnTo>
                <a:lnTo>
                  <a:pt x="35" y="178"/>
                </a:lnTo>
                <a:lnTo>
                  <a:pt x="0" y="200"/>
                </a:lnTo>
              </a:path>
            </a:pathLst>
          </a:custGeom>
          <a:ln w="12600">
            <a:solidFill>
              <a:srgbClr val="000000"/>
            </a:solidFill>
            <a:round/>
          </a:ln>
        </p:spPr>
        <p:txBody>
          <a:bodyPr lIns="96120" rIns="96120" tIns="33480" bIns="33480" anchor="t">
            <a:noAutofit/>
          </a:bodyPr>
          <a:p>
            <a:endParaRPr b="0" lang="en-US" sz="1800" spc="-1" strike="noStrike">
              <a:solidFill>
                <a:srgbClr val="000000"/>
              </a:solidFill>
              <a:latin typeface="Arial"/>
            </a:endParaRPr>
          </a:p>
        </p:txBody>
      </p:sp>
      <p:sp>
        <p:nvSpPr>
          <p:cNvPr id="288" name=""/>
          <p:cNvSpPr/>
          <p:nvPr/>
        </p:nvSpPr>
        <p:spPr>
          <a:xfrm>
            <a:off x="7512120" y="1596960"/>
            <a:ext cx="154440" cy="79560"/>
          </a:xfrm>
          <a:custGeom>
            <a:avLst/>
            <a:gdLst/>
            <a:ahLst/>
            <a:rect l="0" t="0" r="r" b="b"/>
            <a:pathLst>
              <a:path fill="none" w="429" h="221">
                <a:moveTo>
                  <a:pt x="0" y="115"/>
                </a:moveTo>
                <a:lnTo>
                  <a:pt x="88" y="4"/>
                </a:lnTo>
                <a:lnTo>
                  <a:pt x="155" y="0"/>
                </a:lnTo>
                <a:lnTo>
                  <a:pt x="252" y="83"/>
                </a:lnTo>
                <a:lnTo>
                  <a:pt x="269" y="22"/>
                </a:lnTo>
                <a:lnTo>
                  <a:pt x="372" y="66"/>
                </a:lnTo>
                <a:lnTo>
                  <a:pt x="363" y="146"/>
                </a:lnTo>
                <a:lnTo>
                  <a:pt x="429" y="177"/>
                </a:lnTo>
                <a:lnTo>
                  <a:pt x="208" y="190"/>
                </a:lnTo>
                <a:lnTo>
                  <a:pt x="195" y="150"/>
                </a:lnTo>
                <a:lnTo>
                  <a:pt x="164" y="221"/>
                </a:lnTo>
                <a:lnTo>
                  <a:pt x="0" y="115"/>
                </a:lnTo>
              </a:path>
            </a:pathLst>
          </a:custGeom>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sp>
        <p:nvSpPr>
          <p:cNvPr id="289" name=""/>
          <p:cNvSpPr/>
          <p:nvPr/>
        </p:nvSpPr>
        <p:spPr>
          <a:xfrm>
            <a:off x="7620120" y="1600200"/>
            <a:ext cx="95760" cy="51120"/>
          </a:xfrm>
          <a:custGeom>
            <a:avLst/>
            <a:gdLst/>
            <a:ahLst/>
            <a:rect l="0" t="0" r="r" b="b"/>
            <a:pathLst>
              <a:path fill="none" w="266" h="142">
                <a:moveTo>
                  <a:pt x="0" y="0"/>
                </a:moveTo>
                <a:lnTo>
                  <a:pt x="93" y="52"/>
                </a:lnTo>
                <a:lnTo>
                  <a:pt x="71" y="106"/>
                </a:lnTo>
                <a:lnTo>
                  <a:pt x="111" y="142"/>
                </a:lnTo>
                <a:lnTo>
                  <a:pt x="190" y="142"/>
                </a:lnTo>
                <a:lnTo>
                  <a:pt x="266" y="89"/>
                </a:lnTo>
                <a:lnTo>
                  <a:pt x="0" y="0"/>
                </a:lnTo>
              </a:path>
            </a:pathLst>
          </a:custGeom>
          <a:ln w="12600">
            <a:solidFill>
              <a:srgbClr val="000000"/>
            </a:solidFill>
            <a:round/>
          </a:ln>
        </p:spPr>
        <p:txBody>
          <a:bodyPr lIns="96120" rIns="96120" tIns="0" bIns="0" anchor="t">
            <a:noAutofit/>
          </a:bodyPr>
          <a:p>
            <a:endParaRPr b="0" lang="en-US" sz="1800" spc="-1" strike="noStrike">
              <a:solidFill>
                <a:srgbClr val="000000"/>
              </a:solidFill>
              <a:latin typeface="Arial"/>
            </a:endParaRPr>
          </a:p>
        </p:txBody>
      </p:sp>
      <p:sp>
        <p:nvSpPr>
          <p:cNvPr id="290" name=""/>
          <p:cNvSpPr/>
          <p:nvPr/>
        </p:nvSpPr>
        <p:spPr>
          <a:xfrm>
            <a:off x="7629480" y="2530440"/>
            <a:ext cx="70200" cy="282960"/>
          </a:xfrm>
          <a:custGeom>
            <a:avLst/>
            <a:gdLst/>
            <a:ahLst/>
            <a:rect l="0" t="0" r="r" b="b"/>
            <a:pathLst>
              <a:path fill="none" w="195" h="786">
                <a:moveTo>
                  <a:pt x="0" y="194"/>
                </a:moveTo>
                <a:lnTo>
                  <a:pt x="35" y="300"/>
                </a:lnTo>
                <a:lnTo>
                  <a:pt x="35" y="786"/>
                </a:lnTo>
                <a:lnTo>
                  <a:pt x="70" y="720"/>
                </a:lnTo>
                <a:lnTo>
                  <a:pt x="115" y="764"/>
                </a:lnTo>
                <a:lnTo>
                  <a:pt x="66" y="628"/>
                </a:lnTo>
                <a:lnTo>
                  <a:pt x="88" y="494"/>
                </a:lnTo>
                <a:lnTo>
                  <a:pt x="195" y="534"/>
                </a:lnTo>
                <a:lnTo>
                  <a:pt x="98" y="274"/>
                </a:lnTo>
                <a:lnTo>
                  <a:pt x="70" y="0"/>
                </a:lnTo>
                <a:lnTo>
                  <a:pt x="0" y="19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a:off x="7732800" y="1630440"/>
            <a:ext cx="106560" cy="39960"/>
          </a:xfrm>
          <a:custGeom>
            <a:avLst/>
            <a:gdLst/>
            <a:ahLst/>
            <a:rect l="0" t="0" r="r" b="b"/>
            <a:pathLst>
              <a:path fill="none" w="296" h="111">
                <a:moveTo>
                  <a:pt x="0" y="0"/>
                </a:moveTo>
                <a:lnTo>
                  <a:pt x="57" y="80"/>
                </a:lnTo>
                <a:lnTo>
                  <a:pt x="190" y="111"/>
                </a:lnTo>
                <a:lnTo>
                  <a:pt x="296" y="84"/>
                </a:lnTo>
                <a:lnTo>
                  <a:pt x="0" y="0"/>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292" name=""/>
          <p:cNvSpPr/>
          <p:nvPr/>
        </p:nvSpPr>
        <p:spPr>
          <a:xfrm>
            <a:off x="4165560" y="2882880"/>
            <a:ext cx="279720" cy="232200"/>
          </a:xfrm>
          <a:custGeom>
            <a:avLst/>
            <a:gdLst/>
            <a:ahLst/>
            <a:rect l="0" t="0" r="r" b="b"/>
            <a:pathLst>
              <a:path fill="none" w="777" h="645">
                <a:moveTo>
                  <a:pt x="0" y="61"/>
                </a:moveTo>
                <a:lnTo>
                  <a:pt x="17" y="158"/>
                </a:lnTo>
                <a:lnTo>
                  <a:pt x="185" y="186"/>
                </a:lnTo>
                <a:lnTo>
                  <a:pt x="110" y="349"/>
                </a:lnTo>
                <a:lnTo>
                  <a:pt x="110" y="553"/>
                </a:lnTo>
                <a:lnTo>
                  <a:pt x="224" y="645"/>
                </a:lnTo>
                <a:lnTo>
                  <a:pt x="455" y="579"/>
                </a:lnTo>
                <a:lnTo>
                  <a:pt x="591" y="433"/>
                </a:lnTo>
                <a:lnTo>
                  <a:pt x="565" y="371"/>
                </a:lnTo>
                <a:lnTo>
                  <a:pt x="636" y="256"/>
                </a:lnTo>
                <a:lnTo>
                  <a:pt x="777" y="164"/>
                </a:lnTo>
                <a:lnTo>
                  <a:pt x="777" y="114"/>
                </a:lnTo>
                <a:lnTo>
                  <a:pt x="684" y="105"/>
                </a:lnTo>
                <a:lnTo>
                  <a:pt x="666" y="97"/>
                </a:lnTo>
                <a:lnTo>
                  <a:pt x="464" y="30"/>
                </a:lnTo>
                <a:lnTo>
                  <a:pt x="57" y="0"/>
                </a:lnTo>
                <a:lnTo>
                  <a:pt x="0" y="6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3038400" y="3935520"/>
            <a:ext cx="95760" cy="105120"/>
          </a:xfrm>
          <a:custGeom>
            <a:avLst/>
            <a:gdLst/>
            <a:ahLst/>
            <a:rect l="0" t="0" r="r" b="b"/>
            <a:pathLst>
              <a:path fill="none" w="266" h="292">
                <a:moveTo>
                  <a:pt x="0" y="127"/>
                </a:moveTo>
                <a:lnTo>
                  <a:pt x="61" y="0"/>
                </a:lnTo>
                <a:lnTo>
                  <a:pt x="266" y="26"/>
                </a:lnTo>
                <a:lnTo>
                  <a:pt x="231" y="256"/>
                </a:lnTo>
                <a:lnTo>
                  <a:pt x="102" y="292"/>
                </a:lnTo>
                <a:lnTo>
                  <a:pt x="0" y="12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4618080" y="1378080"/>
            <a:ext cx="244800" cy="197280"/>
          </a:xfrm>
          <a:custGeom>
            <a:avLst/>
            <a:gdLst/>
            <a:ahLst/>
            <a:rect l="0" t="0" r="r" b="b"/>
            <a:pathLst>
              <a:path fill="none" w="680" h="548">
                <a:moveTo>
                  <a:pt x="0" y="66"/>
                </a:moveTo>
                <a:lnTo>
                  <a:pt x="8" y="136"/>
                </a:lnTo>
                <a:lnTo>
                  <a:pt x="79" y="136"/>
                </a:lnTo>
                <a:lnTo>
                  <a:pt x="61" y="168"/>
                </a:lnTo>
                <a:lnTo>
                  <a:pt x="105" y="190"/>
                </a:lnTo>
                <a:lnTo>
                  <a:pt x="39" y="190"/>
                </a:lnTo>
                <a:lnTo>
                  <a:pt x="158" y="239"/>
                </a:lnTo>
                <a:lnTo>
                  <a:pt x="105" y="261"/>
                </a:lnTo>
                <a:lnTo>
                  <a:pt x="141" y="305"/>
                </a:lnTo>
                <a:lnTo>
                  <a:pt x="246" y="283"/>
                </a:lnTo>
                <a:lnTo>
                  <a:pt x="246" y="217"/>
                </a:lnTo>
                <a:lnTo>
                  <a:pt x="299" y="208"/>
                </a:lnTo>
                <a:lnTo>
                  <a:pt x="304" y="265"/>
                </a:lnTo>
                <a:lnTo>
                  <a:pt x="380" y="217"/>
                </a:lnTo>
                <a:lnTo>
                  <a:pt x="362" y="265"/>
                </a:lnTo>
                <a:lnTo>
                  <a:pt x="419" y="265"/>
                </a:lnTo>
                <a:lnTo>
                  <a:pt x="185" y="336"/>
                </a:lnTo>
                <a:lnTo>
                  <a:pt x="198" y="375"/>
                </a:lnTo>
                <a:lnTo>
                  <a:pt x="389" y="349"/>
                </a:lnTo>
                <a:lnTo>
                  <a:pt x="255" y="384"/>
                </a:lnTo>
                <a:lnTo>
                  <a:pt x="339" y="416"/>
                </a:lnTo>
                <a:lnTo>
                  <a:pt x="207" y="434"/>
                </a:lnTo>
                <a:lnTo>
                  <a:pt x="406" y="548"/>
                </a:lnTo>
                <a:lnTo>
                  <a:pt x="516" y="265"/>
                </a:lnTo>
                <a:lnTo>
                  <a:pt x="680" y="203"/>
                </a:lnTo>
                <a:lnTo>
                  <a:pt x="508" y="159"/>
                </a:lnTo>
                <a:lnTo>
                  <a:pt x="494" y="74"/>
                </a:lnTo>
                <a:lnTo>
                  <a:pt x="433" y="127"/>
                </a:lnTo>
                <a:lnTo>
                  <a:pt x="459" y="66"/>
                </a:lnTo>
                <a:lnTo>
                  <a:pt x="349" y="0"/>
                </a:lnTo>
                <a:lnTo>
                  <a:pt x="313" y="66"/>
                </a:lnTo>
                <a:lnTo>
                  <a:pt x="362" y="190"/>
                </a:lnTo>
                <a:lnTo>
                  <a:pt x="238" y="52"/>
                </a:lnTo>
                <a:lnTo>
                  <a:pt x="198" y="74"/>
                </a:lnTo>
                <a:lnTo>
                  <a:pt x="224" y="150"/>
                </a:lnTo>
                <a:lnTo>
                  <a:pt x="105" y="88"/>
                </a:lnTo>
                <a:lnTo>
                  <a:pt x="185" y="48"/>
                </a:lnTo>
                <a:lnTo>
                  <a:pt x="0" y="66"/>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4775040" y="1352520"/>
            <a:ext cx="224280" cy="82800"/>
          </a:xfrm>
          <a:custGeom>
            <a:avLst/>
            <a:gdLst/>
            <a:ahLst/>
            <a:rect l="0" t="0" r="r" b="b"/>
            <a:pathLst>
              <a:path fill="none" w="623" h="230">
                <a:moveTo>
                  <a:pt x="0" y="61"/>
                </a:moveTo>
                <a:lnTo>
                  <a:pt x="83" y="74"/>
                </a:lnTo>
                <a:lnTo>
                  <a:pt x="35" y="101"/>
                </a:lnTo>
                <a:lnTo>
                  <a:pt x="61" y="124"/>
                </a:lnTo>
                <a:lnTo>
                  <a:pt x="287" y="120"/>
                </a:lnTo>
                <a:lnTo>
                  <a:pt x="141" y="159"/>
                </a:lnTo>
                <a:lnTo>
                  <a:pt x="371" y="230"/>
                </a:lnTo>
                <a:lnTo>
                  <a:pt x="517" y="181"/>
                </a:lnTo>
                <a:lnTo>
                  <a:pt x="623" y="101"/>
                </a:lnTo>
                <a:lnTo>
                  <a:pt x="588" y="61"/>
                </a:lnTo>
                <a:lnTo>
                  <a:pt x="441" y="66"/>
                </a:lnTo>
                <a:lnTo>
                  <a:pt x="469" y="26"/>
                </a:lnTo>
                <a:lnTo>
                  <a:pt x="349" y="66"/>
                </a:lnTo>
                <a:lnTo>
                  <a:pt x="331" y="0"/>
                </a:lnTo>
                <a:lnTo>
                  <a:pt x="305" y="83"/>
                </a:lnTo>
                <a:lnTo>
                  <a:pt x="141" y="0"/>
                </a:lnTo>
                <a:lnTo>
                  <a:pt x="141" y="52"/>
                </a:lnTo>
                <a:lnTo>
                  <a:pt x="88" y="26"/>
                </a:lnTo>
                <a:lnTo>
                  <a:pt x="114" y="74"/>
                </a:lnTo>
                <a:lnTo>
                  <a:pt x="0" y="61"/>
                </a:lnTo>
              </a:path>
            </a:pathLst>
          </a:custGeom>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296" name=""/>
          <p:cNvSpPr/>
          <p:nvPr/>
        </p:nvSpPr>
        <p:spPr>
          <a:xfrm>
            <a:off x="4851360" y="1486080"/>
            <a:ext cx="97200" cy="55800"/>
          </a:xfrm>
          <a:custGeom>
            <a:avLst/>
            <a:gdLst/>
            <a:ahLst/>
            <a:rect l="0" t="0" r="r" b="b"/>
            <a:pathLst>
              <a:path fill="none" w="270" h="155">
                <a:moveTo>
                  <a:pt x="0" y="115"/>
                </a:moveTo>
                <a:lnTo>
                  <a:pt x="22" y="35"/>
                </a:lnTo>
                <a:lnTo>
                  <a:pt x="128" y="0"/>
                </a:lnTo>
                <a:lnTo>
                  <a:pt x="150" y="35"/>
                </a:lnTo>
                <a:lnTo>
                  <a:pt x="270" y="74"/>
                </a:lnTo>
                <a:lnTo>
                  <a:pt x="93" y="155"/>
                </a:lnTo>
                <a:lnTo>
                  <a:pt x="128" y="115"/>
                </a:lnTo>
                <a:lnTo>
                  <a:pt x="0" y="115"/>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97" name=""/>
          <p:cNvSpPr/>
          <p:nvPr/>
        </p:nvSpPr>
        <p:spPr>
          <a:xfrm>
            <a:off x="4627440" y="1946160"/>
            <a:ext cx="298800" cy="547920"/>
          </a:xfrm>
          <a:custGeom>
            <a:avLst/>
            <a:gdLst/>
            <a:ahLst/>
            <a:rect l="0" t="0" r="r" b="b"/>
            <a:pathLst>
              <a:path fill="none" w="830" h="1522">
                <a:moveTo>
                  <a:pt x="0" y="1134"/>
                </a:moveTo>
                <a:lnTo>
                  <a:pt x="44" y="1319"/>
                </a:lnTo>
                <a:lnTo>
                  <a:pt x="105" y="1394"/>
                </a:lnTo>
                <a:lnTo>
                  <a:pt x="97" y="1522"/>
                </a:lnTo>
                <a:lnTo>
                  <a:pt x="304" y="1434"/>
                </a:lnTo>
                <a:lnTo>
                  <a:pt x="352" y="1196"/>
                </a:lnTo>
                <a:lnTo>
                  <a:pt x="317" y="1191"/>
                </a:lnTo>
                <a:lnTo>
                  <a:pt x="468" y="1112"/>
                </a:lnTo>
                <a:lnTo>
                  <a:pt x="321" y="1094"/>
                </a:lnTo>
                <a:lnTo>
                  <a:pt x="428" y="1112"/>
                </a:lnTo>
                <a:lnTo>
                  <a:pt x="490" y="1050"/>
                </a:lnTo>
                <a:lnTo>
                  <a:pt x="401" y="971"/>
                </a:lnTo>
                <a:lnTo>
                  <a:pt x="317" y="1028"/>
                </a:lnTo>
                <a:lnTo>
                  <a:pt x="388" y="979"/>
                </a:lnTo>
                <a:lnTo>
                  <a:pt x="388" y="758"/>
                </a:lnTo>
                <a:lnTo>
                  <a:pt x="666" y="555"/>
                </a:lnTo>
                <a:lnTo>
                  <a:pt x="644" y="507"/>
                </a:lnTo>
                <a:lnTo>
                  <a:pt x="697" y="405"/>
                </a:lnTo>
                <a:lnTo>
                  <a:pt x="830" y="370"/>
                </a:lnTo>
                <a:lnTo>
                  <a:pt x="790" y="119"/>
                </a:lnTo>
                <a:lnTo>
                  <a:pt x="596" y="0"/>
                </a:lnTo>
                <a:lnTo>
                  <a:pt x="583" y="0"/>
                </a:lnTo>
                <a:lnTo>
                  <a:pt x="583" y="74"/>
                </a:lnTo>
                <a:lnTo>
                  <a:pt x="459" y="66"/>
                </a:lnTo>
                <a:lnTo>
                  <a:pt x="428" y="119"/>
                </a:lnTo>
                <a:lnTo>
                  <a:pt x="352" y="141"/>
                </a:lnTo>
                <a:lnTo>
                  <a:pt x="330" y="238"/>
                </a:lnTo>
                <a:lnTo>
                  <a:pt x="220" y="357"/>
                </a:lnTo>
                <a:lnTo>
                  <a:pt x="158" y="524"/>
                </a:lnTo>
                <a:lnTo>
                  <a:pt x="189" y="586"/>
                </a:lnTo>
                <a:lnTo>
                  <a:pt x="66" y="635"/>
                </a:lnTo>
                <a:lnTo>
                  <a:pt x="66" y="856"/>
                </a:lnTo>
                <a:lnTo>
                  <a:pt x="97" y="900"/>
                </a:lnTo>
                <a:lnTo>
                  <a:pt x="66" y="935"/>
                </a:lnTo>
                <a:lnTo>
                  <a:pt x="79" y="1032"/>
                </a:lnTo>
                <a:lnTo>
                  <a:pt x="0" y="113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4511520" y="2755800"/>
            <a:ext cx="100440" cy="57600"/>
          </a:xfrm>
          <a:custGeom>
            <a:avLst/>
            <a:gdLst/>
            <a:ahLst/>
            <a:rect l="0" t="0" r="r" b="b"/>
            <a:pathLst>
              <a:path fill="none" w="279" h="160">
                <a:moveTo>
                  <a:pt x="0" y="106"/>
                </a:moveTo>
                <a:lnTo>
                  <a:pt x="61" y="160"/>
                </a:lnTo>
                <a:lnTo>
                  <a:pt x="150" y="115"/>
                </a:lnTo>
                <a:lnTo>
                  <a:pt x="190" y="160"/>
                </a:lnTo>
                <a:lnTo>
                  <a:pt x="279" y="71"/>
                </a:lnTo>
                <a:lnTo>
                  <a:pt x="222" y="62"/>
                </a:lnTo>
                <a:lnTo>
                  <a:pt x="222" y="17"/>
                </a:lnTo>
                <a:lnTo>
                  <a:pt x="213" y="13"/>
                </a:lnTo>
                <a:lnTo>
                  <a:pt x="84" y="0"/>
                </a:lnTo>
                <a:lnTo>
                  <a:pt x="0" y="106"/>
                </a:lnTo>
              </a:path>
            </a:pathLst>
          </a:custGeom>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sp>
        <p:nvSpPr>
          <p:cNvPr id="299" name=""/>
          <p:cNvSpPr/>
          <p:nvPr/>
        </p:nvSpPr>
        <p:spPr>
          <a:xfrm>
            <a:off x="5186520" y="3083040"/>
            <a:ext cx="165600" cy="140040"/>
          </a:xfrm>
          <a:custGeom>
            <a:avLst/>
            <a:gdLst/>
            <a:ahLst/>
            <a:rect l="0" t="0" r="r" b="b"/>
            <a:pathLst>
              <a:path w="460" h="389">
                <a:moveTo>
                  <a:pt x="0" y="358"/>
                </a:moveTo>
                <a:lnTo>
                  <a:pt x="13" y="318"/>
                </a:lnTo>
                <a:lnTo>
                  <a:pt x="74" y="230"/>
                </a:lnTo>
                <a:lnTo>
                  <a:pt x="39" y="195"/>
                </a:lnTo>
                <a:lnTo>
                  <a:pt x="35" y="97"/>
                </a:lnTo>
                <a:lnTo>
                  <a:pt x="74" y="17"/>
                </a:lnTo>
                <a:lnTo>
                  <a:pt x="460" y="0"/>
                </a:lnTo>
                <a:lnTo>
                  <a:pt x="381" y="61"/>
                </a:lnTo>
                <a:lnTo>
                  <a:pt x="359" y="221"/>
                </a:lnTo>
                <a:lnTo>
                  <a:pt x="208" y="309"/>
                </a:lnTo>
                <a:lnTo>
                  <a:pt x="61" y="389"/>
                </a:lnTo>
                <a:lnTo>
                  <a:pt x="0" y="358"/>
                </a:lnTo>
                <a:close/>
              </a:path>
            </a:pathLst>
          </a:custGeom>
          <a:blipFill rotWithShape="0">
            <a:blip r:embed="rId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2948040" y="3808440"/>
            <a:ext cx="25920" cy="25920"/>
          </a:xfrm>
          <a:custGeom>
            <a:avLst/>
            <a:gdLst/>
            <a:ahLst/>
            <a:rect l="0" t="0" r="r" b="b"/>
            <a:pathLst>
              <a:path fill="none" w="72" h="72">
                <a:moveTo>
                  <a:pt x="0" y="72"/>
                </a:moveTo>
                <a:lnTo>
                  <a:pt x="63" y="53"/>
                </a:lnTo>
                <a:lnTo>
                  <a:pt x="72" y="0"/>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01" name=""/>
          <p:cNvSpPr/>
          <p:nvPr/>
        </p:nvSpPr>
        <p:spPr>
          <a:xfrm>
            <a:off x="5545080" y="3398760"/>
            <a:ext cx="124200" cy="95760"/>
          </a:xfrm>
          <a:custGeom>
            <a:avLst/>
            <a:gdLst/>
            <a:ahLst/>
            <a:rect l="0" t="0" r="r" b="b"/>
            <a:pathLst>
              <a:path fill="none" w="345" h="266">
                <a:moveTo>
                  <a:pt x="0" y="115"/>
                </a:moveTo>
                <a:lnTo>
                  <a:pt x="13" y="111"/>
                </a:lnTo>
                <a:lnTo>
                  <a:pt x="44" y="150"/>
                </a:lnTo>
                <a:lnTo>
                  <a:pt x="181" y="150"/>
                </a:lnTo>
                <a:lnTo>
                  <a:pt x="319" y="0"/>
                </a:lnTo>
                <a:lnTo>
                  <a:pt x="345" y="89"/>
                </a:lnTo>
                <a:lnTo>
                  <a:pt x="293" y="93"/>
                </a:lnTo>
                <a:lnTo>
                  <a:pt x="319" y="150"/>
                </a:lnTo>
                <a:lnTo>
                  <a:pt x="266" y="266"/>
                </a:lnTo>
                <a:lnTo>
                  <a:pt x="57" y="231"/>
                </a:lnTo>
                <a:lnTo>
                  <a:pt x="0" y="115"/>
                </a:lnTo>
              </a:path>
            </a:pathLst>
          </a:custGeom>
          <a:ln w="12600">
            <a:solidFill>
              <a:srgbClr val="000000"/>
            </a:solidFill>
            <a:round/>
          </a:ln>
        </p:spPr>
        <p:txBody>
          <a:bodyPr lIns="96120" rIns="96120" tIns="44640" bIns="44640" anchor="t">
            <a:noAutofit/>
          </a:bodyPr>
          <a:p>
            <a:endParaRPr b="0" lang="en-US" sz="1800" spc="-1" strike="noStrike">
              <a:solidFill>
                <a:srgbClr val="000000"/>
              </a:solidFill>
              <a:latin typeface="Arial"/>
            </a:endParaRPr>
          </a:p>
        </p:txBody>
      </p:sp>
      <p:sp>
        <p:nvSpPr>
          <p:cNvPr id="302" name=""/>
          <p:cNvSpPr/>
          <p:nvPr/>
        </p:nvSpPr>
        <p:spPr>
          <a:xfrm>
            <a:off x="4543560" y="3087720"/>
            <a:ext cx="92520" cy="192600"/>
          </a:xfrm>
          <a:custGeom>
            <a:avLst/>
            <a:gdLst/>
            <a:ahLst/>
            <a:rect l="0" t="0" r="r" b="b"/>
            <a:pathLst>
              <a:path fill="none" w="257" h="535">
                <a:moveTo>
                  <a:pt x="0" y="247"/>
                </a:moveTo>
                <a:lnTo>
                  <a:pt x="52" y="199"/>
                </a:lnTo>
                <a:lnTo>
                  <a:pt x="80" y="0"/>
                </a:lnTo>
                <a:lnTo>
                  <a:pt x="231" y="0"/>
                </a:lnTo>
                <a:lnTo>
                  <a:pt x="200" y="61"/>
                </a:lnTo>
                <a:lnTo>
                  <a:pt x="235" y="142"/>
                </a:lnTo>
                <a:lnTo>
                  <a:pt x="146" y="247"/>
                </a:lnTo>
                <a:lnTo>
                  <a:pt x="257" y="314"/>
                </a:lnTo>
                <a:lnTo>
                  <a:pt x="120" y="535"/>
                </a:lnTo>
                <a:lnTo>
                  <a:pt x="111" y="393"/>
                </a:lnTo>
                <a:lnTo>
                  <a:pt x="0" y="24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4973760" y="2940120"/>
            <a:ext cx="63720" cy="54360"/>
          </a:xfrm>
          <a:custGeom>
            <a:avLst/>
            <a:gdLst/>
            <a:ahLst/>
            <a:rect l="0" t="0" r="r" b="b"/>
            <a:pathLst>
              <a:path fill="none" w="177" h="151">
                <a:moveTo>
                  <a:pt x="0" y="98"/>
                </a:moveTo>
                <a:lnTo>
                  <a:pt x="17" y="0"/>
                </a:lnTo>
                <a:lnTo>
                  <a:pt x="115" y="0"/>
                </a:lnTo>
                <a:lnTo>
                  <a:pt x="177" y="71"/>
                </a:lnTo>
                <a:lnTo>
                  <a:pt x="98" y="75"/>
                </a:lnTo>
                <a:lnTo>
                  <a:pt x="4" y="151"/>
                </a:lnTo>
                <a:lnTo>
                  <a:pt x="44" y="98"/>
                </a:lnTo>
                <a:lnTo>
                  <a:pt x="0" y="98"/>
                </a:lnTo>
              </a:path>
            </a:pathLst>
          </a:custGeom>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304" name=""/>
          <p:cNvSpPr/>
          <p:nvPr/>
        </p:nvSpPr>
        <p:spPr>
          <a:xfrm>
            <a:off x="4979880" y="2935440"/>
            <a:ext cx="422640" cy="182880"/>
          </a:xfrm>
          <a:custGeom>
            <a:avLst/>
            <a:gdLst/>
            <a:ahLst/>
            <a:rect l="0" t="0" r="r" b="b"/>
            <a:pathLst>
              <a:path fill="none" w="1174" h="508">
                <a:moveTo>
                  <a:pt x="0" y="171"/>
                </a:moveTo>
                <a:lnTo>
                  <a:pt x="48" y="296"/>
                </a:lnTo>
                <a:lnTo>
                  <a:pt x="0" y="314"/>
                </a:lnTo>
                <a:lnTo>
                  <a:pt x="48" y="336"/>
                </a:lnTo>
                <a:lnTo>
                  <a:pt x="61" y="419"/>
                </a:lnTo>
                <a:lnTo>
                  <a:pt x="127" y="411"/>
                </a:lnTo>
                <a:lnTo>
                  <a:pt x="61" y="446"/>
                </a:lnTo>
                <a:lnTo>
                  <a:pt x="136" y="428"/>
                </a:lnTo>
                <a:lnTo>
                  <a:pt x="220" y="486"/>
                </a:lnTo>
                <a:lnTo>
                  <a:pt x="300" y="428"/>
                </a:lnTo>
                <a:lnTo>
                  <a:pt x="411" y="499"/>
                </a:lnTo>
                <a:lnTo>
                  <a:pt x="609" y="428"/>
                </a:lnTo>
                <a:lnTo>
                  <a:pt x="609" y="508"/>
                </a:lnTo>
                <a:lnTo>
                  <a:pt x="649" y="428"/>
                </a:lnTo>
                <a:lnTo>
                  <a:pt x="1029" y="411"/>
                </a:lnTo>
                <a:lnTo>
                  <a:pt x="1174" y="402"/>
                </a:lnTo>
                <a:lnTo>
                  <a:pt x="1126" y="220"/>
                </a:lnTo>
                <a:lnTo>
                  <a:pt x="1161" y="180"/>
                </a:lnTo>
                <a:lnTo>
                  <a:pt x="1038" y="30"/>
                </a:lnTo>
                <a:lnTo>
                  <a:pt x="954" y="30"/>
                </a:lnTo>
                <a:lnTo>
                  <a:pt x="750" y="92"/>
                </a:lnTo>
                <a:lnTo>
                  <a:pt x="556" y="0"/>
                </a:lnTo>
                <a:lnTo>
                  <a:pt x="446" y="0"/>
                </a:lnTo>
                <a:lnTo>
                  <a:pt x="300" y="88"/>
                </a:lnTo>
                <a:lnTo>
                  <a:pt x="176" y="61"/>
                </a:lnTo>
                <a:lnTo>
                  <a:pt x="216" y="110"/>
                </a:lnTo>
                <a:lnTo>
                  <a:pt x="0" y="17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4140360" y="2502000"/>
            <a:ext cx="93960" cy="120960"/>
          </a:xfrm>
          <a:custGeom>
            <a:avLst/>
            <a:gdLst/>
            <a:ahLst/>
            <a:rect l="0" t="0" r="r" b="b"/>
            <a:pathLst>
              <a:path fill="none" w="261" h="336">
                <a:moveTo>
                  <a:pt x="0" y="283"/>
                </a:moveTo>
                <a:lnTo>
                  <a:pt x="35" y="314"/>
                </a:lnTo>
                <a:lnTo>
                  <a:pt x="4" y="336"/>
                </a:lnTo>
                <a:lnTo>
                  <a:pt x="234" y="292"/>
                </a:lnTo>
                <a:lnTo>
                  <a:pt x="261" y="105"/>
                </a:lnTo>
                <a:lnTo>
                  <a:pt x="230" y="66"/>
                </a:lnTo>
                <a:lnTo>
                  <a:pt x="159" y="83"/>
                </a:lnTo>
                <a:lnTo>
                  <a:pt x="127" y="61"/>
                </a:lnTo>
                <a:lnTo>
                  <a:pt x="159" y="22"/>
                </a:lnTo>
                <a:lnTo>
                  <a:pt x="127" y="0"/>
                </a:lnTo>
                <a:lnTo>
                  <a:pt x="101" y="83"/>
                </a:lnTo>
                <a:lnTo>
                  <a:pt x="4" y="105"/>
                </a:lnTo>
                <a:lnTo>
                  <a:pt x="35" y="132"/>
                </a:lnTo>
                <a:lnTo>
                  <a:pt x="17" y="177"/>
                </a:lnTo>
                <a:lnTo>
                  <a:pt x="79" y="186"/>
                </a:lnTo>
                <a:lnTo>
                  <a:pt x="17" y="256"/>
                </a:lnTo>
                <a:lnTo>
                  <a:pt x="88" y="243"/>
                </a:lnTo>
                <a:lnTo>
                  <a:pt x="0" y="28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4187880" y="2495520"/>
            <a:ext cx="59040" cy="46440"/>
          </a:xfrm>
          <a:custGeom>
            <a:avLst/>
            <a:gdLst/>
            <a:ahLst/>
            <a:rect l="0" t="0" r="r" b="b"/>
            <a:pathLst>
              <a:path fill="none" w="164" h="129">
                <a:moveTo>
                  <a:pt x="0" y="80"/>
                </a:moveTo>
                <a:lnTo>
                  <a:pt x="17" y="103"/>
                </a:lnTo>
                <a:lnTo>
                  <a:pt x="84" y="84"/>
                </a:lnTo>
                <a:lnTo>
                  <a:pt x="124" y="129"/>
                </a:lnTo>
                <a:lnTo>
                  <a:pt x="164" y="80"/>
                </a:lnTo>
                <a:lnTo>
                  <a:pt x="124" y="13"/>
                </a:lnTo>
                <a:lnTo>
                  <a:pt x="48" y="0"/>
                </a:lnTo>
                <a:lnTo>
                  <a:pt x="26" y="40"/>
                </a:lnTo>
                <a:lnTo>
                  <a:pt x="0" y="80"/>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307" name=""/>
          <p:cNvSpPr/>
          <p:nvPr/>
        </p:nvSpPr>
        <p:spPr>
          <a:xfrm>
            <a:off x="4216320" y="2387520"/>
            <a:ext cx="25920" cy="25920"/>
          </a:xfrm>
          <a:custGeom>
            <a:avLst/>
            <a:gdLst/>
            <a:ahLst/>
            <a:rect l="0" t="0" r="r" b="b"/>
            <a:pathLst>
              <a:path fill="none" w="72" h="72">
                <a:moveTo>
                  <a:pt x="0" y="72"/>
                </a:moveTo>
                <a:lnTo>
                  <a:pt x="0" y="4"/>
                </a:lnTo>
                <a:lnTo>
                  <a:pt x="72" y="0"/>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08" name=""/>
          <p:cNvSpPr/>
          <p:nvPr/>
        </p:nvSpPr>
        <p:spPr>
          <a:xfrm>
            <a:off x="4219560" y="2409840"/>
            <a:ext cx="25920" cy="25920"/>
          </a:xfrm>
          <a:custGeom>
            <a:avLst/>
            <a:gdLst/>
            <a:ahLst/>
            <a:rect l="0" t="0" r="r" b="b"/>
            <a:pathLst>
              <a:path fill="none" w="72" h="72">
                <a:moveTo>
                  <a:pt x="0" y="53"/>
                </a:moveTo>
                <a:lnTo>
                  <a:pt x="36" y="0"/>
                </a:lnTo>
                <a:lnTo>
                  <a:pt x="72" y="72"/>
                </a:lnTo>
                <a:lnTo>
                  <a:pt x="0" y="53"/>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09" name=""/>
          <p:cNvSpPr/>
          <p:nvPr/>
        </p:nvSpPr>
        <p:spPr>
          <a:xfrm>
            <a:off x="4235400" y="2374920"/>
            <a:ext cx="178200" cy="306720"/>
          </a:xfrm>
          <a:custGeom>
            <a:avLst/>
            <a:gdLst/>
            <a:ahLst/>
            <a:rect l="0" t="0" r="r" b="b"/>
            <a:pathLst>
              <a:path fill="none" w="495" h="852">
                <a:moveTo>
                  <a:pt x="0" y="194"/>
                </a:moveTo>
                <a:lnTo>
                  <a:pt x="26" y="88"/>
                </a:lnTo>
                <a:lnTo>
                  <a:pt x="70" y="0"/>
                </a:lnTo>
                <a:lnTo>
                  <a:pt x="190" y="0"/>
                </a:lnTo>
                <a:lnTo>
                  <a:pt x="119" y="101"/>
                </a:lnTo>
                <a:lnTo>
                  <a:pt x="269" y="127"/>
                </a:lnTo>
                <a:lnTo>
                  <a:pt x="177" y="260"/>
                </a:lnTo>
                <a:lnTo>
                  <a:pt x="283" y="313"/>
                </a:lnTo>
                <a:lnTo>
                  <a:pt x="398" y="486"/>
                </a:lnTo>
                <a:lnTo>
                  <a:pt x="358" y="494"/>
                </a:lnTo>
                <a:lnTo>
                  <a:pt x="407" y="530"/>
                </a:lnTo>
                <a:lnTo>
                  <a:pt x="385" y="583"/>
                </a:lnTo>
                <a:lnTo>
                  <a:pt x="495" y="587"/>
                </a:lnTo>
                <a:lnTo>
                  <a:pt x="429" y="706"/>
                </a:lnTo>
                <a:lnTo>
                  <a:pt x="473" y="741"/>
                </a:lnTo>
                <a:lnTo>
                  <a:pt x="30" y="852"/>
                </a:lnTo>
                <a:lnTo>
                  <a:pt x="221" y="684"/>
                </a:lnTo>
                <a:lnTo>
                  <a:pt x="172" y="715"/>
                </a:lnTo>
                <a:lnTo>
                  <a:pt x="52" y="666"/>
                </a:lnTo>
                <a:lnTo>
                  <a:pt x="137" y="609"/>
                </a:lnTo>
                <a:lnTo>
                  <a:pt x="83" y="583"/>
                </a:lnTo>
                <a:lnTo>
                  <a:pt x="195" y="521"/>
                </a:lnTo>
                <a:lnTo>
                  <a:pt x="208" y="437"/>
                </a:lnTo>
                <a:lnTo>
                  <a:pt x="150" y="414"/>
                </a:lnTo>
                <a:lnTo>
                  <a:pt x="190" y="374"/>
                </a:lnTo>
                <a:lnTo>
                  <a:pt x="70" y="392"/>
                </a:lnTo>
                <a:lnTo>
                  <a:pt x="70" y="273"/>
                </a:lnTo>
                <a:lnTo>
                  <a:pt x="26" y="335"/>
                </a:lnTo>
                <a:lnTo>
                  <a:pt x="44" y="202"/>
                </a:lnTo>
                <a:lnTo>
                  <a:pt x="0" y="19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514440" y="1836720"/>
            <a:ext cx="681480" cy="673560"/>
          </a:xfrm>
          <a:custGeom>
            <a:avLst/>
            <a:gdLst/>
            <a:ahLst/>
            <a:rect l="0" t="0" r="r" b="b"/>
            <a:pathLst>
              <a:path fill="none" w="1893" h="1871">
                <a:moveTo>
                  <a:pt x="0" y="715"/>
                </a:moveTo>
                <a:lnTo>
                  <a:pt x="101" y="750"/>
                </a:lnTo>
                <a:lnTo>
                  <a:pt x="57" y="772"/>
                </a:lnTo>
                <a:lnTo>
                  <a:pt x="105" y="834"/>
                </a:lnTo>
                <a:lnTo>
                  <a:pt x="299" y="825"/>
                </a:lnTo>
                <a:lnTo>
                  <a:pt x="326" y="869"/>
                </a:lnTo>
                <a:lnTo>
                  <a:pt x="449" y="816"/>
                </a:lnTo>
                <a:lnTo>
                  <a:pt x="405" y="843"/>
                </a:lnTo>
                <a:lnTo>
                  <a:pt x="436" y="957"/>
                </a:lnTo>
                <a:lnTo>
                  <a:pt x="167" y="1059"/>
                </a:lnTo>
                <a:lnTo>
                  <a:pt x="97" y="1178"/>
                </a:lnTo>
                <a:lnTo>
                  <a:pt x="163" y="1160"/>
                </a:lnTo>
                <a:lnTo>
                  <a:pt x="105" y="1196"/>
                </a:lnTo>
                <a:lnTo>
                  <a:pt x="163" y="1240"/>
                </a:lnTo>
                <a:lnTo>
                  <a:pt x="260" y="1253"/>
                </a:lnTo>
                <a:lnTo>
                  <a:pt x="202" y="1310"/>
                </a:lnTo>
                <a:lnTo>
                  <a:pt x="255" y="1376"/>
                </a:lnTo>
                <a:lnTo>
                  <a:pt x="299" y="1381"/>
                </a:lnTo>
                <a:lnTo>
                  <a:pt x="405" y="1253"/>
                </a:lnTo>
                <a:lnTo>
                  <a:pt x="330" y="1310"/>
                </a:lnTo>
                <a:lnTo>
                  <a:pt x="392" y="1439"/>
                </a:lnTo>
                <a:lnTo>
                  <a:pt x="357" y="1492"/>
                </a:lnTo>
                <a:lnTo>
                  <a:pt x="481" y="1413"/>
                </a:lnTo>
                <a:lnTo>
                  <a:pt x="565" y="1510"/>
                </a:lnTo>
                <a:lnTo>
                  <a:pt x="587" y="1452"/>
                </a:lnTo>
                <a:lnTo>
                  <a:pt x="613" y="1492"/>
                </a:lnTo>
                <a:lnTo>
                  <a:pt x="706" y="1439"/>
                </a:lnTo>
                <a:lnTo>
                  <a:pt x="583" y="1673"/>
                </a:lnTo>
                <a:lnTo>
                  <a:pt x="494" y="1721"/>
                </a:lnTo>
                <a:lnTo>
                  <a:pt x="481" y="1774"/>
                </a:lnTo>
                <a:lnTo>
                  <a:pt x="357" y="1774"/>
                </a:lnTo>
                <a:lnTo>
                  <a:pt x="277" y="1871"/>
                </a:lnTo>
                <a:lnTo>
                  <a:pt x="392" y="1801"/>
                </a:lnTo>
                <a:lnTo>
                  <a:pt x="516" y="1805"/>
                </a:lnTo>
                <a:lnTo>
                  <a:pt x="587" y="1752"/>
                </a:lnTo>
                <a:lnTo>
                  <a:pt x="552" y="1699"/>
                </a:lnTo>
                <a:lnTo>
                  <a:pt x="631" y="1712"/>
                </a:lnTo>
                <a:lnTo>
                  <a:pt x="874" y="1532"/>
                </a:lnTo>
                <a:lnTo>
                  <a:pt x="922" y="1461"/>
                </a:lnTo>
                <a:lnTo>
                  <a:pt x="874" y="1413"/>
                </a:lnTo>
                <a:lnTo>
                  <a:pt x="1094" y="1204"/>
                </a:lnTo>
                <a:lnTo>
                  <a:pt x="1116" y="1090"/>
                </a:lnTo>
                <a:lnTo>
                  <a:pt x="1094" y="1204"/>
                </a:lnTo>
                <a:lnTo>
                  <a:pt x="1173" y="1178"/>
                </a:lnTo>
                <a:lnTo>
                  <a:pt x="1125" y="1226"/>
                </a:lnTo>
                <a:lnTo>
                  <a:pt x="1200" y="1253"/>
                </a:lnTo>
                <a:lnTo>
                  <a:pt x="1046" y="1266"/>
                </a:lnTo>
                <a:lnTo>
                  <a:pt x="1019" y="1368"/>
                </a:lnTo>
                <a:lnTo>
                  <a:pt x="1072" y="1354"/>
                </a:lnTo>
                <a:lnTo>
                  <a:pt x="1019" y="1426"/>
                </a:lnTo>
                <a:lnTo>
                  <a:pt x="1226" y="1337"/>
                </a:lnTo>
                <a:lnTo>
                  <a:pt x="1257" y="1279"/>
                </a:lnTo>
                <a:lnTo>
                  <a:pt x="1222" y="1257"/>
                </a:lnTo>
                <a:lnTo>
                  <a:pt x="1271" y="1204"/>
                </a:lnTo>
                <a:lnTo>
                  <a:pt x="1266" y="1253"/>
                </a:lnTo>
                <a:lnTo>
                  <a:pt x="1372" y="1218"/>
                </a:lnTo>
                <a:lnTo>
                  <a:pt x="1350" y="1266"/>
                </a:lnTo>
                <a:lnTo>
                  <a:pt x="1518" y="1337"/>
                </a:lnTo>
                <a:lnTo>
                  <a:pt x="1761" y="1376"/>
                </a:lnTo>
                <a:lnTo>
                  <a:pt x="1801" y="1337"/>
                </a:lnTo>
                <a:lnTo>
                  <a:pt x="1836" y="1354"/>
                </a:lnTo>
                <a:lnTo>
                  <a:pt x="1787" y="1398"/>
                </a:lnTo>
                <a:lnTo>
                  <a:pt x="1858" y="1439"/>
                </a:lnTo>
                <a:lnTo>
                  <a:pt x="1893" y="1408"/>
                </a:lnTo>
                <a:lnTo>
                  <a:pt x="1836" y="1310"/>
                </a:lnTo>
                <a:lnTo>
                  <a:pt x="1712" y="1310"/>
                </a:lnTo>
                <a:lnTo>
                  <a:pt x="1712" y="211"/>
                </a:lnTo>
                <a:lnTo>
                  <a:pt x="1024" y="127"/>
                </a:lnTo>
                <a:lnTo>
                  <a:pt x="997" y="70"/>
                </a:lnTo>
                <a:lnTo>
                  <a:pt x="812" y="39"/>
                </a:lnTo>
                <a:lnTo>
                  <a:pt x="794" y="79"/>
                </a:lnTo>
                <a:lnTo>
                  <a:pt x="728" y="70"/>
                </a:lnTo>
                <a:lnTo>
                  <a:pt x="794" y="30"/>
                </a:lnTo>
                <a:lnTo>
                  <a:pt x="706" y="0"/>
                </a:lnTo>
                <a:lnTo>
                  <a:pt x="636" y="70"/>
                </a:lnTo>
                <a:lnTo>
                  <a:pt x="508" y="79"/>
                </a:lnTo>
                <a:lnTo>
                  <a:pt x="499" y="141"/>
                </a:lnTo>
                <a:lnTo>
                  <a:pt x="494" y="110"/>
                </a:lnTo>
                <a:lnTo>
                  <a:pt x="366" y="141"/>
                </a:lnTo>
                <a:lnTo>
                  <a:pt x="392" y="198"/>
                </a:lnTo>
                <a:lnTo>
                  <a:pt x="330" y="180"/>
                </a:lnTo>
                <a:lnTo>
                  <a:pt x="268" y="282"/>
                </a:lnTo>
                <a:lnTo>
                  <a:pt x="97" y="321"/>
                </a:lnTo>
                <a:lnTo>
                  <a:pt x="105" y="370"/>
                </a:lnTo>
                <a:lnTo>
                  <a:pt x="57" y="388"/>
                </a:lnTo>
                <a:lnTo>
                  <a:pt x="268" y="534"/>
                </a:lnTo>
                <a:lnTo>
                  <a:pt x="530" y="613"/>
                </a:lnTo>
                <a:lnTo>
                  <a:pt x="357" y="587"/>
                </a:lnTo>
                <a:lnTo>
                  <a:pt x="366" y="636"/>
                </a:lnTo>
                <a:lnTo>
                  <a:pt x="440" y="636"/>
                </a:lnTo>
                <a:lnTo>
                  <a:pt x="388" y="666"/>
                </a:lnTo>
                <a:lnTo>
                  <a:pt x="268" y="658"/>
                </a:lnTo>
                <a:lnTo>
                  <a:pt x="268" y="596"/>
                </a:lnTo>
                <a:lnTo>
                  <a:pt x="198" y="609"/>
                </a:lnTo>
                <a:lnTo>
                  <a:pt x="0" y="71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787320" y="3562200"/>
            <a:ext cx="27360" cy="35280"/>
          </a:xfrm>
          <a:custGeom>
            <a:avLst/>
            <a:gdLst/>
            <a:ahLst/>
            <a:rect l="0" t="0" r="r" b="b"/>
            <a:pathLst>
              <a:path fill="none" w="76" h="98">
                <a:moveTo>
                  <a:pt x="0" y="30"/>
                </a:moveTo>
                <a:lnTo>
                  <a:pt x="8" y="0"/>
                </a:lnTo>
                <a:lnTo>
                  <a:pt x="76" y="62"/>
                </a:lnTo>
                <a:lnTo>
                  <a:pt x="23" y="98"/>
                </a:lnTo>
                <a:lnTo>
                  <a:pt x="0" y="30"/>
                </a:lnTo>
              </a:path>
            </a:pathLst>
          </a:custGeom>
          <a:ln w="12600">
            <a:solidFill>
              <a:srgbClr val="000000"/>
            </a:solidFill>
            <a:round/>
          </a:ln>
        </p:spPr>
        <p:txBody>
          <a:bodyPr lIns="96120" rIns="96120" tIns="-15840" bIns="-15840" anchor="t">
            <a:noAutofit/>
          </a:bodyPr>
          <a:p>
            <a:endParaRPr b="0" lang="en-US" sz="1800" spc="-1" strike="noStrike">
              <a:solidFill>
                <a:srgbClr val="000000"/>
              </a:solidFill>
              <a:latin typeface="Arial"/>
            </a:endParaRPr>
          </a:p>
        </p:txBody>
      </p:sp>
      <p:sp>
        <p:nvSpPr>
          <p:cNvPr id="312" name=""/>
          <p:cNvSpPr/>
          <p:nvPr/>
        </p:nvSpPr>
        <p:spPr>
          <a:xfrm>
            <a:off x="811080" y="2401920"/>
            <a:ext cx="63720" cy="39960"/>
          </a:xfrm>
          <a:custGeom>
            <a:avLst/>
            <a:gdLst/>
            <a:ahLst/>
            <a:rect l="0" t="0" r="r" b="b"/>
            <a:pathLst>
              <a:path fill="none" w="177" h="111">
                <a:moveTo>
                  <a:pt x="0" y="48"/>
                </a:moveTo>
                <a:lnTo>
                  <a:pt x="48" y="111"/>
                </a:lnTo>
                <a:lnTo>
                  <a:pt x="177" y="17"/>
                </a:lnTo>
                <a:lnTo>
                  <a:pt x="57" y="0"/>
                </a:lnTo>
                <a:lnTo>
                  <a:pt x="70" y="35"/>
                </a:lnTo>
                <a:lnTo>
                  <a:pt x="0" y="48"/>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313" name=""/>
          <p:cNvSpPr/>
          <p:nvPr/>
        </p:nvSpPr>
        <p:spPr>
          <a:xfrm>
            <a:off x="1200240" y="2328840"/>
            <a:ext cx="184680" cy="182880"/>
          </a:xfrm>
          <a:custGeom>
            <a:avLst/>
            <a:gdLst/>
            <a:ahLst/>
            <a:rect l="0" t="0" r="r" b="b"/>
            <a:pathLst>
              <a:path fill="none" w="513" h="508">
                <a:moveTo>
                  <a:pt x="0" y="44"/>
                </a:moveTo>
                <a:lnTo>
                  <a:pt x="17" y="119"/>
                </a:lnTo>
                <a:lnTo>
                  <a:pt x="92" y="158"/>
                </a:lnTo>
                <a:lnTo>
                  <a:pt x="119" y="123"/>
                </a:lnTo>
                <a:lnTo>
                  <a:pt x="52" y="92"/>
                </a:lnTo>
                <a:lnTo>
                  <a:pt x="119" y="92"/>
                </a:lnTo>
                <a:lnTo>
                  <a:pt x="177" y="158"/>
                </a:lnTo>
                <a:lnTo>
                  <a:pt x="155" y="35"/>
                </a:lnTo>
                <a:lnTo>
                  <a:pt x="190" y="136"/>
                </a:lnTo>
                <a:lnTo>
                  <a:pt x="305" y="198"/>
                </a:lnTo>
                <a:lnTo>
                  <a:pt x="287" y="269"/>
                </a:lnTo>
                <a:lnTo>
                  <a:pt x="412" y="362"/>
                </a:lnTo>
                <a:lnTo>
                  <a:pt x="375" y="433"/>
                </a:lnTo>
                <a:lnTo>
                  <a:pt x="438" y="384"/>
                </a:lnTo>
                <a:lnTo>
                  <a:pt x="456" y="508"/>
                </a:lnTo>
                <a:lnTo>
                  <a:pt x="504" y="486"/>
                </a:lnTo>
                <a:lnTo>
                  <a:pt x="513" y="384"/>
                </a:lnTo>
                <a:lnTo>
                  <a:pt x="380" y="331"/>
                </a:lnTo>
                <a:lnTo>
                  <a:pt x="155" y="0"/>
                </a:lnTo>
                <a:lnTo>
                  <a:pt x="26" y="92"/>
                </a:lnTo>
                <a:lnTo>
                  <a:pt x="0" y="4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238400" y="2387520"/>
            <a:ext cx="32040" cy="28800"/>
          </a:xfrm>
          <a:custGeom>
            <a:avLst/>
            <a:gdLst/>
            <a:ahLst/>
            <a:rect l="0" t="0" r="r" b="b"/>
            <a:pathLst>
              <a:path fill="none" w="89" h="80">
                <a:moveTo>
                  <a:pt x="0" y="0"/>
                </a:moveTo>
                <a:lnTo>
                  <a:pt x="26" y="80"/>
                </a:lnTo>
                <a:lnTo>
                  <a:pt x="35" y="39"/>
                </a:lnTo>
                <a:lnTo>
                  <a:pt x="89" y="80"/>
                </a:lnTo>
                <a:lnTo>
                  <a:pt x="35" y="39"/>
                </a:lnTo>
                <a:lnTo>
                  <a:pt x="89" y="17"/>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315" name=""/>
          <p:cNvSpPr/>
          <p:nvPr/>
        </p:nvSpPr>
        <p:spPr>
          <a:xfrm>
            <a:off x="1254240" y="2413080"/>
            <a:ext cx="25920" cy="46440"/>
          </a:xfrm>
          <a:custGeom>
            <a:avLst/>
            <a:gdLst/>
            <a:ahLst/>
            <a:rect l="0" t="0" r="r" b="b"/>
            <a:pathLst>
              <a:path fill="none" w="72" h="129">
                <a:moveTo>
                  <a:pt x="0" y="0"/>
                </a:moveTo>
                <a:lnTo>
                  <a:pt x="59" y="26"/>
                </a:lnTo>
                <a:lnTo>
                  <a:pt x="72" y="129"/>
                </a:lnTo>
                <a:lnTo>
                  <a:pt x="0" y="0"/>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316" name=""/>
          <p:cNvSpPr/>
          <p:nvPr/>
        </p:nvSpPr>
        <p:spPr>
          <a:xfrm>
            <a:off x="1273320" y="2390760"/>
            <a:ext cx="25920" cy="30600"/>
          </a:xfrm>
          <a:custGeom>
            <a:avLst/>
            <a:gdLst/>
            <a:ahLst/>
            <a:rect l="0" t="0" r="r" b="b"/>
            <a:pathLst>
              <a:path fill="none" w="72" h="85">
                <a:moveTo>
                  <a:pt x="0" y="0"/>
                </a:moveTo>
                <a:lnTo>
                  <a:pt x="13" y="85"/>
                </a:lnTo>
                <a:lnTo>
                  <a:pt x="68" y="85"/>
                </a:lnTo>
                <a:lnTo>
                  <a:pt x="40" y="8"/>
                </a:lnTo>
                <a:lnTo>
                  <a:pt x="72" y="58"/>
                </a:lnTo>
                <a:lnTo>
                  <a:pt x="40" y="0"/>
                </a:lnTo>
                <a:lnTo>
                  <a:pt x="0" y="0"/>
                </a:lnTo>
              </a:path>
            </a:pathLst>
          </a:custGeom>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317" name=""/>
          <p:cNvSpPr/>
          <p:nvPr/>
        </p:nvSpPr>
        <p:spPr>
          <a:xfrm>
            <a:off x="1293840" y="2432160"/>
            <a:ext cx="25920" cy="25920"/>
          </a:xfrm>
          <a:custGeom>
            <a:avLst/>
            <a:gdLst/>
            <a:ahLst/>
            <a:rect l="0" t="0" r="r" b="b"/>
            <a:pathLst>
              <a:path fill="none" w="72" h="72">
                <a:moveTo>
                  <a:pt x="0" y="0"/>
                </a:moveTo>
                <a:lnTo>
                  <a:pt x="59" y="72"/>
                </a:lnTo>
                <a:lnTo>
                  <a:pt x="72" y="8"/>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18" name=""/>
          <p:cNvSpPr/>
          <p:nvPr/>
        </p:nvSpPr>
        <p:spPr>
          <a:xfrm>
            <a:off x="1298520" y="2459160"/>
            <a:ext cx="35280" cy="47880"/>
          </a:xfrm>
          <a:custGeom>
            <a:avLst/>
            <a:gdLst/>
            <a:ahLst/>
            <a:rect l="0" t="0" r="r" b="b"/>
            <a:pathLst>
              <a:path fill="none" w="98" h="133">
                <a:moveTo>
                  <a:pt x="0" y="0"/>
                </a:moveTo>
                <a:lnTo>
                  <a:pt x="67" y="44"/>
                </a:lnTo>
                <a:lnTo>
                  <a:pt x="98" y="133"/>
                </a:lnTo>
                <a:lnTo>
                  <a:pt x="0" y="0"/>
                </a:lnTo>
              </a:path>
            </a:pathLst>
          </a:custGeom>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319" name=""/>
          <p:cNvSpPr/>
          <p:nvPr/>
        </p:nvSpPr>
        <p:spPr>
          <a:xfrm>
            <a:off x="1347840" y="2473200"/>
            <a:ext cx="25920" cy="25920"/>
          </a:xfrm>
          <a:custGeom>
            <a:avLst/>
            <a:gdLst/>
            <a:ahLst/>
            <a:rect l="0" t="0" r="r" b="b"/>
            <a:pathLst>
              <a:path fill="none" w="72" h="72">
                <a:moveTo>
                  <a:pt x="0" y="40"/>
                </a:moveTo>
                <a:lnTo>
                  <a:pt x="36" y="0"/>
                </a:lnTo>
                <a:lnTo>
                  <a:pt x="72" y="72"/>
                </a:lnTo>
                <a:lnTo>
                  <a:pt x="0" y="4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20" name=""/>
          <p:cNvSpPr/>
          <p:nvPr/>
        </p:nvSpPr>
        <p:spPr>
          <a:xfrm>
            <a:off x="1508040" y="2700360"/>
            <a:ext cx="1322640" cy="722520"/>
          </a:xfrm>
          <a:custGeom>
            <a:avLst/>
            <a:gdLst/>
            <a:ahLst/>
            <a:rect l="0" t="0" r="r" b="b"/>
            <a:pathLst>
              <a:path fill="none" w="3674" h="2007">
                <a:moveTo>
                  <a:pt x="0" y="105"/>
                </a:moveTo>
                <a:lnTo>
                  <a:pt x="35" y="268"/>
                </a:lnTo>
                <a:lnTo>
                  <a:pt x="88" y="291"/>
                </a:lnTo>
                <a:lnTo>
                  <a:pt x="44" y="295"/>
                </a:lnTo>
                <a:lnTo>
                  <a:pt x="22" y="789"/>
                </a:lnTo>
                <a:lnTo>
                  <a:pt x="110" y="983"/>
                </a:lnTo>
                <a:lnTo>
                  <a:pt x="176" y="983"/>
                </a:lnTo>
                <a:lnTo>
                  <a:pt x="145" y="1059"/>
                </a:lnTo>
                <a:lnTo>
                  <a:pt x="260" y="1275"/>
                </a:lnTo>
                <a:lnTo>
                  <a:pt x="383" y="1315"/>
                </a:lnTo>
                <a:lnTo>
                  <a:pt x="480" y="1442"/>
                </a:lnTo>
                <a:lnTo>
                  <a:pt x="626" y="1429"/>
                </a:lnTo>
                <a:lnTo>
                  <a:pt x="873" y="1539"/>
                </a:lnTo>
                <a:lnTo>
                  <a:pt x="1164" y="1491"/>
                </a:lnTo>
                <a:lnTo>
                  <a:pt x="1340" y="1707"/>
                </a:lnTo>
                <a:lnTo>
                  <a:pt x="1468" y="1645"/>
                </a:lnTo>
                <a:lnTo>
                  <a:pt x="1627" y="1906"/>
                </a:lnTo>
                <a:lnTo>
                  <a:pt x="1755" y="1950"/>
                </a:lnTo>
                <a:lnTo>
                  <a:pt x="1741" y="1813"/>
                </a:lnTo>
                <a:lnTo>
                  <a:pt x="1879" y="1725"/>
                </a:lnTo>
                <a:lnTo>
                  <a:pt x="1883" y="1654"/>
                </a:lnTo>
                <a:lnTo>
                  <a:pt x="2086" y="1645"/>
                </a:lnTo>
                <a:lnTo>
                  <a:pt x="2245" y="1707"/>
                </a:lnTo>
                <a:lnTo>
                  <a:pt x="2245" y="1623"/>
                </a:lnTo>
                <a:lnTo>
                  <a:pt x="2183" y="1610"/>
                </a:lnTo>
                <a:lnTo>
                  <a:pt x="2324" y="1610"/>
                </a:lnTo>
                <a:lnTo>
                  <a:pt x="2333" y="1570"/>
                </a:lnTo>
                <a:lnTo>
                  <a:pt x="2338" y="1614"/>
                </a:lnTo>
                <a:lnTo>
                  <a:pt x="2602" y="1628"/>
                </a:lnTo>
                <a:lnTo>
                  <a:pt x="2664" y="1703"/>
                </a:lnTo>
                <a:lnTo>
                  <a:pt x="2677" y="1835"/>
                </a:lnTo>
                <a:lnTo>
                  <a:pt x="2761" y="2007"/>
                </a:lnTo>
                <a:lnTo>
                  <a:pt x="2814" y="1998"/>
                </a:lnTo>
                <a:lnTo>
                  <a:pt x="2836" y="1866"/>
                </a:lnTo>
                <a:lnTo>
                  <a:pt x="2752" y="1570"/>
                </a:lnTo>
                <a:lnTo>
                  <a:pt x="2796" y="1429"/>
                </a:lnTo>
                <a:lnTo>
                  <a:pt x="3123" y="1187"/>
                </a:lnTo>
                <a:lnTo>
                  <a:pt x="3061" y="1156"/>
                </a:lnTo>
                <a:lnTo>
                  <a:pt x="3114" y="1151"/>
                </a:lnTo>
                <a:lnTo>
                  <a:pt x="3078" y="1072"/>
                </a:lnTo>
                <a:lnTo>
                  <a:pt x="3083" y="1001"/>
                </a:lnTo>
                <a:lnTo>
                  <a:pt x="3021" y="939"/>
                </a:lnTo>
                <a:lnTo>
                  <a:pt x="3083" y="978"/>
                </a:lnTo>
                <a:lnTo>
                  <a:pt x="3061" y="890"/>
                </a:lnTo>
                <a:lnTo>
                  <a:pt x="3114" y="859"/>
                </a:lnTo>
                <a:lnTo>
                  <a:pt x="3114" y="1059"/>
                </a:lnTo>
                <a:lnTo>
                  <a:pt x="3167" y="939"/>
                </a:lnTo>
                <a:lnTo>
                  <a:pt x="3136" y="851"/>
                </a:lnTo>
                <a:lnTo>
                  <a:pt x="3167" y="908"/>
                </a:lnTo>
                <a:lnTo>
                  <a:pt x="3237" y="754"/>
                </a:lnTo>
                <a:lnTo>
                  <a:pt x="3497" y="683"/>
                </a:lnTo>
                <a:lnTo>
                  <a:pt x="3431" y="630"/>
                </a:lnTo>
                <a:lnTo>
                  <a:pt x="3471" y="502"/>
                </a:lnTo>
                <a:lnTo>
                  <a:pt x="3669" y="423"/>
                </a:lnTo>
                <a:lnTo>
                  <a:pt x="3674" y="374"/>
                </a:lnTo>
                <a:lnTo>
                  <a:pt x="3630" y="335"/>
                </a:lnTo>
                <a:lnTo>
                  <a:pt x="3630" y="216"/>
                </a:lnTo>
                <a:lnTo>
                  <a:pt x="3524" y="171"/>
                </a:lnTo>
                <a:lnTo>
                  <a:pt x="3444" y="366"/>
                </a:lnTo>
                <a:lnTo>
                  <a:pt x="3114" y="432"/>
                </a:lnTo>
                <a:lnTo>
                  <a:pt x="3101" y="524"/>
                </a:lnTo>
                <a:lnTo>
                  <a:pt x="2911" y="551"/>
                </a:lnTo>
                <a:lnTo>
                  <a:pt x="2924" y="577"/>
                </a:lnTo>
                <a:lnTo>
                  <a:pt x="2735" y="692"/>
                </a:lnTo>
                <a:lnTo>
                  <a:pt x="2651" y="692"/>
                </a:lnTo>
                <a:lnTo>
                  <a:pt x="2646" y="657"/>
                </a:lnTo>
                <a:lnTo>
                  <a:pt x="2664" y="621"/>
                </a:lnTo>
                <a:lnTo>
                  <a:pt x="2677" y="604"/>
                </a:lnTo>
                <a:lnTo>
                  <a:pt x="2686" y="564"/>
                </a:lnTo>
                <a:lnTo>
                  <a:pt x="2664" y="471"/>
                </a:lnTo>
                <a:lnTo>
                  <a:pt x="2598" y="502"/>
                </a:lnTo>
                <a:lnTo>
                  <a:pt x="2629" y="374"/>
                </a:lnTo>
                <a:lnTo>
                  <a:pt x="2532" y="335"/>
                </a:lnTo>
                <a:lnTo>
                  <a:pt x="2448" y="423"/>
                </a:lnTo>
                <a:lnTo>
                  <a:pt x="2421" y="661"/>
                </a:lnTo>
                <a:lnTo>
                  <a:pt x="2360" y="661"/>
                </a:lnTo>
                <a:lnTo>
                  <a:pt x="2342" y="551"/>
                </a:lnTo>
                <a:lnTo>
                  <a:pt x="2386" y="374"/>
                </a:lnTo>
                <a:lnTo>
                  <a:pt x="2342" y="401"/>
                </a:lnTo>
                <a:lnTo>
                  <a:pt x="2421" y="308"/>
                </a:lnTo>
                <a:lnTo>
                  <a:pt x="2598" y="308"/>
                </a:lnTo>
                <a:lnTo>
                  <a:pt x="2558" y="260"/>
                </a:lnTo>
                <a:lnTo>
                  <a:pt x="2549" y="260"/>
                </a:lnTo>
                <a:lnTo>
                  <a:pt x="2307" y="229"/>
                </a:lnTo>
                <a:lnTo>
                  <a:pt x="2342" y="171"/>
                </a:lnTo>
                <a:lnTo>
                  <a:pt x="2192" y="260"/>
                </a:lnTo>
                <a:lnTo>
                  <a:pt x="2077" y="260"/>
                </a:lnTo>
                <a:lnTo>
                  <a:pt x="2223" y="127"/>
                </a:lnTo>
                <a:lnTo>
                  <a:pt x="1914" y="61"/>
                </a:lnTo>
                <a:lnTo>
                  <a:pt x="1879" y="0"/>
                </a:lnTo>
                <a:lnTo>
                  <a:pt x="1879" y="35"/>
                </a:lnTo>
                <a:lnTo>
                  <a:pt x="119" y="35"/>
                </a:lnTo>
                <a:lnTo>
                  <a:pt x="154" y="119"/>
                </a:lnTo>
                <a:lnTo>
                  <a:pt x="110" y="171"/>
                </a:lnTo>
                <a:lnTo>
                  <a:pt x="123" y="119"/>
                </a:lnTo>
                <a:lnTo>
                  <a:pt x="0" y="10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8693280" y="2174760"/>
            <a:ext cx="71640" cy="27360"/>
          </a:xfrm>
          <a:custGeom>
            <a:avLst/>
            <a:gdLst/>
            <a:ahLst/>
            <a:rect l="0" t="0" r="r" b="b"/>
            <a:pathLst>
              <a:path fill="none" w="199" h="76">
                <a:moveTo>
                  <a:pt x="0" y="27"/>
                </a:moveTo>
                <a:lnTo>
                  <a:pt x="120" y="0"/>
                </a:lnTo>
                <a:lnTo>
                  <a:pt x="199" y="36"/>
                </a:lnTo>
                <a:lnTo>
                  <a:pt x="150" y="76"/>
                </a:lnTo>
                <a:lnTo>
                  <a:pt x="0" y="27"/>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322" name=""/>
          <p:cNvSpPr/>
          <p:nvPr/>
        </p:nvSpPr>
        <p:spPr>
          <a:xfrm>
            <a:off x="3029040" y="4879800"/>
            <a:ext cx="122760" cy="143280"/>
          </a:xfrm>
          <a:custGeom>
            <a:avLst/>
            <a:gdLst/>
            <a:ahLst/>
            <a:rect l="0" t="0" r="r" b="b"/>
            <a:pathLst>
              <a:path fill="none" w="341" h="398">
                <a:moveTo>
                  <a:pt x="0" y="319"/>
                </a:moveTo>
                <a:lnTo>
                  <a:pt x="57" y="17"/>
                </a:lnTo>
                <a:lnTo>
                  <a:pt x="98" y="0"/>
                </a:lnTo>
                <a:lnTo>
                  <a:pt x="297" y="164"/>
                </a:lnTo>
                <a:lnTo>
                  <a:pt x="341" y="221"/>
                </a:lnTo>
                <a:lnTo>
                  <a:pt x="315" y="301"/>
                </a:lnTo>
                <a:lnTo>
                  <a:pt x="221" y="398"/>
                </a:lnTo>
                <a:lnTo>
                  <a:pt x="0" y="31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2689200" y="3768840"/>
            <a:ext cx="308160" cy="297360"/>
          </a:xfrm>
          <a:custGeom>
            <a:avLst/>
            <a:gdLst/>
            <a:ahLst/>
            <a:rect l="0" t="0" r="r" b="b"/>
            <a:pathLst>
              <a:path fill="none" w="856" h="826">
                <a:moveTo>
                  <a:pt x="0" y="221"/>
                </a:moveTo>
                <a:lnTo>
                  <a:pt x="74" y="367"/>
                </a:lnTo>
                <a:lnTo>
                  <a:pt x="198" y="384"/>
                </a:lnTo>
                <a:lnTo>
                  <a:pt x="242" y="437"/>
                </a:lnTo>
                <a:lnTo>
                  <a:pt x="366" y="428"/>
                </a:lnTo>
                <a:lnTo>
                  <a:pt x="348" y="685"/>
                </a:lnTo>
                <a:lnTo>
                  <a:pt x="401" y="786"/>
                </a:lnTo>
                <a:lnTo>
                  <a:pt x="477" y="826"/>
                </a:lnTo>
                <a:lnTo>
                  <a:pt x="631" y="720"/>
                </a:lnTo>
                <a:lnTo>
                  <a:pt x="574" y="711"/>
                </a:lnTo>
                <a:lnTo>
                  <a:pt x="538" y="569"/>
                </a:lnTo>
                <a:lnTo>
                  <a:pt x="649" y="596"/>
                </a:lnTo>
                <a:lnTo>
                  <a:pt x="803" y="508"/>
                </a:lnTo>
                <a:lnTo>
                  <a:pt x="768" y="437"/>
                </a:lnTo>
                <a:lnTo>
                  <a:pt x="821" y="371"/>
                </a:lnTo>
                <a:lnTo>
                  <a:pt x="790" y="336"/>
                </a:lnTo>
                <a:lnTo>
                  <a:pt x="856" y="283"/>
                </a:lnTo>
                <a:lnTo>
                  <a:pt x="777" y="274"/>
                </a:lnTo>
                <a:lnTo>
                  <a:pt x="777" y="202"/>
                </a:lnTo>
                <a:lnTo>
                  <a:pt x="653" y="132"/>
                </a:lnTo>
                <a:lnTo>
                  <a:pt x="710" y="114"/>
                </a:lnTo>
                <a:lnTo>
                  <a:pt x="335" y="123"/>
                </a:lnTo>
                <a:lnTo>
                  <a:pt x="207" y="0"/>
                </a:lnTo>
                <a:lnTo>
                  <a:pt x="216" y="57"/>
                </a:lnTo>
                <a:lnTo>
                  <a:pt x="105" y="105"/>
                </a:lnTo>
                <a:lnTo>
                  <a:pt x="136" y="202"/>
                </a:lnTo>
                <a:lnTo>
                  <a:pt x="101" y="234"/>
                </a:lnTo>
                <a:lnTo>
                  <a:pt x="74" y="145"/>
                </a:lnTo>
                <a:lnTo>
                  <a:pt x="114" y="30"/>
                </a:lnTo>
                <a:lnTo>
                  <a:pt x="0" y="22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5370480" y="3591000"/>
            <a:ext cx="222480" cy="165600"/>
          </a:xfrm>
          <a:custGeom>
            <a:avLst/>
            <a:gdLst/>
            <a:ahLst/>
            <a:rect l="0" t="0" r="r" b="b"/>
            <a:pathLst>
              <a:path fill="none" w="618" h="460">
                <a:moveTo>
                  <a:pt x="0" y="460"/>
                </a:moveTo>
                <a:lnTo>
                  <a:pt x="158" y="354"/>
                </a:lnTo>
                <a:lnTo>
                  <a:pt x="132" y="305"/>
                </a:lnTo>
                <a:lnTo>
                  <a:pt x="176" y="252"/>
                </a:lnTo>
                <a:lnTo>
                  <a:pt x="344" y="44"/>
                </a:lnTo>
                <a:lnTo>
                  <a:pt x="543" y="0"/>
                </a:lnTo>
                <a:lnTo>
                  <a:pt x="618" y="181"/>
                </a:lnTo>
                <a:lnTo>
                  <a:pt x="552" y="252"/>
                </a:lnTo>
                <a:lnTo>
                  <a:pt x="327" y="372"/>
                </a:lnTo>
                <a:lnTo>
                  <a:pt x="0" y="46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5351400" y="3633840"/>
            <a:ext cx="86040" cy="122760"/>
          </a:xfrm>
          <a:custGeom>
            <a:avLst/>
            <a:gdLst/>
            <a:ahLst/>
            <a:rect l="0" t="0" r="r" b="b"/>
            <a:pathLst>
              <a:path fill="none" w="239" h="341">
                <a:moveTo>
                  <a:pt x="0" y="66"/>
                </a:moveTo>
                <a:lnTo>
                  <a:pt x="52" y="341"/>
                </a:lnTo>
                <a:lnTo>
                  <a:pt x="212" y="234"/>
                </a:lnTo>
                <a:lnTo>
                  <a:pt x="190" y="186"/>
                </a:lnTo>
                <a:lnTo>
                  <a:pt x="239" y="133"/>
                </a:lnTo>
                <a:lnTo>
                  <a:pt x="239" y="57"/>
                </a:lnTo>
                <a:lnTo>
                  <a:pt x="120" y="0"/>
                </a:lnTo>
                <a:lnTo>
                  <a:pt x="0" y="66"/>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4686120" y="2781360"/>
            <a:ext cx="214560" cy="190800"/>
          </a:xfrm>
          <a:custGeom>
            <a:avLst/>
            <a:gdLst/>
            <a:ahLst/>
            <a:rect l="0" t="0" r="r" b="b"/>
            <a:pathLst>
              <a:path fill="none" w="596" h="530">
                <a:moveTo>
                  <a:pt x="0" y="119"/>
                </a:moveTo>
                <a:lnTo>
                  <a:pt x="0" y="30"/>
                </a:lnTo>
                <a:lnTo>
                  <a:pt x="154" y="0"/>
                </a:lnTo>
                <a:lnTo>
                  <a:pt x="282" y="97"/>
                </a:lnTo>
                <a:lnTo>
                  <a:pt x="424" y="66"/>
                </a:lnTo>
                <a:lnTo>
                  <a:pt x="578" y="229"/>
                </a:lnTo>
                <a:lnTo>
                  <a:pt x="552" y="406"/>
                </a:lnTo>
                <a:lnTo>
                  <a:pt x="596" y="490"/>
                </a:lnTo>
                <a:lnTo>
                  <a:pt x="472" y="530"/>
                </a:lnTo>
                <a:lnTo>
                  <a:pt x="419" y="380"/>
                </a:lnTo>
                <a:lnTo>
                  <a:pt x="362" y="433"/>
                </a:lnTo>
                <a:lnTo>
                  <a:pt x="154" y="296"/>
                </a:lnTo>
                <a:lnTo>
                  <a:pt x="57" y="141"/>
                </a:lnTo>
                <a:lnTo>
                  <a:pt x="0" y="176"/>
                </a:lnTo>
                <a:lnTo>
                  <a:pt x="0" y="11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4638600" y="4232160"/>
            <a:ext cx="290880" cy="322560"/>
          </a:xfrm>
          <a:custGeom>
            <a:avLst/>
            <a:gdLst/>
            <a:ahLst/>
            <a:rect l="0" t="0" r="r" b="b"/>
            <a:pathLst>
              <a:path fill="none" w="808" h="896">
                <a:moveTo>
                  <a:pt x="0" y="830"/>
                </a:moveTo>
                <a:lnTo>
                  <a:pt x="101" y="807"/>
                </a:lnTo>
                <a:lnTo>
                  <a:pt x="623" y="896"/>
                </a:lnTo>
                <a:lnTo>
                  <a:pt x="751" y="856"/>
                </a:lnTo>
                <a:lnTo>
                  <a:pt x="667" y="785"/>
                </a:lnTo>
                <a:lnTo>
                  <a:pt x="667" y="521"/>
                </a:lnTo>
                <a:lnTo>
                  <a:pt x="808" y="521"/>
                </a:lnTo>
                <a:lnTo>
                  <a:pt x="795" y="366"/>
                </a:lnTo>
                <a:lnTo>
                  <a:pt x="667" y="388"/>
                </a:lnTo>
                <a:lnTo>
                  <a:pt x="645" y="123"/>
                </a:lnTo>
                <a:lnTo>
                  <a:pt x="583" y="74"/>
                </a:lnTo>
                <a:lnTo>
                  <a:pt x="508" y="74"/>
                </a:lnTo>
                <a:lnTo>
                  <a:pt x="486" y="154"/>
                </a:lnTo>
                <a:lnTo>
                  <a:pt x="397" y="163"/>
                </a:lnTo>
                <a:lnTo>
                  <a:pt x="296" y="0"/>
                </a:lnTo>
                <a:lnTo>
                  <a:pt x="48" y="35"/>
                </a:lnTo>
                <a:lnTo>
                  <a:pt x="127" y="374"/>
                </a:lnTo>
                <a:lnTo>
                  <a:pt x="0" y="83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4646520" y="4208400"/>
            <a:ext cx="25920" cy="25920"/>
          </a:xfrm>
          <a:custGeom>
            <a:avLst/>
            <a:gdLst/>
            <a:ahLst/>
            <a:rect l="0" t="0" r="r" b="b"/>
            <a:pathLst>
              <a:path fill="none" w="72" h="72">
                <a:moveTo>
                  <a:pt x="0" y="17"/>
                </a:moveTo>
                <a:lnTo>
                  <a:pt x="17" y="72"/>
                </a:lnTo>
                <a:lnTo>
                  <a:pt x="72" y="0"/>
                </a:lnTo>
                <a:lnTo>
                  <a:pt x="0" y="17"/>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29" name=""/>
          <p:cNvSpPr/>
          <p:nvPr/>
        </p:nvSpPr>
        <p:spPr>
          <a:xfrm>
            <a:off x="4830840" y="4546440"/>
            <a:ext cx="214560" cy="243360"/>
          </a:xfrm>
          <a:custGeom>
            <a:avLst/>
            <a:gdLst/>
            <a:ahLst/>
            <a:rect l="0" t="0" r="r" b="b"/>
            <a:pathLst>
              <a:path fill="none" w="596" h="676">
                <a:moveTo>
                  <a:pt x="0" y="513"/>
                </a:moveTo>
                <a:lnTo>
                  <a:pt x="0" y="314"/>
                </a:lnTo>
                <a:lnTo>
                  <a:pt x="57" y="314"/>
                </a:lnTo>
                <a:lnTo>
                  <a:pt x="57" y="61"/>
                </a:lnTo>
                <a:lnTo>
                  <a:pt x="185" y="22"/>
                </a:lnTo>
                <a:lnTo>
                  <a:pt x="224" y="66"/>
                </a:lnTo>
                <a:lnTo>
                  <a:pt x="331" y="0"/>
                </a:lnTo>
                <a:lnTo>
                  <a:pt x="508" y="278"/>
                </a:lnTo>
                <a:lnTo>
                  <a:pt x="596" y="327"/>
                </a:lnTo>
                <a:lnTo>
                  <a:pt x="353" y="575"/>
                </a:lnTo>
                <a:lnTo>
                  <a:pt x="216" y="575"/>
                </a:lnTo>
                <a:lnTo>
                  <a:pt x="136" y="676"/>
                </a:lnTo>
                <a:lnTo>
                  <a:pt x="48" y="676"/>
                </a:lnTo>
                <a:lnTo>
                  <a:pt x="48" y="592"/>
                </a:lnTo>
                <a:lnTo>
                  <a:pt x="0" y="51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5040360" y="4145040"/>
            <a:ext cx="41760" cy="52920"/>
          </a:xfrm>
          <a:custGeom>
            <a:avLst/>
            <a:gdLst/>
            <a:ahLst/>
            <a:rect l="0" t="0" r="r" b="b"/>
            <a:pathLst>
              <a:path fill="none" w="116" h="147">
                <a:moveTo>
                  <a:pt x="0" y="22"/>
                </a:moveTo>
                <a:lnTo>
                  <a:pt x="8" y="80"/>
                </a:lnTo>
                <a:lnTo>
                  <a:pt x="45" y="147"/>
                </a:lnTo>
                <a:lnTo>
                  <a:pt x="116" y="67"/>
                </a:lnTo>
                <a:lnTo>
                  <a:pt x="107" y="0"/>
                </a:lnTo>
                <a:lnTo>
                  <a:pt x="0" y="22"/>
                </a:lnTo>
              </a:path>
            </a:pathLst>
          </a:custGeom>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331" name=""/>
          <p:cNvSpPr/>
          <p:nvPr/>
        </p:nvSpPr>
        <p:spPr>
          <a:xfrm>
            <a:off x="4565520" y="3755880"/>
            <a:ext cx="176400" cy="290880"/>
          </a:xfrm>
          <a:custGeom>
            <a:avLst/>
            <a:gdLst/>
            <a:ahLst/>
            <a:rect l="0" t="0" r="r" b="b"/>
            <a:pathLst>
              <a:path fill="none" w="490" h="808">
                <a:moveTo>
                  <a:pt x="0" y="574"/>
                </a:moveTo>
                <a:lnTo>
                  <a:pt x="61" y="419"/>
                </a:lnTo>
                <a:lnTo>
                  <a:pt x="189" y="446"/>
                </a:lnTo>
                <a:lnTo>
                  <a:pt x="314" y="132"/>
                </a:lnTo>
                <a:lnTo>
                  <a:pt x="384" y="70"/>
                </a:lnTo>
                <a:lnTo>
                  <a:pt x="358" y="13"/>
                </a:lnTo>
                <a:lnTo>
                  <a:pt x="393" y="0"/>
                </a:lnTo>
                <a:lnTo>
                  <a:pt x="441" y="194"/>
                </a:lnTo>
                <a:lnTo>
                  <a:pt x="358" y="234"/>
                </a:lnTo>
                <a:lnTo>
                  <a:pt x="446" y="380"/>
                </a:lnTo>
                <a:lnTo>
                  <a:pt x="393" y="574"/>
                </a:lnTo>
                <a:lnTo>
                  <a:pt x="490" y="707"/>
                </a:lnTo>
                <a:lnTo>
                  <a:pt x="477" y="808"/>
                </a:lnTo>
                <a:lnTo>
                  <a:pt x="305" y="756"/>
                </a:lnTo>
                <a:lnTo>
                  <a:pt x="180" y="756"/>
                </a:lnTo>
                <a:lnTo>
                  <a:pt x="74" y="756"/>
                </a:lnTo>
                <a:lnTo>
                  <a:pt x="70" y="623"/>
                </a:lnTo>
                <a:lnTo>
                  <a:pt x="0" y="57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4707000" y="3801960"/>
            <a:ext cx="298800" cy="208440"/>
          </a:xfrm>
          <a:custGeom>
            <a:avLst/>
            <a:gdLst/>
            <a:ahLst/>
            <a:rect l="0" t="0" r="r" b="b"/>
            <a:pathLst>
              <a:path fill="none" w="830" h="579">
                <a:moveTo>
                  <a:pt x="0" y="438"/>
                </a:moveTo>
                <a:lnTo>
                  <a:pt x="52" y="252"/>
                </a:lnTo>
                <a:lnTo>
                  <a:pt x="264" y="208"/>
                </a:lnTo>
                <a:lnTo>
                  <a:pt x="273" y="146"/>
                </a:lnTo>
                <a:lnTo>
                  <a:pt x="370" y="127"/>
                </a:lnTo>
                <a:lnTo>
                  <a:pt x="521" y="0"/>
                </a:lnTo>
                <a:lnTo>
                  <a:pt x="561" y="155"/>
                </a:lnTo>
                <a:lnTo>
                  <a:pt x="675" y="208"/>
                </a:lnTo>
                <a:lnTo>
                  <a:pt x="830" y="415"/>
                </a:lnTo>
                <a:lnTo>
                  <a:pt x="446" y="473"/>
                </a:lnTo>
                <a:lnTo>
                  <a:pt x="313" y="415"/>
                </a:lnTo>
                <a:lnTo>
                  <a:pt x="264" y="522"/>
                </a:lnTo>
                <a:lnTo>
                  <a:pt x="149" y="522"/>
                </a:lnTo>
                <a:lnTo>
                  <a:pt x="92" y="579"/>
                </a:lnTo>
                <a:lnTo>
                  <a:pt x="0" y="43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4680000" y="3471840"/>
            <a:ext cx="246600" cy="421200"/>
          </a:xfrm>
          <a:custGeom>
            <a:avLst/>
            <a:gdLst/>
            <a:ahLst/>
            <a:rect l="0" t="0" r="r" b="b"/>
            <a:pathLst>
              <a:path fill="none" w="685" h="1170">
                <a:moveTo>
                  <a:pt x="0" y="666"/>
                </a:moveTo>
                <a:lnTo>
                  <a:pt x="101" y="733"/>
                </a:lnTo>
                <a:lnTo>
                  <a:pt x="74" y="785"/>
                </a:lnTo>
                <a:lnTo>
                  <a:pt x="123" y="985"/>
                </a:lnTo>
                <a:lnTo>
                  <a:pt x="44" y="1025"/>
                </a:lnTo>
                <a:lnTo>
                  <a:pt x="132" y="1170"/>
                </a:lnTo>
                <a:lnTo>
                  <a:pt x="340" y="1126"/>
                </a:lnTo>
                <a:lnTo>
                  <a:pt x="358" y="1064"/>
                </a:lnTo>
                <a:lnTo>
                  <a:pt x="450" y="1047"/>
                </a:lnTo>
                <a:lnTo>
                  <a:pt x="597" y="914"/>
                </a:lnTo>
                <a:lnTo>
                  <a:pt x="553" y="768"/>
                </a:lnTo>
                <a:lnTo>
                  <a:pt x="614" y="583"/>
                </a:lnTo>
                <a:lnTo>
                  <a:pt x="685" y="565"/>
                </a:lnTo>
                <a:lnTo>
                  <a:pt x="685" y="291"/>
                </a:lnTo>
                <a:lnTo>
                  <a:pt x="172" y="0"/>
                </a:lnTo>
                <a:lnTo>
                  <a:pt x="101" y="22"/>
                </a:lnTo>
                <a:lnTo>
                  <a:pt x="101" y="141"/>
                </a:lnTo>
                <a:lnTo>
                  <a:pt x="172" y="216"/>
                </a:lnTo>
                <a:lnTo>
                  <a:pt x="132" y="477"/>
                </a:lnTo>
                <a:lnTo>
                  <a:pt x="0" y="666"/>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627440" y="3990960"/>
            <a:ext cx="174960" cy="225720"/>
          </a:xfrm>
          <a:custGeom>
            <a:avLst/>
            <a:gdLst/>
            <a:ahLst/>
            <a:rect l="0" t="0" r="r" b="b"/>
            <a:pathLst>
              <a:path fill="none" w="486" h="627">
                <a:moveTo>
                  <a:pt x="0" y="547"/>
                </a:moveTo>
                <a:lnTo>
                  <a:pt x="48" y="627"/>
                </a:lnTo>
                <a:lnTo>
                  <a:pt x="114" y="605"/>
                </a:lnTo>
                <a:lnTo>
                  <a:pt x="211" y="605"/>
                </a:lnTo>
                <a:lnTo>
                  <a:pt x="305" y="538"/>
                </a:lnTo>
                <a:lnTo>
                  <a:pt x="331" y="415"/>
                </a:lnTo>
                <a:lnTo>
                  <a:pt x="419" y="308"/>
                </a:lnTo>
                <a:lnTo>
                  <a:pt x="486" y="0"/>
                </a:lnTo>
                <a:lnTo>
                  <a:pt x="371" y="0"/>
                </a:lnTo>
                <a:lnTo>
                  <a:pt x="314" y="61"/>
                </a:lnTo>
                <a:lnTo>
                  <a:pt x="305" y="154"/>
                </a:lnTo>
                <a:lnTo>
                  <a:pt x="132" y="101"/>
                </a:lnTo>
                <a:lnTo>
                  <a:pt x="132" y="176"/>
                </a:lnTo>
                <a:lnTo>
                  <a:pt x="198" y="176"/>
                </a:lnTo>
                <a:lnTo>
                  <a:pt x="176" y="428"/>
                </a:lnTo>
                <a:lnTo>
                  <a:pt x="88" y="397"/>
                </a:lnTo>
                <a:lnTo>
                  <a:pt x="0" y="54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4653000" y="3952800"/>
            <a:ext cx="439920" cy="475200"/>
          </a:xfrm>
          <a:custGeom>
            <a:avLst/>
            <a:gdLst/>
            <a:ahLst/>
            <a:rect l="0" t="0" r="r" b="b"/>
            <a:pathLst>
              <a:path fill="none" w="1222" h="1320">
                <a:moveTo>
                  <a:pt x="0" y="777"/>
                </a:moveTo>
                <a:lnTo>
                  <a:pt x="8" y="816"/>
                </a:lnTo>
                <a:lnTo>
                  <a:pt x="255" y="777"/>
                </a:lnTo>
                <a:lnTo>
                  <a:pt x="357" y="940"/>
                </a:lnTo>
                <a:lnTo>
                  <a:pt x="445" y="931"/>
                </a:lnTo>
                <a:lnTo>
                  <a:pt x="471" y="860"/>
                </a:lnTo>
                <a:lnTo>
                  <a:pt x="542" y="856"/>
                </a:lnTo>
                <a:lnTo>
                  <a:pt x="608" y="900"/>
                </a:lnTo>
                <a:lnTo>
                  <a:pt x="627" y="1166"/>
                </a:lnTo>
                <a:lnTo>
                  <a:pt x="755" y="1148"/>
                </a:lnTo>
                <a:lnTo>
                  <a:pt x="1121" y="1320"/>
                </a:lnTo>
                <a:lnTo>
                  <a:pt x="1121" y="1245"/>
                </a:lnTo>
                <a:lnTo>
                  <a:pt x="1046" y="1205"/>
                </a:lnTo>
                <a:lnTo>
                  <a:pt x="1063" y="1020"/>
                </a:lnTo>
                <a:lnTo>
                  <a:pt x="1178" y="953"/>
                </a:lnTo>
                <a:lnTo>
                  <a:pt x="1103" y="821"/>
                </a:lnTo>
                <a:lnTo>
                  <a:pt x="1090" y="613"/>
                </a:lnTo>
                <a:lnTo>
                  <a:pt x="1076" y="552"/>
                </a:lnTo>
                <a:lnTo>
                  <a:pt x="1121" y="455"/>
                </a:lnTo>
                <a:lnTo>
                  <a:pt x="1178" y="273"/>
                </a:lnTo>
                <a:lnTo>
                  <a:pt x="1222" y="207"/>
                </a:lnTo>
                <a:lnTo>
                  <a:pt x="1191" y="101"/>
                </a:lnTo>
                <a:lnTo>
                  <a:pt x="975" y="0"/>
                </a:lnTo>
                <a:lnTo>
                  <a:pt x="595" y="61"/>
                </a:lnTo>
                <a:lnTo>
                  <a:pt x="471" y="0"/>
                </a:lnTo>
                <a:lnTo>
                  <a:pt x="414" y="101"/>
                </a:lnTo>
                <a:lnTo>
                  <a:pt x="348" y="415"/>
                </a:lnTo>
                <a:lnTo>
                  <a:pt x="260" y="521"/>
                </a:lnTo>
                <a:lnTo>
                  <a:pt x="233" y="644"/>
                </a:lnTo>
                <a:lnTo>
                  <a:pt x="141" y="710"/>
                </a:lnTo>
                <a:lnTo>
                  <a:pt x="44" y="710"/>
                </a:lnTo>
                <a:lnTo>
                  <a:pt x="0" y="77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5116680" y="3127320"/>
            <a:ext cx="54360" cy="33840"/>
          </a:xfrm>
          <a:custGeom>
            <a:avLst/>
            <a:gdLst/>
            <a:ahLst/>
            <a:rect l="0" t="0" r="r" b="b"/>
            <a:pathLst>
              <a:path fill="none" w="151" h="94">
                <a:moveTo>
                  <a:pt x="0" y="45"/>
                </a:moveTo>
                <a:lnTo>
                  <a:pt x="49" y="94"/>
                </a:lnTo>
                <a:lnTo>
                  <a:pt x="151" y="0"/>
                </a:lnTo>
                <a:lnTo>
                  <a:pt x="0" y="45"/>
                </a:lnTo>
              </a:path>
            </a:pathLst>
          </a:custGeom>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sp>
        <p:nvSpPr>
          <p:cNvPr id="337" name=""/>
          <p:cNvSpPr/>
          <p:nvPr/>
        </p:nvSpPr>
        <p:spPr>
          <a:xfrm>
            <a:off x="4395960" y="3765600"/>
            <a:ext cx="60840" cy="159120"/>
          </a:xfrm>
          <a:custGeom>
            <a:avLst/>
            <a:gdLst/>
            <a:ahLst/>
            <a:rect l="0" t="0" r="r" b="b"/>
            <a:pathLst>
              <a:path fill="none" w="169" h="442">
                <a:moveTo>
                  <a:pt x="0" y="105"/>
                </a:moveTo>
                <a:lnTo>
                  <a:pt x="53" y="442"/>
                </a:lnTo>
                <a:lnTo>
                  <a:pt x="115" y="434"/>
                </a:lnTo>
                <a:lnTo>
                  <a:pt x="169" y="44"/>
                </a:lnTo>
                <a:lnTo>
                  <a:pt x="115" y="0"/>
                </a:lnTo>
                <a:lnTo>
                  <a:pt x="84" y="30"/>
                </a:lnTo>
                <a:lnTo>
                  <a:pt x="0" y="10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4589640" y="4029120"/>
            <a:ext cx="43200" cy="30600"/>
          </a:xfrm>
          <a:custGeom>
            <a:avLst/>
            <a:gdLst/>
            <a:ahLst/>
            <a:rect l="0" t="0" r="r" b="b"/>
            <a:pathLst>
              <a:path fill="none" w="120" h="85">
                <a:moveTo>
                  <a:pt x="0" y="85"/>
                </a:moveTo>
                <a:lnTo>
                  <a:pt x="8" y="0"/>
                </a:lnTo>
                <a:lnTo>
                  <a:pt x="120" y="0"/>
                </a:lnTo>
                <a:lnTo>
                  <a:pt x="120" y="76"/>
                </a:lnTo>
                <a:lnTo>
                  <a:pt x="0" y="85"/>
                </a:lnTo>
              </a:path>
            </a:pathLst>
          </a:custGeom>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339" name=""/>
          <p:cNvSpPr/>
          <p:nvPr/>
        </p:nvSpPr>
        <p:spPr>
          <a:xfrm>
            <a:off x="5130720" y="3616200"/>
            <a:ext cx="348120" cy="379800"/>
          </a:xfrm>
          <a:custGeom>
            <a:avLst/>
            <a:gdLst/>
            <a:ahLst/>
            <a:rect l="0" t="0" r="r" b="b"/>
            <a:pathLst>
              <a:path fill="none" w="967" h="1055">
                <a:moveTo>
                  <a:pt x="0" y="728"/>
                </a:moveTo>
                <a:lnTo>
                  <a:pt x="70" y="675"/>
                </a:lnTo>
                <a:lnTo>
                  <a:pt x="83" y="547"/>
                </a:lnTo>
                <a:lnTo>
                  <a:pt x="202" y="375"/>
                </a:lnTo>
                <a:lnTo>
                  <a:pt x="261" y="61"/>
                </a:lnTo>
                <a:lnTo>
                  <a:pt x="353" y="0"/>
                </a:lnTo>
                <a:lnTo>
                  <a:pt x="419" y="198"/>
                </a:lnTo>
                <a:lnTo>
                  <a:pt x="640" y="384"/>
                </a:lnTo>
                <a:lnTo>
                  <a:pt x="565" y="494"/>
                </a:lnTo>
                <a:lnTo>
                  <a:pt x="631" y="521"/>
                </a:lnTo>
                <a:lnTo>
                  <a:pt x="706" y="649"/>
                </a:lnTo>
                <a:lnTo>
                  <a:pt x="967" y="724"/>
                </a:lnTo>
                <a:lnTo>
                  <a:pt x="764" y="941"/>
                </a:lnTo>
                <a:lnTo>
                  <a:pt x="569" y="1020"/>
                </a:lnTo>
                <a:lnTo>
                  <a:pt x="384" y="1055"/>
                </a:lnTo>
                <a:lnTo>
                  <a:pt x="185" y="972"/>
                </a:lnTo>
                <a:lnTo>
                  <a:pt x="110" y="817"/>
                </a:lnTo>
                <a:lnTo>
                  <a:pt x="0" y="72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5334120" y="3755880"/>
            <a:ext cx="36720" cy="49680"/>
          </a:xfrm>
          <a:custGeom>
            <a:avLst/>
            <a:gdLst/>
            <a:ahLst/>
            <a:rect l="0" t="0" r="r" b="b"/>
            <a:pathLst>
              <a:path fill="none" w="102" h="138">
                <a:moveTo>
                  <a:pt x="0" y="107"/>
                </a:moveTo>
                <a:lnTo>
                  <a:pt x="67" y="138"/>
                </a:lnTo>
                <a:lnTo>
                  <a:pt x="102" y="93"/>
                </a:lnTo>
                <a:lnTo>
                  <a:pt x="48" y="80"/>
                </a:lnTo>
                <a:lnTo>
                  <a:pt x="102" y="53"/>
                </a:lnTo>
                <a:lnTo>
                  <a:pt x="75" y="0"/>
                </a:lnTo>
                <a:lnTo>
                  <a:pt x="0" y="107"/>
                </a:lnTo>
              </a:path>
            </a:pathLst>
          </a:custGeom>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sp>
        <p:nvSpPr>
          <p:cNvPr id="341" name=""/>
          <p:cNvSpPr/>
          <p:nvPr/>
        </p:nvSpPr>
        <p:spPr>
          <a:xfrm>
            <a:off x="4572000" y="4029120"/>
            <a:ext cx="128880" cy="155880"/>
          </a:xfrm>
          <a:custGeom>
            <a:avLst/>
            <a:gdLst/>
            <a:ahLst/>
            <a:rect l="0" t="0" r="r" b="b"/>
            <a:pathLst>
              <a:path fill="none" w="358" h="433">
                <a:moveTo>
                  <a:pt x="0" y="202"/>
                </a:moveTo>
                <a:lnTo>
                  <a:pt x="39" y="141"/>
                </a:lnTo>
                <a:lnTo>
                  <a:pt x="66" y="141"/>
                </a:lnTo>
                <a:lnTo>
                  <a:pt x="44" y="83"/>
                </a:lnTo>
                <a:lnTo>
                  <a:pt x="167" y="74"/>
                </a:lnTo>
                <a:lnTo>
                  <a:pt x="167" y="0"/>
                </a:lnTo>
                <a:lnTo>
                  <a:pt x="287" y="0"/>
                </a:lnTo>
                <a:lnTo>
                  <a:pt x="287" y="61"/>
                </a:lnTo>
                <a:lnTo>
                  <a:pt x="358" y="70"/>
                </a:lnTo>
                <a:lnTo>
                  <a:pt x="336" y="309"/>
                </a:lnTo>
                <a:lnTo>
                  <a:pt x="247" y="292"/>
                </a:lnTo>
                <a:lnTo>
                  <a:pt x="154" y="433"/>
                </a:lnTo>
                <a:lnTo>
                  <a:pt x="0" y="20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3986280" y="3732120"/>
            <a:ext cx="66960" cy="25920"/>
          </a:xfrm>
          <a:custGeom>
            <a:avLst/>
            <a:gdLst/>
            <a:ahLst/>
            <a:rect l="0" t="0" r="r" b="b"/>
            <a:pathLst>
              <a:path fill="none" w="186" h="72">
                <a:moveTo>
                  <a:pt x="0" y="72"/>
                </a:moveTo>
                <a:lnTo>
                  <a:pt x="8" y="0"/>
                </a:lnTo>
                <a:lnTo>
                  <a:pt x="186" y="31"/>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43" name=""/>
          <p:cNvSpPr/>
          <p:nvPr/>
        </p:nvSpPr>
        <p:spPr>
          <a:xfrm>
            <a:off x="4305240" y="3797280"/>
            <a:ext cx="97200" cy="168480"/>
          </a:xfrm>
          <a:custGeom>
            <a:avLst/>
            <a:gdLst/>
            <a:ahLst/>
            <a:rect l="0" t="0" r="r" b="b"/>
            <a:pathLst>
              <a:path fill="none" w="270" h="468">
                <a:moveTo>
                  <a:pt x="0" y="433"/>
                </a:moveTo>
                <a:lnTo>
                  <a:pt x="13" y="119"/>
                </a:lnTo>
                <a:lnTo>
                  <a:pt x="0" y="17"/>
                </a:lnTo>
                <a:lnTo>
                  <a:pt x="177" y="0"/>
                </a:lnTo>
                <a:lnTo>
                  <a:pt x="270" y="362"/>
                </a:lnTo>
                <a:lnTo>
                  <a:pt x="61" y="468"/>
                </a:lnTo>
                <a:lnTo>
                  <a:pt x="0" y="43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4027320" y="3755880"/>
            <a:ext cx="168480" cy="140040"/>
          </a:xfrm>
          <a:custGeom>
            <a:avLst/>
            <a:gdLst/>
            <a:ahLst/>
            <a:rect l="0" t="0" r="r" b="b"/>
            <a:pathLst>
              <a:path fill="none" w="468" h="389">
                <a:moveTo>
                  <a:pt x="0" y="132"/>
                </a:moveTo>
                <a:lnTo>
                  <a:pt x="70" y="70"/>
                </a:lnTo>
                <a:lnTo>
                  <a:pt x="83" y="0"/>
                </a:lnTo>
                <a:lnTo>
                  <a:pt x="233" y="26"/>
                </a:lnTo>
                <a:lnTo>
                  <a:pt x="278" y="57"/>
                </a:lnTo>
                <a:lnTo>
                  <a:pt x="384" y="13"/>
                </a:lnTo>
                <a:lnTo>
                  <a:pt x="455" y="185"/>
                </a:lnTo>
                <a:lnTo>
                  <a:pt x="468" y="314"/>
                </a:lnTo>
                <a:lnTo>
                  <a:pt x="433" y="305"/>
                </a:lnTo>
                <a:lnTo>
                  <a:pt x="419" y="375"/>
                </a:lnTo>
                <a:lnTo>
                  <a:pt x="349" y="389"/>
                </a:lnTo>
                <a:lnTo>
                  <a:pt x="349" y="314"/>
                </a:lnTo>
                <a:lnTo>
                  <a:pt x="309" y="314"/>
                </a:lnTo>
                <a:lnTo>
                  <a:pt x="243" y="203"/>
                </a:lnTo>
                <a:lnTo>
                  <a:pt x="110" y="261"/>
                </a:lnTo>
                <a:lnTo>
                  <a:pt x="0" y="13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5402160" y="3311640"/>
            <a:ext cx="39960" cy="25920"/>
          </a:xfrm>
          <a:custGeom>
            <a:avLst/>
            <a:gdLst/>
            <a:ahLst/>
            <a:rect l="0" t="0" r="r" b="b"/>
            <a:pathLst>
              <a:path fill="none" w="111" h="72">
                <a:moveTo>
                  <a:pt x="0" y="0"/>
                </a:moveTo>
                <a:lnTo>
                  <a:pt x="52" y="72"/>
                </a:lnTo>
                <a:lnTo>
                  <a:pt x="111" y="13"/>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46" name=""/>
          <p:cNvSpPr/>
          <p:nvPr/>
        </p:nvSpPr>
        <p:spPr>
          <a:xfrm>
            <a:off x="5151600" y="3197160"/>
            <a:ext cx="41760" cy="111600"/>
          </a:xfrm>
          <a:custGeom>
            <a:avLst/>
            <a:gdLst/>
            <a:ahLst/>
            <a:rect l="0" t="0" r="r" b="b"/>
            <a:pathLst>
              <a:path fill="none" w="116" h="310">
                <a:moveTo>
                  <a:pt x="0" y="159"/>
                </a:moveTo>
                <a:lnTo>
                  <a:pt x="58" y="310"/>
                </a:lnTo>
                <a:lnTo>
                  <a:pt x="62" y="301"/>
                </a:lnTo>
                <a:lnTo>
                  <a:pt x="99" y="137"/>
                </a:lnTo>
                <a:lnTo>
                  <a:pt x="53" y="146"/>
                </a:lnTo>
                <a:lnTo>
                  <a:pt x="62" y="74"/>
                </a:lnTo>
                <a:lnTo>
                  <a:pt x="99" y="39"/>
                </a:lnTo>
                <a:lnTo>
                  <a:pt x="116" y="0"/>
                </a:lnTo>
                <a:lnTo>
                  <a:pt x="71" y="4"/>
                </a:lnTo>
                <a:lnTo>
                  <a:pt x="0" y="1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4176720" y="3808440"/>
            <a:ext cx="133560" cy="162360"/>
          </a:xfrm>
          <a:custGeom>
            <a:avLst/>
            <a:gdLst/>
            <a:ahLst/>
            <a:rect l="0" t="0" r="r" b="b"/>
            <a:pathLst>
              <a:path fill="none" w="371" h="451">
                <a:moveTo>
                  <a:pt x="0" y="300"/>
                </a:moveTo>
                <a:lnTo>
                  <a:pt x="0" y="230"/>
                </a:lnTo>
                <a:lnTo>
                  <a:pt x="17" y="159"/>
                </a:lnTo>
                <a:lnTo>
                  <a:pt x="48" y="168"/>
                </a:lnTo>
                <a:lnTo>
                  <a:pt x="30" y="35"/>
                </a:lnTo>
                <a:lnTo>
                  <a:pt x="141" y="0"/>
                </a:lnTo>
                <a:lnTo>
                  <a:pt x="203" y="26"/>
                </a:lnTo>
                <a:lnTo>
                  <a:pt x="247" y="66"/>
                </a:lnTo>
                <a:lnTo>
                  <a:pt x="371" y="74"/>
                </a:lnTo>
                <a:lnTo>
                  <a:pt x="340" y="403"/>
                </a:lnTo>
                <a:lnTo>
                  <a:pt x="57" y="451"/>
                </a:lnTo>
                <a:lnTo>
                  <a:pt x="70" y="350"/>
                </a:lnTo>
                <a:lnTo>
                  <a:pt x="0" y="30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5151600" y="3967200"/>
            <a:ext cx="186120" cy="238320"/>
          </a:xfrm>
          <a:custGeom>
            <a:avLst/>
            <a:gdLst/>
            <a:ahLst/>
            <a:rect l="0" t="0" r="r" b="b"/>
            <a:pathLst>
              <a:path fill="none" w="517" h="662">
                <a:moveTo>
                  <a:pt x="0" y="35"/>
                </a:moveTo>
                <a:lnTo>
                  <a:pt x="70" y="180"/>
                </a:lnTo>
                <a:lnTo>
                  <a:pt x="0" y="313"/>
                </a:lnTo>
                <a:lnTo>
                  <a:pt x="52" y="340"/>
                </a:lnTo>
                <a:lnTo>
                  <a:pt x="26" y="393"/>
                </a:lnTo>
                <a:lnTo>
                  <a:pt x="353" y="662"/>
                </a:lnTo>
                <a:lnTo>
                  <a:pt x="495" y="446"/>
                </a:lnTo>
                <a:lnTo>
                  <a:pt x="456" y="389"/>
                </a:lnTo>
                <a:lnTo>
                  <a:pt x="456" y="127"/>
                </a:lnTo>
                <a:lnTo>
                  <a:pt x="517" y="48"/>
                </a:lnTo>
                <a:lnTo>
                  <a:pt x="327" y="79"/>
                </a:lnTo>
                <a:lnTo>
                  <a:pt x="127" y="0"/>
                </a:lnTo>
                <a:lnTo>
                  <a:pt x="0" y="3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5442120" y="3292560"/>
            <a:ext cx="43200" cy="35280"/>
          </a:xfrm>
          <a:custGeom>
            <a:avLst/>
            <a:gdLst/>
            <a:ahLst/>
            <a:rect l="0" t="0" r="r" b="b"/>
            <a:pathLst>
              <a:path fill="none" w="120" h="98">
                <a:moveTo>
                  <a:pt x="0" y="58"/>
                </a:moveTo>
                <a:lnTo>
                  <a:pt x="98" y="0"/>
                </a:lnTo>
                <a:lnTo>
                  <a:pt x="120" y="98"/>
                </a:lnTo>
                <a:lnTo>
                  <a:pt x="0" y="58"/>
                </a:lnTo>
              </a:path>
            </a:pathLst>
          </a:custGeom>
          <a:ln w="12600">
            <a:solidFill>
              <a:srgbClr val="000000"/>
            </a:solidFill>
            <a:round/>
          </a:ln>
        </p:spPr>
        <p:txBody>
          <a:bodyPr lIns="96120" rIns="96120" tIns="-15840" bIns="-15840" anchor="t">
            <a:noAutofit/>
          </a:bodyPr>
          <a:p>
            <a:endParaRPr b="0" lang="en-US" sz="1800" spc="-1" strike="noStrike">
              <a:solidFill>
                <a:srgbClr val="000000"/>
              </a:solidFill>
              <a:latin typeface="Arial"/>
            </a:endParaRPr>
          </a:p>
        </p:txBody>
      </p:sp>
      <p:sp>
        <p:nvSpPr>
          <p:cNvPr id="350" name=""/>
          <p:cNvSpPr/>
          <p:nvPr/>
        </p:nvSpPr>
        <p:spPr>
          <a:xfrm>
            <a:off x="5178600" y="3152880"/>
            <a:ext cx="35280" cy="47880"/>
          </a:xfrm>
          <a:custGeom>
            <a:avLst/>
            <a:gdLst/>
            <a:ahLst/>
            <a:rect l="0" t="0" r="r" b="b"/>
            <a:pathLst>
              <a:path fill="none" w="98" h="133">
                <a:moveTo>
                  <a:pt x="0" y="133"/>
                </a:moveTo>
                <a:lnTo>
                  <a:pt x="35" y="124"/>
                </a:lnTo>
                <a:lnTo>
                  <a:pt x="98" y="35"/>
                </a:lnTo>
                <a:lnTo>
                  <a:pt x="62" y="0"/>
                </a:lnTo>
                <a:lnTo>
                  <a:pt x="0" y="133"/>
                </a:lnTo>
              </a:path>
            </a:pathLst>
          </a:custGeom>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351" name=""/>
          <p:cNvSpPr/>
          <p:nvPr/>
        </p:nvSpPr>
        <p:spPr>
          <a:xfrm>
            <a:off x="4111560" y="3868560"/>
            <a:ext cx="90720" cy="101880"/>
          </a:xfrm>
          <a:custGeom>
            <a:avLst/>
            <a:gdLst/>
            <a:ahLst/>
            <a:rect l="0" t="0" r="r" b="b"/>
            <a:pathLst>
              <a:path fill="none" w="252" h="283">
                <a:moveTo>
                  <a:pt x="0" y="97"/>
                </a:moveTo>
                <a:lnTo>
                  <a:pt x="74" y="0"/>
                </a:lnTo>
                <a:lnTo>
                  <a:pt x="114" y="0"/>
                </a:lnTo>
                <a:lnTo>
                  <a:pt x="123" y="70"/>
                </a:lnTo>
                <a:lnTo>
                  <a:pt x="181" y="61"/>
                </a:lnTo>
                <a:lnTo>
                  <a:pt x="177" y="132"/>
                </a:lnTo>
                <a:lnTo>
                  <a:pt x="252" y="181"/>
                </a:lnTo>
                <a:lnTo>
                  <a:pt x="239" y="283"/>
                </a:lnTo>
                <a:lnTo>
                  <a:pt x="0" y="97"/>
                </a:lnTo>
              </a:path>
            </a:pathLst>
          </a:custGeom>
          <a:ln w="12600">
            <a:solidFill>
              <a:srgbClr val="000000"/>
            </a:solidFill>
            <a:round/>
          </a:ln>
        </p:spPr>
        <p:txBody>
          <a:bodyPr lIns="96120" rIns="96120" tIns="50760" bIns="50760" anchor="t">
            <a:noAutofit/>
          </a:bodyPr>
          <a:p>
            <a:endParaRPr b="0" lang="en-US" sz="1800" spc="-1" strike="noStrike">
              <a:solidFill>
                <a:srgbClr val="000000"/>
              </a:solidFill>
              <a:latin typeface="Arial"/>
            </a:endParaRPr>
          </a:p>
        </p:txBody>
      </p:sp>
      <p:sp>
        <p:nvSpPr>
          <p:cNvPr id="352" name=""/>
          <p:cNvSpPr/>
          <p:nvPr/>
        </p:nvSpPr>
        <p:spPr>
          <a:xfrm>
            <a:off x="4586400" y="3200400"/>
            <a:ext cx="362160" cy="378360"/>
          </a:xfrm>
          <a:custGeom>
            <a:avLst/>
            <a:gdLst/>
            <a:ahLst/>
            <a:rect l="0" t="0" r="r" b="b"/>
            <a:pathLst>
              <a:path fill="none" w="1006" h="1051">
                <a:moveTo>
                  <a:pt x="0" y="538"/>
                </a:moveTo>
                <a:lnTo>
                  <a:pt x="0" y="220"/>
                </a:lnTo>
                <a:lnTo>
                  <a:pt x="132" y="0"/>
                </a:lnTo>
                <a:lnTo>
                  <a:pt x="370" y="61"/>
                </a:lnTo>
                <a:lnTo>
                  <a:pt x="405" y="136"/>
                </a:lnTo>
                <a:lnTo>
                  <a:pt x="605" y="220"/>
                </a:lnTo>
                <a:lnTo>
                  <a:pt x="666" y="198"/>
                </a:lnTo>
                <a:lnTo>
                  <a:pt x="675" y="79"/>
                </a:lnTo>
                <a:lnTo>
                  <a:pt x="737" y="22"/>
                </a:lnTo>
                <a:lnTo>
                  <a:pt x="1006" y="119"/>
                </a:lnTo>
                <a:lnTo>
                  <a:pt x="975" y="238"/>
                </a:lnTo>
                <a:lnTo>
                  <a:pt x="1006" y="857"/>
                </a:lnTo>
                <a:lnTo>
                  <a:pt x="1006" y="1007"/>
                </a:lnTo>
                <a:lnTo>
                  <a:pt x="940" y="1007"/>
                </a:lnTo>
                <a:lnTo>
                  <a:pt x="940" y="1051"/>
                </a:lnTo>
                <a:lnTo>
                  <a:pt x="432" y="750"/>
                </a:lnTo>
                <a:lnTo>
                  <a:pt x="370" y="777"/>
                </a:lnTo>
                <a:lnTo>
                  <a:pt x="158" y="750"/>
                </a:lnTo>
                <a:lnTo>
                  <a:pt x="0" y="53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5361120" y="4398840"/>
            <a:ext cx="163800" cy="360720"/>
          </a:xfrm>
          <a:custGeom>
            <a:avLst/>
            <a:gdLst/>
            <a:ahLst/>
            <a:rect l="0" t="0" r="r" b="b"/>
            <a:pathLst>
              <a:path fill="none" w="455" h="1002">
                <a:moveTo>
                  <a:pt x="0" y="715"/>
                </a:moveTo>
                <a:lnTo>
                  <a:pt x="44" y="922"/>
                </a:lnTo>
                <a:lnTo>
                  <a:pt x="123" y="1002"/>
                </a:lnTo>
                <a:lnTo>
                  <a:pt x="269" y="922"/>
                </a:lnTo>
                <a:lnTo>
                  <a:pt x="428" y="229"/>
                </a:lnTo>
                <a:lnTo>
                  <a:pt x="455" y="255"/>
                </a:lnTo>
                <a:lnTo>
                  <a:pt x="384" y="0"/>
                </a:lnTo>
                <a:lnTo>
                  <a:pt x="309" y="101"/>
                </a:lnTo>
                <a:lnTo>
                  <a:pt x="309" y="185"/>
                </a:lnTo>
                <a:lnTo>
                  <a:pt x="211" y="260"/>
                </a:lnTo>
                <a:lnTo>
                  <a:pt x="83" y="304"/>
                </a:lnTo>
                <a:lnTo>
                  <a:pt x="48" y="388"/>
                </a:lnTo>
                <a:lnTo>
                  <a:pt x="83" y="569"/>
                </a:lnTo>
                <a:lnTo>
                  <a:pt x="0" y="71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5126040" y="4327560"/>
            <a:ext cx="74880" cy="203400"/>
          </a:xfrm>
          <a:custGeom>
            <a:avLst/>
            <a:gdLst/>
            <a:ahLst/>
            <a:rect l="0" t="0" r="r" b="b"/>
            <a:pathLst>
              <a:path fill="none" w="208" h="565">
                <a:moveTo>
                  <a:pt x="0" y="300"/>
                </a:moveTo>
                <a:lnTo>
                  <a:pt x="26" y="340"/>
                </a:lnTo>
                <a:lnTo>
                  <a:pt x="106" y="375"/>
                </a:lnTo>
                <a:lnTo>
                  <a:pt x="97" y="477"/>
                </a:lnTo>
                <a:lnTo>
                  <a:pt x="164" y="565"/>
                </a:lnTo>
                <a:lnTo>
                  <a:pt x="208" y="406"/>
                </a:lnTo>
                <a:lnTo>
                  <a:pt x="133" y="296"/>
                </a:lnTo>
                <a:lnTo>
                  <a:pt x="159" y="349"/>
                </a:lnTo>
                <a:lnTo>
                  <a:pt x="124" y="349"/>
                </a:lnTo>
                <a:lnTo>
                  <a:pt x="70" y="211"/>
                </a:lnTo>
                <a:lnTo>
                  <a:pt x="70" y="8"/>
                </a:lnTo>
                <a:lnTo>
                  <a:pt x="8" y="0"/>
                </a:lnTo>
                <a:lnTo>
                  <a:pt x="61" y="97"/>
                </a:lnTo>
                <a:lnTo>
                  <a:pt x="0" y="30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4094280" y="3430440"/>
            <a:ext cx="371880" cy="392400"/>
          </a:xfrm>
          <a:custGeom>
            <a:avLst/>
            <a:gdLst/>
            <a:ahLst/>
            <a:rect l="0" t="0" r="r" b="b"/>
            <a:pathLst>
              <a:path fill="none" w="1033" h="1090">
                <a:moveTo>
                  <a:pt x="0" y="755"/>
                </a:moveTo>
                <a:lnTo>
                  <a:pt x="44" y="666"/>
                </a:lnTo>
                <a:lnTo>
                  <a:pt x="88" y="728"/>
                </a:lnTo>
                <a:lnTo>
                  <a:pt x="424" y="706"/>
                </a:lnTo>
                <a:lnTo>
                  <a:pt x="344" y="0"/>
                </a:lnTo>
                <a:lnTo>
                  <a:pt x="464" y="0"/>
                </a:lnTo>
                <a:lnTo>
                  <a:pt x="972" y="370"/>
                </a:lnTo>
                <a:lnTo>
                  <a:pt x="972" y="445"/>
                </a:lnTo>
                <a:lnTo>
                  <a:pt x="1033" y="427"/>
                </a:lnTo>
                <a:lnTo>
                  <a:pt x="1033" y="658"/>
                </a:lnTo>
                <a:lnTo>
                  <a:pt x="989" y="706"/>
                </a:lnTo>
                <a:lnTo>
                  <a:pt x="782" y="737"/>
                </a:lnTo>
                <a:lnTo>
                  <a:pt x="525" y="860"/>
                </a:lnTo>
                <a:lnTo>
                  <a:pt x="433" y="1076"/>
                </a:lnTo>
                <a:lnTo>
                  <a:pt x="371" y="1050"/>
                </a:lnTo>
                <a:lnTo>
                  <a:pt x="265" y="1090"/>
                </a:lnTo>
                <a:lnTo>
                  <a:pt x="198" y="918"/>
                </a:lnTo>
                <a:lnTo>
                  <a:pt x="88" y="957"/>
                </a:lnTo>
                <a:lnTo>
                  <a:pt x="48" y="927"/>
                </a:lnTo>
                <a:lnTo>
                  <a:pt x="0" y="75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3981600" y="3363840"/>
            <a:ext cx="279720" cy="338400"/>
          </a:xfrm>
          <a:custGeom>
            <a:avLst/>
            <a:gdLst/>
            <a:ahLst/>
            <a:rect l="0" t="0" r="r" b="b"/>
            <a:pathLst>
              <a:path fill="none" w="777" h="940">
                <a:moveTo>
                  <a:pt x="0" y="472"/>
                </a:moveTo>
                <a:lnTo>
                  <a:pt x="52" y="525"/>
                </a:lnTo>
                <a:lnTo>
                  <a:pt x="66" y="666"/>
                </a:lnTo>
                <a:lnTo>
                  <a:pt x="22" y="843"/>
                </a:lnTo>
                <a:lnTo>
                  <a:pt x="171" y="803"/>
                </a:lnTo>
                <a:lnTo>
                  <a:pt x="308" y="940"/>
                </a:lnTo>
                <a:lnTo>
                  <a:pt x="357" y="852"/>
                </a:lnTo>
                <a:lnTo>
                  <a:pt x="402" y="904"/>
                </a:lnTo>
                <a:lnTo>
                  <a:pt x="733" y="891"/>
                </a:lnTo>
                <a:lnTo>
                  <a:pt x="658" y="180"/>
                </a:lnTo>
                <a:lnTo>
                  <a:pt x="777" y="180"/>
                </a:lnTo>
                <a:lnTo>
                  <a:pt x="538" y="0"/>
                </a:lnTo>
                <a:lnTo>
                  <a:pt x="538" y="101"/>
                </a:lnTo>
                <a:lnTo>
                  <a:pt x="330" y="92"/>
                </a:lnTo>
                <a:lnTo>
                  <a:pt x="330" y="295"/>
                </a:lnTo>
                <a:lnTo>
                  <a:pt x="251" y="321"/>
                </a:lnTo>
                <a:lnTo>
                  <a:pt x="255" y="440"/>
                </a:lnTo>
                <a:lnTo>
                  <a:pt x="0" y="47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4075200" y="3127320"/>
            <a:ext cx="268560" cy="228960"/>
          </a:xfrm>
          <a:custGeom>
            <a:avLst/>
            <a:gdLst/>
            <a:ahLst/>
            <a:rect l="0" t="0" r="r" b="b"/>
            <a:pathLst>
              <a:path fill="none" w="746" h="636">
                <a:moveTo>
                  <a:pt x="0" y="631"/>
                </a:moveTo>
                <a:lnTo>
                  <a:pt x="176" y="508"/>
                </a:lnTo>
                <a:lnTo>
                  <a:pt x="246" y="255"/>
                </a:lnTo>
                <a:lnTo>
                  <a:pt x="397" y="123"/>
                </a:lnTo>
                <a:lnTo>
                  <a:pt x="455" y="0"/>
                </a:lnTo>
                <a:lnTo>
                  <a:pt x="684" y="35"/>
                </a:lnTo>
                <a:lnTo>
                  <a:pt x="746" y="268"/>
                </a:lnTo>
                <a:lnTo>
                  <a:pt x="640" y="282"/>
                </a:lnTo>
                <a:lnTo>
                  <a:pt x="583" y="313"/>
                </a:lnTo>
                <a:lnTo>
                  <a:pt x="596" y="371"/>
                </a:lnTo>
                <a:lnTo>
                  <a:pt x="304" y="516"/>
                </a:lnTo>
                <a:lnTo>
                  <a:pt x="277" y="636"/>
                </a:lnTo>
                <a:lnTo>
                  <a:pt x="0" y="63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5060880" y="4354560"/>
            <a:ext cx="244800" cy="435240"/>
          </a:xfrm>
          <a:custGeom>
            <a:avLst/>
            <a:gdLst/>
            <a:ahLst/>
            <a:rect l="0" t="0" r="r" b="b"/>
            <a:pathLst>
              <a:path fill="none" w="680" h="1209">
                <a:moveTo>
                  <a:pt x="0" y="335"/>
                </a:moveTo>
                <a:lnTo>
                  <a:pt x="17" y="374"/>
                </a:lnTo>
                <a:lnTo>
                  <a:pt x="171" y="432"/>
                </a:lnTo>
                <a:lnTo>
                  <a:pt x="189" y="507"/>
                </a:lnTo>
                <a:lnTo>
                  <a:pt x="185" y="693"/>
                </a:lnTo>
                <a:lnTo>
                  <a:pt x="101" y="896"/>
                </a:lnTo>
                <a:lnTo>
                  <a:pt x="123" y="1125"/>
                </a:lnTo>
                <a:lnTo>
                  <a:pt x="127" y="1209"/>
                </a:lnTo>
                <a:lnTo>
                  <a:pt x="180" y="1209"/>
                </a:lnTo>
                <a:lnTo>
                  <a:pt x="180" y="1125"/>
                </a:lnTo>
                <a:lnTo>
                  <a:pt x="349" y="1015"/>
                </a:lnTo>
                <a:lnTo>
                  <a:pt x="295" y="693"/>
                </a:lnTo>
                <a:lnTo>
                  <a:pt x="675" y="374"/>
                </a:lnTo>
                <a:lnTo>
                  <a:pt x="680" y="0"/>
                </a:lnTo>
                <a:lnTo>
                  <a:pt x="578" y="66"/>
                </a:lnTo>
                <a:lnTo>
                  <a:pt x="321" y="88"/>
                </a:lnTo>
                <a:lnTo>
                  <a:pt x="313" y="220"/>
                </a:lnTo>
                <a:lnTo>
                  <a:pt x="384" y="330"/>
                </a:lnTo>
                <a:lnTo>
                  <a:pt x="349" y="485"/>
                </a:lnTo>
                <a:lnTo>
                  <a:pt x="277" y="401"/>
                </a:lnTo>
                <a:lnTo>
                  <a:pt x="286" y="299"/>
                </a:lnTo>
                <a:lnTo>
                  <a:pt x="207" y="264"/>
                </a:lnTo>
                <a:lnTo>
                  <a:pt x="0" y="33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376880" y="3470400"/>
            <a:ext cx="363960" cy="309960"/>
          </a:xfrm>
          <a:custGeom>
            <a:avLst/>
            <a:gdLst/>
            <a:ahLst/>
            <a:rect l="0" t="0" r="r" b="b"/>
            <a:pathLst>
              <a:path fill="none" w="1011" h="861">
                <a:moveTo>
                  <a:pt x="0" y="627"/>
                </a:moveTo>
                <a:lnTo>
                  <a:pt x="4" y="694"/>
                </a:lnTo>
                <a:lnTo>
                  <a:pt x="136" y="848"/>
                </a:lnTo>
                <a:lnTo>
                  <a:pt x="167" y="817"/>
                </a:lnTo>
                <a:lnTo>
                  <a:pt x="216" y="861"/>
                </a:lnTo>
                <a:lnTo>
                  <a:pt x="300" y="707"/>
                </a:lnTo>
                <a:lnTo>
                  <a:pt x="578" y="791"/>
                </a:lnTo>
                <a:lnTo>
                  <a:pt x="831" y="707"/>
                </a:lnTo>
                <a:lnTo>
                  <a:pt x="839" y="672"/>
                </a:lnTo>
                <a:lnTo>
                  <a:pt x="972" y="481"/>
                </a:lnTo>
                <a:lnTo>
                  <a:pt x="1011" y="221"/>
                </a:lnTo>
                <a:lnTo>
                  <a:pt x="945" y="145"/>
                </a:lnTo>
                <a:lnTo>
                  <a:pt x="945" y="26"/>
                </a:lnTo>
                <a:lnTo>
                  <a:pt x="733" y="0"/>
                </a:lnTo>
                <a:lnTo>
                  <a:pt x="349" y="296"/>
                </a:lnTo>
                <a:lnTo>
                  <a:pt x="246" y="318"/>
                </a:lnTo>
                <a:lnTo>
                  <a:pt x="246" y="547"/>
                </a:lnTo>
                <a:lnTo>
                  <a:pt x="202" y="596"/>
                </a:lnTo>
                <a:lnTo>
                  <a:pt x="0" y="62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4437000" y="3726000"/>
            <a:ext cx="267120" cy="254520"/>
          </a:xfrm>
          <a:custGeom>
            <a:avLst/>
            <a:gdLst/>
            <a:ahLst/>
            <a:rect l="0" t="0" r="r" b="b"/>
            <a:pathLst>
              <a:path fill="none" w="742" h="707">
                <a:moveTo>
                  <a:pt x="0" y="544"/>
                </a:moveTo>
                <a:lnTo>
                  <a:pt x="48" y="154"/>
                </a:lnTo>
                <a:lnTo>
                  <a:pt x="127" y="0"/>
                </a:lnTo>
                <a:lnTo>
                  <a:pt x="411" y="79"/>
                </a:lnTo>
                <a:lnTo>
                  <a:pt x="659" y="0"/>
                </a:lnTo>
                <a:lnTo>
                  <a:pt x="716" y="97"/>
                </a:lnTo>
                <a:lnTo>
                  <a:pt x="742" y="154"/>
                </a:lnTo>
                <a:lnTo>
                  <a:pt x="685" y="217"/>
                </a:lnTo>
                <a:lnTo>
                  <a:pt x="547" y="531"/>
                </a:lnTo>
                <a:lnTo>
                  <a:pt x="419" y="503"/>
                </a:lnTo>
                <a:lnTo>
                  <a:pt x="353" y="659"/>
                </a:lnTo>
                <a:lnTo>
                  <a:pt x="212" y="707"/>
                </a:lnTo>
                <a:lnTo>
                  <a:pt x="127" y="562"/>
                </a:lnTo>
                <a:lnTo>
                  <a:pt x="0" y="54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a:off x="3986280" y="3755880"/>
            <a:ext cx="71640" cy="47880"/>
          </a:xfrm>
          <a:custGeom>
            <a:avLst/>
            <a:gdLst/>
            <a:ahLst/>
            <a:rect l="0" t="0" r="r" b="b"/>
            <a:pathLst>
              <a:path fill="none" w="199" h="133">
                <a:moveTo>
                  <a:pt x="0" y="26"/>
                </a:moveTo>
                <a:lnTo>
                  <a:pt x="61" y="71"/>
                </a:lnTo>
                <a:lnTo>
                  <a:pt x="120" y="57"/>
                </a:lnTo>
                <a:lnTo>
                  <a:pt x="83" y="71"/>
                </a:lnTo>
                <a:lnTo>
                  <a:pt x="115" y="133"/>
                </a:lnTo>
                <a:lnTo>
                  <a:pt x="186" y="71"/>
                </a:lnTo>
                <a:lnTo>
                  <a:pt x="199" y="0"/>
                </a:lnTo>
                <a:lnTo>
                  <a:pt x="0" y="26"/>
                </a:lnTo>
              </a:path>
            </a:pathLst>
          </a:custGeom>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362" name=""/>
          <p:cNvSpPr/>
          <p:nvPr/>
        </p:nvSpPr>
        <p:spPr>
          <a:xfrm>
            <a:off x="5540400" y="3398760"/>
            <a:ext cx="25920" cy="41760"/>
          </a:xfrm>
          <a:custGeom>
            <a:avLst/>
            <a:gdLst/>
            <a:ahLst/>
            <a:rect l="0" t="0" r="r" b="b"/>
            <a:pathLst>
              <a:path fill="none" w="72" h="116">
                <a:moveTo>
                  <a:pt x="0" y="90"/>
                </a:moveTo>
                <a:lnTo>
                  <a:pt x="36" y="116"/>
                </a:lnTo>
                <a:lnTo>
                  <a:pt x="72" y="112"/>
                </a:lnTo>
                <a:lnTo>
                  <a:pt x="36" y="0"/>
                </a:lnTo>
                <a:lnTo>
                  <a:pt x="0" y="9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363" name=""/>
          <p:cNvSpPr/>
          <p:nvPr/>
        </p:nvSpPr>
        <p:spPr>
          <a:xfrm>
            <a:off x="5040360" y="4113360"/>
            <a:ext cx="38520" cy="38520"/>
          </a:xfrm>
          <a:custGeom>
            <a:avLst/>
            <a:gdLst/>
            <a:ahLst/>
            <a:rect l="0" t="0" r="r" b="b"/>
            <a:pathLst>
              <a:path fill="none" w="107" h="107">
                <a:moveTo>
                  <a:pt x="0" y="107"/>
                </a:moveTo>
                <a:lnTo>
                  <a:pt x="45" y="8"/>
                </a:lnTo>
                <a:lnTo>
                  <a:pt x="90" y="0"/>
                </a:lnTo>
                <a:lnTo>
                  <a:pt x="107" y="85"/>
                </a:lnTo>
                <a:lnTo>
                  <a:pt x="0" y="107"/>
                </a:lnTo>
              </a:path>
            </a:pathLst>
          </a:custGeom>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364" name=""/>
          <p:cNvSpPr/>
          <p:nvPr/>
        </p:nvSpPr>
        <p:spPr>
          <a:xfrm>
            <a:off x="3970440" y="3654360"/>
            <a:ext cx="143280" cy="106560"/>
          </a:xfrm>
          <a:custGeom>
            <a:avLst/>
            <a:gdLst/>
            <a:ahLst/>
            <a:rect l="0" t="0" r="r" b="b"/>
            <a:pathLst>
              <a:path fill="none" w="398" h="296">
                <a:moveTo>
                  <a:pt x="0" y="127"/>
                </a:moveTo>
                <a:lnTo>
                  <a:pt x="52" y="212"/>
                </a:lnTo>
                <a:lnTo>
                  <a:pt x="230" y="230"/>
                </a:lnTo>
                <a:lnTo>
                  <a:pt x="44" y="256"/>
                </a:lnTo>
                <a:lnTo>
                  <a:pt x="44" y="296"/>
                </a:lnTo>
                <a:lnTo>
                  <a:pt x="243" y="278"/>
                </a:lnTo>
                <a:lnTo>
                  <a:pt x="398" y="296"/>
                </a:lnTo>
                <a:lnTo>
                  <a:pt x="345" y="127"/>
                </a:lnTo>
                <a:lnTo>
                  <a:pt x="208" y="0"/>
                </a:lnTo>
                <a:lnTo>
                  <a:pt x="52" y="35"/>
                </a:lnTo>
                <a:lnTo>
                  <a:pt x="0" y="12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4068720" y="3828960"/>
            <a:ext cx="70200" cy="74880"/>
          </a:xfrm>
          <a:custGeom>
            <a:avLst/>
            <a:gdLst/>
            <a:ahLst/>
            <a:rect l="0" t="0" r="r" b="b"/>
            <a:pathLst>
              <a:path fill="none" w="195" h="208">
                <a:moveTo>
                  <a:pt x="0" y="57"/>
                </a:moveTo>
                <a:lnTo>
                  <a:pt x="17" y="137"/>
                </a:lnTo>
                <a:lnTo>
                  <a:pt x="115" y="208"/>
                </a:lnTo>
                <a:lnTo>
                  <a:pt x="195" y="101"/>
                </a:lnTo>
                <a:lnTo>
                  <a:pt x="128" y="0"/>
                </a:lnTo>
                <a:lnTo>
                  <a:pt x="0" y="57"/>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366" name=""/>
          <p:cNvSpPr/>
          <p:nvPr/>
        </p:nvSpPr>
        <p:spPr>
          <a:xfrm>
            <a:off x="5315040" y="3776760"/>
            <a:ext cx="236880" cy="351360"/>
          </a:xfrm>
          <a:custGeom>
            <a:avLst/>
            <a:gdLst/>
            <a:ahLst/>
            <a:rect l="0" t="0" r="r" b="b"/>
            <a:pathLst>
              <a:path fill="none" w="658" h="976">
                <a:moveTo>
                  <a:pt x="0" y="914"/>
                </a:moveTo>
                <a:lnTo>
                  <a:pt x="0" y="653"/>
                </a:lnTo>
                <a:lnTo>
                  <a:pt x="57" y="578"/>
                </a:lnTo>
                <a:lnTo>
                  <a:pt x="251" y="494"/>
                </a:lnTo>
                <a:lnTo>
                  <a:pt x="450" y="278"/>
                </a:lnTo>
                <a:lnTo>
                  <a:pt x="194" y="202"/>
                </a:lnTo>
                <a:lnTo>
                  <a:pt x="119" y="74"/>
                </a:lnTo>
                <a:lnTo>
                  <a:pt x="149" y="35"/>
                </a:lnTo>
                <a:lnTo>
                  <a:pt x="242" y="114"/>
                </a:lnTo>
                <a:lnTo>
                  <a:pt x="627" y="0"/>
                </a:lnTo>
                <a:lnTo>
                  <a:pt x="658" y="114"/>
                </a:lnTo>
                <a:lnTo>
                  <a:pt x="424" y="565"/>
                </a:lnTo>
                <a:lnTo>
                  <a:pt x="39" y="976"/>
                </a:lnTo>
                <a:lnTo>
                  <a:pt x="0" y="91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3981600" y="3354480"/>
            <a:ext cx="195480" cy="181440"/>
          </a:xfrm>
          <a:custGeom>
            <a:avLst/>
            <a:gdLst/>
            <a:ahLst/>
            <a:rect l="0" t="0" r="r" b="b"/>
            <a:pathLst>
              <a:path fill="none" w="543" h="504">
                <a:moveTo>
                  <a:pt x="0" y="504"/>
                </a:moveTo>
                <a:lnTo>
                  <a:pt x="260" y="0"/>
                </a:lnTo>
                <a:lnTo>
                  <a:pt x="543" y="0"/>
                </a:lnTo>
                <a:lnTo>
                  <a:pt x="543" y="30"/>
                </a:lnTo>
                <a:lnTo>
                  <a:pt x="543" y="133"/>
                </a:lnTo>
                <a:lnTo>
                  <a:pt x="331" y="119"/>
                </a:lnTo>
                <a:lnTo>
                  <a:pt x="331" y="322"/>
                </a:lnTo>
                <a:lnTo>
                  <a:pt x="251" y="349"/>
                </a:lnTo>
                <a:lnTo>
                  <a:pt x="260" y="469"/>
                </a:lnTo>
                <a:lnTo>
                  <a:pt x="0" y="50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4878360" y="3481560"/>
            <a:ext cx="381240" cy="510120"/>
          </a:xfrm>
          <a:custGeom>
            <a:avLst/>
            <a:gdLst/>
            <a:ahLst/>
            <a:rect l="0" t="0" r="r" b="b"/>
            <a:pathLst>
              <a:path fill="none" w="1059" h="1417">
                <a:moveTo>
                  <a:pt x="0" y="746"/>
                </a:moveTo>
                <a:lnTo>
                  <a:pt x="44" y="887"/>
                </a:lnTo>
                <a:lnTo>
                  <a:pt x="83" y="1046"/>
                </a:lnTo>
                <a:lnTo>
                  <a:pt x="194" y="1100"/>
                </a:lnTo>
                <a:lnTo>
                  <a:pt x="348" y="1311"/>
                </a:lnTo>
                <a:lnTo>
                  <a:pt x="565" y="1417"/>
                </a:lnTo>
                <a:lnTo>
                  <a:pt x="759" y="1386"/>
                </a:lnTo>
                <a:lnTo>
                  <a:pt x="887" y="1351"/>
                </a:lnTo>
                <a:lnTo>
                  <a:pt x="812" y="1197"/>
                </a:lnTo>
                <a:lnTo>
                  <a:pt x="693" y="1117"/>
                </a:lnTo>
                <a:lnTo>
                  <a:pt x="772" y="1059"/>
                </a:lnTo>
                <a:lnTo>
                  <a:pt x="785" y="922"/>
                </a:lnTo>
                <a:lnTo>
                  <a:pt x="900" y="755"/>
                </a:lnTo>
                <a:lnTo>
                  <a:pt x="962" y="450"/>
                </a:lnTo>
                <a:lnTo>
                  <a:pt x="1059" y="375"/>
                </a:lnTo>
                <a:lnTo>
                  <a:pt x="984" y="313"/>
                </a:lnTo>
                <a:lnTo>
                  <a:pt x="957" y="74"/>
                </a:lnTo>
                <a:lnTo>
                  <a:pt x="874" y="0"/>
                </a:lnTo>
                <a:lnTo>
                  <a:pt x="759" y="101"/>
                </a:lnTo>
                <a:lnTo>
                  <a:pt x="189" y="74"/>
                </a:lnTo>
                <a:lnTo>
                  <a:pt x="189" y="224"/>
                </a:lnTo>
                <a:lnTo>
                  <a:pt x="127" y="224"/>
                </a:lnTo>
                <a:lnTo>
                  <a:pt x="127" y="264"/>
                </a:lnTo>
                <a:lnTo>
                  <a:pt x="127" y="538"/>
                </a:lnTo>
                <a:lnTo>
                  <a:pt x="57" y="556"/>
                </a:lnTo>
                <a:lnTo>
                  <a:pt x="0" y="746"/>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5081760" y="4759200"/>
            <a:ext cx="25920" cy="43200"/>
          </a:xfrm>
          <a:custGeom>
            <a:avLst/>
            <a:gdLst/>
            <a:ahLst/>
            <a:rect l="0" t="0" r="r" b="b"/>
            <a:pathLst>
              <a:path fill="none" w="72" h="120">
                <a:moveTo>
                  <a:pt x="0" y="71"/>
                </a:moveTo>
                <a:lnTo>
                  <a:pt x="36" y="120"/>
                </a:lnTo>
                <a:lnTo>
                  <a:pt x="72" y="80"/>
                </a:lnTo>
                <a:lnTo>
                  <a:pt x="68" y="0"/>
                </a:lnTo>
                <a:lnTo>
                  <a:pt x="0" y="71"/>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370" name=""/>
          <p:cNvSpPr/>
          <p:nvPr/>
        </p:nvSpPr>
        <p:spPr>
          <a:xfrm>
            <a:off x="4370400" y="3797280"/>
            <a:ext cx="46440" cy="130680"/>
          </a:xfrm>
          <a:custGeom>
            <a:avLst/>
            <a:gdLst/>
            <a:ahLst/>
            <a:rect l="0" t="0" r="r" b="b"/>
            <a:pathLst>
              <a:path fill="none" w="129" h="363">
                <a:moveTo>
                  <a:pt x="0" y="0"/>
                </a:moveTo>
                <a:lnTo>
                  <a:pt x="71" y="17"/>
                </a:lnTo>
                <a:lnTo>
                  <a:pt x="129" y="354"/>
                </a:lnTo>
                <a:lnTo>
                  <a:pt x="89" y="363"/>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5056200" y="3981600"/>
            <a:ext cx="122760" cy="135360"/>
          </a:xfrm>
          <a:custGeom>
            <a:avLst/>
            <a:gdLst/>
            <a:ahLst/>
            <a:rect l="0" t="0" r="r" b="b"/>
            <a:pathLst>
              <a:path fill="none" w="341" h="376">
                <a:moveTo>
                  <a:pt x="0" y="376"/>
                </a:moveTo>
                <a:lnTo>
                  <a:pt x="52" y="363"/>
                </a:lnTo>
                <a:lnTo>
                  <a:pt x="137" y="350"/>
                </a:lnTo>
                <a:lnTo>
                  <a:pt x="137" y="293"/>
                </a:lnTo>
                <a:lnTo>
                  <a:pt x="266" y="274"/>
                </a:lnTo>
                <a:lnTo>
                  <a:pt x="341" y="142"/>
                </a:lnTo>
                <a:lnTo>
                  <a:pt x="266" y="0"/>
                </a:lnTo>
                <a:lnTo>
                  <a:pt x="70" y="26"/>
                </a:lnTo>
                <a:lnTo>
                  <a:pt x="98" y="128"/>
                </a:lnTo>
                <a:lnTo>
                  <a:pt x="52" y="195"/>
                </a:lnTo>
                <a:lnTo>
                  <a:pt x="0" y="376"/>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4935600" y="3244680"/>
            <a:ext cx="260640" cy="271800"/>
          </a:xfrm>
          <a:custGeom>
            <a:avLst/>
            <a:gdLst/>
            <a:ahLst/>
            <a:rect l="0" t="0" r="r" b="b"/>
            <a:pathLst>
              <a:path fill="none" w="724" h="755">
                <a:moveTo>
                  <a:pt x="0" y="119"/>
                </a:moveTo>
                <a:lnTo>
                  <a:pt x="35" y="733"/>
                </a:lnTo>
                <a:lnTo>
                  <a:pt x="600" y="755"/>
                </a:lnTo>
                <a:lnTo>
                  <a:pt x="715" y="653"/>
                </a:lnTo>
                <a:lnTo>
                  <a:pt x="724" y="583"/>
                </a:lnTo>
                <a:lnTo>
                  <a:pt x="503" y="154"/>
                </a:lnTo>
                <a:lnTo>
                  <a:pt x="600" y="291"/>
                </a:lnTo>
                <a:lnTo>
                  <a:pt x="658" y="176"/>
                </a:lnTo>
                <a:lnTo>
                  <a:pt x="600" y="17"/>
                </a:lnTo>
                <a:lnTo>
                  <a:pt x="472" y="44"/>
                </a:lnTo>
                <a:lnTo>
                  <a:pt x="472" y="4"/>
                </a:lnTo>
                <a:lnTo>
                  <a:pt x="406" y="4"/>
                </a:lnTo>
                <a:lnTo>
                  <a:pt x="277" y="61"/>
                </a:lnTo>
                <a:lnTo>
                  <a:pt x="35" y="0"/>
                </a:lnTo>
                <a:lnTo>
                  <a:pt x="0" y="11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4251240" y="3697200"/>
            <a:ext cx="176400" cy="140040"/>
          </a:xfrm>
          <a:custGeom>
            <a:avLst/>
            <a:gdLst/>
            <a:ahLst/>
            <a:rect l="0" t="0" r="r" b="b"/>
            <a:pathLst>
              <a:path fill="none" w="490" h="389">
                <a:moveTo>
                  <a:pt x="0" y="336"/>
                </a:moveTo>
                <a:lnTo>
                  <a:pt x="39" y="375"/>
                </a:lnTo>
                <a:lnTo>
                  <a:pt x="163" y="389"/>
                </a:lnTo>
                <a:lnTo>
                  <a:pt x="149" y="296"/>
                </a:lnTo>
                <a:lnTo>
                  <a:pt x="327" y="269"/>
                </a:lnTo>
                <a:lnTo>
                  <a:pt x="397" y="296"/>
                </a:lnTo>
                <a:lnTo>
                  <a:pt x="490" y="221"/>
                </a:lnTo>
                <a:lnTo>
                  <a:pt x="353" y="61"/>
                </a:lnTo>
                <a:lnTo>
                  <a:pt x="349" y="0"/>
                </a:lnTo>
                <a:lnTo>
                  <a:pt x="88" y="123"/>
                </a:lnTo>
                <a:lnTo>
                  <a:pt x="0" y="336"/>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4992840" y="4848120"/>
            <a:ext cx="52920" cy="59040"/>
          </a:xfrm>
          <a:custGeom>
            <a:avLst/>
            <a:gdLst/>
            <a:ahLst/>
            <a:rect l="0" t="0" r="r" b="b"/>
            <a:pathLst>
              <a:path fill="none" w="147" h="164">
                <a:moveTo>
                  <a:pt x="0" y="74"/>
                </a:moveTo>
                <a:lnTo>
                  <a:pt x="53" y="164"/>
                </a:lnTo>
                <a:lnTo>
                  <a:pt x="147" y="74"/>
                </a:lnTo>
                <a:lnTo>
                  <a:pt x="102" y="0"/>
                </a:lnTo>
                <a:lnTo>
                  <a:pt x="0" y="74"/>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375" name=""/>
          <p:cNvSpPr/>
          <p:nvPr/>
        </p:nvSpPr>
        <p:spPr>
          <a:xfrm>
            <a:off x="4910040" y="2484360"/>
            <a:ext cx="182880" cy="160560"/>
          </a:xfrm>
          <a:custGeom>
            <a:avLst/>
            <a:gdLst/>
            <a:ahLst/>
            <a:rect l="0" t="0" r="r" b="b"/>
            <a:pathLst>
              <a:path fill="none" w="508" h="446">
                <a:moveTo>
                  <a:pt x="149" y="0"/>
                </a:moveTo>
                <a:lnTo>
                  <a:pt x="194" y="0"/>
                </a:lnTo>
                <a:lnTo>
                  <a:pt x="238" y="30"/>
                </a:lnTo>
                <a:lnTo>
                  <a:pt x="309" y="30"/>
                </a:lnTo>
                <a:lnTo>
                  <a:pt x="375" y="44"/>
                </a:lnTo>
                <a:lnTo>
                  <a:pt x="411" y="101"/>
                </a:lnTo>
                <a:lnTo>
                  <a:pt x="446" y="176"/>
                </a:lnTo>
                <a:lnTo>
                  <a:pt x="450" y="202"/>
                </a:lnTo>
                <a:lnTo>
                  <a:pt x="477" y="225"/>
                </a:lnTo>
                <a:lnTo>
                  <a:pt x="508" y="247"/>
                </a:lnTo>
                <a:lnTo>
                  <a:pt x="508" y="274"/>
                </a:lnTo>
                <a:lnTo>
                  <a:pt x="464" y="274"/>
                </a:lnTo>
                <a:lnTo>
                  <a:pt x="419" y="274"/>
                </a:lnTo>
                <a:lnTo>
                  <a:pt x="446" y="305"/>
                </a:lnTo>
                <a:lnTo>
                  <a:pt x="464" y="322"/>
                </a:lnTo>
                <a:lnTo>
                  <a:pt x="464" y="362"/>
                </a:lnTo>
                <a:lnTo>
                  <a:pt x="446" y="375"/>
                </a:lnTo>
                <a:lnTo>
                  <a:pt x="406" y="375"/>
                </a:lnTo>
                <a:lnTo>
                  <a:pt x="397" y="375"/>
                </a:lnTo>
                <a:lnTo>
                  <a:pt x="375" y="393"/>
                </a:lnTo>
                <a:lnTo>
                  <a:pt x="375" y="437"/>
                </a:lnTo>
                <a:lnTo>
                  <a:pt x="358" y="446"/>
                </a:lnTo>
                <a:lnTo>
                  <a:pt x="327" y="428"/>
                </a:lnTo>
                <a:lnTo>
                  <a:pt x="287" y="415"/>
                </a:lnTo>
                <a:lnTo>
                  <a:pt x="251" y="393"/>
                </a:lnTo>
                <a:lnTo>
                  <a:pt x="211" y="411"/>
                </a:lnTo>
                <a:lnTo>
                  <a:pt x="110" y="362"/>
                </a:lnTo>
                <a:lnTo>
                  <a:pt x="70" y="371"/>
                </a:lnTo>
                <a:lnTo>
                  <a:pt x="26" y="362"/>
                </a:lnTo>
                <a:lnTo>
                  <a:pt x="8" y="393"/>
                </a:lnTo>
                <a:lnTo>
                  <a:pt x="0" y="314"/>
                </a:lnTo>
                <a:lnTo>
                  <a:pt x="35" y="274"/>
                </a:lnTo>
                <a:lnTo>
                  <a:pt x="0" y="176"/>
                </a:lnTo>
                <a:lnTo>
                  <a:pt x="26" y="189"/>
                </a:lnTo>
                <a:lnTo>
                  <a:pt x="35" y="167"/>
                </a:lnTo>
                <a:lnTo>
                  <a:pt x="48" y="132"/>
                </a:lnTo>
                <a:lnTo>
                  <a:pt x="61" y="114"/>
                </a:lnTo>
                <a:lnTo>
                  <a:pt x="70" y="66"/>
                </a:lnTo>
                <a:lnTo>
                  <a:pt x="105" y="30"/>
                </a:lnTo>
                <a:lnTo>
                  <a:pt x="123" y="0"/>
                </a:lnTo>
                <a:lnTo>
                  <a:pt x="149"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4879800" y="2598840"/>
            <a:ext cx="402120" cy="263880"/>
          </a:xfrm>
          <a:custGeom>
            <a:avLst/>
            <a:gdLst/>
            <a:ahLst/>
            <a:rect l="0" t="0" r="r" b="b"/>
            <a:pathLst>
              <a:path fill="none" w="1117" h="733">
                <a:moveTo>
                  <a:pt x="556" y="39"/>
                </a:moveTo>
                <a:lnTo>
                  <a:pt x="578" y="30"/>
                </a:lnTo>
                <a:lnTo>
                  <a:pt x="613" y="4"/>
                </a:lnTo>
                <a:lnTo>
                  <a:pt x="627" y="0"/>
                </a:lnTo>
                <a:lnTo>
                  <a:pt x="680" y="4"/>
                </a:lnTo>
                <a:lnTo>
                  <a:pt x="693" y="44"/>
                </a:lnTo>
                <a:lnTo>
                  <a:pt x="710" y="92"/>
                </a:lnTo>
                <a:lnTo>
                  <a:pt x="724" y="97"/>
                </a:lnTo>
                <a:lnTo>
                  <a:pt x="750" y="97"/>
                </a:lnTo>
                <a:lnTo>
                  <a:pt x="803" y="158"/>
                </a:lnTo>
                <a:lnTo>
                  <a:pt x="834" y="202"/>
                </a:lnTo>
                <a:lnTo>
                  <a:pt x="910" y="233"/>
                </a:lnTo>
                <a:lnTo>
                  <a:pt x="958" y="238"/>
                </a:lnTo>
                <a:lnTo>
                  <a:pt x="989" y="233"/>
                </a:lnTo>
                <a:lnTo>
                  <a:pt x="1029" y="255"/>
                </a:lnTo>
                <a:lnTo>
                  <a:pt x="1100" y="264"/>
                </a:lnTo>
                <a:lnTo>
                  <a:pt x="1117" y="375"/>
                </a:lnTo>
                <a:lnTo>
                  <a:pt x="1069" y="393"/>
                </a:lnTo>
                <a:lnTo>
                  <a:pt x="1060" y="446"/>
                </a:lnTo>
                <a:lnTo>
                  <a:pt x="980" y="508"/>
                </a:lnTo>
                <a:lnTo>
                  <a:pt x="834" y="543"/>
                </a:lnTo>
                <a:lnTo>
                  <a:pt x="825" y="596"/>
                </a:lnTo>
                <a:lnTo>
                  <a:pt x="777" y="574"/>
                </a:lnTo>
                <a:lnTo>
                  <a:pt x="834" y="644"/>
                </a:lnTo>
                <a:lnTo>
                  <a:pt x="897" y="653"/>
                </a:lnTo>
                <a:lnTo>
                  <a:pt x="755" y="733"/>
                </a:lnTo>
                <a:lnTo>
                  <a:pt x="671" y="644"/>
                </a:lnTo>
                <a:lnTo>
                  <a:pt x="746" y="578"/>
                </a:lnTo>
                <a:lnTo>
                  <a:pt x="671" y="574"/>
                </a:lnTo>
                <a:lnTo>
                  <a:pt x="622" y="574"/>
                </a:lnTo>
                <a:lnTo>
                  <a:pt x="640" y="508"/>
                </a:lnTo>
                <a:lnTo>
                  <a:pt x="622" y="516"/>
                </a:lnTo>
                <a:lnTo>
                  <a:pt x="521" y="552"/>
                </a:lnTo>
                <a:lnTo>
                  <a:pt x="481" y="644"/>
                </a:lnTo>
                <a:lnTo>
                  <a:pt x="406" y="636"/>
                </a:lnTo>
                <a:lnTo>
                  <a:pt x="433" y="574"/>
                </a:lnTo>
                <a:lnTo>
                  <a:pt x="433" y="543"/>
                </a:lnTo>
                <a:lnTo>
                  <a:pt x="472" y="530"/>
                </a:lnTo>
                <a:lnTo>
                  <a:pt x="490" y="508"/>
                </a:lnTo>
                <a:lnTo>
                  <a:pt x="499" y="494"/>
                </a:lnTo>
                <a:lnTo>
                  <a:pt x="472" y="481"/>
                </a:lnTo>
                <a:lnTo>
                  <a:pt x="446" y="415"/>
                </a:lnTo>
                <a:lnTo>
                  <a:pt x="393" y="375"/>
                </a:lnTo>
                <a:lnTo>
                  <a:pt x="340" y="375"/>
                </a:lnTo>
                <a:lnTo>
                  <a:pt x="268" y="393"/>
                </a:lnTo>
                <a:lnTo>
                  <a:pt x="176" y="393"/>
                </a:lnTo>
                <a:lnTo>
                  <a:pt x="114" y="406"/>
                </a:lnTo>
                <a:lnTo>
                  <a:pt x="39" y="406"/>
                </a:lnTo>
                <a:lnTo>
                  <a:pt x="0" y="367"/>
                </a:lnTo>
                <a:lnTo>
                  <a:pt x="22" y="295"/>
                </a:lnTo>
                <a:lnTo>
                  <a:pt x="70" y="233"/>
                </a:lnTo>
                <a:lnTo>
                  <a:pt x="123" y="158"/>
                </a:lnTo>
                <a:lnTo>
                  <a:pt x="88" y="74"/>
                </a:lnTo>
                <a:lnTo>
                  <a:pt x="101" y="61"/>
                </a:lnTo>
                <a:lnTo>
                  <a:pt x="114" y="44"/>
                </a:lnTo>
                <a:lnTo>
                  <a:pt x="149" y="52"/>
                </a:lnTo>
                <a:lnTo>
                  <a:pt x="189" y="44"/>
                </a:lnTo>
                <a:lnTo>
                  <a:pt x="242" y="61"/>
                </a:lnTo>
                <a:lnTo>
                  <a:pt x="296" y="92"/>
                </a:lnTo>
                <a:lnTo>
                  <a:pt x="336" y="74"/>
                </a:lnTo>
                <a:lnTo>
                  <a:pt x="367" y="97"/>
                </a:lnTo>
                <a:lnTo>
                  <a:pt x="406" y="110"/>
                </a:lnTo>
                <a:lnTo>
                  <a:pt x="441" y="127"/>
                </a:lnTo>
                <a:lnTo>
                  <a:pt x="464" y="119"/>
                </a:lnTo>
                <a:lnTo>
                  <a:pt x="464" y="74"/>
                </a:lnTo>
                <a:lnTo>
                  <a:pt x="481" y="61"/>
                </a:lnTo>
                <a:lnTo>
                  <a:pt x="530" y="61"/>
                </a:lnTo>
                <a:lnTo>
                  <a:pt x="543" y="52"/>
                </a:lnTo>
                <a:lnTo>
                  <a:pt x="556" y="3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a:off x="4986360" y="2733840"/>
            <a:ext cx="74880" cy="93960"/>
          </a:xfrm>
          <a:custGeom>
            <a:avLst/>
            <a:gdLst/>
            <a:ahLst/>
            <a:rect l="0" t="0" r="r" b="b"/>
            <a:pathLst>
              <a:path fill="none" w="208" h="261">
                <a:moveTo>
                  <a:pt x="39" y="66"/>
                </a:moveTo>
                <a:lnTo>
                  <a:pt x="66" y="101"/>
                </a:lnTo>
                <a:lnTo>
                  <a:pt x="79" y="127"/>
                </a:lnTo>
                <a:lnTo>
                  <a:pt x="97" y="261"/>
                </a:lnTo>
                <a:lnTo>
                  <a:pt x="115" y="261"/>
                </a:lnTo>
                <a:lnTo>
                  <a:pt x="137" y="195"/>
                </a:lnTo>
                <a:lnTo>
                  <a:pt x="137" y="164"/>
                </a:lnTo>
                <a:lnTo>
                  <a:pt x="195" y="137"/>
                </a:lnTo>
                <a:lnTo>
                  <a:pt x="208" y="114"/>
                </a:lnTo>
                <a:lnTo>
                  <a:pt x="177" y="105"/>
                </a:lnTo>
                <a:lnTo>
                  <a:pt x="150" y="35"/>
                </a:lnTo>
                <a:lnTo>
                  <a:pt x="97" y="0"/>
                </a:lnTo>
                <a:lnTo>
                  <a:pt x="44" y="0"/>
                </a:lnTo>
                <a:lnTo>
                  <a:pt x="0" y="0"/>
                </a:lnTo>
                <a:lnTo>
                  <a:pt x="39" y="66"/>
                </a:lnTo>
              </a:path>
            </a:pathLst>
          </a:custGeom>
          <a:ln w="12600">
            <a:solidFill>
              <a:srgbClr val="000000"/>
            </a:solidFill>
            <a:round/>
          </a:ln>
        </p:spPr>
        <p:txBody>
          <a:bodyPr lIns="96120" rIns="96120" tIns="42840" bIns="42840" anchor="t">
            <a:noAutofit/>
          </a:bodyPr>
          <a:p>
            <a:endParaRPr b="0" lang="en-US" sz="1800" spc="-1" strike="noStrike">
              <a:solidFill>
                <a:srgbClr val="000000"/>
              </a:solidFill>
              <a:latin typeface="Arial"/>
            </a:endParaRPr>
          </a:p>
        </p:txBody>
      </p:sp>
      <p:sp>
        <p:nvSpPr>
          <p:cNvPr id="378" name=""/>
          <p:cNvSpPr/>
          <p:nvPr/>
        </p:nvSpPr>
        <p:spPr>
          <a:xfrm>
            <a:off x="5261040" y="2862360"/>
            <a:ext cx="171720" cy="84600"/>
          </a:xfrm>
          <a:custGeom>
            <a:avLst/>
            <a:gdLst/>
            <a:ahLst/>
            <a:rect l="0" t="0" r="r" b="b"/>
            <a:pathLst>
              <a:path fill="none" w="477" h="235">
                <a:moveTo>
                  <a:pt x="0" y="8"/>
                </a:moveTo>
                <a:lnTo>
                  <a:pt x="114" y="0"/>
                </a:lnTo>
                <a:lnTo>
                  <a:pt x="224" y="44"/>
                </a:lnTo>
                <a:lnTo>
                  <a:pt x="265" y="93"/>
                </a:lnTo>
                <a:lnTo>
                  <a:pt x="322" y="93"/>
                </a:lnTo>
                <a:lnTo>
                  <a:pt x="362" y="75"/>
                </a:lnTo>
                <a:lnTo>
                  <a:pt x="393" y="67"/>
                </a:lnTo>
                <a:lnTo>
                  <a:pt x="419" y="120"/>
                </a:lnTo>
                <a:lnTo>
                  <a:pt x="468" y="137"/>
                </a:lnTo>
                <a:lnTo>
                  <a:pt x="450" y="155"/>
                </a:lnTo>
                <a:lnTo>
                  <a:pt x="477" y="200"/>
                </a:lnTo>
                <a:lnTo>
                  <a:pt x="468" y="235"/>
                </a:lnTo>
                <a:lnTo>
                  <a:pt x="419" y="182"/>
                </a:lnTo>
                <a:lnTo>
                  <a:pt x="393" y="164"/>
                </a:lnTo>
                <a:lnTo>
                  <a:pt x="362" y="164"/>
                </a:lnTo>
                <a:lnTo>
                  <a:pt x="344" y="213"/>
                </a:lnTo>
                <a:lnTo>
                  <a:pt x="314" y="209"/>
                </a:lnTo>
                <a:lnTo>
                  <a:pt x="247" y="235"/>
                </a:lnTo>
                <a:lnTo>
                  <a:pt x="176" y="235"/>
                </a:lnTo>
                <a:lnTo>
                  <a:pt x="171" y="137"/>
                </a:lnTo>
                <a:lnTo>
                  <a:pt x="52" y="57"/>
                </a:lnTo>
                <a:lnTo>
                  <a:pt x="0" y="8"/>
                </a:lnTo>
              </a:path>
            </a:pathLst>
          </a:custGeom>
          <a:ln w="12600">
            <a:solidFill>
              <a:srgbClr val="000000"/>
            </a:solidFill>
            <a:round/>
          </a:ln>
        </p:spPr>
        <p:txBody>
          <a:bodyPr lIns="96120" rIns="96120" tIns="33480" bIns="33480" anchor="t">
            <a:noAutofit/>
          </a:bodyPr>
          <a:p>
            <a:endParaRPr b="0" lang="en-US" sz="1800" spc="-1" strike="noStrike">
              <a:solidFill>
                <a:srgbClr val="000000"/>
              </a:solidFill>
              <a:latin typeface="Arial"/>
            </a:endParaRPr>
          </a:p>
        </p:txBody>
      </p:sp>
      <p:sp>
        <p:nvSpPr>
          <p:cNvPr id="379" name=""/>
          <p:cNvSpPr/>
          <p:nvPr/>
        </p:nvSpPr>
        <p:spPr>
          <a:xfrm>
            <a:off x="5386320" y="2911320"/>
            <a:ext cx="141480" cy="128880"/>
          </a:xfrm>
          <a:custGeom>
            <a:avLst/>
            <a:gdLst/>
            <a:ahLst/>
            <a:rect l="0" t="0" r="r" b="b"/>
            <a:pathLst>
              <a:path fill="none" w="393" h="358">
                <a:moveTo>
                  <a:pt x="141" y="17"/>
                </a:moveTo>
                <a:lnTo>
                  <a:pt x="167" y="17"/>
                </a:lnTo>
                <a:lnTo>
                  <a:pt x="225" y="26"/>
                </a:lnTo>
                <a:lnTo>
                  <a:pt x="287" y="74"/>
                </a:lnTo>
                <a:lnTo>
                  <a:pt x="322" y="132"/>
                </a:lnTo>
                <a:lnTo>
                  <a:pt x="393" y="208"/>
                </a:lnTo>
                <a:lnTo>
                  <a:pt x="349" y="221"/>
                </a:lnTo>
                <a:lnTo>
                  <a:pt x="322" y="261"/>
                </a:lnTo>
                <a:lnTo>
                  <a:pt x="322" y="278"/>
                </a:lnTo>
                <a:lnTo>
                  <a:pt x="305" y="358"/>
                </a:lnTo>
                <a:lnTo>
                  <a:pt x="256" y="340"/>
                </a:lnTo>
                <a:lnTo>
                  <a:pt x="239" y="269"/>
                </a:lnTo>
                <a:lnTo>
                  <a:pt x="189" y="296"/>
                </a:lnTo>
                <a:lnTo>
                  <a:pt x="132" y="327"/>
                </a:lnTo>
                <a:lnTo>
                  <a:pt x="97" y="322"/>
                </a:lnTo>
                <a:lnTo>
                  <a:pt x="70" y="292"/>
                </a:lnTo>
                <a:lnTo>
                  <a:pt x="52" y="261"/>
                </a:lnTo>
                <a:lnTo>
                  <a:pt x="79" y="230"/>
                </a:lnTo>
                <a:lnTo>
                  <a:pt x="92" y="252"/>
                </a:lnTo>
                <a:lnTo>
                  <a:pt x="158" y="292"/>
                </a:lnTo>
                <a:lnTo>
                  <a:pt x="171" y="261"/>
                </a:lnTo>
                <a:lnTo>
                  <a:pt x="114" y="199"/>
                </a:lnTo>
                <a:lnTo>
                  <a:pt x="92" y="149"/>
                </a:lnTo>
                <a:lnTo>
                  <a:pt x="70" y="132"/>
                </a:lnTo>
                <a:lnTo>
                  <a:pt x="70" y="105"/>
                </a:lnTo>
                <a:lnTo>
                  <a:pt x="44" y="97"/>
                </a:lnTo>
                <a:lnTo>
                  <a:pt x="0" y="83"/>
                </a:lnTo>
                <a:lnTo>
                  <a:pt x="13" y="44"/>
                </a:lnTo>
                <a:lnTo>
                  <a:pt x="13" y="26"/>
                </a:lnTo>
                <a:lnTo>
                  <a:pt x="44" y="26"/>
                </a:lnTo>
                <a:lnTo>
                  <a:pt x="70" y="44"/>
                </a:lnTo>
                <a:lnTo>
                  <a:pt x="119" y="97"/>
                </a:lnTo>
                <a:lnTo>
                  <a:pt x="127" y="61"/>
                </a:lnTo>
                <a:lnTo>
                  <a:pt x="101" y="26"/>
                </a:lnTo>
                <a:lnTo>
                  <a:pt x="119" y="0"/>
                </a:lnTo>
                <a:lnTo>
                  <a:pt x="141" y="1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a:off x="5356080" y="2938320"/>
            <a:ext cx="93960" cy="79560"/>
          </a:xfrm>
          <a:custGeom>
            <a:avLst/>
            <a:gdLst/>
            <a:ahLst/>
            <a:rect l="0" t="0" r="r" b="b"/>
            <a:pathLst>
              <a:path fill="none" w="261" h="221">
                <a:moveTo>
                  <a:pt x="0" y="30"/>
                </a:moveTo>
                <a:lnTo>
                  <a:pt x="35" y="57"/>
                </a:lnTo>
                <a:lnTo>
                  <a:pt x="70" y="115"/>
                </a:lnTo>
                <a:lnTo>
                  <a:pt x="127" y="186"/>
                </a:lnTo>
                <a:lnTo>
                  <a:pt x="168" y="146"/>
                </a:lnTo>
                <a:lnTo>
                  <a:pt x="177" y="181"/>
                </a:lnTo>
                <a:lnTo>
                  <a:pt x="203" y="186"/>
                </a:lnTo>
                <a:lnTo>
                  <a:pt x="243" y="221"/>
                </a:lnTo>
                <a:lnTo>
                  <a:pt x="261" y="181"/>
                </a:lnTo>
                <a:lnTo>
                  <a:pt x="199" y="124"/>
                </a:lnTo>
                <a:lnTo>
                  <a:pt x="181" y="74"/>
                </a:lnTo>
                <a:lnTo>
                  <a:pt x="155" y="57"/>
                </a:lnTo>
                <a:lnTo>
                  <a:pt x="155" y="35"/>
                </a:lnTo>
                <a:lnTo>
                  <a:pt x="127" y="22"/>
                </a:lnTo>
                <a:lnTo>
                  <a:pt x="79" y="0"/>
                </a:lnTo>
                <a:lnTo>
                  <a:pt x="39" y="0"/>
                </a:lnTo>
                <a:lnTo>
                  <a:pt x="8" y="0"/>
                </a:lnTo>
                <a:lnTo>
                  <a:pt x="0" y="30"/>
                </a:lnTo>
              </a:path>
            </a:pathLst>
          </a:custGeom>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sp>
        <p:nvSpPr>
          <p:cNvPr id="381" name=""/>
          <p:cNvSpPr/>
          <p:nvPr/>
        </p:nvSpPr>
        <p:spPr>
          <a:xfrm>
            <a:off x="5411880" y="2495520"/>
            <a:ext cx="960840" cy="464040"/>
          </a:xfrm>
          <a:custGeom>
            <a:avLst/>
            <a:gdLst/>
            <a:ahLst/>
            <a:rect l="0" t="0" r="r" b="b"/>
            <a:pathLst>
              <a:path fill="none" w="2669" h="1289">
                <a:moveTo>
                  <a:pt x="2590" y="658"/>
                </a:moveTo>
                <a:lnTo>
                  <a:pt x="2669" y="627"/>
                </a:lnTo>
                <a:lnTo>
                  <a:pt x="2533" y="525"/>
                </a:lnTo>
                <a:lnTo>
                  <a:pt x="2444" y="565"/>
                </a:lnTo>
                <a:lnTo>
                  <a:pt x="2317" y="525"/>
                </a:lnTo>
                <a:lnTo>
                  <a:pt x="2264" y="494"/>
                </a:lnTo>
                <a:lnTo>
                  <a:pt x="2211" y="494"/>
                </a:lnTo>
                <a:lnTo>
                  <a:pt x="2175" y="433"/>
                </a:lnTo>
                <a:lnTo>
                  <a:pt x="2162" y="393"/>
                </a:lnTo>
                <a:lnTo>
                  <a:pt x="2127" y="393"/>
                </a:lnTo>
                <a:lnTo>
                  <a:pt x="2078" y="393"/>
                </a:lnTo>
                <a:lnTo>
                  <a:pt x="2043" y="411"/>
                </a:lnTo>
                <a:lnTo>
                  <a:pt x="1972" y="336"/>
                </a:lnTo>
                <a:lnTo>
                  <a:pt x="1950" y="344"/>
                </a:lnTo>
                <a:lnTo>
                  <a:pt x="1919" y="367"/>
                </a:lnTo>
                <a:lnTo>
                  <a:pt x="1879" y="384"/>
                </a:lnTo>
                <a:lnTo>
                  <a:pt x="1831" y="327"/>
                </a:lnTo>
                <a:lnTo>
                  <a:pt x="1698" y="211"/>
                </a:lnTo>
                <a:lnTo>
                  <a:pt x="1592" y="132"/>
                </a:lnTo>
                <a:lnTo>
                  <a:pt x="1531" y="66"/>
                </a:lnTo>
                <a:lnTo>
                  <a:pt x="1416" y="145"/>
                </a:lnTo>
                <a:lnTo>
                  <a:pt x="1398" y="92"/>
                </a:lnTo>
                <a:lnTo>
                  <a:pt x="1248" y="83"/>
                </a:lnTo>
                <a:lnTo>
                  <a:pt x="1222" y="83"/>
                </a:lnTo>
                <a:lnTo>
                  <a:pt x="1160" y="0"/>
                </a:lnTo>
                <a:lnTo>
                  <a:pt x="1085" y="0"/>
                </a:lnTo>
                <a:lnTo>
                  <a:pt x="1032" y="35"/>
                </a:lnTo>
                <a:lnTo>
                  <a:pt x="940" y="66"/>
                </a:lnTo>
                <a:lnTo>
                  <a:pt x="904" y="39"/>
                </a:lnTo>
                <a:lnTo>
                  <a:pt x="856" y="97"/>
                </a:lnTo>
                <a:lnTo>
                  <a:pt x="821" y="92"/>
                </a:lnTo>
                <a:lnTo>
                  <a:pt x="684" y="105"/>
                </a:lnTo>
                <a:lnTo>
                  <a:pt x="639" y="97"/>
                </a:lnTo>
                <a:lnTo>
                  <a:pt x="630" y="105"/>
                </a:lnTo>
                <a:lnTo>
                  <a:pt x="688" y="185"/>
                </a:lnTo>
                <a:lnTo>
                  <a:pt x="639" y="251"/>
                </a:lnTo>
                <a:lnTo>
                  <a:pt x="652" y="295"/>
                </a:lnTo>
                <a:lnTo>
                  <a:pt x="652" y="327"/>
                </a:lnTo>
                <a:lnTo>
                  <a:pt x="733" y="327"/>
                </a:lnTo>
                <a:lnTo>
                  <a:pt x="746" y="367"/>
                </a:lnTo>
                <a:lnTo>
                  <a:pt x="746" y="411"/>
                </a:lnTo>
                <a:lnTo>
                  <a:pt x="733" y="415"/>
                </a:lnTo>
                <a:lnTo>
                  <a:pt x="693" y="393"/>
                </a:lnTo>
                <a:lnTo>
                  <a:pt x="661" y="411"/>
                </a:lnTo>
                <a:lnTo>
                  <a:pt x="639" y="424"/>
                </a:lnTo>
                <a:lnTo>
                  <a:pt x="599" y="393"/>
                </a:lnTo>
                <a:lnTo>
                  <a:pt x="582" y="349"/>
                </a:lnTo>
                <a:lnTo>
                  <a:pt x="524" y="375"/>
                </a:lnTo>
                <a:lnTo>
                  <a:pt x="524" y="384"/>
                </a:lnTo>
                <a:lnTo>
                  <a:pt x="502" y="349"/>
                </a:lnTo>
                <a:lnTo>
                  <a:pt x="445" y="393"/>
                </a:lnTo>
                <a:lnTo>
                  <a:pt x="396" y="411"/>
                </a:lnTo>
                <a:lnTo>
                  <a:pt x="370" y="393"/>
                </a:lnTo>
                <a:lnTo>
                  <a:pt x="357" y="349"/>
                </a:lnTo>
                <a:lnTo>
                  <a:pt x="286" y="344"/>
                </a:lnTo>
                <a:lnTo>
                  <a:pt x="167" y="344"/>
                </a:lnTo>
                <a:lnTo>
                  <a:pt x="132" y="344"/>
                </a:lnTo>
                <a:lnTo>
                  <a:pt x="127" y="375"/>
                </a:lnTo>
                <a:lnTo>
                  <a:pt x="101" y="367"/>
                </a:lnTo>
                <a:lnTo>
                  <a:pt x="83" y="411"/>
                </a:lnTo>
                <a:lnTo>
                  <a:pt x="70" y="433"/>
                </a:lnTo>
                <a:lnTo>
                  <a:pt x="70" y="450"/>
                </a:lnTo>
                <a:lnTo>
                  <a:pt x="83" y="481"/>
                </a:lnTo>
                <a:lnTo>
                  <a:pt x="52" y="490"/>
                </a:lnTo>
                <a:lnTo>
                  <a:pt x="30" y="433"/>
                </a:lnTo>
                <a:lnTo>
                  <a:pt x="4" y="441"/>
                </a:lnTo>
                <a:lnTo>
                  <a:pt x="0" y="494"/>
                </a:lnTo>
                <a:lnTo>
                  <a:pt x="0" y="547"/>
                </a:lnTo>
                <a:lnTo>
                  <a:pt x="0" y="583"/>
                </a:lnTo>
                <a:lnTo>
                  <a:pt x="13" y="618"/>
                </a:lnTo>
                <a:lnTo>
                  <a:pt x="26" y="644"/>
                </a:lnTo>
                <a:lnTo>
                  <a:pt x="26" y="688"/>
                </a:lnTo>
                <a:lnTo>
                  <a:pt x="52" y="675"/>
                </a:lnTo>
                <a:lnTo>
                  <a:pt x="92" y="644"/>
                </a:lnTo>
                <a:lnTo>
                  <a:pt x="110" y="675"/>
                </a:lnTo>
                <a:lnTo>
                  <a:pt x="132" y="715"/>
                </a:lnTo>
                <a:lnTo>
                  <a:pt x="167" y="759"/>
                </a:lnTo>
                <a:lnTo>
                  <a:pt x="189" y="816"/>
                </a:lnTo>
                <a:lnTo>
                  <a:pt x="251" y="799"/>
                </a:lnTo>
                <a:lnTo>
                  <a:pt x="339" y="785"/>
                </a:lnTo>
                <a:lnTo>
                  <a:pt x="480" y="763"/>
                </a:lnTo>
                <a:lnTo>
                  <a:pt x="511" y="816"/>
                </a:lnTo>
                <a:lnTo>
                  <a:pt x="524" y="904"/>
                </a:lnTo>
                <a:lnTo>
                  <a:pt x="445" y="922"/>
                </a:lnTo>
                <a:lnTo>
                  <a:pt x="396" y="935"/>
                </a:lnTo>
                <a:lnTo>
                  <a:pt x="401" y="994"/>
                </a:lnTo>
                <a:lnTo>
                  <a:pt x="308" y="994"/>
                </a:lnTo>
                <a:lnTo>
                  <a:pt x="396" y="1135"/>
                </a:lnTo>
                <a:lnTo>
                  <a:pt x="432" y="1135"/>
                </a:lnTo>
                <a:lnTo>
                  <a:pt x="471" y="1148"/>
                </a:lnTo>
                <a:lnTo>
                  <a:pt x="485" y="1201"/>
                </a:lnTo>
                <a:lnTo>
                  <a:pt x="511" y="1183"/>
                </a:lnTo>
                <a:lnTo>
                  <a:pt x="582" y="1174"/>
                </a:lnTo>
                <a:lnTo>
                  <a:pt x="621" y="1183"/>
                </a:lnTo>
                <a:lnTo>
                  <a:pt x="639" y="1214"/>
                </a:lnTo>
                <a:lnTo>
                  <a:pt x="661" y="1183"/>
                </a:lnTo>
                <a:lnTo>
                  <a:pt x="715" y="1188"/>
                </a:lnTo>
                <a:lnTo>
                  <a:pt x="635" y="913"/>
                </a:lnTo>
                <a:lnTo>
                  <a:pt x="661" y="891"/>
                </a:lnTo>
                <a:lnTo>
                  <a:pt x="777" y="834"/>
                </a:lnTo>
                <a:lnTo>
                  <a:pt x="794" y="825"/>
                </a:lnTo>
                <a:lnTo>
                  <a:pt x="777" y="799"/>
                </a:lnTo>
                <a:lnTo>
                  <a:pt x="803" y="816"/>
                </a:lnTo>
                <a:lnTo>
                  <a:pt x="803" y="785"/>
                </a:lnTo>
                <a:lnTo>
                  <a:pt x="821" y="763"/>
                </a:lnTo>
                <a:lnTo>
                  <a:pt x="825" y="777"/>
                </a:lnTo>
                <a:lnTo>
                  <a:pt x="847" y="777"/>
                </a:lnTo>
                <a:lnTo>
                  <a:pt x="869" y="790"/>
                </a:lnTo>
                <a:lnTo>
                  <a:pt x="904" y="763"/>
                </a:lnTo>
                <a:lnTo>
                  <a:pt x="922" y="763"/>
                </a:lnTo>
                <a:lnTo>
                  <a:pt x="904" y="816"/>
                </a:lnTo>
                <a:lnTo>
                  <a:pt x="918" y="887"/>
                </a:lnTo>
                <a:lnTo>
                  <a:pt x="971" y="922"/>
                </a:lnTo>
                <a:lnTo>
                  <a:pt x="971" y="935"/>
                </a:lnTo>
                <a:lnTo>
                  <a:pt x="953" y="972"/>
                </a:lnTo>
                <a:lnTo>
                  <a:pt x="957" y="980"/>
                </a:lnTo>
                <a:lnTo>
                  <a:pt x="1028" y="1016"/>
                </a:lnTo>
                <a:lnTo>
                  <a:pt x="1050" y="1051"/>
                </a:lnTo>
                <a:lnTo>
                  <a:pt x="1112" y="1033"/>
                </a:lnTo>
                <a:lnTo>
                  <a:pt x="1187" y="1016"/>
                </a:lnTo>
                <a:lnTo>
                  <a:pt x="1248" y="1139"/>
                </a:lnTo>
                <a:lnTo>
                  <a:pt x="1266" y="1201"/>
                </a:lnTo>
                <a:lnTo>
                  <a:pt x="1248" y="1219"/>
                </a:lnTo>
                <a:lnTo>
                  <a:pt x="1240" y="1232"/>
                </a:lnTo>
                <a:lnTo>
                  <a:pt x="1293" y="1258"/>
                </a:lnTo>
                <a:lnTo>
                  <a:pt x="1310" y="1289"/>
                </a:lnTo>
                <a:lnTo>
                  <a:pt x="1394" y="1258"/>
                </a:lnTo>
                <a:lnTo>
                  <a:pt x="1412" y="1289"/>
                </a:lnTo>
                <a:lnTo>
                  <a:pt x="1465" y="1254"/>
                </a:lnTo>
                <a:lnTo>
                  <a:pt x="1504" y="1254"/>
                </a:lnTo>
                <a:lnTo>
                  <a:pt x="1544" y="1258"/>
                </a:lnTo>
                <a:lnTo>
                  <a:pt x="1650" y="1258"/>
                </a:lnTo>
                <a:lnTo>
                  <a:pt x="1619" y="1232"/>
                </a:lnTo>
                <a:lnTo>
                  <a:pt x="1619" y="1188"/>
                </a:lnTo>
                <a:lnTo>
                  <a:pt x="1641" y="1174"/>
                </a:lnTo>
                <a:lnTo>
                  <a:pt x="1641" y="1148"/>
                </a:lnTo>
                <a:lnTo>
                  <a:pt x="1610" y="1135"/>
                </a:lnTo>
                <a:lnTo>
                  <a:pt x="1663" y="1122"/>
                </a:lnTo>
                <a:lnTo>
                  <a:pt x="1725" y="1135"/>
                </a:lnTo>
                <a:lnTo>
                  <a:pt x="1738" y="1148"/>
                </a:lnTo>
                <a:lnTo>
                  <a:pt x="1791" y="1139"/>
                </a:lnTo>
                <a:lnTo>
                  <a:pt x="1747" y="1086"/>
                </a:lnTo>
                <a:lnTo>
                  <a:pt x="1791" y="1073"/>
                </a:lnTo>
                <a:lnTo>
                  <a:pt x="1936" y="1100"/>
                </a:lnTo>
                <a:lnTo>
                  <a:pt x="2074" y="1113"/>
                </a:lnTo>
                <a:lnTo>
                  <a:pt x="2162" y="1161"/>
                </a:lnTo>
                <a:lnTo>
                  <a:pt x="2211" y="1161"/>
                </a:lnTo>
                <a:lnTo>
                  <a:pt x="2228" y="1214"/>
                </a:lnTo>
                <a:lnTo>
                  <a:pt x="2264" y="1100"/>
                </a:lnTo>
                <a:lnTo>
                  <a:pt x="2211" y="972"/>
                </a:lnTo>
                <a:lnTo>
                  <a:pt x="2370" y="935"/>
                </a:lnTo>
                <a:lnTo>
                  <a:pt x="2387" y="860"/>
                </a:lnTo>
                <a:lnTo>
                  <a:pt x="2414" y="763"/>
                </a:lnTo>
                <a:lnTo>
                  <a:pt x="2572" y="777"/>
                </a:lnTo>
                <a:lnTo>
                  <a:pt x="2590" y="65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5640480" y="2793960"/>
            <a:ext cx="421200" cy="290880"/>
          </a:xfrm>
          <a:custGeom>
            <a:avLst/>
            <a:gdLst/>
            <a:ahLst/>
            <a:rect l="0" t="0" r="r" b="b"/>
            <a:pathLst>
              <a:path fill="none" w="1170" h="808">
                <a:moveTo>
                  <a:pt x="79" y="362"/>
                </a:moveTo>
                <a:lnTo>
                  <a:pt x="105" y="353"/>
                </a:lnTo>
                <a:lnTo>
                  <a:pt x="114" y="327"/>
                </a:lnTo>
                <a:lnTo>
                  <a:pt x="123" y="305"/>
                </a:lnTo>
                <a:lnTo>
                  <a:pt x="167" y="309"/>
                </a:lnTo>
                <a:lnTo>
                  <a:pt x="158" y="269"/>
                </a:lnTo>
                <a:lnTo>
                  <a:pt x="185" y="256"/>
                </a:lnTo>
                <a:lnTo>
                  <a:pt x="202" y="283"/>
                </a:lnTo>
                <a:lnTo>
                  <a:pt x="229" y="283"/>
                </a:lnTo>
                <a:lnTo>
                  <a:pt x="268" y="305"/>
                </a:lnTo>
                <a:lnTo>
                  <a:pt x="282" y="309"/>
                </a:lnTo>
                <a:lnTo>
                  <a:pt x="282" y="318"/>
                </a:lnTo>
                <a:lnTo>
                  <a:pt x="282" y="353"/>
                </a:lnTo>
                <a:lnTo>
                  <a:pt x="314" y="353"/>
                </a:lnTo>
                <a:lnTo>
                  <a:pt x="314" y="402"/>
                </a:lnTo>
                <a:lnTo>
                  <a:pt x="344" y="455"/>
                </a:lnTo>
                <a:lnTo>
                  <a:pt x="371" y="459"/>
                </a:lnTo>
                <a:lnTo>
                  <a:pt x="389" y="446"/>
                </a:lnTo>
                <a:lnTo>
                  <a:pt x="419" y="424"/>
                </a:lnTo>
                <a:lnTo>
                  <a:pt x="446" y="455"/>
                </a:lnTo>
                <a:lnTo>
                  <a:pt x="490" y="503"/>
                </a:lnTo>
                <a:lnTo>
                  <a:pt x="543" y="565"/>
                </a:lnTo>
                <a:lnTo>
                  <a:pt x="644" y="587"/>
                </a:lnTo>
                <a:lnTo>
                  <a:pt x="644" y="623"/>
                </a:lnTo>
                <a:lnTo>
                  <a:pt x="710" y="650"/>
                </a:lnTo>
                <a:lnTo>
                  <a:pt x="733" y="689"/>
                </a:lnTo>
                <a:lnTo>
                  <a:pt x="715" y="804"/>
                </a:lnTo>
                <a:lnTo>
                  <a:pt x="768" y="808"/>
                </a:lnTo>
                <a:lnTo>
                  <a:pt x="812" y="742"/>
                </a:lnTo>
                <a:lnTo>
                  <a:pt x="830" y="711"/>
                </a:lnTo>
                <a:lnTo>
                  <a:pt x="847" y="689"/>
                </a:lnTo>
                <a:lnTo>
                  <a:pt x="838" y="623"/>
                </a:lnTo>
                <a:lnTo>
                  <a:pt x="790" y="610"/>
                </a:lnTo>
                <a:lnTo>
                  <a:pt x="807" y="503"/>
                </a:lnTo>
                <a:lnTo>
                  <a:pt x="847" y="468"/>
                </a:lnTo>
                <a:lnTo>
                  <a:pt x="888" y="481"/>
                </a:lnTo>
                <a:lnTo>
                  <a:pt x="967" y="468"/>
                </a:lnTo>
                <a:lnTo>
                  <a:pt x="980" y="503"/>
                </a:lnTo>
                <a:lnTo>
                  <a:pt x="1033" y="503"/>
                </a:lnTo>
                <a:lnTo>
                  <a:pt x="1139" y="503"/>
                </a:lnTo>
                <a:lnTo>
                  <a:pt x="1170" y="455"/>
                </a:lnTo>
                <a:lnTo>
                  <a:pt x="1139" y="433"/>
                </a:lnTo>
                <a:lnTo>
                  <a:pt x="1073" y="433"/>
                </a:lnTo>
                <a:lnTo>
                  <a:pt x="950" y="433"/>
                </a:lnTo>
                <a:lnTo>
                  <a:pt x="901" y="433"/>
                </a:lnTo>
                <a:lnTo>
                  <a:pt x="852" y="411"/>
                </a:lnTo>
                <a:lnTo>
                  <a:pt x="777" y="459"/>
                </a:lnTo>
                <a:lnTo>
                  <a:pt x="768" y="455"/>
                </a:lnTo>
                <a:lnTo>
                  <a:pt x="759" y="433"/>
                </a:lnTo>
                <a:lnTo>
                  <a:pt x="715" y="446"/>
                </a:lnTo>
                <a:lnTo>
                  <a:pt x="671" y="459"/>
                </a:lnTo>
                <a:lnTo>
                  <a:pt x="666" y="455"/>
                </a:lnTo>
                <a:lnTo>
                  <a:pt x="658" y="433"/>
                </a:lnTo>
                <a:lnTo>
                  <a:pt x="613" y="411"/>
                </a:lnTo>
                <a:lnTo>
                  <a:pt x="605" y="411"/>
                </a:lnTo>
                <a:lnTo>
                  <a:pt x="613" y="389"/>
                </a:lnTo>
                <a:lnTo>
                  <a:pt x="627" y="371"/>
                </a:lnTo>
                <a:lnTo>
                  <a:pt x="605" y="292"/>
                </a:lnTo>
                <a:lnTo>
                  <a:pt x="552" y="185"/>
                </a:lnTo>
                <a:lnTo>
                  <a:pt x="419" y="221"/>
                </a:lnTo>
                <a:lnTo>
                  <a:pt x="389" y="185"/>
                </a:lnTo>
                <a:lnTo>
                  <a:pt x="318" y="149"/>
                </a:lnTo>
                <a:lnTo>
                  <a:pt x="268" y="198"/>
                </a:lnTo>
                <a:lnTo>
                  <a:pt x="211" y="194"/>
                </a:lnTo>
                <a:lnTo>
                  <a:pt x="136" y="141"/>
                </a:lnTo>
                <a:lnTo>
                  <a:pt x="132" y="83"/>
                </a:lnTo>
                <a:lnTo>
                  <a:pt x="136" y="39"/>
                </a:lnTo>
                <a:lnTo>
                  <a:pt x="136" y="0"/>
                </a:lnTo>
                <a:lnTo>
                  <a:pt x="0" y="83"/>
                </a:lnTo>
                <a:lnTo>
                  <a:pt x="79" y="36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5587920" y="2887560"/>
            <a:ext cx="321120" cy="254520"/>
          </a:xfrm>
          <a:custGeom>
            <a:avLst/>
            <a:gdLst/>
            <a:ahLst/>
            <a:rect l="0" t="0" r="r" b="b"/>
            <a:pathLst>
              <a:path fill="none" w="892" h="707">
                <a:moveTo>
                  <a:pt x="0" y="92"/>
                </a:moveTo>
                <a:lnTo>
                  <a:pt x="0" y="195"/>
                </a:lnTo>
                <a:lnTo>
                  <a:pt x="48" y="141"/>
                </a:lnTo>
                <a:lnTo>
                  <a:pt x="119" y="212"/>
                </a:lnTo>
                <a:lnTo>
                  <a:pt x="88" y="256"/>
                </a:lnTo>
                <a:lnTo>
                  <a:pt x="4" y="212"/>
                </a:lnTo>
                <a:lnTo>
                  <a:pt x="0" y="274"/>
                </a:lnTo>
                <a:lnTo>
                  <a:pt x="4" y="314"/>
                </a:lnTo>
                <a:lnTo>
                  <a:pt x="48" y="318"/>
                </a:lnTo>
                <a:lnTo>
                  <a:pt x="35" y="358"/>
                </a:lnTo>
                <a:lnTo>
                  <a:pt x="61" y="389"/>
                </a:lnTo>
                <a:lnTo>
                  <a:pt x="61" y="508"/>
                </a:lnTo>
                <a:lnTo>
                  <a:pt x="194" y="472"/>
                </a:lnTo>
                <a:lnTo>
                  <a:pt x="261" y="437"/>
                </a:lnTo>
                <a:lnTo>
                  <a:pt x="415" y="521"/>
                </a:lnTo>
                <a:lnTo>
                  <a:pt x="512" y="570"/>
                </a:lnTo>
                <a:lnTo>
                  <a:pt x="534" y="592"/>
                </a:lnTo>
                <a:lnTo>
                  <a:pt x="538" y="654"/>
                </a:lnTo>
                <a:lnTo>
                  <a:pt x="636" y="707"/>
                </a:lnTo>
                <a:lnTo>
                  <a:pt x="769" y="535"/>
                </a:lnTo>
                <a:lnTo>
                  <a:pt x="861" y="535"/>
                </a:lnTo>
                <a:lnTo>
                  <a:pt x="875" y="459"/>
                </a:lnTo>
                <a:lnTo>
                  <a:pt x="892" y="428"/>
                </a:lnTo>
                <a:lnTo>
                  <a:pt x="857" y="389"/>
                </a:lnTo>
                <a:lnTo>
                  <a:pt x="795" y="362"/>
                </a:lnTo>
                <a:lnTo>
                  <a:pt x="786" y="327"/>
                </a:lnTo>
                <a:lnTo>
                  <a:pt x="694" y="305"/>
                </a:lnTo>
                <a:lnTo>
                  <a:pt x="636" y="243"/>
                </a:lnTo>
                <a:lnTo>
                  <a:pt x="622" y="199"/>
                </a:lnTo>
                <a:lnTo>
                  <a:pt x="578" y="163"/>
                </a:lnTo>
                <a:lnTo>
                  <a:pt x="538" y="176"/>
                </a:lnTo>
                <a:lnTo>
                  <a:pt x="521" y="199"/>
                </a:lnTo>
                <a:lnTo>
                  <a:pt x="490" y="195"/>
                </a:lnTo>
                <a:lnTo>
                  <a:pt x="464" y="141"/>
                </a:lnTo>
                <a:lnTo>
                  <a:pt x="464" y="92"/>
                </a:lnTo>
                <a:lnTo>
                  <a:pt x="437" y="92"/>
                </a:lnTo>
                <a:lnTo>
                  <a:pt x="428" y="61"/>
                </a:lnTo>
                <a:lnTo>
                  <a:pt x="380" y="26"/>
                </a:lnTo>
                <a:lnTo>
                  <a:pt x="353" y="26"/>
                </a:lnTo>
                <a:lnTo>
                  <a:pt x="336" y="0"/>
                </a:lnTo>
                <a:lnTo>
                  <a:pt x="309" y="22"/>
                </a:lnTo>
                <a:lnTo>
                  <a:pt x="318" y="61"/>
                </a:lnTo>
                <a:lnTo>
                  <a:pt x="300" y="52"/>
                </a:lnTo>
                <a:lnTo>
                  <a:pt x="269" y="48"/>
                </a:lnTo>
                <a:lnTo>
                  <a:pt x="261" y="92"/>
                </a:lnTo>
                <a:lnTo>
                  <a:pt x="225" y="101"/>
                </a:lnTo>
                <a:lnTo>
                  <a:pt x="194" y="92"/>
                </a:lnTo>
                <a:lnTo>
                  <a:pt x="149" y="127"/>
                </a:lnTo>
                <a:lnTo>
                  <a:pt x="132" y="92"/>
                </a:lnTo>
                <a:lnTo>
                  <a:pt x="92" y="74"/>
                </a:lnTo>
                <a:lnTo>
                  <a:pt x="0" y="9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5945040" y="2882880"/>
            <a:ext cx="268560" cy="132120"/>
          </a:xfrm>
          <a:custGeom>
            <a:avLst/>
            <a:gdLst/>
            <a:ahLst/>
            <a:rect l="0" t="0" r="r" b="b"/>
            <a:pathLst>
              <a:path fill="none" w="746" h="367">
                <a:moveTo>
                  <a:pt x="194" y="261"/>
                </a:moveTo>
                <a:lnTo>
                  <a:pt x="136" y="261"/>
                </a:lnTo>
                <a:lnTo>
                  <a:pt x="30" y="278"/>
                </a:lnTo>
                <a:lnTo>
                  <a:pt x="0" y="318"/>
                </a:lnTo>
                <a:lnTo>
                  <a:pt x="30" y="331"/>
                </a:lnTo>
                <a:lnTo>
                  <a:pt x="52" y="340"/>
                </a:lnTo>
                <a:lnTo>
                  <a:pt x="198" y="340"/>
                </a:lnTo>
                <a:lnTo>
                  <a:pt x="295" y="340"/>
                </a:lnTo>
                <a:lnTo>
                  <a:pt x="348" y="367"/>
                </a:lnTo>
                <a:lnTo>
                  <a:pt x="357" y="318"/>
                </a:lnTo>
                <a:lnTo>
                  <a:pt x="402" y="318"/>
                </a:lnTo>
                <a:lnTo>
                  <a:pt x="468" y="300"/>
                </a:lnTo>
                <a:lnTo>
                  <a:pt x="512" y="287"/>
                </a:lnTo>
                <a:lnTo>
                  <a:pt x="609" y="225"/>
                </a:lnTo>
                <a:lnTo>
                  <a:pt x="702" y="163"/>
                </a:lnTo>
                <a:lnTo>
                  <a:pt x="746" y="141"/>
                </a:lnTo>
                <a:lnTo>
                  <a:pt x="728" y="88"/>
                </a:lnTo>
                <a:lnTo>
                  <a:pt x="680" y="88"/>
                </a:lnTo>
                <a:lnTo>
                  <a:pt x="644" y="66"/>
                </a:lnTo>
                <a:lnTo>
                  <a:pt x="583" y="35"/>
                </a:lnTo>
                <a:lnTo>
                  <a:pt x="455" y="26"/>
                </a:lnTo>
                <a:lnTo>
                  <a:pt x="304" y="0"/>
                </a:lnTo>
                <a:lnTo>
                  <a:pt x="277" y="8"/>
                </a:lnTo>
                <a:lnTo>
                  <a:pt x="282" y="35"/>
                </a:lnTo>
                <a:lnTo>
                  <a:pt x="304" y="66"/>
                </a:lnTo>
                <a:lnTo>
                  <a:pt x="255" y="70"/>
                </a:lnTo>
                <a:lnTo>
                  <a:pt x="242" y="61"/>
                </a:lnTo>
                <a:lnTo>
                  <a:pt x="194" y="44"/>
                </a:lnTo>
                <a:lnTo>
                  <a:pt x="127" y="61"/>
                </a:lnTo>
                <a:lnTo>
                  <a:pt x="158" y="70"/>
                </a:lnTo>
                <a:lnTo>
                  <a:pt x="167" y="97"/>
                </a:lnTo>
                <a:lnTo>
                  <a:pt x="136" y="114"/>
                </a:lnTo>
                <a:lnTo>
                  <a:pt x="136" y="158"/>
                </a:lnTo>
                <a:lnTo>
                  <a:pt x="167" y="186"/>
                </a:lnTo>
                <a:lnTo>
                  <a:pt x="255" y="186"/>
                </a:lnTo>
                <a:lnTo>
                  <a:pt x="291" y="186"/>
                </a:lnTo>
                <a:lnTo>
                  <a:pt x="317" y="212"/>
                </a:lnTo>
                <a:lnTo>
                  <a:pt x="282" y="256"/>
                </a:lnTo>
                <a:lnTo>
                  <a:pt x="255" y="256"/>
                </a:lnTo>
                <a:lnTo>
                  <a:pt x="220" y="256"/>
                </a:lnTo>
                <a:lnTo>
                  <a:pt x="207" y="256"/>
                </a:lnTo>
                <a:lnTo>
                  <a:pt x="194" y="26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5921280" y="2963880"/>
            <a:ext cx="170280" cy="133560"/>
          </a:xfrm>
          <a:custGeom>
            <a:avLst/>
            <a:gdLst/>
            <a:ahLst/>
            <a:rect l="0" t="0" r="r" b="b"/>
            <a:pathLst>
              <a:path fill="none" w="473" h="371">
                <a:moveTo>
                  <a:pt x="0" y="309"/>
                </a:moveTo>
                <a:lnTo>
                  <a:pt x="0" y="331"/>
                </a:lnTo>
                <a:lnTo>
                  <a:pt x="39" y="336"/>
                </a:lnTo>
                <a:lnTo>
                  <a:pt x="124" y="336"/>
                </a:lnTo>
                <a:lnTo>
                  <a:pt x="225" y="217"/>
                </a:lnTo>
                <a:lnTo>
                  <a:pt x="247" y="296"/>
                </a:lnTo>
                <a:lnTo>
                  <a:pt x="274" y="371"/>
                </a:lnTo>
                <a:lnTo>
                  <a:pt x="336" y="336"/>
                </a:lnTo>
                <a:lnTo>
                  <a:pt x="403" y="309"/>
                </a:lnTo>
                <a:lnTo>
                  <a:pt x="473" y="336"/>
                </a:lnTo>
                <a:lnTo>
                  <a:pt x="473" y="217"/>
                </a:lnTo>
                <a:lnTo>
                  <a:pt x="429" y="199"/>
                </a:lnTo>
                <a:lnTo>
                  <a:pt x="403" y="199"/>
                </a:lnTo>
                <a:lnTo>
                  <a:pt x="416" y="136"/>
                </a:lnTo>
                <a:lnTo>
                  <a:pt x="363" y="123"/>
                </a:lnTo>
                <a:lnTo>
                  <a:pt x="314" y="114"/>
                </a:lnTo>
                <a:lnTo>
                  <a:pt x="247" y="114"/>
                </a:lnTo>
                <a:lnTo>
                  <a:pt x="199" y="114"/>
                </a:lnTo>
                <a:lnTo>
                  <a:pt x="128" y="114"/>
                </a:lnTo>
                <a:lnTo>
                  <a:pt x="83" y="97"/>
                </a:lnTo>
                <a:lnTo>
                  <a:pt x="66" y="92"/>
                </a:lnTo>
                <a:lnTo>
                  <a:pt x="83" y="70"/>
                </a:lnTo>
                <a:lnTo>
                  <a:pt x="105" y="52"/>
                </a:lnTo>
                <a:lnTo>
                  <a:pt x="195" y="30"/>
                </a:lnTo>
                <a:lnTo>
                  <a:pt x="195" y="0"/>
                </a:lnTo>
                <a:lnTo>
                  <a:pt x="124" y="4"/>
                </a:lnTo>
                <a:lnTo>
                  <a:pt x="66" y="4"/>
                </a:lnTo>
                <a:lnTo>
                  <a:pt x="26" y="30"/>
                </a:lnTo>
                <a:lnTo>
                  <a:pt x="8" y="114"/>
                </a:lnTo>
                <a:lnTo>
                  <a:pt x="17" y="132"/>
                </a:lnTo>
                <a:lnTo>
                  <a:pt x="8" y="136"/>
                </a:lnTo>
                <a:lnTo>
                  <a:pt x="48" y="149"/>
                </a:lnTo>
                <a:lnTo>
                  <a:pt x="70" y="195"/>
                </a:lnTo>
                <a:lnTo>
                  <a:pt x="57" y="239"/>
                </a:lnTo>
                <a:lnTo>
                  <a:pt x="48" y="247"/>
                </a:lnTo>
                <a:lnTo>
                  <a:pt x="35" y="269"/>
                </a:lnTo>
                <a:lnTo>
                  <a:pt x="0" y="30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flipV="1">
            <a:off x="7116840" y="3197160"/>
            <a:ext cx="25200" cy="204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87" name=""/>
          <p:cNvSpPr/>
          <p:nvPr/>
        </p:nvSpPr>
        <p:spPr>
          <a:xfrm>
            <a:off x="6075360" y="3603600"/>
            <a:ext cx="179280" cy="30240"/>
          </a:xfrm>
          <a:prstGeom prst="line">
            <a:avLst/>
          </a:prstGeom>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88" name=""/>
          <p:cNvSpPr/>
          <p:nvPr/>
        </p:nvSpPr>
        <p:spPr>
          <a:xfrm>
            <a:off x="4897440" y="4541760"/>
            <a:ext cx="450720" cy="33804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9" name=""/>
          <p:cNvSpPr/>
          <p:nvPr/>
        </p:nvSpPr>
        <p:spPr>
          <a:xfrm>
            <a:off x="4897440" y="4541760"/>
            <a:ext cx="450720" cy="33804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0" name=""/>
          <p:cNvSpPr/>
          <p:nvPr/>
        </p:nvSpPr>
        <p:spPr>
          <a:xfrm>
            <a:off x="4897440" y="4373640"/>
            <a:ext cx="150840" cy="16812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1" name=""/>
          <p:cNvSpPr/>
          <p:nvPr/>
        </p:nvSpPr>
        <p:spPr>
          <a:xfrm>
            <a:off x="7024680" y="3151080"/>
            <a:ext cx="143280" cy="330480"/>
          </a:xfrm>
          <a:custGeom>
            <a:avLst/>
            <a:gdLst/>
            <a:ahLst/>
            <a:rect l="0" t="0" r="r" b="b"/>
            <a:pathLst>
              <a:path fill="none" w="398" h="918">
                <a:moveTo>
                  <a:pt x="0" y="918"/>
                </a:moveTo>
                <a:lnTo>
                  <a:pt x="225" y="0"/>
                </a:lnTo>
                <a:lnTo>
                  <a:pt x="398" y="255"/>
                </a:lnTo>
                <a:lnTo>
                  <a:pt x="278" y="224"/>
                </a:lnTo>
                <a:lnTo>
                  <a:pt x="398" y="317"/>
                </a:lnTo>
                <a:lnTo>
                  <a:pt x="278" y="370"/>
                </a:lnTo>
                <a:lnTo>
                  <a:pt x="398" y="396"/>
                </a:lnTo>
                <a:lnTo>
                  <a:pt x="199" y="803"/>
                </a:lnTo>
                <a:lnTo>
                  <a:pt x="195" y="768"/>
                </a:lnTo>
                <a:lnTo>
                  <a:pt x="0" y="91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2" name=""/>
          <p:cNvSpPr txBox="1"/>
          <p:nvPr/>
        </p:nvSpPr>
        <p:spPr>
          <a:xfrm>
            <a:off x="1838160" y="3962520"/>
            <a:ext cx="598320" cy="13176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Colombia</a:t>
            </a:r>
            <a:endParaRPr b="0" lang="en-US" sz="900" spc="-1" strike="noStrike">
              <a:solidFill>
                <a:srgbClr val="000000"/>
              </a:solidFill>
              <a:latin typeface="Arial"/>
            </a:endParaRPr>
          </a:p>
        </p:txBody>
      </p:sp>
      <p:sp>
        <p:nvSpPr>
          <p:cNvPr id="393" name=""/>
          <p:cNvSpPr txBox="1"/>
          <p:nvPr/>
        </p:nvSpPr>
        <p:spPr>
          <a:xfrm>
            <a:off x="4200480" y="4603680"/>
            <a:ext cx="473040" cy="13032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Namibia</a:t>
            </a:r>
            <a:endParaRPr b="0" lang="en-US" sz="900" spc="-1" strike="noStrike">
              <a:solidFill>
                <a:srgbClr val="000000"/>
              </a:solidFill>
              <a:latin typeface="Arial"/>
            </a:endParaRPr>
          </a:p>
        </p:txBody>
      </p:sp>
      <p:sp>
        <p:nvSpPr>
          <p:cNvPr id="394" name=""/>
          <p:cNvSpPr txBox="1"/>
          <p:nvPr/>
        </p:nvSpPr>
        <p:spPr>
          <a:xfrm>
            <a:off x="4621320" y="5051520"/>
            <a:ext cx="722160" cy="13032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South Africa</a:t>
            </a:r>
            <a:endParaRPr b="0" lang="en-US" sz="900" spc="-1" strike="noStrike">
              <a:solidFill>
                <a:srgbClr val="000000"/>
              </a:solidFill>
              <a:latin typeface="Arial"/>
            </a:endParaRPr>
          </a:p>
        </p:txBody>
      </p:sp>
      <p:sp>
        <p:nvSpPr>
          <p:cNvPr id="395" name=""/>
          <p:cNvSpPr txBox="1"/>
          <p:nvPr/>
        </p:nvSpPr>
        <p:spPr>
          <a:xfrm>
            <a:off x="4581360" y="4267080"/>
            <a:ext cx="457200" cy="128520"/>
          </a:xfrm>
          <a:prstGeom prst="rect">
            <a:avLst/>
          </a:prstGeom>
          <a:solidFill>
            <a:srgbClr val="ffffff"/>
          </a:solidFill>
          <a:ln w="0">
            <a:noFill/>
          </a:ln>
        </p:spPr>
        <p:txBody>
          <a:bodyPr lIns="0" rIns="0" tIns="0" bIns="0" anchor="t">
            <a:noAutofit/>
          </a:bodyPr>
          <a:p>
            <a:pPr>
              <a:lnSpc>
                <a:spcPct val="100000"/>
              </a:lnSpc>
            </a:pPr>
            <a:r>
              <a:rPr b="1" lang="en-US" sz="900" spc="-1" strike="noStrike">
                <a:solidFill>
                  <a:srgbClr val="000000"/>
                </a:solidFill>
                <a:latin typeface="Arial"/>
                <a:ea typeface="Arial"/>
              </a:rPr>
              <a:t>Zambia</a:t>
            </a:r>
            <a:endParaRPr b="0" lang="en-US" sz="900" spc="-1" strike="noStrike">
              <a:solidFill>
                <a:srgbClr val="000000"/>
              </a:solidFill>
              <a:latin typeface="Arial"/>
            </a:endParaRPr>
          </a:p>
        </p:txBody>
      </p:sp>
      <p:sp>
        <p:nvSpPr>
          <p:cNvPr id="396" name=""/>
          <p:cNvSpPr txBox="1"/>
          <p:nvPr/>
        </p:nvSpPr>
        <p:spPr>
          <a:xfrm>
            <a:off x="5322960" y="3102120"/>
            <a:ext cx="401760" cy="174600"/>
          </a:xfrm>
          <a:prstGeom prst="rect">
            <a:avLst/>
          </a:prstGeom>
          <a:solidFill>
            <a:srgbClr val="ffffff"/>
          </a:solidFill>
          <a:ln w="0">
            <a:noFill/>
          </a:ln>
        </p:spPr>
        <p:txBody>
          <a:bodyPr lIns="0" rIns="0" tIns="0" bIns="0" anchor="t">
            <a:noAutofit/>
          </a:bodyPr>
          <a:p>
            <a:pPr>
              <a:lnSpc>
                <a:spcPct val="100000"/>
              </a:lnSpc>
            </a:pPr>
            <a:r>
              <a:rPr b="1" lang="en-US" sz="900" spc="-1" strike="noStrike">
                <a:solidFill>
                  <a:srgbClr val="000000"/>
                </a:solidFill>
                <a:latin typeface="Arial"/>
                <a:ea typeface="Arial"/>
              </a:rPr>
              <a:t>Syria</a:t>
            </a:r>
            <a:endParaRPr b="0" lang="en-US" sz="900" spc="-1" strike="noStrike">
              <a:solidFill>
                <a:srgbClr val="000000"/>
              </a:solidFill>
              <a:latin typeface="Arial"/>
            </a:endParaRPr>
          </a:p>
        </p:txBody>
      </p:sp>
      <p:sp>
        <p:nvSpPr>
          <p:cNvPr id="397" name=""/>
          <p:cNvSpPr txBox="1"/>
          <p:nvPr/>
        </p:nvSpPr>
        <p:spPr>
          <a:xfrm>
            <a:off x="5419800" y="3429000"/>
            <a:ext cx="533520" cy="152280"/>
          </a:xfrm>
          <a:prstGeom prst="rect">
            <a:avLst/>
          </a:prstGeom>
          <a:solidFill>
            <a:srgbClr val="ffffff"/>
          </a:solidFill>
          <a:ln w="0">
            <a:noFill/>
          </a:ln>
        </p:spPr>
        <p:txBody>
          <a:bodyPr lIns="0" rIns="0" tIns="0" bIns="0" anchor="t">
            <a:noAutofit/>
          </a:bodyPr>
          <a:p>
            <a:pPr>
              <a:lnSpc>
                <a:spcPct val="100000"/>
              </a:lnSpc>
            </a:pPr>
            <a:r>
              <a:rPr b="1" lang="en-US" sz="900" spc="-1" strike="noStrike">
                <a:solidFill>
                  <a:srgbClr val="000000"/>
                </a:solidFill>
                <a:latin typeface="Arial"/>
                <a:ea typeface="Arial"/>
              </a:rPr>
              <a:t>Pakistan</a:t>
            </a:r>
            <a:endParaRPr b="0" lang="en-US" sz="900" spc="-1" strike="noStrike">
              <a:solidFill>
                <a:srgbClr val="000000"/>
              </a:solidFill>
              <a:latin typeface="Arial"/>
            </a:endParaRPr>
          </a:p>
        </p:txBody>
      </p:sp>
      <p:sp>
        <p:nvSpPr>
          <p:cNvPr id="398" name=""/>
          <p:cNvSpPr txBox="1"/>
          <p:nvPr/>
        </p:nvSpPr>
        <p:spPr>
          <a:xfrm>
            <a:off x="6180120" y="3732120"/>
            <a:ext cx="534960" cy="154080"/>
          </a:xfrm>
          <a:prstGeom prst="rect">
            <a:avLst/>
          </a:prstGeom>
          <a:solidFill>
            <a:srgbClr val="ffffff"/>
          </a:solidFill>
          <a:ln w="0">
            <a:noFill/>
          </a:ln>
        </p:spPr>
        <p:txBody>
          <a:bodyPr lIns="0" rIns="0" tIns="0" bIns="0" anchor="t">
            <a:noAutofit/>
          </a:bodyPr>
          <a:p>
            <a:pPr>
              <a:lnSpc>
                <a:spcPct val="100000"/>
              </a:lnSpc>
            </a:pPr>
            <a:r>
              <a:rPr b="1" lang="en-US" sz="900" spc="-1" strike="noStrike">
                <a:solidFill>
                  <a:srgbClr val="000000"/>
                </a:solidFill>
                <a:latin typeface="Arial"/>
                <a:ea typeface="Arial"/>
              </a:rPr>
              <a:t>Thailand</a:t>
            </a:r>
            <a:endParaRPr b="0" lang="en-US" sz="900" spc="-1" strike="noStrike">
              <a:solidFill>
                <a:srgbClr val="000000"/>
              </a:solidFill>
              <a:latin typeface="Arial"/>
            </a:endParaRPr>
          </a:p>
        </p:txBody>
      </p:sp>
      <p:sp>
        <p:nvSpPr>
          <p:cNvPr id="399" name=""/>
          <p:cNvSpPr txBox="1"/>
          <p:nvPr/>
        </p:nvSpPr>
        <p:spPr>
          <a:xfrm>
            <a:off x="7238880" y="3706920"/>
            <a:ext cx="695160" cy="12852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Philippines</a:t>
            </a:r>
            <a:endParaRPr b="0" lang="en-US" sz="900" spc="-1" strike="noStrike">
              <a:solidFill>
                <a:srgbClr val="000000"/>
              </a:solidFill>
              <a:latin typeface="Arial"/>
            </a:endParaRPr>
          </a:p>
        </p:txBody>
      </p:sp>
      <p:sp>
        <p:nvSpPr>
          <p:cNvPr id="400" name=""/>
          <p:cNvSpPr txBox="1"/>
          <p:nvPr/>
        </p:nvSpPr>
        <p:spPr>
          <a:xfrm>
            <a:off x="6713640" y="3124080"/>
            <a:ext cx="458640" cy="15228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China</a:t>
            </a:r>
            <a:endParaRPr b="0" lang="en-US" sz="900" spc="-1" strike="noStrike">
              <a:solidFill>
                <a:srgbClr val="000000"/>
              </a:solidFill>
              <a:latin typeface="Arial"/>
            </a:endParaRPr>
          </a:p>
        </p:txBody>
      </p:sp>
      <p:sp>
        <p:nvSpPr>
          <p:cNvPr id="401" name=""/>
          <p:cNvSpPr txBox="1"/>
          <p:nvPr/>
        </p:nvSpPr>
        <p:spPr>
          <a:xfrm>
            <a:off x="5322960" y="4183200"/>
            <a:ext cx="554040" cy="16020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Tanzania</a:t>
            </a:r>
            <a:endParaRPr b="0" lang="en-US" sz="900" spc="-1" strike="noStrike">
              <a:solidFill>
                <a:srgbClr val="000000"/>
              </a:solidFill>
              <a:latin typeface="Arial"/>
            </a:endParaRPr>
          </a:p>
        </p:txBody>
      </p:sp>
      <p:sp>
        <p:nvSpPr>
          <p:cNvPr id="402" name=""/>
          <p:cNvSpPr txBox="1"/>
          <p:nvPr/>
        </p:nvSpPr>
        <p:spPr>
          <a:xfrm>
            <a:off x="7450200" y="3429000"/>
            <a:ext cx="560520" cy="155520"/>
          </a:xfrm>
          <a:prstGeom prst="rect">
            <a:avLst/>
          </a:prstGeom>
          <a:solidFill>
            <a:srgbClr val="ffffff"/>
          </a:solidFill>
          <a:ln w="0">
            <a:noFill/>
          </a:ln>
        </p:spPr>
        <p:txBody>
          <a:bodyPr lIns="0" rIns="0" tIns="0" bIns="0" anchor="t">
            <a:noAutofit/>
          </a:bodyPr>
          <a:p>
            <a:pPr>
              <a:lnSpc>
                <a:spcPct val="100000"/>
              </a:lnSpc>
            </a:pPr>
            <a:r>
              <a:rPr b="1" lang="en-US" sz="900" spc="-1" strike="noStrike">
                <a:solidFill>
                  <a:srgbClr val="000000"/>
                </a:solidFill>
                <a:latin typeface="Arial"/>
                <a:ea typeface="Arial"/>
              </a:rPr>
              <a:t>Vietnam</a:t>
            </a:r>
            <a:endParaRPr b="0" lang="en-US" sz="900" spc="-1" strike="noStrike">
              <a:solidFill>
                <a:srgbClr val="000000"/>
              </a:solidFill>
              <a:latin typeface="Arial"/>
            </a:endParaRPr>
          </a:p>
        </p:txBody>
      </p:sp>
      <p:sp>
        <p:nvSpPr>
          <p:cNvPr id="403" name=""/>
          <p:cNvSpPr txBox="1"/>
          <p:nvPr/>
        </p:nvSpPr>
        <p:spPr>
          <a:xfrm>
            <a:off x="5148360" y="4495680"/>
            <a:ext cx="652320" cy="147600"/>
          </a:xfrm>
          <a:prstGeom prst="rect">
            <a:avLst/>
          </a:prstGeom>
          <a:solidFill>
            <a:srgbClr val="ffffff"/>
          </a:solidFill>
          <a:ln w="0">
            <a:noFill/>
          </a:ln>
        </p:spPr>
        <p:txBody>
          <a:bodyPr lIns="0" rIns="0" tIns="0" bIns="0" anchor="t">
            <a:noAutofit/>
          </a:bodyPr>
          <a:p>
            <a:pPr>
              <a:lnSpc>
                <a:spcPct val="100000"/>
              </a:lnSpc>
            </a:pPr>
            <a:r>
              <a:rPr b="1" lang="en-US" sz="900" spc="-1" strike="noStrike">
                <a:solidFill>
                  <a:srgbClr val="000000"/>
                </a:solidFill>
                <a:latin typeface="Arial"/>
                <a:ea typeface="Arial"/>
              </a:rPr>
              <a:t>Zimbabwe</a:t>
            </a:r>
            <a:endParaRPr b="0" lang="en-US" sz="900" spc="-1" strike="noStrike">
              <a:solidFill>
                <a:srgbClr val="000000"/>
              </a:solidFill>
              <a:latin typeface="Arial"/>
            </a:endParaRPr>
          </a:p>
        </p:txBody>
      </p:sp>
      <p:sp>
        <p:nvSpPr>
          <p:cNvPr id="404" name=""/>
          <p:cNvSpPr/>
          <p:nvPr/>
        </p:nvSpPr>
        <p:spPr>
          <a:xfrm>
            <a:off x="8156520" y="6116760"/>
            <a:ext cx="23760" cy="0"/>
          </a:xfrm>
          <a:prstGeom prst="line">
            <a:avLst/>
          </a:prstGeom>
          <a:ln w="25560">
            <a:solidFill>
              <a:srgbClr val="008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5" name=""/>
          <p:cNvSpPr/>
          <p:nvPr/>
        </p:nvSpPr>
        <p:spPr>
          <a:xfrm>
            <a:off x="2206800" y="5681520"/>
            <a:ext cx="30240" cy="25560"/>
          </a:xfrm>
          <a:prstGeom prst="roundRect">
            <a:avLst/>
          </a:prstGeom>
          <a:noFill/>
          <a:ln w="25560">
            <a:solidFill>
              <a:srgbClr val="ffffff"/>
            </a:solidFill>
            <a:round/>
          </a:ln>
        </p:spPr>
        <p:txBody>
          <a:bodyPr lIns="102600" rIns="102600" tIns="-32040" bIns="-32040" anchor="t">
            <a:noAutofit/>
          </a:bodyPr>
          <a:p>
            <a:endParaRPr b="0" lang="en-US" sz="1800" spc="-1" strike="noStrike">
              <a:solidFill>
                <a:srgbClr val="000000"/>
              </a:solidFill>
              <a:latin typeface="Arial"/>
            </a:endParaRPr>
          </a:p>
        </p:txBody>
      </p:sp>
      <p:sp>
        <p:nvSpPr>
          <p:cNvPr id="406" name=""/>
          <p:cNvSpPr txBox="1"/>
          <p:nvPr/>
        </p:nvSpPr>
        <p:spPr>
          <a:xfrm>
            <a:off x="6562800" y="4267080"/>
            <a:ext cx="631800" cy="168120"/>
          </a:xfrm>
          <a:prstGeom prst="rect">
            <a:avLst/>
          </a:prstGeom>
          <a:noFill/>
          <a:ln w="12600">
            <a:solidFill>
              <a:srgbClr val="ffffff"/>
            </a:solidFill>
            <a:round/>
          </a:ln>
        </p:spPr>
        <p:txBody>
          <a:bodyPr lIns="0" rIns="0" tIns="0" bIns="0" anchor="t">
            <a:noAutofit/>
          </a:bodyPr>
          <a:p>
            <a:pPr>
              <a:lnSpc>
                <a:spcPct val="100000"/>
              </a:lnSpc>
            </a:pPr>
            <a:r>
              <a:rPr b="1" lang="en-US" sz="900" spc="-1" strike="noStrike">
                <a:solidFill>
                  <a:srgbClr val="000000"/>
                </a:solidFill>
                <a:latin typeface="Arial"/>
                <a:ea typeface="Arial"/>
              </a:rPr>
              <a:t>Indonesia</a:t>
            </a:r>
            <a:endParaRPr b="0" lang="en-US" sz="900" spc="-1" strike="noStrike">
              <a:solidFill>
                <a:srgbClr val="000000"/>
              </a:solidFill>
              <a:latin typeface="Arial"/>
            </a:endParaRPr>
          </a:p>
        </p:txBody>
      </p:sp>
      <p:grpSp>
        <p:nvGrpSpPr>
          <p:cNvPr id="407" name=""/>
          <p:cNvGrpSpPr/>
          <p:nvPr/>
        </p:nvGrpSpPr>
        <p:grpSpPr>
          <a:xfrm>
            <a:off x="2577960" y="3087720"/>
            <a:ext cx="5042520" cy="1459440"/>
            <a:chOff x="2577960" y="3087720"/>
            <a:chExt cx="5042520" cy="1459440"/>
          </a:xfrm>
        </p:grpSpPr>
        <p:grpSp>
          <p:nvGrpSpPr>
            <p:cNvPr id="408" name=""/>
            <p:cNvGrpSpPr/>
            <p:nvPr/>
          </p:nvGrpSpPr>
          <p:grpSpPr>
            <a:xfrm>
              <a:off x="7066080" y="3602160"/>
              <a:ext cx="187560" cy="368280"/>
              <a:chOff x="7066080" y="3602160"/>
              <a:chExt cx="187560" cy="368280"/>
            </a:xfrm>
          </p:grpSpPr>
          <p:sp>
            <p:nvSpPr>
              <p:cNvPr id="409" name=""/>
              <p:cNvSpPr/>
              <p:nvPr/>
            </p:nvSpPr>
            <p:spPr>
              <a:xfrm>
                <a:off x="7137360" y="3735360"/>
                <a:ext cx="27360" cy="33840"/>
              </a:xfrm>
              <a:custGeom>
                <a:avLst/>
                <a:gdLst/>
                <a:ahLst/>
                <a:rect l="0" t="0" r="r" b="b"/>
                <a:pathLst>
                  <a:path w="76" h="94">
                    <a:moveTo>
                      <a:pt x="0" y="0"/>
                    </a:moveTo>
                    <a:lnTo>
                      <a:pt x="36" y="0"/>
                    </a:lnTo>
                    <a:lnTo>
                      <a:pt x="76" y="22"/>
                    </a:lnTo>
                    <a:lnTo>
                      <a:pt x="59" y="94"/>
                    </a:lnTo>
                    <a:lnTo>
                      <a:pt x="0" y="0"/>
                    </a:lnTo>
                    <a:close/>
                  </a:path>
                </a:pathLst>
              </a:custGeom>
              <a:solidFill>
                <a:srgbClr val="3333ff"/>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sp>
            <p:nvSpPr>
              <p:cNvPr id="410" name=""/>
              <p:cNvSpPr/>
              <p:nvPr/>
            </p:nvSpPr>
            <p:spPr>
              <a:xfrm>
                <a:off x="7175520" y="3776760"/>
                <a:ext cx="25920" cy="41760"/>
              </a:xfrm>
              <a:custGeom>
                <a:avLst/>
                <a:gdLst/>
                <a:ahLst/>
                <a:rect l="0" t="0" r="r" b="b"/>
                <a:pathLst>
                  <a:path w="72" h="116">
                    <a:moveTo>
                      <a:pt x="0" y="0"/>
                    </a:moveTo>
                    <a:lnTo>
                      <a:pt x="8" y="116"/>
                    </a:lnTo>
                    <a:lnTo>
                      <a:pt x="72" y="67"/>
                    </a:lnTo>
                    <a:lnTo>
                      <a:pt x="0" y="0"/>
                    </a:lnTo>
                    <a:close/>
                  </a:path>
                </a:pathLst>
              </a:custGeom>
              <a:solidFill>
                <a:srgbClr val="3333ff"/>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grpSp>
            <p:nvGrpSpPr>
              <p:cNvPr id="411" name=""/>
              <p:cNvGrpSpPr/>
              <p:nvPr/>
            </p:nvGrpSpPr>
            <p:grpSpPr>
              <a:xfrm>
                <a:off x="7066080" y="3602160"/>
                <a:ext cx="187560" cy="368280"/>
                <a:chOff x="7066080" y="3602160"/>
                <a:chExt cx="187560" cy="368280"/>
              </a:xfrm>
            </p:grpSpPr>
            <p:sp>
              <p:nvSpPr>
                <p:cNvPr id="412" name=""/>
                <p:cNvSpPr/>
                <p:nvPr/>
              </p:nvSpPr>
              <p:spPr>
                <a:xfrm>
                  <a:off x="7066080" y="3792600"/>
                  <a:ext cx="54360" cy="76680"/>
                </a:xfrm>
                <a:custGeom>
                  <a:avLst/>
                  <a:gdLst/>
                  <a:ahLst/>
                  <a:rect l="0" t="0" r="r" b="b"/>
                  <a:pathLst>
                    <a:path w="151" h="213">
                      <a:moveTo>
                        <a:pt x="0" y="213"/>
                      </a:moveTo>
                      <a:lnTo>
                        <a:pt x="106" y="106"/>
                      </a:lnTo>
                      <a:lnTo>
                        <a:pt x="151" y="0"/>
                      </a:lnTo>
                      <a:lnTo>
                        <a:pt x="0" y="213"/>
                      </a:lnTo>
                      <a:close/>
                    </a:path>
                  </a:pathLst>
                </a:custGeom>
                <a:solidFill>
                  <a:srgbClr val="3333ff"/>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413" name=""/>
                <p:cNvSpPr/>
                <p:nvPr/>
              </p:nvSpPr>
              <p:spPr>
                <a:xfrm>
                  <a:off x="7129440" y="3602160"/>
                  <a:ext cx="93960" cy="154440"/>
                </a:xfrm>
                <a:custGeom>
                  <a:avLst/>
                  <a:gdLst/>
                  <a:ahLst/>
                  <a:rect l="0" t="0" r="r" b="b"/>
                  <a:pathLst>
                    <a:path w="261" h="429">
                      <a:moveTo>
                        <a:pt x="0" y="164"/>
                      </a:moveTo>
                      <a:lnTo>
                        <a:pt x="52" y="0"/>
                      </a:lnTo>
                      <a:lnTo>
                        <a:pt x="142" y="0"/>
                      </a:lnTo>
                      <a:lnTo>
                        <a:pt x="159" y="115"/>
                      </a:lnTo>
                      <a:lnTo>
                        <a:pt x="92" y="230"/>
                      </a:lnTo>
                      <a:lnTo>
                        <a:pt x="110" y="300"/>
                      </a:lnTo>
                      <a:lnTo>
                        <a:pt x="252" y="341"/>
                      </a:lnTo>
                      <a:lnTo>
                        <a:pt x="261" y="429"/>
                      </a:lnTo>
                      <a:lnTo>
                        <a:pt x="172" y="341"/>
                      </a:lnTo>
                      <a:lnTo>
                        <a:pt x="172" y="385"/>
                      </a:lnTo>
                      <a:lnTo>
                        <a:pt x="52" y="341"/>
                      </a:lnTo>
                      <a:lnTo>
                        <a:pt x="0" y="164"/>
                      </a:lnTo>
                      <a:close/>
                    </a:path>
                  </a:pathLst>
                </a:custGeom>
                <a:solidFill>
                  <a:srgbClr val="33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7155000" y="3863880"/>
                  <a:ext cx="98640" cy="106560"/>
                </a:xfrm>
                <a:custGeom>
                  <a:avLst/>
                  <a:gdLst/>
                  <a:ahLst/>
                  <a:rect l="0" t="0" r="r" b="b"/>
                  <a:pathLst>
                    <a:path w="274" h="296">
                      <a:moveTo>
                        <a:pt x="0" y="199"/>
                      </a:moveTo>
                      <a:lnTo>
                        <a:pt x="61" y="97"/>
                      </a:lnTo>
                      <a:lnTo>
                        <a:pt x="127" y="110"/>
                      </a:lnTo>
                      <a:lnTo>
                        <a:pt x="225" y="0"/>
                      </a:lnTo>
                      <a:lnTo>
                        <a:pt x="274" y="66"/>
                      </a:lnTo>
                      <a:lnTo>
                        <a:pt x="269" y="247"/>
                      </a:lnTo>
                      <a:lnTo>
                        <a:pt x="239" y="168"/>
                      </a:lnTo>
                      <a:lnTo>
                        <a:pt x="221" y="296"/>
                      </a:lnTo>
                      <a:lnTo>
                        <a:pt x="146" y="265"/>
                      </a:lnTo>
                      <a:lnTo>
                        <a:pt x="97" y="127"/>
                      </a:lnTo>
                      <a:lnTo>
                        <a:pt x="0" y="199"/>
                      </a:lnTo>
                      <a:close/>
                    </a:path>
                  </a:pathLst>
                </a:custGeom>
                <a:solidFill>
                  <a:srgbClr val="33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7186680" y="3805200"/>
                  <a:ext cx="25920" cy="46440"/>
                </a:xfrm>
                <a:custGeom>
                  <a:avLst/>
                  <a:gdLst/>
                  <a:ahLst/>
                  <a:rect l="0" t="0" r="r" b="b"/>
                  <a:pathLst>
                    <a:path w="72" h="129">
                      <a:moveTo>
                        <a:pt x="0" y="80"/>
                      </a:moveTo>
                      <a:lnTo>
                        <a:pt x="13" y="58"/>
                      </a:lnTo>
                      <a:lnTo>
                        <a:pt x="72" y="0"/>
                      </a:lnTo>
                      <a:lnTo>
                        <a:pt x="36" y="129"/>
                      </a:lnTo>
                      <a:lnTo>
                        <a:pt x="0" y="80"/>
                      </a:lnTo>
                      <a:close/>
                    </a:path>
                  </a:pathLst>
                </a:custGeom>
                <a:solidFill>
                  <a:srgbClr val="3333ff"/>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grpSp>
        </p:grpSp>
        <p:sp>
          <p:nvSpPr>
            <p:cNvPr id="416" name=""/>
            <p:cNvSpPr/>
            <p:nvPr/>
          </p:nvSpPr>
          <p:spPr>
            <a:xfrm>
              <a:off x="4878360" y="4295880"/>
              <a:ext cx="270360" cy="251280"/>
            </a:xfrm>
            <a:custGeom>
              <a:avLst/>
              <a:gdLst/>
              <a:ahLst/>
              <a:rect l="0" t="0" r="r" b="b"/>
              <a:pathLst>
                <a:path w="751" h="698">
                  <a:moveTo>
                    <a:pt x="0" y="344"/>
                  </a:moveTo>
                  <a:lnTo>
                    <a:pt x="0" y="610"/>
                  </a:lnTo>
                  <a:lnTo>
                    <a:pt x="74" y="681"/>
                  </a:lnTo>
                  <a:lnTo>
                    <a:pt x="190" y="698"/>
                  </a:lnTo>
                  <a:lnTo>
                    <a:pt x="305" y="698"/>
                  </a:lnTo>
                  <a:lnTo>
                    <a:pt x="419" y="606"/>
                  </a:lnTo>
                  <a:lnTo>
                    <a:pt x="428" y="562"/>
                  </a:lnTo>
                  <a:lnTo>
                    <a:pt x="525" y="531"/>
                  </a:lnTo>
                  <a:lnTo>
                    <a:pt x="503" y="499"/>
                  </a:lnTo>
                  <a:lnTo>
                    <a:pt x="711" y="428"/>
                  </a:lnTo>
                  <a:lnTo>
                    <a:pt x="685" y="389"/>
                  </a:lnTo>
                  <a:lnTo>
                    <a:pt x="751" y="181"/>
                  </a:lnTo>
                  <a:lnTo>
                    <a:pt x="694" y="83"/>
                  </a:lnTo>
                  <a:lnTo>
                    <a:pt x="579" y="17"/>
                  </a:lnTo>
                  <a:lnTo>
                    <a:pt x="547" y="0"/>
                  </a:lnTo>
                  <a:lnTo>
                    <a:pt x="437" y="61"/>
                  </a:lnTo>
                  <a:lnTo>
                    <a:pt x="411" y="252"/>
                  </a:lnTo>
                  <a:lnTo>
                    <a:pt x="490" y="283"/>
                  </a:lnTo>
                  <a:lnTo>
                    <a:pt x="490" y="358"/>
                  </a:lnTo>
                  <a:lnTo>
                    <a:pt x="127" y="195"/>
                  </a:lnTo>
                  <a:lnTo>
                    <a:pt x="132" y="344"/>
                  </a:lnTo>
                  <a:lnTo>
                    <a:pt x="0" y="344"/>
                  </a:lnTo>
                  <a:close/>
                </a:path>
              </a:pathLst>
            </a:custGeom>
            <a:solidFill>
              <a:srgbClr val="33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17" name=""/>
            <p:cNvGrpSpPr/>
            <p:nvPr/>
          </p:nvGrpSpPr>
          <p:grpSpPr>
            <a:xfrm>
              <a:off x="6561000" y="3941640"/>
              <a:ext cx="1059480" cy="411840"/>
              <a:chOff x="6561000" y="3941640"/>
              <a:chExt cx="1059480" cy="411840"/>
            </a:xfrm>
          </p:grpSpPr>
          <p:sp>
            <p:nvSpPr>
              <p:cNvPr id="418" name=""/>
              <p:cNvSpPr/>
              <p:nvPr/>
            </p:nvSpPr>
            <p:spPr>
              <a:xfrm>
                <a:off x="6799320" y="4238640"/>
                <a:ext cx="206640" cy="74880"/>
              </a:xfrm>
              <a:custGeom>
                <a:avLst/>
                <a:gdLst/>
                <a:ahLst/>
                <a:rect l="0" t="0" r="r" b="b"/>
                <a:pathLst>
                  <a:path w="574" h="208">
                    <a:moveTo>
                      <a:pt x="0" y="57"/>
                    </a:moveTo>
                    <a:lnTo>
                      <a:pt x="35" y="0"/>
                    </a:lnTo>
                    <a:lnTo>
                      <a:pt x="441" y="61"/>
                    </a:lnTo>
                    <a:lnTo>
                      <a:pt x="472" y="115"/>
                    </a:lnTo>
                    <a:lnTo>
                      <a:pt x="556" y="137"/>
                    </a:lnTo>
                    <a:lnTo>
                      <a:pt x="574" y="208"/>
                    </a:lnTo>
                    <a:lnTo>
                      <a:pt x="88" y="101"/>
                    </a:lnTo>
                    <a:lnTo>
                      <a:pt x="0" y="57"/>
                    </a:lnTo>
                    <a:close/>
                  </a:path>
                </a:pathLst>
              </a:custGeom>
              <a:solidFill>
                <a:srgbClr val="3333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419" name=""/>
              <p:cNvSpPr/>
              <p:nvPr/>
            </p:nvSpPr>
            <p:spPr>
              <a:xfrm>
                <a:off x="7304040" y="4032360"/>
                <a:ext cx="27360" cy="76680"/>
              </a:xfrm>
              <a:custGeom>
                <a:avLst/>
                <a:gdLst/>
                <a:ahLst/>
                <a:rect l="0" t="0" r="r" b="b"/>
                <a:pathLst>
                  <a:path w="76" h="213">
                    <a:moveTo>
                      <a:pt x="0" y="71"/>
                    </a:moveTo>
                    <a:lnTo>
                      <a:pt x="23" y="173"/>
                    </a:lnTo>
                    <a:lnTo>
                      <a:pt x="68" y="213"/>
                    </a:lnTo>
                    <a:lnTo>
                      <a:pt x="36" y="124"/>
                    </a:lnTo>
                    <a:lnTo>
                      <a:pt x="76" y="115"/>
                    </a:lnTo>
                    <a:lnTo>
                      <a:pt x="72" y="48"/>
                    </a:lnTo>
                    <a:lnTo>
                      <a:pt x="23" y="80"/>
                    </a:lnTo>
                    <a:lnTo>
                      <a:pt x="36" y="0"/>
                    </a:lnTo>
                    <a:lnTo>
                      <a:pt x="0" y="71"/>
                    </a:lnTo>
                    <a:close/>
                  </a:path>
                </a:pathLst>
              </a:custGeom>
              <a:solidFill>
                <a:srgbClr val="3333ff"/>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420" name=""/>
              <p:cNvSpPr/>
              <p:nvPr/>
            </p:nvSpPr>
            <p:spPr>
              <a:xfrm>
                <a:off x="7311960" y="4157640"/>
                <a:ext cx="68760" cy="25920"/>
              </a:xfrm>
              <a:custGeom>
                <a:avLst/>
                <a:gdLst/>
                <a:ahLst/>
                <a:rect l="0" t="0" r="r" b="b"/>
                <a:pathLst>
                  <a:path w="191" h="72">
                    <a:moveTo>
                      <a:pt x="0" y="27"/>
                    </a:moveTo>
                    <a:lnTo>
                      <a:pt x="98" y="0"/>
                    </a:lnTo>
                    <a:lnTo>
                      <a:pt x="191" y="72"/>
                    </a:lnTo>
                    <a:lnTo>
                      <a:pt x="0" y="27"/>
                    </a:lnTo>
                    <a:close/>
                  </a:path>
                </a:pathLst>
              </a:custGeom>
              <a:solidFill>
                <a:srgbClr val="3333ff"/>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21" name=""/>
              <p:cNvSpPr/>
              <p:nvPr/>
            </p:nvSpPr>
            <p:spPr>
              <a:xfrm>
                <a:off x="7388280" y="4270320"/>
                <a:ext cx="25920" cy="25920"/>
              </a:xfrm>
              <a:custGeom>
                <a:avLst/>
                <a:gdLst/>
                <a:ahLst/>
                <a:rect l="0" t="0" r="r" b="b"/>
                <a:pathLst>
                  <a:path w="72" h="72">
                    <a:moveTo>
                      <a:pt x="0" y="72"/>
                    </a:moveTo>
                    <a:lnTo>
                      <a:pt x="36" y="0"/>
                    </a:lnTo>
                    <a:lnTo>
                      <a:pt x="72" y="27"/>
                    </a:lnTo>
                    <a:lnTo>
                      <a:pt x="0" y="72"/>
                    </a:lnTo>
                    <a:close/>
                  </a:path>
                </a:pathLst>
              </a:custGeom>
              <a:solidFill>
                <a:srgbClr val="3333ff"/>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22" name=""/>
              <p:cNvSpPr/>
              <p:nvPr/>
            </p:nvSpPr>
            <p:spPr>
              <a:xfrm>
                <a:off x="6561000" y="3941640"/>
                <a:ext cx="251280" cy="290880"/>
              </a:xfrm>
              <a:custGeom>
                <a:avLst/>
                <a:gdLst/>
                <a:ahLst/>
                <a:rect l="0" t="0" r="r" b="b"/>
                <a:pathLst>
                  <a:path w="698" h="808">
                    <a:moveTo>
                      <a:pt x="0" y="0"/>
                    </a:moveTo>
                    <a:lnTo>
                      <a:pt x="158" y="30"/>
                    </a:lnTo>
                    <a:lnTo>
                      <a:pt x="349" y="239"/>
                    </a:lnTo>
                    <a:lnTo>
                      <a:pt x="499" y="318"/>
                    </a:lnTo>
                    <a:lnTo>
                      <a:pt x="494" y="375"/>
                    </a:lnTo>
                    <a:lnTo>
                      <a:pt x="548" y="375"/>
                    </a:lnTo>
                    <a:lnTo>
                      <a:pt x="535" y="455"/>
                    </a:lnTo>
                    <a:lnTo>
                      <a:pt x="698" y="605"/>
                    </a:lnTo>
                    <a:lnTo>
                      <a:pt x="681" y="808"/>
                    </a:lnTo>
                    <a:lnTo>
                      <a:pt x="610" y="808"/>
                    </a:lnTo>
                    <a:lnTo>
                      <a:pt x="464" y="694"/>
                    </a:lnTo>
                    <a:lnTo>
                      <a:pt x="239" y="287"/>
                    </a:lnTo>
                    <a:lnTo>
                      <a:pt x="0" y="0"/>
                    </a:lnTo>
                    <a:close/>
                  </a:path>
                </a:pathLst>
              </a:custGeom>
              <a:solidFill>
                <a:srgbClr val="33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6878520" y="3971880"/>
                <a:ext cx="228960" cy="222480"/>
              </a:xfrm>
              <a:custGeom>
                <a:avLst/>
                <a:gdLst/>
                <a:ahLst/>
                <a:rect l="0" t="0" r="r" b="b"/>
                <a:pathLst>
                  <a:path w="636" h="618">
                    <a:moveTo>
                      <a:pt x="0" y="273"/>
                    </a:moveTo>
                    <a:lnTo>
                      <a:pt x="44" y="202"/>
                    </a:lnTo>
                    <a:lnTo>
                      <a:pt x="97" y="238"/>
                    </a:lnTo>
                    <a:lnTo>
                      <a:pt x="295" y="229"/>
                    </a:lnTo>
                    <a:lnTo>
                      <a:pt x="353" y="202"/>
                    </a:lnTo>
                    <a:lnTo>
                      <a:pt x="433" y="0"/>
                    </a:lnTo>
                    <a:lnTo>
                      <a:pt x="547" y="17"/>
                    </a:lnTo>
                    <a:lnTo>
                      <a:pt x="516" y="66"/>
                    </a:lnTo>
                    <a:lnTo>
                      <a:pt x="636" y="238"/>
                    </a:lnTo>
                    <a:lnTo>
                      <a:pt x="565" y="233"/>
                    </a:lnTo>
                    <a:lnTo>
                      <a:pt x="464" y="446"/>
                    </a:lnTo>
                    <a:lnTo>
                      <a:pt x="450" y="578"/>
                    </a:lnTo>
                    <a:lnTo>
                      <a:pt x="380" y="618"/>
                    </a:lnTo>
                    <a:lnTo>
                      <a:pt x="251" y="538"/>
                    </a:lnTo>
                    <a:lnTo>
                      <a:pt x="185" y="574"/>
                    </a:lnTo>
                    <a:lnTo>
                      <a:pt x="171" y="503"/>
                    </a:lnTo>
                    <a:lnTo>
                      <a:pt x="83" y="521"/>
                    </a:lnTo>
                    <a:lnTo>
                      <a:pt x="0" y="273"/>
                    </a:lnTo>
                    <a:close/>
                  </a:path>
                </a:pathLst>
              </a:custGeom>
              <a:solidFill>
                <a:srgbClr val="33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7107120" y="4040280"/>
                <a:ext cx="143280" cy="192600"/>
              </a:xfrm>
              <a:custGeom>
                <a:avLst/>
                <a:gdLst/>
                <a:ahLst/>
                <a:rect l="0" t="0" r="r" b="b"/>
                <a:pathLst>
                  <a:path w="398" h="535">
                    <a:moveTo>
                      <a:pt x="0" y="309"/>
                    </a:moveTo>
                    <a:lnTo>
                      <a:pt x="44" y="412"/>
                    </a:lnTo>
                    <a:lnTo>
                      <a:pt x="26" y="504"/>
                    </a:lnTo>
                    <a:lnTo>
                      <a:pt x="92" y="535"/>
                    </a:lnTo>
                    <a:lnTo>
                      <a:pt x="83" y="331"/>
                    </a:lnTo>
                    <a:lnTo>
                      <a:pt x="133" y="309"/>
                    </a:lnTo>
                    <a:lnTo>
                      <a:pt x="133" y="389"/>
                    </a:lnTo>
                    <a:lnTo>
                      <a:pt x="172" y="473"/>
                    </a:lnTo>
                    <a:lnTo>
                      <a:pt x="234" y="434"/>
                    </a:lnTo>
                    <a:lnTo>
                      <a:pt x="155" y="256"/>
                    </a:lnTo>
                    <a:lnTo>
                      <a:pt x="292" y="172"/>
                    </a:lnTo>
                    <a:lnTo>
                      <a:pt x="115" y="221"/>
                    </a:lnTo>
                    <a:lnTo>
                      <a:pt x="83" y="110"/>
                    </a:lnTo>
                    <a:lnTo>
                      <a:pt x="341" y="97"/>
                    </a:lnTo>
                    <a:lnTo>
                      <a:pt x="398" y="0"/>
                    </a:lnTo>
                    <a:lnTo>
                      <a:pt x="315" y="52"/>
                    </a:lnTo>
                    <a:lnTo>
                      <a:pt x="133" y="30"/>
                    </a:lnTo>
                    <a:lnTo>
                      <a:pt x="66" y="70"/>
                    </a:lnTo>
                    <a:lnTo>
                      <a:pt x="0" y="309"/>
                    </a:lnTo>
                    <a:close/>
                  </a:path>
                </a:pathLst>
              </a:custGeom>
              <a:solidFill>
                <a:srgbClr val="33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a:off x="7216920" y="4303800"/>
                <a:ext cx="79560" cy="49680"/>
              </a:xfrm>
              <a:custGeom>
                <a:avLst/>
                <a:gdLst/>
                <a:ahLst/>
                <a:rect l="0" t="0" r="r" b="b"/>
                <a:pathLst>
                  <a:path w="221" h="138">
                    <a:moveTo>
                      <a:pt x="0" y="75"/>
                    </a:moveTo>
                    <a:lnTo>
                      <a:pt x="8" y="138"/>
                    </a:lnTo>
                    <a:lnTo>
                      <a:pt x="221" y="0"/>
                    </a:lnTo>
                    <a:lnTo>
                      <a:pt x="66" y="40"/>
                    </a:lnTo>
                    <a:lnTo>
                      <a:pt x="0" y="75"/>
                    </a:lnTo>
                    <a:close/>
                  </a:path>
                </a:pathLst>
              </a:custGeom>
              <a:solidFill>
                <a:srgbClr val="3333ff"/>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sp>
            <p:nvSpPr>
              <p:cNvPr id="426" name=""/>
              <p:cNvSpPr/>
              <p:nvPr/>
            </p:nvSpPr>
            <p:spPr>
              <a:xfrm>
                <a:off x="7380360" y="4094280"/>
                <a:ext cx="240120" cy="227520"/>
              </a:xfrm>
              <a:custGeom>
                <a:avLst/>
                <a:gdLst/>
                <a:ahLst/>
                <a:rect l="0" t="0" r="r" b="b"/>
                <a:pathLst>
                  <a:path w="667" h="632">
                    <a:moveTo>
                      <a:pt x="0" y="79"/>
                    </a:moveTo>
                    <a:lnTo>
                      <a:pt x="92" y="136"/>
                    </a:lnTo>
                    <a:lnTo>
                      <a:pt x="190" y="119"/>
                    </a:lnTo>
                    <a:lnTo>
                      <a:pt x="61" y="164"/>
                    </a:lnTo>
                    <a:lnTo>
                      <a:pt x="127" y="269"/>
                    </a:lnTo>
                    <a:lnTo>
                      <a:pt x="190" y="181"/>
                    </a:lnTo>
                    <a:lnTo>
                      <a:pt x="225" y="269"/>
                    </a:lnTo>
                    <a:lnTo>
                      <a:pt x="472" y="362"/>
                    </a:lnTo>
                    <a:lnTo>
                      <a:pt x="531" y="509"/>
                    </a:lnTo>
                    <a:lnTo>
                      <a:pt x="477" y="509"/>
                    </a:lnTo>
                    <a:lnTo>
                      <a:pt x="446" y="579"/>
                    </a:lnTo>
                    <a:lnTo>
                      <a:pt x="588" y="548"/>
                    </a:lnTo>
                    <a:lnTo>
                      <a:pt x="667" y="632"/>
                    </a:lnTo>
                    <a:lnTo>
                      <a:pt x="659" y="159"/>
                    </a:lnTo>
                    <a:lnTo>
                      <a:pt x="450" y="79"/>
                    </a:lnTo>
                    <a:lnTo>
                      <a:pt x="283" y="221"/>
                    </a:lnTo>
                    <a:lnTo>
                      <a:pt x="221" y="136"/>
                    </a:lnTo>
                    <a:lnTo>
                      <a:pt x="199" y="30"/>
                    </a:lnTo>
                    <a:lnTo>
                      <a:pt x="92" y="0"/>
                    </a:lnTo>
                    <a:lnTo>
                      <a:pt x="0" y="79"/>
                    </a:lnTo>
                    <a:close/>
                  </a:path>
                </a:pathLst>
              </a:custGeom>
              <a:solidFill>
                <a:srgbClr val="33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27" name=""/>
            <p:cNvSpPr/>
            <p:nvPr/>
          </p:nvSpPr>
          <p:spPr>
            <a:xfrm>
              <a:off x="5772240" y="3087720"/>
              <a:ext cx="384480" cy="378360"/>
            </a:xfrm>
            <a:custGeom>
              <a:avLst/>
              <a:gdLst/>
              <a:ahLst/>
              <a:rect l="0" t="0" r="r" b="b"/>
              <a:pathLst>
                <a:path w="1068" h="1051">
                  <a:moveTo>
                    <a:pt x="0" y="574"/>
                  </a:moveTo>
                  <a:lnTo>
                    <a:pt x="92" y="605"/>
                  </a:lnTo>
                  <a:lnTo>
                    <a:pt x="335" y="574"/>
                  </a:lnTo>
                  <a:lnTo>
                    <a:pt x="374" y="464"/>
                  </a:lnTo>
                  <a:lnTo>
                    <a:pt x="533" y="402"/>
                  </a:lnTo>
                  <a:lnTo>
                    <a:pt x="543" y="314"/>
                  </a:lnTo>
                  <a:lnTo>
                    <a:pt x="609" y="287"/>
                  </a:lnTo>
                  <a:lnTo>
                    <a:pt x="578" y="238"/>
                  </a:lnTo>
                  <a:lnTo>
                    <a:pt x="640" y="238"/>
                  </a:lnTo>
                  <a:lnTo>
                    <a:pt x="680" y="149"/>
                  </a:lnTo>
                  <a:lnTo>
                    <a:pt x="662" y="61"/>
                  </a:lnTo>
                  <a:lnTo>
                    <a:pt x="865" y="0"/>
                  </a:lnTo>
                  <a:lnTo>
                    <a:pt x="1068" y="127"/>
                  </a:lnTo>
                  <a:lnTo>
                    <a:pt x="1019" y="180"/>
                  </a:lnTo>
                  <a:lnTo>
                    <a:pt x="834" y="180"/>
                  </a:lnTo>
                  <a:lnTo>
                    <a:pt x="834" y="305"/>
                  </a:lnTo>
                  <a:lnTo>
                    <a:pt x="918" y="375"/>
                  </a:lnTo>
                  <a:lnTo>
                    <a:pt x="865" y="419"/>
                  </a:lnTo>
                  <a:lnTo>
                    <a:pt x="887" y="481"/>
                  </a:lnTo>
                  <a:lnTo>
                    <a:pt x="697" y="724"/>
                  </a:lnTo>
                  <a:lnTo>
                    <a:pt x="613" y="715"/>
                  </a:lnTo>
                  <a:lnTo>
                    <a:pt x="543" y="777"/>
                  </a:lnTo>
                  <a:lnTo>
                    <a:pt x="649" y="994"/>
                  </a:lnTo>
                  <a:lnTo>
                    <a:pt x="511" y="994"/>
                  </a:lnTo>
                  <a:lnTo>
                    <a:pt x="454" y="1051"/>
                  </a:lnTo>
                  <a:lnTo>
                    <a:pt x="348" y="914"/>
                  </a:lnTo>
                  <a:lnTo>
                    <a:pt x="44" y="932"/>
                  </a:lnTo>
                  <a:lnTo>
                    <a:pt x="141" y="785"/>
                  </a:lnTo>
                  <a:lnTo>
                    <a:pt x="0" y="574"/>
                  </a:lnTo>
                  <a:close/>
                </a:path>
              </a:pathLst>
            </a:custGeom>
            <a:solidFill>
              <a:srgbClr val="33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a:off x="6615000" y="3541680"/>
              <a:ext cx="184680" cy="397080"/>
            </a:xfrm>
            <a:custGeom>
              <a:avLst/>
              <a:gdLst/>
              <a:ahLst/>
              <a:rect l="0" t="0" r="r" b="b"/>
              <a:pathLst>
                <a:path w="513" h="1103">
                  <a:moveTo>
                    <a:pt x="0" y="180"/>
                  </a:moveTo>
                  <a:lnTo>
                    <a:pt x="35" y="97"/>
                  </a:lnTo>
                  <a:lnTo>
                    <a:pt x="177" y="0"/>
                  </a:lnTo>
                  <a:lnTo>
                    <a:pt x="230" y="88"/>
                  </a:lnTo>
                  <a:lnTo>
                    <a:pt x="212" y="233"/>
                  </a:lnTo>
                  <a:lnTo>
                    <a:pt x="375" y="167"/>
                  </a:lnTo>
                  <a:lnTo>
                    <a:pt x="451" y="233"/>
                  </a:lnTo>
                  <a:lnTo>
                    <a:pt x="513" y="388"/>
                  </a:lnTo>
                  <a:lnTo>
                    <a:pt x="487" y="471"/>
                  </a:lnTo>
                  <a:lnTo>
                    <a:pt x="362" y="471"/>
                  </a:lnTo>
                  <a:lnTo>
                    <a:pt x="314" y="507"/>
                  </a:lnTo>
                  <a:lnTo>
                    <a:pt x="344" y="666"/>
                  </a:lnTo>
                  <a:lnTo>
                    <a:pt x="177" y="533"/>
                  </a:lnTo>
                  <a:lnTo>
                    <a:pt x="101" y="772"/>
                  </a:lnTo>
                  <a:lnTo>
                    <a:pt x="186" y="979"/>
                  </a:lnTo>
                  <a:lnTo>
                    <a:pt x="296" y="1063"/>
                  </a:lnTo>
                  <a:lnTo>
                    <a:pt x="230" y="1103"/>
                  </a:lnTo>
                  <a:lnTo>
                    <a:pt x="225" y="1037"/>
                  </a:lnTo>
                  <a:lnTo>
                    <a:pt x="177" y="1037"/>
                  </a:lnTo>
                  <a:lnTo>
                    <a:pt x="44" y="922"/>
                  </a:lnTo>
                  <a:lnTo>
                    <a:pt x="66" y="777"/>
                  </a:lnTo>
                  <a:lnTo>
                    <a:pt x="137" y="653"/>
                  </a:lnTo>
                  <a:lnTo>
                    <a:pt x="44" y="432"/>
                  </a:lnTo>
                  <a:lnTo>
                    <a:pt x="74" y="335"/>
                  </a:lnTo>
                  <a:lnTo>
                    <a:pt x="0" y="180"/>
                  </a:lnTo>
                  <a:close/>
                </a:path>
              </a:pathLst>
            </a:custGeom>
            <a:solidFill>
              <a:srgbClr val="33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a:off x="5056200" y="4108320"/>
              <a:ext cx="249480" cy="279720"/>
            </a:xfrm>
            <a:custGeom>
              <a:avLst/>
              <a:gdLst/>
              <a:ahLst/>
              <a:rect l="0" t="0" r="r" b="b"/>
              <a:pathLst>
                <a:path w="693" h="777">
                  <a:moveTo>
                    <a:pt x="0" y="242"/>
                  </a:moveTo>
                  <a:lnTo>
                    <a:pt x="0" y="393"/>
                  </a:lnTo>
                  <a:lnTo>
                    <a:pt x="88" y="538"/>
                  </a:lnTo>
                  <a:lnTo>
                    <a:pt x="202" y="613"/>
                  </a:lnTo>
                  <a:lnTo>
                    <a:pt x="264" y="618"/>
                  </a:lnTo>
                  <a:lnTo>
                    <a:pt x="335" y="777"/>
                  </a:lnTo>
                  <a:lnTo>
                    <a:pt x="591" y="750"/>
                  </a:lnTo>
                  <a:lnTo>
                    <a:pt x="693" y="684"/>
                  </a:lnTo>
                  <a:lnTo>
                    <a:pt x="591" y="383"/>
                  </a:lnTo>
                  <a:lnTo>
                    <a:pt x="618" y="268"/>
                  </a:lnTo>
                  <a:lnTo>
                    <a:pt x="291" y="0"/>
                  </a:lnTo>
                  <a:lnTo>
                    <a:pt x="198" y="132"/>
                  </a:lnTo>
                  <a:lnTo>
                    <a:pt x="167" y="97"/>
                  </a:lnTo>
                  <a:lnTo>
                    <a:pt x="136" y="123"/>
                  </a:lnTo>
                  <a:lnTo>
                    <a:pt x="136" y="0"/>
                  </a:lnTo>
                  <a:lnTo>
                    <a:pt x="52" y="8"/>
                  </a:lnTo>
                  <a:lnTo>
                    <a:pt x="66" y="97"/>
                  </a:lnTo>
                  <a:lnTo>
                    <a:pt x="66" y="158"/>
                  </a:lnTo>
                  <a:lnTo>
                    <a:pt x="0" y="242"/>
                  </a:lnTo>
                  <a:close/>
                </a:path>
              </a:pathLst>
            </a:custGeom>
            <a:solidFill>
              <a:srgbClr val="33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a:off x="7070760" y="3152880"/>
              <a:ext cx="106560" cy="287640"/>
            </a:xfrm>
            <a:custGeom>
              <a:avLst/>
              <a:gdLst/>
              <a:ahLst/>
              <a:rect l="0" t="0" r="r" b="b"/>
              <a:pathLst>
                <a:path w="296" h="799">
                  <a:moveTo>
                    <a:pt x="13" y="224"/>
                  </a:moveTo>
                  <a:lnTo>
                    <a:pt x="114" y="0"/>
                  </a:lnTo>
                  <a:lnTo>
                    <a:pt x="296" y="251"/>
                  </a:lnTo>
                  <a:lnTo>
                    <a:pt x="172" y="224"/>
                  </a:lnTo>
                  <a:lnTo>
                    <a:pt x="296" y="313"/>
                  </a:lnTo>
                  <a:lnTo>
                    <a:pt x="172" y="366"/>
                  </a:lnTo>
                  <a:lnTo>
                    <a:pt x="296" y="396"/>
                  </a:lnTo>
                  <a:lnTo>
                    <a:pt x="88" y="799"/>
                  </a:lnTo>
                  <a:lnTo>
                    <a:pt x="0" y="547"/>
                  </a:lnTo>
                  <a:lnTo>
                    <a:pt x="13" y="224"/>
                  </a:lnTo>
                  <a:close/>
                </a:path>
              </a:pathLst>
            </a:custGeom>
            <a:solidFill>
              <a:srgbClr val="33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1" name=""/>
            <p:cNvSpPr/>
            <p:nvPr/>
          </p:nvSpPr>
          <p:spPr>
            <a:xfrm>
              <a:off x="2577960" y="3768840"/>
              <a:ext cx="241560" cy="206640"/>
            </a:xfrm>
            <a:custGeom>
              <a:avLst/>
              <a:gdLst/>
              <a:ahLst/>
              <a:rect l="0" t="0" r="r" b="b"/>
              <a:pathLst>
                <a:path w="671" h="574">
                  <a:moveTo>
                    <a:pt x="662" y="574"/>
                  </a:moveTo>
                  <a:lnTo>
                    <a:pt x="671" y="446"/>
                  </a:lnTo>
                  <a:lnTo>
                    <a:pt x="605" y="446"/>
                  </a:lnTo>
                  <a:lnTo>
                    <a:pt x="552" y="437"/>
                  </a:lnTo>
                  <a:lnTo>
                    <a:pt x="516" y="389"/>
                  </a:lnTo>
                  <a:lnTo>
                    <a:pt x="459" y="375"/>
                  </a:lnTo>
                  <a:lnTo>
                    <a:pt x="397" y="375"/>
                  </a:lnTo>
                  <a:lnTo>
                    <a:pt x="308" y="216"/>
                  </a:lnTo>
                  <a:lnTo>
                    <a:pt x="424" y="26"/>
                  </a:lnTo>
                  <a:lnTo>
                    <a:pt x="411" y="0"/>
                  </a:lnTo>
                  <a:lnTo>
                    <a:pt x="180" y="97"/>
                  </a:lnTo>
                  <a:lnTo>
                    <a:pt x="61" y="305"/>
                  </a:lnTo>
                  <a:lnTo>
                    <a:pt x="35" y="242"/>
                  </a:lnTo>
                  <a:lnTo>
                    <a:pt x="8" y="336"/>
                  </a:lnTo>
                  <a:lnTo>
                    <a:pt x="0" y="389"/>
                  </a:lnTo>
                  <a:lnTo>
                    <a:pt x="17" y="446"/>
                  </a:lnTo>
                  <a:lnTo>
                    <a:pt x="17" y="508"/>
                  </a:lnTo>
                  <a:lnTo>
                    <a:pt x="30" y="534"/>
                  </a:lnTo>
                  <a:lnTo>
                    <a:pt x="653" y="561"/>
                  </a:lnTo>
                  <a:lnTo>
                    <a:pt x="662" y="574"/>
                  </a:lnTo>
                  <a:close/>
                </a:path>
              </a:pathLst>
            </a:custGeom>
            <a:solidFill>
              <a:srgbClr val="33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32" name=""/>
          <p:cNvSpPr txBox="1"/>
          <p:nvPr/>
        </p:nvSpPr>
        <p:spPr>
          <a:xfrm>
            <a:off x="8547120" y="6054840"/>
            <a:ext cx="436680" cy="936360"/>
          </a:xfrm>
          <a:prstGeom prst="rect">
            <a:avLst/>
          </a:prstGeom>
          <a:noFill/>
          <a:ln w="0">
            <a:noFill/>
          </a:ln>
        </p:spPr>
        <p:txBody>
          <a:bodyPr lIns="0" rIns="0" tIns="0" bIns="0" anchor="t">
            <a:noAutofit/>
          </a:bodyPr>
          <a:p>
            <a:pPr>
              <a:lnSpc>
                <a:spcPct val="100000"/>
              </a:lnSpc>
            </a:pPr>
            <a:r>
              <a:rPr b="0" lang="en-US" sz="2700" spc="-1" strike="noStrike">
                <a:solidFill>
                  <a:srgbClr val="000000"/>
                </a:solidFill>
                <a:latin typeface="GTZ-Logo"/>
                <a:ea typeface="GTZ-Logo"/>
              </a:rPr>
              <a:t>gtz</a:t>
            </a:r>
            <a:endParaRPr b="0" lang="en-US" sz="2700" spc="-1" strike="noStrike">
              <a:solidFill>
                <a:srgbClr val="000000"/>
              </a:solidFill>
              <a:latin typeface="Arial"/>
            </a:endParaRPr>
          </a:p>
        </p:txBody>
      </p:sp>
      <p:sp>
        <p:nvSpPr>
          <p:cNvPr id="433" name=""/>
          <p:cNvSpPr txBox="1"/>
          <p:nvPr/>
        </p:nvSpPr>
        <p:spPr>
          <a:xfrm>
            <a:off x="6084720" y="3454560"/>
            <a:ext cx="325440" cy="12852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India</a:t>
            </a:r>
            <a:endParaRPr b="0" lang="en-US" sz="900" spc="-1" strike="noStrike">
              <a:solidFill>
                <a:srgbClr val="000000"/>
              </a:solidFill>
              <a:latin typeface="Arial"/>
            </a:endParaRPr>
          </a:p>
        </p:txBody>
      </p:sp>
      <p:sp>
        <p:nvSpPr>
          <p:cNvPr id="434" name=""/>
          <p:cNvSpPr txBox="1"/>
          <p:nvPr/>
        </p:nvSpPr>
        <p:spPr>
          <a:xfrm>
            <a:off x="6164280" y="3390840"/>
            <a:ext cx="173160" cy="72000"/>
          </a:xfrm>
          <a:prstGeom prst="rect">
            <a:avLst/>
          </a:prstGeom>
          <a:noFill/>
          <a:ln w="0">
            <a:noFill/>
          </a:ln>
        </p:spPr>
        <p:txBody>
          <a:bodyPr lIns="0" rIns="0" tIns="0" bIns="0" anchor="t">
            <a:noAutofit/>
          </a:bodyPr>
          <a:p>
            <a:pPr>
              <a:lnSpc>
                <a:spcPct val="100000"/>
              </a:lnSpc>
            </a:pPr>
            <a:r>
              <a:rPr b="0" lang="en-US" sz="500" spc="-1" strike="noStrike">
                <a:solidFill>
                  <a:srgbClr val="000000"/>
                </a:solidFill>
                <a:latin typeface="Arial"/>
                <a:ea typeface="Arial"/>
              </a:rPr>
              <a:t>Delhi</a:t>
            </a:r>
            <a:endParaRPr b="0" lang="en-US" sz="500" spc="-1" strike="noStrike">
              <a:solidFill>
                <a:srgbClr val="000000"/>
              </a:solidFill>
              <a:latin typeface="Arial"/>
            </a:endParaRPr>
          </a:p>
        </p:txBody>
      </p:sp>
      <p:sp>
        <p:nvSpPr>
          <p:cNvPr id="435" name=""/>
          <p:cNvSpPr txBox="1"/>
          <p:nvPr/>
        </p:nvSpPr>
        <p:spPr>
          <a:xfrm>
            <a:off x="5743440" y="3676680"/>
            <a:ext cx="343080" cy="72000"/>
          </a:xfrm>
          <a:prstGeom prst="rect">
            <a:avLst/>
          </a:prstGeom>
          <a:noFill/>
          <a:ln w="0">
            <a:noFill/>
          </a:ln>
        </p:spPr>
        <p:txBody>
          <a:bodyPr lIns="0" rIns="0" tIns="0" bIns="0" anchor="t">
            <a:noAutofit/>
          </a:bodyPr>
          <a:p>
            <a:pPr>
              <a:lnSpc>
                <a:spcPct val="100000"/>
              </a:lnSpc>
            </a:pPr>
            <a:r>
              <a:rPr b="0" lang="en-US" sz="500" spc="-1" strike="noStrike">
                <a:solidFill>
                  <a:srgbClr val="000000"/>
                </a:solidFill>
                <a:latin typeface="Arial"/>
                <a:ea typeface="Arial"/>
              </a:rPr>
              <a:t>Karnataka</a:t>
            </a:r>
            <a:endParaRPr b="0" lang="en-US" sz="500" spc="-1" strike="noStrike">
              <a:solidFill>
                <a:srgbClr val="000000"/>
              </a:solidFill>
              <a:latin typeface="Arial"/>
            </a:endParaRPr>
          </a:p>
        </p:txBody>
      </p:sp>
      <p:sp>
        <p:nvSpPr>
          <p:cNvPr id="436" name=""/>
          <p:cNvSpPr txBox="1"/>
          <p:nvPr/>
        </p:nvSpPr>
        <p:spPr>
          <a:xfrm>
            <a:off x="1457280" y="685800"/>
            <a:ext cx="6892920" cy="1143000"/>
          </a:xfrm>
          <a:prstGeom prst="rect">
            <a:avLst/>
          </a:prstGeom>
          <a:solidFill>
            <a:srgbClr val="ccffcc"/>
          </a:solidFill>
          <a:ln w="38160">
            <a:solidFill>
              <a:srgbClr val="009900"/>
            </a:solidFill>
            <a:round/>
          </a:ln>
        </p:spPr>
        <p:txBody>
          <a:bodyPr lIns="0" rIns="0" tIns="0" bIns="0" anchor="t">
            <a:noAutofit/>
          </a:bodyPr>
          <a:p>
            <a:pPr algn="ctr">
              <a:lnSpc>
                <a:spcPct val="100000"/>
              </a:lnSpc>
            </a:pPr>
            <a:br>
              <a:rPr sz="1000"/>
            </a:br>
            <a:r>
              <a:rPr b="1" lang="en-US" sz="2400" spc="-1" strike="noStrike">
                <a:solidFill>
                  <a:srgbClr val="000000"/>
                </a:solidFill>
                <a:latin typeface="Arial Rounded MT Bold"/>
                <a:ea typeface="Arial Rounded MT Bold"/>
              </a:rPr>
              <a:t>Measures to Implement the UN FCCC </a:t>
            </a:r>
            <a:br>
              <a:rPr sz="2400"/>
            </a:br>
            <a:r>
              <a:rPr b="1" lang="en-US" sz="2400" spc="-1" strike="noStrike">
                <a:solidFill>
                  <a:srgbClr val="000000"/>
                </a:solidFill>
                <a:latin typeface="Arial Rounded MT Bold"/>
                <a:ea typeface="Arial Rounded MT Bold"/>
              </a:rPr>
              <a:t>Country Overview</a:t>
            </a:r>
            <a:endParaRPr b="0" lang="en-US" sz="2400" spc="-1" strike="noStrike">
              <a:solidFill>
                <a:srgbClr val="000000"/>
              </a:solidFill>
              <a:latin typeface="Arial"/>
            </a:endParaRPr>
          </a:p>
        </p:txBody>
      </p:sp>
      <p:sp>
        <p:nvSpPr>
          <p:cNvPr id="437" name=""/>
          <p:cNvSpPr txBox="1"/>
          <p:nvPr/>
        </p:nvSpPr>
        <p:spPr>
          <a:xfrm>
            <a:off x="184320" y="6407280"/>
            <a:ext cx="68400" cy="12852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Arial"/>
                <a:ea typeface="Arial"/>
              </a:rPr>
              <a:t>7</a:t>
            </a:r>
            <a:endParaRPr b="0" lang="en-US" sz="900" spc="-1" strike="noStrike">
              <a:solidFill>
                <a:srgbClr val="000000"/>
              </a:solidFill>
              <a:latin typeface="Arial"/>
            </a:endParaRPr>
          </a:p>
        </p:txBody>
      </p:sp>
      <p:sp>
        <p:nvSpPr>
          <p:cNvPr id="438" name=""/>
          <p:cNvSpPr/>
          <p:nvPr/>
        </p:nvSpPr>
        <p:spPr>
          <a:xfrm>
            <a:off x="2646360" y="5446800"/>
            <a:ext cx="25920" cy="39960"/>
          </a:xfrm>
          <a:custGeom>
            <a:avLst/>
            <a:gdLst/>
            <a:ahLst/>
            <a:rect l="0" t="0" r="r" b="b"/>
            <a:pathLst>
              <a:path fill="none" w="72" h="111">
                <a:moveTo>
                  <a:pt x="0" y="48"/>
                </a:moveTo>
                <a:lnTo>
                  <a:pt x="31" y="0"/>
                </a:lnTo>
                <a:lnTo>
                  <a:pt x="72" y="111"/>
                </a:lnTo>
                <a:lnTo>
                  <a:pt x="0" y="48"/>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439" name=""/>
          <p:cNvSpPr/>
          <p:nvPr/>
        </p:nvSpPr>
        <p:spPr>
          <a:xfrm>
            <a:off x="2660760" y="5226120"/>
            <a:ext cx="25920" cy="54360"/>
          </a:xfrm>
          <a:custGeom>
            <a:avLst/>
            <a:gdLst/>
            <a:ahLst/>
            <a:rect l="0" t="0" r="r" b="b"/>
            <a:pathLst>
              <a:path fill="none" w="72" h="151">
                <a:moveTo>
                  <a:pt x="0" y="129"/>
                </a:moveTo>
                <a:lnTo>
                  <a:pt x="72" y="0"/>
                </a:lnTo>
                <a:lnTo>
                  <a:pt x="72" y="151"/>
                </a:lnTo>
                <a:lnTo>
                  <a:pt x="0" y="129"/>
                </a:lnTo>
              </a:path>
            </a:pathLst>
          </a:custGeom>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grpSp>
        <p:nvGrpSpPr>
          <p:cNvPr id="440" name=""/>
          <p:cNvGrpSpPr/>
          <p:nvPr/>
        </p:nvGrpSpPr>
        <p:grpSpPr>
          <a:xfrm>
            <a:off x="1216080" y="4371840"/>
            <a:ext cx="1374840" cy="1042920"/>
            <a:chOff x="1216080" y="4371840"/>
            <a:chExt cx="1374840" cy="1042920"/>
          </a:xfrm>
        </p:grpSpPr>
        <p:sp>
          <p:nvSpPr>
            <p:cNvPr id="441" name=""/>
            <p:cNvSpPr txBox="1"/>
            <p:nvPr/>
          </p:nvSpPr>
          <p:spPr>
            <a:xfrm>
              <a:off x="1216080" y="4371840"/>
              <a:ext cx="1308240" cy="1042920"/>
            </a:xfrm>
            <a:prstGeom prst="rect">
              <a:avLst/>
            </a:prstGeom>
            <a:noFill/>
            <a:ln w="0">
              <a:noFill/>
            </a:ln>
          </p:spPr>
          <p:txBody>
            <a:bodyPr lIns="0" rIns="0" tIns="0" bIns="0" anchor="t">
              <a:noAutofit/>
            </a:bodyPr>
            <a:p>
              <a:pPr>
                <a:lnSpc>
                  <a:spcPct val="100000"/>
                </a:lnSpc>
              </a:pPr>
              <a:r>
                <a:rPr b="1" lang="en-US" sz="800" spc="-1" strike="noStrike" u="sng">
                  <a:solidFill>
                    <a:srgbClr val="000000"/>
                  </a:solidFill>
                  <a:uFillTx/>
                  <a:latin typeface="Arial"/>
                  <a:ea typeface="Arial"/>
                </a:rPr>
                <a:t>	</a:t>
              </a:r>
              <a:r>
                <a:rPr b="1" lang="en-US" sz="1000" spc="-1" strike="noStrike" u="sng">
                  <a:solidFill>
                    <a:srgbClr val="000000"/>
                  </a:solidFill>
                  <a:uFillTx/>
                  <a:latin typeface="Arial"/>
                  <a:ea typeface="Arial"/>
                </a:rPr>
                <a:t>Projects</a:t>
              </a:r>
              <a:endParaRPr b="0" lang="en-US" sz="10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marL="420840" indent="98280">
                <a:lnSpc>
                  <a:spcPct val="100000"/>
                </a:lnSpc>
              </a:pPr>
              <a:r>
                <a:rPr b="0" lang="en-US" sz="800" spc="-1" strike="noStrike">
                  <a:solidFill>
                    <a:srgbClr val="000000"/>
                  </a:solidFill>
                  <a:latin typeface="Arial"/>
                  <a:ea typeface="Arial"/>
                </a:rPr>
                <a:t>Phase 1</a:t>
              </a:r>
              <a:endParaRPr b="0" lang="en-US" sz="800" spc="-1" strike="noStrike">
                <a:solidFill>
                  <a:srgbClr val="000000"/>
                </a:solidFill>
                <a:latin typeface="Arial"/>
              </a:endParaRPr>
            </a:p>
            <a:p>
              <a:pPr marL="420840" indent="98280">
                <a:lnSpc>
                  <a:spcPct val="100000"/>
                </a:lnSpc>
              </a:pPr>
              <a:endParaRPr b="0" lang="en-US" sz="800" spc="-1" strike="noStrike">
                <a:solidFill>
                  <a:srgbClr val="000000"/>
                </a:solidFill>
                <a:latin typeface="Arial"/>
              </a:endParaRPr>
            </a:p>
            <a:p>
              <a:pPr marL="420840" indent="98280">
                <a:lnSpc>
                  <a:spcPct val="100000"/>
                </a:lnSpc>
              </a:pPr>
              <a:r>
                <a:rPr b="0" lang="en-US" sz="800" spc="-1" strike="noStrike">
                  <a:solidFill>
                    <a:srgbClr val="000000"/>
                  </a:solidFill>
                  <a:latin typeface="Arial"/>
                  <a:ea typeface="Arial"/>
                </a:rPr>
                <a:t>Phase 2</a:t>
              </a:r>
              <a:endParaRPr b="0" lang="en-US" sz="800" spc="-1" strike="noStrike">
                <a:solidFill>
                  <a:srgbClr val="000000"/>
                </a:solidFill>
                <a:latin typeface="Arial"/>
              </a:endParaRPr>
            </a:p>
          </p:txBody>
        </p:sp>
        <p:sp>
          <p:nvSpPr>
            <p:cNvPr id="442" name=""/>
            <p:cNvSpPr/>
            <p:nvPr/>
          </p:nvSpPr>
          <p:spPr>
            <a:xfrm>
              <a:off x="1527120" y="4851360"/>
              <a:ext cx="109440" cy="69840"/>
            </a:xfrm>
            <a:prstGeom prst="roundRect">
              <a:avLst/>
            </a:prstGeom>
            <a:solidFill>
              <a:srgbClr val="cc0000"/>
            </a:solidFill>
            <a:ln w="12600">
              <a:solidFill>
                <a:srgbClr val="000000"/>
              </a:solidFill>
              <a:round/>
            </a:ln>
          </p:spPr>
          <p:txBody>
            <a:bodyPr lIns="96120" rIns="96120" tIns="18720" bIns="18720" anchor="t">
              <a:noAutofit/>
            </a:bodyPr>
            <a:p>
              <a:endParaRPr b="0" lang="en-US" sz="1800" spc="-1" strike="noStrike">
                <a:solidFill>
                  <a:srgbClr val="ffffff"/>
                </a:solidFill>
                <a:latin typeface="Arial"/>
              </a:endParaRPr>
            </a:p>
          </p:txBody>
        </p:sp>
        <p:sp>
          <p:nvSpPr>
            <p:cNvPr id="443" name=""/>
            <p:cNvSpPr/>
            <p:nvPr/>
          </p:nvSpPr>
          <p:spPr>
            <a:xfrm>
              <a:off x="1528920" y="4622760"/>
              <a:ext cx="114480" cy="81000"/>
            </a:xfrm>
            <a:prstGeom prst="roundRect">
              <a:avLst/>
            </a:prstGeom>
            <a:solidFill>
              <a:srgbClr val="3333ff"/>
            </a:solidFill>
            <a:ln w="12600">
              <a:solidFill>
                <a:srgbClr val="000000"/>
              </a:solidFill>
              <a:round/>
            </a:ln>
          </p:spPr>
          <p:txBody>
            <a:bodyPr lIns="96120" rIns="96120" tIns="29880" bIns="29880" anchor="t">
              <a:noAutofit/>
            </a:bodyPr>
            <a:p>
              <a:endParaRPr b="0" lang="en-US" sz="1800" spc="-1" strike="noStrike">
                <a:solidFill>
                  <a:srgbClr val="000000"/>
                </a:solidFill>
                <a:latin typeface="Arial"/>
              </a:endParaRPr>
            </a:p>
          </p:txBody>
        </p:sp>
        <p:sp>
          <p:nvSpPr>
            <p:cNvPr id="444" name=""/>
            <p:cNvSpPr txBox="1"/>
            <p:nvPr/>
          </p:nvSpPr>
          <p:spPr>
            <a:xfrm>
              <a:off x="1228680" y="5191200"/>
              <a:ext cx="1362240" cy="142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as per November 1997</a:t>
              </a:r>
              <a:endParaRPr b="0" lang="en-US" sz="1000" spc="-1" strike="noStrike">
                <a:solidFill>
                  <a:srgbClr val="000000"/>
                </a:solidFill>
                <a:latin typeface="Arial"/>
              </a:endParaRPr>
            </a:p>
          </p:txBody>
        </p:sp>
      </p:grpSp>
      <p:sp>
        <p:nvSpPr>
          <p:cNvPr id="445" name=""/>
          <p:cNvSpPr/>
          <p:nvPr/>
        </p:nvSpPr>
        <p:spPr>
          <a:xfrm>
            <a:off x="4948200" y="4491000"/>
            <a:ext cx="182880" cy="186120"/>
          </a:xfrm>
          <a:custGeom>
            <a:avLst/>
            <a:gdLst/>
            <a:ahLst/>
            <a:rect l="0" t="0" r="r" b="b"/>
            <a:pathLst>
              <a:path w="508" h="517">
                <a:moveTo>
                  <a:pt x="0" y="155"/>
                </a:moveTo>
                <a:lnTo>
                  <a:pt x="110" y="155"/>
                </a:lnTo>
                <a:lnTo>
                  <a:pt x="229" y="61"/>
                </a:lnTo>
                <a:lnTo>
                  <a:pt x="233" y="22"/>
                </a:lnTo>
                <a:lnTo>
                  <a:pt x="331" y="0"/>
                </a:lnTo>
                <a:lnTo>
                  <a:pt x="486" y="57"/>
                </a:lnTo>
                <a:lnTo>
                  <a:pt x="508" y="127"/>
                </a:lnTo>
                <a:lnTo>
                  <a:pt x="503" y="314"/>
                </a:lnTo>
                <a:lnTo>
                  <a:pt x="415" y="517"/>
                </a:lnTo>
                <a:lnTo>
                  <a:pt x="269" y="482"/>
                </a:lnTo>
                <a:lnTo>
                  <a:pt x="180" y="434"/>
                </a:lnTo>
                <a:lnTo>
                  <a:pt x="0" y="155"/>
                </a:lnTo>
                <a:close/>
              </a:path>
            </a:pathLst>
          </a:custGeom>
          <a:solidFill>
            <a:srgbClr val="cc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1152360" y="343080"/>
            <a:ext cx="7772400" cy="1104840"/>
          </a:xfrm>
          <a:prstGeom prst="rect">
            <a:avLst/>
          </a:prstGeom>
          <a:noFill/>
          <a:ln w="0">
            <a:noFill/>
          </a:ln>
        </p:spPr>
        <p:txBody>
          <a:bodyPr lIns="0" rIns="0" tIns="0" bIns="0" anchor="t">
            <a:noAutofit/>
          </a:bodyPr>
          <a:p>
            <a:pPr>
              <a:lnSpc>
                <a:spcPct val="100000"/>
              </a:lnSpc>
            </a:pPr>
            <a:r>
              <a:rPr b="1" lang="en-US" sz="3600" spc="-1" strike="noStrike">
                <a:solidFill>
                  <a:srgbClr val="3333ff"/>
                </a:solidFill>
                <a:latin typeface="Arial Rounded MT Bold"/>
                <a:ea typeface="Arial Rounded MT Bold"/>
              </a:rPr>
              <a:t>Programme Focus and Trends (1):</a:t>
            </a:r>
            <a:endParaRPr b="0" lang="en-US" sz="3600" spc="-1" strike="noStrike">
              <a:solidFill>
                <a:srgbClr val="000000"/>
              </a:solidFill>
              <a:latin typeface="Arial"/>
            </a:endParaRPr>
          </a:p>
        </p:txBody>
      </p:sp>
      <p:sp>
        <p:nvSpPr>
          <p:cNvPr id="447" name=""/>
          <p:cNvSpPr txBox="1"/>
          <p:nvPr/>
        </p:nvSpPr>
        <p:spPr>
          <a:xfrm>
            <a:off x="1152360" y="1752480"/>
            <a:ext cx="7772400" cy="5135400"/>
          </a:xfrm>
          <a:prstGeom prst="rect">
            <a:avLst/>
          </a:prstGeom>
          <a:noFill/>
          <a:ln w="0">
            <a:noFill/>
          </a:ln>
        </p:spPr>
        <p:txBody>
          <a:bodyPr lIns="0" rIns="0" tIns="0" bIns="0" anchor="t">
            <a:noAutofit/>
          </a:bodyPr>
          <a:p>
            <a:pPr marL="298440" indent="-298440">
              <a:lnSpc>
                <a:spcPct val="100000"/>
              </a:lnSpc>
              <a:spcBef>
                <a:spcPts val="241"/>
              </a:spcBef>
              <a:spcAft>
                <a:spcPts val="241"/>
              </a:spcAft>
              <a:buClr>
                <a:srgbClr val="b2b2b2"/>
              </a:buClr>
              <a:buSzPct val="75000"/>
              <a:buFont typeface="Monotype Sorts"/>
              <a:buChar char=""/>
            </a:pPr>
            <a:r>
              <a:rPr b="1" lang="en-US" sz="3200" spc="-1" strike="noStrike">
                <a:solidFill>
                  <a:srgbClr val="330099"/>
                </a:solidFill>
                <a:latin typeface="Arial Rounded MT Bold"/>
                <a:ea typeface="Arial Rounded MT Bold"/>
              </a:rPr>
              <a:t>National inventory </a:t>
            </a:r>
            <a:endParaRPr b="0" lang="en-US" sz="3200" spc="-1" strike="noStrike">
              <a:solidFill>
                <a:srgbClr val="000000"/>
              </a:solidFill>
              <a:latin typeface="Arial"/>
            </a:endParaRPr>
          </a:p>
          <a:p>
            <a:pPr lvl="1" marL="777960" indent="-289080">
              <a:lnSpc>
                <a:spcPct val="100000"/>
              </a:lnSpc>
              <a:spcBef>
                <a:spcPts val="241"/>
              </a:spcBef>
              <a:spcAft>
                <a:spcPts val="241"/>
              </a:spcAft>
              <a:buClr>
                <a:srgbClr val="b2b2b2"/>
              </a:buClr>
              <a:buSzPct val="75000"/>
              <a:buFont typeface="Monotype Sorts"/>
              <a:buChar char=""/>
            </a:pPr>
            <a:r>
              <a:rPr b="1" lang="en-US" sz="2800" spc="-1" strike="noStrike">
                <a:solidFill>
                  <a:srgbClr val="009900"/>
                </a:solidFill>
                <a:latin typeface="Arial Rounded MT Bold"/>
                <a:ea typeface="Arial Rounded MT Bold"/>
              </a:rPr>
              <a:t>to meet the obligation of the convention</a:t>
            </a:r>
            <a:endParaRPr b="0" lang="en-US" sz="2800" spc="-1" strike="noStrike">
              <a:solidFill>
                <a:srgbClr val="000000"/>
              </a:solidFill>
              <a:latin typeface="Arial"/>
            </a:endParaRPr>
          </a:p>
          <a:p>
            <a:pPr lvl="3" marL="1517760" indent="-355680">
              <a:lnSpc>
                <a:spcPct val="100000"/>
              </a:lnSpc>
              <a:spcBef>
                <a:spcPts val="241"/>
              </a:spcBef>
              <a:spcAft>
                <a:spcPts val="241"/>
              </a:spcAft>
              <a:buClr>
                <a:srgbClr val="b2b2b2"/>
              </a:buClr>
              <a:buSzPct val="75000"/>
              <a:buFont typeface="Monotype Sorts"/>
              <a:buChar char=""/>
            </a:pPr>
            <a:r>
              <a:rPr b="1" lang="en-US" sz="2000" spc="-1" strike="noStrike">
                <a:solidFill>
                  <a:srgbClr val="ff0033"/>
                </a:solidFill>
                <a:latin typeface="Arial Rounded MT Bold"/>
                <a:ea typeface="Arial Rounded MT Bold"/>
              </a:rPr>
              <a:t>Columbia (Phase 1)</a:t>
            </a:r>
            <a:r>
              <a:rPr b="1" lang="en-US" sz="2000" spc="-1" strike="noStrike">
                <a:solidFill>
                  <a:srgbClr val="000000"/>
                </a:solidFill>
                <a:latin typeface="Arial Rounded MT Bold"/>
                <a:ea typeface="Arial Rounded MT Bold"/>
              </a:rPr>
              <a:t>, </a:t>
            </a:r>
            <a:r>
              <a:rPr b="1" lang="en-US" sz="2000" spc="-1" strike="noStrike">
                <a:solidFill>
                  <a:srgbClr val="bc3700"/>
                </a:solidFill>
                <a:latin typeface="Arial Rounded MT Bold"/>
                <a:ea typeface="Arial Rounded MT Bold"/>
              </a:rPr>
              <a:t>Namibia</a:t>
            </a:r>
            <a:r>
              <a:rPr b="1" lang="en-US" sz="2000" spc="-1" strike="noStrike">
                <a:solidFill>
                  <a:srgbClr val="000000"/>
                </a:solidFill>
                <a:latin typeface="Arial Rounded MT Bold"/>
                <a:ea typeface="Arial Rounded MT Bold"/>
              </a:rPr>
              <a:t>, Pakistan, </a:t>
            </a:r>
            <a:r>
              <a:rPr b="1" lang="en-US" sz="2000" spc="-1" strike="noStrike">
                <a:solidFill>
                  <a:srgbClr val="330099"/>
                </a:solidFill>
                <a:latin typeface="Arial Rounded MT Bold"/>
                <a:ea typeface="Arial Rounded MT Bold"/>
              </a:rPr>
              <a:t>Syria</a:t>
            </a:r>
            <a:r>
              <a:rPr b="1" lang="en-US" sz="2000" spc="-1" strike="noStrike">
                <a:solidFill>
                  <a:srgbClr val="000000"/>
                </a:solidFill>
                <a:latin typeface="Arial Rounded MT Bold"/>
                <a:ea typeface="Arial Rounded MT Bold"/>
              </a:rPr>
              <a:t>, </a:t>
            </a:r>
            <a:r>
              <a:rPr b="1" lang="en-US" sz="2000" spc="-1" strike="noStrike">
                <a:solidFill>
                  <a:srgbClr val="b50069"/>
                </a:solidFill>
                <a:latin typeface="Arial Rounded MT Bold"/>
                <a:ea typeface="Arial Rounded MT Bold"/>
              </a:rPr>
              <a:t>Zambia</a:t>
            </a:r>
            <a:endParaRPr b="0" lang="en-US" sz="2000" spc="-1" strike="noStrike">
              <a:solidFill>
                <a:srgbClr val="000000"/>
              </a:solidFill>
              <a:latin typeface="Arial"/>
            </a:endParaRPr>
          </a:p>
          <a:p>
            <a:pPr marL="298440" indent="-298440">
              <a:lnSpc>
                <a:spcPct val="100000"/>
              </a:lnSpc>
              <a:spcBef>
                <a:spcPts val="241"/>
              </a:spcBef>
              <a:spcAft>
                <a:spcPts val="241"/>
              </a:spcAft>
              <a:buClr>
                <a:srgbClr val="b2b2b2"/>
              </a:buClr>
              <a:buSzPct val="75000"/>
              <a:buFont typeface="Monotype Sorts"/>
              <a:buChar char=""/>
            </a:pPr>
            <a:r>
              <a:rPr b="1" lang="en-US" sz="3200" spc="-1" strike="noStrike">
                <a:solidFill>
                  <a:srgbClr val="330099"/>
                </a:solidFill>
                <a:latin typeface="Arial Rounded MT Bold"/>
                <a:ea typeface="Arial Rounded MT Bold"/>
              </a:rPr>
              <a:t>National mitigation options and policy </a:t>
            </a:r>
            <a:endParaRPr b="0" lang="en-US" sz="3200" spc="-1" strike="noStrike">
              <a:solidFill>
                <a:srgbClr val="000000"/>
              </a:solidFill>
              <a:latin typeface="Arial"/>
            </a:endParaRPr>
          </a:p>
          <a:p>
            <a:pPr lvl="1" marL="777960" indent="-289080">
              <a:lnSpc>
                <a:spcPct val="100000"/>
              </a:lnSpc>
              <a:spcBef>
                <a:spcPts val="241"/>
              </a:spcBef>
              <a:spcAft>
                <a:spcPts val="241"/>
              </a:spcAft>
              <a:buClr>
                <a:srgbClr val="b2b2b2"/>
              </a:buClr>
              <a:buSzPct val="75000"/>
              <a:buFont typeface="Monotype Sorts"/>
              <a:buChar char=""/>
            </a:pPr>
            <a:r>
              <a:rPr b="1" lang="en-US" sz="2800" spc="-1" strike="noStrike">
                <a:solidFill>
                  <a:srgbClr val="009900"/>
                </a:solidFill>
                <a:latin typeface="Arial Rounded MT Bold"/>
                <a:ea typeface="Arial Rounded MT Bold"/>
              </a:rPr>
              <a:t>to address ckunate protection in development</a:t>
            </a:r>
            <a:endParaRPr b="0" lang="en-US" sz="2800" spc="-1" strike="noStrike">
              <a:solidFill>
                <a:srgbClr val="000000"/>
              </a:solidFill>
              <a:latin typeface="Arial"/>
            </a:endParaRPr>
          </a:p>
          <a:p>
            <a:pPr lvl="3" marL="1517760" indent="-355680">
              <a:lnSpc>
                <a:spcPct val="100000"/>
              </a:lnSpc>
              <a:spcBef>
                <a:spcPts val="241"/>
              </a:spcBef>
              <a:spcAft>
                <a:spcPts val="241"/>
              </a:spcAft>
              <a:buClr>
                <a:srgbClr val="b2b2b2"/>
              </a:buClr>
              <a:buSzPct val="75000"/>
              <a:buFont typeface="Monotype Sorts"/>
              <a:buChar char=""/>
            </a:pPr>
            <a:r>
              <a:rPr b="1" lang="en-US" sz="2000" spc="-1" strike="noStrike">
                <a:solidFill>
                  <a:srgbClr val="ff0033"/>
                </a:solidFill>
                <a:latin typeface="Arial Rounded MT Bold"/>
                <a:ea typeface="Arial Rounded MT Bold"/>
              </a:rPr>
              <a:t>Columbia (Phase 2)</a:t>
            </a:r>
            <a:r>
              <a:rPr b="1" lang="en-US" sz="2000" spc="-1" strike="noStrike">
                <a:solidFill>
                  <a:srgbClr val="000000"/>
                </a:solidFill>
                <a:latin typeface="Arial Rounded MT Bold"/>
                <a:ea typeface="Arial Rounded MT Bold"/>
              </a:rPr>
              <a:t>, </a:t>
            </a:r>
            <a:r>
              <a:rPr b="1" lang="en-US" sz="2000" spc="-1" strike="noStrike">
                <a:solidFill>
                  <a:srgbClr val="bc3700"/>
                </a:solidFill>
                <a:latin typeface="Arial Rounded MT Bold"/>
                <a:ea typeface="Arial Rounded MT Bold"/>
              </a:rPr>
              <a:t>Namibia</a:t>
            </a:r>
            <a:r>
              <a:rPr b="1" lang="en-US" sz="2000" spc="-1" strike="noStrike">
                <a:solidFill>
                  <a:srgbClr val="000000"/>
                </a:solidFill>
                <a:latin typeface="Arial Rounded MT Bold"/>
                <a:ea typeface="Arial Rounded MT Bold"/>
              </a:rPr>
              <a:t>, South Africa, </a:t>
            </a:r>
            <a:r>
              <a:rPr b="1" lang="en-US" sz="2000" spc="-1" strike="noStrike">
                <a:solidFill>
                  <a:srgbClr val="330099"/>
                </a:solidFill>
                <a:latin typeface="Arial Rounded MT Bold"/>
                <a:ea typeface="Arial Rounded MT Bold"/>
              </a:rPr>
              <a:t>Syria</a:t>
            </a:r>
            <a:r>
              <a:rPr b="1" lang="en-US" sz="2000" spc="-1" strike="noStrike">
                <a:solidFill>
                  <a:srgbClr val="000000"/>
                </a:solidFill>
                <a:latin typeface="Arial Rounded MT Bold"/>
                <a:ea typeface="Arial Rounded MT Bold"/>
              </a:rPr>
              <a:t>, Tanzania, </a:t>
            </a:r>
            <a:r>
              <a:rPr b="1" lang="en-US" sz="2000" spc="-1" strike="noStrike">
                <a:solidFill>
                  <a:srgbClr val="b50069"/>
                </a:solidFill>
                <a:latin typeface="Arial Rounded MT Bold"/>
                <a:ea typeface="Arial Rounded MT Bold"/>
              </a:rPr>
              <a:t>Zamb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1152360" y="343080"/>
            <a:ext cx="7772400" cy="1104840"/>
          </a:xfrm>
          <a:prstGeom prst="rect">
            <a:avLst/>
          </a:prstGeom>
          <a:noFill/>
          <a:ln w="0">
            <a:noFill/>
          </a:ln>
        </p:spPr>
        <p:txBody>
          <a:bodyPr lIns="0" rIns="0" tIns="0" bIns="0" anchor="t">
            <a:noAutofit/>
          </a:bodyPr>
          <a:p>
            <a:pPr>
              <a:lnSpc>
                <a:spcPct val="100000"/>
              </a:lnSpc>
            </a:pPr>
            <a:r>
              <a:rPr b="1" lang="en-US" sz="3600" spc="-1" strike="noStrike">
                <a:solidFill>
                  <a:srgbClr val="3333ff"/>
                </a:solidFill>
                <a:latin typeface="Arial Rounded MT Bold"/>
                <a:ea typeface="Arial Rounded MT Bold"/>
              </a:rPr>
              <a:t>Programme Focus and Trends (2):</a:t>
            </a:r>
            <a:endParaRPr b="0" lang="en-US" sz="3600" spc="-1" strike="noStrike">
              <a:solidFill>
                <a:srgbClr val="000000"/>
              </a:solidFill>
              <a:latin typeface="Arial"/>
            </a:endParaRPr>
          </a:p>
        </p:txBody>
      </p:sp>
      <p:sp>
        <p:nvSpPr>
          <p:cNvPr id="449" name=""/>
          <p:cNvSpPr txBox="1"/>
          <p:nvPr/>
        </p:nvSpPr>
        <p:spPr>
          <a:xfrm>
            <a:off x="1152360" y="1752480"/>
            <a:ext cx="7772400" cy="5361840"/>
          </a:xfrm>
          <a:prstGeom prst="rect">
            <a:avLst/>
          </a:prstGeom>
          <a:noFill/>
          <a:ln w="0">
            <a:noFill/>
          </a:ln>
        </p:spPr>
        <p:txBody>
          <a:bodyPr lIns="0" rIns="0" tIns="0" bIns="0" anchor="t">
            <a:noAutofit/>
          </a:bodyPr>
          <a:p>
            <a:pPr marL="343080" indent="-343080">
              <a:lnSpc>
                <a:spcPct val="100000"/>
              </a:lnSpc>
              <a:spcBef>
                <a:spcPts val="479"/>
              </a:spcBef>
              <a:buClr>
                <a:srgbClr val="b2b2b2"/>
              </a:buClr>
              <a:buSzPct val="75000"/>
              <a:buFont typeface="Monotype Sorts"/>
              <a:buChar char=""/>
            </a:pPr>
            <a:r>
              <a:rPr b="1" lang="en-US" sz="2800" spc="-1" strike="noStrike">
                <a:solidFill>
                  <a:srgbClr val="330099"/>
                </a:solidFill>
                <a:latin typeface="Arial Rounded MT Bold"/>
                <a:ea typeface="Arial Rounded MT Bold"/>
              </a:rPr>
              <a:t>Mitigation options in sectors and/or specified national regions</a:t>
            </a:r>
            <a:r>
              <a:rPr b="1" lang="en-US" sz="3200" spc="-1" strike="noStrike">
                <a:solidFill>
                  <a:srgbClr val="330099"/>
                </a:solidFill>
                <a:latin typeface="Arial Rounded MT Bold"/>
                <a:ea typeface="Arial Rounded MT Bold"/>
              </a:rPr>
              <a:t> </a:t>
            </a:r>
            <a:endParaRPr b="0" lang="en-US" sz="3200" spc="-1" strike="noStrike">
              <a:solidFill>
                <a:srgbClr val="000000"/>
              </a:solidFill>
              <a:latin typeface="Arial"/>
            </a:endParaRPr>
          </a:p>
          <a:p>
            <a:pPr lvl="1" marL="743040" indent="-285840">
              <a:lnSpc>
                <a:spcPct val="100000"/>
              </a:lnSpc>
              <a:spcBef>
                <a:spcPts val="479"/>
              </a:spcBef>
              <a:buClr>
                <a:srgbClr val="b2b2b2"/>
              </a:buClr>
              <a:buSzPct val="75000"/>
              <a:buFont typeface="Monotype Sorts"/>
              <a:buChar char=""/>
            </a:pPr>
            <a:r>
              <a:rPr b="1" lang="en-US" sz="2800" spc="-1" strike="noStrike">
                <a:solidFill>
                  <a:srgbClr val="009900"/>
                </a:solidFill>
                <a:latin typeface="Arial Rounded MT Bold"/>
                <a:ea typeface="Arial Rounded MT Bold"/>
              </a:rPr>
              <a:t>to reduce the rate of increase of GHG-emissions </a:t>
            </a:r>
            <a:endParaRPr b="0" lang="en-US" sz="2800" spc="-1" strike="noStrike">
              <a:solidFill>
                <a:srgbClr val="000000"/>
              </a:solidFill>
              <a:latin typeface="Arial"/>
            </a:endParaRPr>
          </a:p>
          <a:p>
            <a:pPr lvl="3" marL="1428840" indent="-304920">
              <a:lnSpc>
                <a:spcPct val="100000"/>
              </a:lnSpc>
              <a:spcBef>
                <a:spcPts val="479"/>
              </a:spcBef>
              <a:buClr>
                <a:srgbClr val="b2b2b2"/>
              </a:buClr>
              <a:buSzPct val="75000"/>
              <a:buFont typeface="Monotype Sorts"/>
              <a:buChar char=""/>
            </a:pPr>
            <a:r>
              <a:rPr b="1" lang="en-US" sz="2000" spc="-1" strike="noStrike">
                <a:solidFill>
                  <a:srgbClr val="000000"/>
                </a:solidFill>
                <a:latin typeface="Arial Rounded MT Bold"/>
                <a:ea typeface="Arial Rounded MT Bold"/>
              </a:rPr>
              <a:t>China: </a:t>
            </a:r>
            <a:r>
              <a:rPr b="1" lang="en-US" sz="2000" spc="-1" strike="noStrike">
                <a:solidFill>
                  <a:srgbClr val="ff0033"/>
                </a:solidFill>
                <a:latin typeface="Arial Rounded MT Bold"/>
                <a:ea typeface="Arial Rounded MT Bold"/>
              </a:rPr>
              <a:t>Energy sector of a region</a:t>
            </a:r>
            <a:endParaRPr b="0" lang="en-US" sz="2000" spc="-1" strike="noStrike">
              <a:solidFill>
                <a:srgbClr val="000000"/>
              </a:solidFill>
              <a:latin typeface="Arial"/>
            </a:endParaRPr>
          </a:p>
          <a:p>
            <a:pPr lvl="3" marL="1428840" indent="-304920">
              <a:lnSpc>
                <a:spcPct val="100000"/>
              </a:lnSpc>
              <a:spcBef>
                <a:spcPts val="479"/>
              </a:spcBef>
              <a:buClr>
                <a:srgbClr val="b2b2b2"/>
              </a:buClr>
              <a:buSzPct val="75000"/>
              <a:buFont typeface="Monotype Sorts"/>
              <a:buChar char=""/>
            </a:pPr>
            <a:r>
              <a:rPr b="1" lang="en-US" sz="2000" spc="-1" strike="noStrike">
                <a:solidFill>
                  <a:srgbClr val="000000"/>
                </a:solidFill>
                <a:latin typeface="Arial Rounded MT Bold"/>
                <a:ea typeface="Arial Rounded MT Bold"/>
              </a:rPr>
              <a:t>Indonesia: CO</a:t>
            </a:r>
            <a:r>
              <a:rPr b="1" lang="en-US" sz="2000" spc="-1" strike="noStrike" baseline="-25000">
                <a:solidFill>
                  <a:srgbClr val="000000"/>
                </a:solidFill>
                <a:latin typeface="Arial Rounded MT Bold"/>
                <a:ea typeface="Arial Rounded MT Bold"/>
              </a:rPr>
              <a:t>2</a:t>
            </a:r>
            <a:r>
              <a:rPr b="1" lang="en-US" sz="2000" spc="-1" strike="noStrike">
                <a:solidFill>
                  <a:srgbClr val="000000"/>
                </a:solidFill>
                <a:latin typeface="Arial Rounded MT Bold"/>
                <a:ea typeface="Arial Rounded MT Bold"/>
              </a:rPr>
              <a:t>-emissions reduction</a:t>
            </a:r>
            <a:endParaRPr b="0" lang="en-US" sz="2000" spc="-1" strike="noStrike">
              <a:solidFill>
                <a:srgbClr val="000000"/>
              </a:solidFill>
              <a:latin typeface="Arial"/>
            </a:endParaRPr>
          </a:p>
          <a:p>
            <a:pPr lvl="3" marL="1428840" indent="-304920">
              <a:lnSpc>
                <a:spcPct val="100000"/>
              </a:lnSpc>
              <a:spcBef>
                <a:spcPts val="479"/>
              </a:spcBef>
              <a:buClr>
                <a:srgbClr val="b2b2b2"/>
              </a:buClr>
              <a:buSzPct val="75000"/>
              <a:buFont typeface="Monotype Sorts"/>
              <a:buChar char=""/>
            </a:pPr>
            <a:r>
              <a:rPr b="1" lang="en-US" sz="2000" spc="-1" strike="noStrike">
                <a:solidFill>
                  <a:srgbClr val="000000"/>
                </a:solidFill>
                <a:latin typeface="Arial Rounded MT Bold"/>
                <a:ea typeface="Arial Rounded MT Bold"/>
              </a:rPr>
              <a:t>Philippines: National energy sector</a:t>
            </a:r>
            <a:endParaRPr b="0" lang="en-US" sz="2000" spc="-1" strike="noStrike">
              <a:solidFill>
                <a:srgbClr val="000000"/>
              </a:solidFill>
              <a:latin typeface="Arial"/>
            </a:endParaRPr>
          </a:p>
          <a:p>
            <a:pPr lvl="3" marL="1428840" indent="-304920">
              <a:lnSpc>
                <a:spcPct val="100000"/>
              </a:lnSpc>
              <a:spcBef>
                <a:spcPts val="479"/>
              </a:spcBef>
              <a:buClr>
                <a:srgbClr val="b2b2b2"/>
              </a:buClr>
              <a:buSzPct val="75000"/>
              <a:buFont typeface="Monotype Sorts"/>
              <a:buChar char=""/>
            </a:pPr>
            <a:r>
              <a:rPr b="1" lang="en-US" sz="2000" spc="-1" strike="noStrike">
                <a:solidFill>
                  <a:srgbClr val="000000"/>
                </a:solidFill>
                <a:latin typeface="Arial Rounded MT Bold"/>
                <a:ea typeface="Arial Rounded MT Bold"/>
              </a:rPr>
              <a:t>Thailand: </a:t>
            </a:r>
            <a:r>
              <a:rPr b="1" lang="en-US" sz="2000" spc="-1" strike="noStrike">
                <a:solidFill>
                  <a:srgbClr val="ff0033"/>
                </a:solidFill>
                <a:latin typeface="Arial Rounded MT Bold"/>
                <a:ea typeface="Arial Rounded MT Bold"/>
              </a:rPr>
              <a:t>Industry and commercial building</a:t>
            </a:r>
            <a:endParaRPr b="0" lang="en-US" sz="2000" spc="-1" strike="noStrike">
              <a:solidFill>
                <a:srgbClr val="000000"/>
              </a:solidFill>
              <a:latin typeface="Arial"/>
            </a:endParaRPr>
          </a:p>
          <a:p>
            <a:pPr lvl="3" marL="1428840" indent="-304920">
              <a:lnSpc>
                <a:spcPct val="100000"/>
              </a:lnSpc>
              <a:spcBef>
                <a:spcPts val="479"/>
              </a:spcBef>
              <a:buClr>
                <a:srgbClr val="b2b2b2"/>
              </a:buClr>
              <a:buSzPct val="75000"/>
              <a:buFont typeface="Monotype Sorts"/>
              <a:buChar char=""/>
            </a:pPr>
            <a:r>
              <a:rPr b="1" lang="en-US" sz="2000" spc="-1" strike="noStrike">
                <a:solidFill>
                  <a:srgbClr val="000000"/>
                </a:solidFill>
                <a:latin typeface="Arial Rounded MT Bold"/>
                <a:ea typeface="Arial Rounded MT Bold"/>
              </a:rPr>
              <a:t>Karnataka/India: Transport and waste</a:t>
            </a:r>
            <a:endParaRPr b="0" lang="en-US" sz="2000" spc="-1" strike="noStrike">
              <a:solidFill>
                <a:srgbClr val="000000"/>
              </a:solidFill>
              <a:latin typeface="Arial"/>
            </a:endParaRPr>
          </a:p>
          <a:p>
            <a:pPr lvl="3" marL="1428840" indent="-304920">
              <a:lnSpc>
                <a:spcPct val="100000"/>
              </a:lnSpc>
              <a:spcBef>
                <a:spcPts val="479"/>
              </a:spcBef>
              <a:buClr>
                <a:srgbClr val="b2b2b2"/>
              </a:buClr>
              <a:buSzPct val="75000"/>
              <a:buFont typeface="Monotype Sorts"/>
              <a:buChar char=""/>
            </a:pPr>
            <a:r>
              <a:rPr b="1" lang="en-US" sz="2000" spc="-1" strike="noStrike">
                <a:solidFill>
                  <a:srgbClr val="000000"/>
                </a:solidFill>
                <a:latin typeface="Arial Rounded MT Bold"/>
                <a:ea typeface="Arial Rounded MT Bold"/>
              </a:rPr>
              <a:t>Quang Ninh/Vietnam: Regional study</a:t>
            </a:r>
            <a:endParaRPr b="0" lang="en-US" sz="2000" spc="-1" strike="noStrike">
              <a:solidFill>
                <a:srgbClr val="000000"/>
              </a:solidFill>
              <a:latin typeface="Arial"/>
            </a:endParaRPr>
          </a:p>
          <a:p>
            <a:pPr lvl="3" marL="1428840" indent="-304920">
              <a:lnSpc>
                <a:spcPct val="100000"/>
              </a:lnSpc>
              <a:spcBef>
                <a:spcPts val="479"/>
              </a:spcBef>
              <a:buClr>
                <a:srgbClr val="b2b2b2"/>
              </a:buClr>
              <a:buSzPct val="75000"/>
              <a:buFont typeface="Monotype Sorts"/>
              <a:buChar char=""/>
            </a:pPr>
            <a:r>
              <a:rPr b="1" lang="en-US" sz="2000" spc="-1" strike="noStrike">
                <a:solidFill>
                  <a:srgbClr val="000000"/>
                </a:solidFill>
                <a:latin typeface="Arial Rounded MT Bold"/>
                <a:ea typeface="Arial Rounded MT Bold"/>
              </a:rPr>
              <a:t>Delhi/India: Transport sector</a:t>
            </a:r>
            <a:endParaRPr b="0" lang="en-US" sz="2000" spc="-1" strike="noStrike">
              <a:solidFill>
                <a:srgbClr val="000000"/>
              </a:solidFill>
              <a:latin typeface="Arial"/>
            </a:endParaRPr>
          </a:p>
          <a:p>
            <a:pPr lvl="3" marL="1428840" indent="-304920">
              <a:lnSpc>
                <a:spcPct val="100000"/>
              </a:lnSpc>
              <a:spcBef>
                <a:spcPts val="479"/>
              </a:spcBef>
              <a:buClr>
                <a:srgbClr val="b2b2b2"/>
              </a:buClr>
              <a:buSzPct val="75000"/>
              <a:buFont typeface="Monotype Sorts"/>
              <a:buChar char=""/>
            </a:pPr>
            <a:r>
              <a:rPr b="1" lang="en-US" sz="2000" spc="-1" strike="noStrike">
                <a:solidFill>
                  <a:srgbClr val="000000"/>
                </a:solidFill>
                <a:latin typeface="Arial Rounded MT Bold"/>
                <a:ea typeface="Arial Rounded MT Bold"/>
              </a:rPr>
              <a:t>Zimbabwe: Southern Africa Power Po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1152360" y="343080"/>
            <a:ext cx="7772400" cy="1104840"/>
          </a:xfrm>
          <a:prstGeom prst="rect">
            <a:avLst/>
          </a:prstGeom>
          <a:noFill/>
          <a:ln w="0">
            <a:noFill/>
          </a:ln>
        </p:spPr>
        <p:txBody>
          <a:bodyPr lIns="0" rIns="0" tIns="0" bIns="0" anchor="t">
            <a:noAutofit/>
          </a:bodyPr>
          <a:p>
            <a:pPr>
              <a:lnSpc>
                <a:spcPct val="100000"/>
              </a:lnSpc>
            </a:pPr>
            <a:r>
              <a:rPr b="1" lang="en-US" sz="3600" spc="-1" strike="noStrike">
                <a:solidFill>
                  <a:srgbClr val="3333ff"/>
                </a:solidFill>
                <a:latin typeface="Arial Rounded MT Bold"/>
                <a:ea typeface="Arial Rounded MT Bold"/>
              </a:rPr>
              <a:t>Programme Focus and Trends (3):</a:t>
            </a:r>
            <a:endParaRPr b="0" lang="en-US" sz="3600" spc="-1" strike="noStrike">
              <a:solidFill>
                <a:srgbClr val="000000"/>
              </a:solidFill>
              <a:latin typeface="Arial"/>
            </a:endParaRPr>
          </a:p>
        </p:txBody>
      </p:sp>
      <p:sp>
        <p:nvSpPr>
          <p:cNvPr id="451" name=""/>
          <p:cNvSpPr txBox="1"/>
          <p:nvPr/>
        </p:nvSpPr>
        <p:spPr>
          <a:xfrm>
            <a:off x="1152360" y="1752480"/>
            <a:ext cx="7772400" cy="4987080"/>
          </a:xfrm>
          <a:prstGeom prst="rect">
            <a:avLst/>
          </a:prstGeom>
          <a:noFill/>
          <a:ln w="0">
            <a:noFill/>
          </a:ln>
        </p:spPr>
        <p:txBody>
          <a:bodyPr lIns="0" rIns="0" tIns="0" bIns="0" anchor="t">
            <a:noAutofit/>
          </a:bodyPr>
          <a:p>
            <a:pPr marL="343080" indent="-343080">
              <a:lnSpc>
                <a:spcPct val="100000"/>
              </a:lnSpc>
              <a:spcBef>
                <a:spcPts val="479"/>
              </a:spcBef>
              <a:buClr>
                <a:srgbClr val="b2b2b2"/>
              </a:buClr>
              <a:buSzPct val="75000"/>
              <a:buFont typeface="Monotype Sorts"/>
              <a:buChar char=""/>
            </a:pPr>
            <a:r>
              <a:rPr b="1" lang="en-US" sz="2800" spc="-1" strike="noStrike">
                <a:solidFill>
                  <a:srgbClr val="330099"/>
                </a:solidFill>
                <a:latin typeface="Arial Rounded MT Bold"/>
                <a:ea typeface="Arial Rounded MT Bold"/>
              </a:rPr>
              <a:t>Integration into development projects </a:t>
            </a:r>
            <a:endParaRPr b="0" lang="en-US" sz="2800" spc="-1" strike="noStrike">
              <a:solidFill>
                <a:srgbClr val="000000"/>
              </a:solidFill>
              <a:latin typeface="Arial"/>
            </a:endParaRPr>
          </a:p>
          <a:p>
            <a:pPr lvl="1" marL="743040" indent="-285840">
              <a:lnSpc>
                <a:spcPct val="100000"/>
              </a:lnSpc>
              <a:spcBef>
                <a:spcPts val="479"/>
              </a:spcBef>
              <a:buClr>
                <a:srgbClr val="b2b2b2"/>
              </a:buClr>
              <a:buSzPct val="75000"/>
              <a:buFont typeface="Monotype Sorts"/>
              <a:buChar char=""/>
            </a:pPr>
            <a:r>
              <a:rPr b="1" lang="en-US" sz="2800" spc="-1" strike="noStrike">
                <a:solidFill>
                  <a:srgbClr val="009900"/>
                </a:solidFill>
                <a:latin typeface="Arial Rounded MT Bold"/>
                <a:ea typeface="Arial Rounded MT Bold"/>
              </a:rPr>
              <a:t>to achieve sustainable development in our partner countries</a:t>
            </a:r>
            <a:endParaRPr b="0" lang="en-US" sz="2800" spc="-1" strike="noStrike">
              <a:solidFill>
                <a:srgbClr val="000000"/>
              </a:solidFill>
              <a:latin typeface="Arial"/>
            </a:endParaRPr>
          </a:p>
          <a:p>
            <a:pPr lvl="3" marL="1428840" indent="-266760">
              <a:lnSpc>
                <a:spcPct val="100000"/>
              </a:lnSpc>
              <a:spcBef>
                <a:spcPts val="479"/>
              </a:spcBef>
              <a:buClr>
                <a:srgbClr val="b2b2b2"/>
              </a:buClr>
              <a:buSzPct val="75000"/>
              <a:buFont typeface="Monotype Sorts"/>
              <a:buChar char=""/>
            </a:pPr>
            <a:r>
              <a:rPr b="1" lang="en-US" sz="2000" spc="-1" strike="noStrike">
                <a:solidFill>
                  <a:srgbClr val="000000"/>
                </a:solidFill>
                <a:latin typeface="Arial Rounded MT Bold"/>
                <a:ea typeface="Arial Rounded MT Bold"/>
              </a:rPr>
              <a:t>Karnataka/India, Namibia, Philippines, </a:t>
            </a:r>
            <a:r>
              <a:rPr b="1" lang="en-US" sz="2000" spc="-1" strike="noStrike">
                <a:solidFill>
                  <a:srgbClr val="ff0033"/>
                </a:solidFill>
                <a:latin typeface="Arial Rounded MT Bold"/>
                <a:ea typeface="Arial Rounded MT Bold"/>
              </a:rPr>
              <a:t>Thailand, Zimbabwe</a:t>
            </a:r>
            <a:endParaRPr b="0" lang="en-US" sz="20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1" lang="en-US" sz="2800" spc="-1" strike="noStrike">
                <a:solidFill>
                  <a:srgbClr val="330099"/>
                </a:solidFill>
                <a:latin typeface="Arial Rounded MT Bold"/>
                <a:ea typeface="Arial Rounded MT Bold"/>
              </a:rPr>
              <a:t>Promotion of South-South Co-operation </a:t>
            </a:r>
            <a:endParaRPr b="0" lang="en-US" sz="2800" spc="-1" strike="noStrike">
              <a:solidFill>
                <a:srgbClr val="000000"/>
              </a:solidFill>
              <a:latin typeface="Arial"/>
            </a:endParaRPr>
          </a:p>
          <a:p>
            <a:pPr lvl="1" marL="743040" indent="-285840">
              <a:lnSpc>
                <a:spcPct val="100000"/>
              </a:lnSpc>
              <a:spcBef>
                <a:spcPts val="479"/>
              </a:spcBef>
              <a:buClr>
                <a:srgbClr val="b2b2b2"/>
              </a:buClr>
              <a:buSzPct val="75000"/>
              <a:buFont typeface="Monotype Sorts"/>
              <a:buChar char=""/>
            </a:pPr>
            <a:r>
              <a:rPr b="1" lang="en-US" sz="2800" spc="-1" strike="noStrike">
                <a:solidFill>
                  <a:srgbClr val="009900"/>
                </a:solidFill>
                <a:latin typeface="Arial Rounded MT Bold"/>
                <a:ea typeface="Arial Rounded MT Bold"/>
              </a:rPr>
              <a:t>to utilise all know-how efficiently</a:t>
            </a:r>
            <a:endParaRPr b="0" lang="en-US" sz="2800" spc="-1" strike="noStrike">
              <a:solidFill>
                <a:srgbClr val="000000"/>
              </a:solidFill>
              <a:latin typeface="Arial"/>
            </a:endParaRPr>
          </a:p>
          <a:p>
            <a:pPr lvl="3" marL="1428840" indent="-266760">
              <a:lnSpc>
                <a:spcPct val="100000"/>
              </a:lnSpc>
              <a:spcBef>
                <a:spcPts val="479"/>
              </a:spcBef>
              <a:buClr>
                <a:srgbClr val="b2b2b2"/>
              </a:buClr>
              <a:buSzPct val="75000"/>
              <a:buFont typeface="Monotype Sorts"/>
              <a:buChar char=""/>
            </a:pPr>
            <a:r>
              <a:rPr b="1" lang="en-US" sz="2000" spc="-1" strike="noStrike">
                <a:solidFill>
                  <a:srgbClr val="000000"/>
                </a:solidFill>
                <a:latin typeface="Arial Rounded MT Bold"/>
                <a:ea typeface="Arial Rounded MT Bold"/>
              </a:rPr>
              <a:t>CC:Info - Web sides </a:t>
            </a:r>
            <a:endParaRPr b="0" lang="en-US" sz="2000" spc="-1" strike="noStrike">
              <a:solidFill>
                <a:srgbClr val="000000"/>
              </a:solidFill>
              <a:latin typeface="Arial"/>
            </a:endParaRPr>
          </a:p>
          <a:p>
            <a:pPr lvl="3" marL="1428840" indent="-266760">
              <a:lnSpc>
                <a:spcPct val="100000"/>
              </a:lnSpc>
              <a:spcBef>
                <a:spcPts val="479"/>
              </a:spcBef>
              <a:buClr>
                <a:srgbClr val="b2b2b2"/>
              </a:buClr>
              <a:buSzPct val="75000"/>
              <a:buFont typeface="Monotype Sorts"/>
              <a:buChar char=""/>
            </a:pPr>
            <a:r>
              <a:rPr b="1" lang="en-US" sz="2000" spc="-1" strike="noStrike">
                <a:solidFill>
                  <a:srgbClr val="000000"/>
                </a:solidFill>
                <a:latin typeface="Arial Rounded MT Bold"/>
                <a:ea typeface="Arial Rounded MT Bold"/>
              </a:rPr>
              <a:t>Business Councils in Asia and Latin America </a:t>
            </a:r>
            <a:endParaRPr b="0" lang="en-US" sz="2000" spc="-1" strike="noStrike">
              <a:solidFill>
                <a:srgbClr val="000000"/>
              </a:solidFill>
              <a:latin typeface="Arial"/>
            </a:endParaRPr>
          </a:p>
          <a:p>
            <a:pPr lvl="3" marL="1428840" indent="-266760">
              <a:lnSpc>
                <a:spcPct val="100000"/>
              </a:lnSpc>
              <a:spcBef>
                <a:spcPts val="479"/>
              </a:spcBef>
              <a:buClr>
                <a:srgbClr val="b2b2b2"/>
              </a:buClr>
              <a:buSzPct val="75000"/>
              <a:buFont typeface="Monotype Sorts"/>
              <a:buChar char=""/>
            </a:pPr>
            <a:r>
              <a:rPr b="1" lang="en-US" sz="2000" spc="-1" strike="noStrike">
                <a:solidFill>
                  <a:srgbClr val="000000"/>
                </a:solidFill>
                <a:latin typeface="Arial Rounded MT Bold"/>
                <a:ea typeface="Arial Rounded MT Bold"/>
              </a:rPr>
              <a:t>North-South-Dialogue on Technology Transfer </a:t>
            </a:r>
            <a:endParaRPr b="0" lang="en-US" sz="2000" spc="-1" strike="noStrike">
              <a:solidFill>
                <a:srgbClr val="000000"/>
              </a:solidFill>
              <a:latin typeface="Arial"/>
            </a:endParaRPr>
          </a:p>
          <a:p>
            <a:pPr lvl="3" marL="1428840" indent="-266760">
              <a:lnSpc>
                <a:spcPct val="100000"/>
              </a:lnSpc>
              <a:spcBef>
                <a:spcPts val="479"/>
              </a:spcBef>
              <a:buClr>
                <a:srgbClr val="b2b2b2"/>
              </a:buClr>
              <a:buSzPct val="75000"/>
              <a:buFont typeface="Monotype Sorts"/>
              <a:buChar char=""/>
            </a:pPr>
            <a:r>
              <a:rPr b="1" lang="en-US" sz="2000" spc="-1" strike="noStrike">
                <a:solidFill>
                  <a:srgbClr val="ff0033"/>
                </a:solidFill>
                <a:latin typeface="Arial Rounded MT Bold"/>
                <a:ea typeface="Arial Rounded MT Bold"/>
              </a:rPr>
              <a:t>Zimbabwe: SAPP and ot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iptow</dc:creator>
  <dc:description>Werbeveranstaltung für e5 vor holländischen Jungingenieuren.</dc:description>
  <dc:language>en-US</dc:language>
  <cp:lastModifiedBy>gtz</cp:lastModifiedBy>
  <cp:revision>0</cp:revision>
  <dc:subject/>
  <dc:title>NL-Presentation for e5</dc:title>
</cp:coreProperties>
</file>