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BF5-646B-45B7-A642-82496BD4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525-84B2-4592-A7EB-5215F62E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231-3145-4438-8396-C2BF47E7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F32-061B-4642-9F72-0BAD42FA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71AE-386C-4233-9271-9A6C42C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FEA-7ABB-4734-A4DC-2C37995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9156-7E06-4974-B85F-812D96E2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3B3-1D60-4FCF-83C7-7308DFE3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373-F3A0-44DA-8283-AC0EDB2F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2FF-E156-4432-B3D2-CA96C86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DD7F-1707-4051-A335-AF62E98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8C7-F06A-4504-A8DE-AE605D5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1ECE-23FE-413C-8CE6-552B8972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EBATE SOBRE EL CAMBIO CLIMATICO EN OL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ando Mele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or de Planificación y Proyectos Energé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é es OL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tergubern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ámbito de actuación es el sector energé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da por 26 países de América Latina y el Ca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Países Miembros de OLADE y la Convención Marco de Cambio Cli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íses Miembros de OLADE no son parte del Anexo 1 de la Convención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dad en cuanto a vulnerabilidad respecto a las estrategias de mitigación y a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dad de opiniones respecto a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queños estados ins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es exportadores de energías fó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es importadores de energías fó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sistemas frág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ción marginal de América Latina en las emisiones mun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onología del debate en OL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ADE no tuvo participación relevante en la etapa preparatoria de la Conferencia Río 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 1992 aproximación de organismos financier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febrero 1997 Reunión Control y Seguimiento se da el primer debate al interior de l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transcurso de 1997 se intensifica el intercambio de opiniones sobre e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onología del debate en OLA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ADE formaliza su participación en 1997 en reuniones y eventos promovidos por la Secretaría de la Convención Marco como observ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del tema en Reunión de Ministros de Montevideo noviembr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ón 335. Reunión Técnica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yecto UNEP/GEF “Aspectos Económicos de la Limitación de Gases Invernade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ller Subregional Andino, mayo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minario Latinoamericano y del Caribe sobre Gases de Efecto Invernadero, mayo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 de OLADE y el tema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y Desarrollo Sostenible OLADE/CEPAL/G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ejo de la demanda y uso eficiente de energía eléctrica CE/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stmo Centroameri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dad Andina de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spectiva energética considerando efectos del Protocolo de Ki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 desarrollo energético Quebec/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ntes nuevas y renovables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limpias en la generación eléctrica (Outcome 2, Simposio Hemisférico de Ener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ado de Reunión Técnica sobre Gases de Efecto Invernadero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ciar mayor participación del sector energía en el tema cambio climático al interior de los Países Miemb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r análisis retrospectivos y prospectivos sobre la evolución de las emisiones de gases de invernadero del sector energético de ALC y comparación con otras reg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ado de Reunión Técnica sobre Gases de Efecto Invernadero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undir y asistir a los Países Miembros en lo referente a elegibilidad, certificación y diseño de su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corporar el tema de gases efecto invernadero como criterio de eligibilidad de lo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r costos y alternativas de 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s recomendaciones serán llevadas a la consideración de la Reunión de Ministros de OLADE de noviembr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2T01:51:24Z</dcterms:created>
  <dc:creator>MODELO SUPER/OLADE-BID</dc:creator>
  <dc:description/>
  <dc:language>en-US</dc:language>
  <cp:lastModifiedBy>Juan Zak</cp:lastModifiedBy>
  <dcterms:modified xsi:type="dcterms:W3CDTF">1998-05-26T20:58:50Z</dcterms:modified>
  <cp:revision>13</cp:revision>
  <dc:subject/>
  <dc:title>EL DEBATE SOBRE EL CAMBIO CLIMATICO EN OLADE</dc:title>
</cp:coreProperties>
</file>