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21B-17B0-46EB-B691-C326335A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A3A-6D18-4B63-BEAE-48C7A52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E24-6B09-4E94-9545-6E7FF6EB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D1D-3CBA-460B-A510-6B9388A8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844-C6C4-4030-A09A-2E7B8975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1D3A-119B-449F-8A63-588A8B77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8433-2E03-439D-85B1-F94BD666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1103-2519-4539-AEE9-54F3E271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5166-7EEB-4710-A4CF-33EF0FE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FC6-DC0B-4A81-9ADC-29EC7DB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7C65-075D-45C7-B1B8-5D7C01B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79A-8BA6-4348-A751-F3BF6D83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E969-A0A0-4B7A-BC79-2A3C8980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464D-F1C9-43D7-B928-0B98FB3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523B-D427-4E7A-B0EC-51158EE8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938E-D438-4AE4-BBAB-346A7AC1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D8F-9DB1-43B3-BDDD-BABD4752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F2D-A467-4C04-A7E3-3B324A4D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27E-C77D-4161-A430-BE6B425A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346-889A-477B-B894-AF4BC0D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548-6139-4AD5-9490-EEB896F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33A-E53B-477C-A576-E0A7E045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B4D4-3B6D-4B02-B7C7-9E3AA18A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89F-2EBA-4562-ADC3-009CA5F0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6FAB-748B-467F-B3BC-A89A7EA5C3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B8F-3772-461A-AEC7-0AA0804115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G Times"/>
              </a:rPr>
              <a:t>Regional perspectives under the Clean Development Mechanism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CG Times"/>
              </a:rPr>
              <a:t>Jose Domingos Gonzalez Miguez,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G Times"/>
              </a:rPr>
              <a:t>Ministry of Science and Technology,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jects N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400" y="2727360"/>
            <a:ext cx="878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toral priorities in accordance with specific national circu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720" y="3336840"/>
            <a:ext cx="749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ission reductions quantified on a project by projec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5360" y="2193840"/>
            <a:ext cx="825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ype of projects : emission reductions (and sink enhancements 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9120" y="2879640"/>
            <a:ext cx="6396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mestic policy and measures in Annex I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Projects among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issions Trading among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69120" y="1660680"/>
            <a:ext cx="6527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nex I Kyoto Protocol emission reductions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3440" y="4251240"/>
            <a:ext cx="208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CD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9840" y="4937040"/>
            <a:ext cx="4939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all part of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 of high economic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igins of C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8840" y="1660680"/>
            <a:ext cx="8091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zilian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 efficient manner to negotiate the sharing of the burde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of mitigating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ishment of a “Clean Development Fund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 penalty for non-compliance with target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 financial resources to be applied in mitagation projects and 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small fraction in adap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7840" y="4251240"/>
            <a:ext cx="31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77 and China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92080" y="4708440"/>
            <a:ext cx="621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 Bilateral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jection of the ideas of “penalties” and “fu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chanism for involvement of private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rther flexibil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ment of a common g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ean Development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712880"/>
            <a:ext cx="8435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ctives: Promote sustainable development in non Annex I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and contribute to the ultimate objective of the Convention,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Help Annex I Parties to comply with Protocol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CDM is the constructive way to involve developing countr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 the global effort to mitigate climate chang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  no additional commitments to non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  financial resources and technology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onvention on Climate Change is the adequate negotiat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orum for discussing and establishing the procedures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guidelines of 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ADE Workshop is an important opportunity for advanc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the exchange of ideas in our region and ensuring the success of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OP 4 in Buenos Aires,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ean Development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840" y="1509840"/>
            <a:ext cx="8761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tes non-achievement of targets by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rough additional mitigation efforts done in non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voiding additional global 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w low cost opportunities in mitigation projects in Annex I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ide scope for low cost emission reductions projects in non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w and additional financial resources proportional t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n-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ase participation of developing countries in th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ementation of the Convention additional to exist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rete way of transfering financial resources and technolog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 developing countries to allow implementation of the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low development in developing countries to occur in a less carb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tensiv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pecific Guidelines for the Development of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96640" y="2193840"/>
            <a:ext cx="748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 or trade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ibute to the achievement of the objectives of th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ad to climate change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emission reductions that can be measured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and JI apply only to Annex I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exibility mechanisms should be implement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s should follow same guidelines and certificati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imilarities and Differences among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720" y="1889280"/>
            <a:ext cx="8025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ET apply only to Annex I and involve exchanging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CDM are project by projec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CDM need definition for bas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is based on (certified ?) inven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depends on 1990 emission levels (quality of infor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is bilater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is mult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Institutional Arran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4920" y="2116080"/>
            <a:ext cx="75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shall be controlled by the Parties under CoP guidanc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control through a representative Executiv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" y="2954160"/>
            <a:ext cx="8528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B/C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sed of a small group of representatives of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ted on the basis of parity among regions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quately balanced representation of Annex I &amp; non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680" y="1536840"/>
            <a:ext cx="256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ecutive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5120" y="4862520"/>
            <a:ext cx="826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prove and adopt methodology for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ation and evaluation of certifying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ltimate responsibility for certification, auditing and monitor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emission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ote development and transparency of CD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0400" y="4478400"/>
            <a:ext cx="629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idelines should be developed for the EB/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Institutional Arran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23920" y="1889280"/>
            <a:ext cx="35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ignated Nation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720" y="2651040"/>
            <a:ext cx="797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ish additional country especific criteria for acceptan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projects in accordance with national priorities for sustainabl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te, approve and certify submit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ase awareness on CDM by private and public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ordination with other CDM international in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2840" y="5013360"/>
            <a:ext cx="613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le of Other Climate Change Related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3520" y="5470560"/>
            <a:ext cx="3947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EP, UNDP, IDB, GEF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ertification, Monitoring &amp;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640" y="2117880"/>
            <a:ext cx="193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1835280"/>
            <a:ext cx="520920" cy="444240"/>
          </a:xfrm>
          <a:prstGeom prst="rightArrow">
            <a:avLst>
              <a:gd name="adj1" fmla="val 50000"/>
              <a:gd name="adj2" fmla="val 5863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2521080"/>
            <a:ext cx="520920" cy="444240"/>
          </a:xfrm>
          <a:prstGeom prst="rightArrow">
            <a:avLst>
              <a:gd name="adj1" fmla="val 50000"/>
              <a:gd name="adj2" fmla="val 5863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7320" y="1812960"/>
            <a:ext cx="268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 cert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68760" y="2575080"/>
            <a:ext cx="301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zation monitor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au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4120" y="3489480"/>
            <a:ext cx="255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0880" y="3946680"/>
            <a:ext cx="7865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is the object of the certific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ch will be the entity responsible for methodology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evelop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will be the strategy for development of method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is the definition of baseline for a specific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w will the certifying entities be selec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ch types of projects will be allow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23:42:15Z</dcterms:created>
  <dc:creator>Coordenacao de Informatica</dc:creator>
  <dc:description/>
  <dc:language>en-US</dc:language>
  <cp:lastModifiedBy>Juan Zak</cp:lastModifiedBy>
  <cp:lastPrinted>1998-05-22T13:42:24Z</cp:lastPrinted>
  <dcterms:modified xsi:type="dcterms:W3CDTF">1998-05-26T21:48:37Z</dcterms:modified>
  <cp:revision>23</cp:revision>
  <dc:subject/>
  <dc:title>Specific Principles to Guide Development of Mechanisms</dc:title>
</cp:coreProperties>
</file>