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20B-E556-4ABB-8FA1-33D72345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5634-D8A6-4993-B4EE-CF90D9B7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FA8-F78B-4999-944A-250AE50E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D3E-CE8E-49C0-8E46-3A6D37DE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D68-3F85-4B75-A432-0DB09A6C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532-6A60-4C41-9022-8040B269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64C-660E-4E9F-8348-E486F529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8B8-B14B-488A-B5AB-77A884C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567C-F924-4C97-BBE1-BB769455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76A-D469-4B04-AE9B-D34AF89B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1E2-97F6-4AB6-B7D9-94CFFF63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6F2-8EA1-4C61-AFE3-25AA9C7E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F4D0-7DC1-4545-A502-5D4B351F6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ional Communications, enabling activities and The Global Environment Fac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419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ck R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P Regional GEF Coordinator for Latin America and the Caribb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83908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 to G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aterials available in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Financing of Enabling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support to Enabling Activitie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: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 as strategic framework for technical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propos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68580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countries of LAC are receiving GEF assistance to formulate and submit EAs with exception of Dominican Republic and Colo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6920" y="2895480"/>
            <a:ext cx="76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GEF assistance rel. To EAs: $US 18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86200"/>
            <a:ext cx="903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US 6 x million  - CPACC - Anglophone 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US 9 x million  - UNDP - channeled EA proposals for 29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C: Train - Five LAC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UNEP - channeled support to 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.B. - channeled support to St. Vin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2880" y="609480"/>
            <a:ext cx="755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s of First Nat’l Communications to UNFC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- Worldwide of which 3 are from L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gentina, Mexico, 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5240" y="2819520"/>
            <a:ext cx="726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:  Support - $US 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ssist countries in producing Nat’l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echnical assistance and back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xchang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2160" y="56386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: support is programmed to start in August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438280"/>
            <a:ext cx="762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EF EA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Coverage whithat du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 Appropriate sequency of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 Use of 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 cost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F financing initiated in late 94 with small # of proposing countries:  Argentina, USA, followed by Brazil, Mexico, Costa Rica and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6629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7 contries worlwide have submitted           National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3 of these are from LAC:  Argentina, Mexico, 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124080"/>
            <a:ext cx="7467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2T15:18:18Z</dcterms:created>
  <dc:creator>INFORMATICA</dc:creator>
  <dc:description/>
  <dc:language>en-US</dc:language>
  <cp:lastModifiedBy>Juan Zak</cp:lastModifiedBy>
  <cp:lastPrinted>1998-06-17T20:25:37Z</cp:lastPrinted>
  <dcterms:modified xsi:type="dcterms:W3CDTF">1998-06-18T16:53:28Z</dcterms:modified>
  <cp:revision>6</cp:revision>
  <dc:subject/>
  <dc:title>National Communications, enabling activities and The Global Environment Facility</dc:title>
</cp:coreProperties>
</file>