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Img"/>
          </p:nvPr>
        </p:nvSpPr>
        <p:spPr>
          <a:xfrm>
            <a:off x="952560" y="684000"/>
            <a:ext cx="4952880" cy="3431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547360" y="4206960"/>
            <a:ext cx="18028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B48E8-A2F3-409C-91FB-49E08F6A5443}" type="slidenum">
              <a:rPr b="0" lang="es-ES_tradnl" sz="2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Book Antiqua"/>
              </a:rPr>
              <a:t>Alta calidad quiere decir que sean facil de verificar y adicional a cualquier otro reduccion que se produciaría de no realizarse el proyecto.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Book Antiqua"/>
              </a:rPr>
              <a:t>Adicionalidad tiene dos formas:  financial y de medioambiente.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ldImg"/>
          </p:nvPr>
        </p:nvSpPr>
        <p:spPr>
          <a:xfrm>
            <a:off x="952560" y="684360"/>
            <a:ext cx="4952880" cy="34318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952560" y="684360"/>
            <a:ext cx="4952880" cy="343188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27200" y="61416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27200" y="198108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27200" y="413064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27200" y="61416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2720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036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27200" y="413064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40360" y="413064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27200" y="61416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27200" y="198108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73000" y="198108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19160" y="198108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27200" y="413064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73000" y="413064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19160" y="413064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27200" y="61416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27200" y="198108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27200" y="61416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27200" y="198108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27200" y="61416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27200" y="198108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40360" y="198108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27200" y="61416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27200" y="614160"/>
            <a:ext cx="841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27200" y="61416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2720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0360" y="198108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27200" y="413064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27200" y="61416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27200" y="198108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036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0360" y="413064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27200" y="61416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2720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036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27200" y="413064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27200" y="61416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27200" y="198108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"/>
          <p:cNvSpPr/>
          <p:nvPr/>
        </p:nvSpPr>
        <p:spPr>
          <a:xfrm>
            <a:off x="254160" y="6431040"/>
            <a:ext cx="85068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ffffff"/>
                </a:solidFill>
                <a:latin typeface="Book Antiqua"/>
              </a:rPr>
              <a:t>May 1998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396360" y="6543720"/>
            <a:ext cx="365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651120" y="6402240"/>
            <a:ext cx="1758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687920" y="3828960"/>
            <a:ext cx="6285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9028080" y="6453360"/>
            <a:ext cx="4730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A0F8B-2BA0-4948-91F8-2E95CE33B7D4}" type="slidenum">
              <a:rPr b="0" lang="en-US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image" Target="../media/image1.png"/><Relationship Id="rId22" Type="http://schemas.openxmlformats.org/officeDocument/2006/relationships/image" Target="../media/image1.png"/><Relationship Id="rId23" Type="http://schemas.openxmlformats.org/officeDocument/2006/relationships/image" Target="../media/image1.png"/><Relationship Id="rId24" Type="http://schemas.openxmlformats.org/officeDocument/2006/relationships/image" Target="../media/image1.png"/><Relationship Id="rId25" Type="http://schemas.openxmlformats.org/officeDocument/2006/relationships/image" Target="../media/image1.png"/><Relationship Id="rId26" Type="http://schemas.openxmlformats.org/officeDocument/2006/relationships/image" Target="../media/image1.png"/><Relationship Id="rId27" Type="http://schemas.openxmlformats.org/officeDocument/2006/relationships/image" Target="../media/image1.png"/><Relationship Id="rId28" Type="http://schemas.openxmlformats.org/officeDocument/2006/relationships/image" Target="../media/image1.png"/><Relationship Id="rId29" Type="http://schemas.openxmlformats.org/officeDocument/2006/relationships/image" Target="../media/image1.png"/><Relationship Id="rId30" Type="http://schemas.openxmlformats.org/officeDocument/2006/relationships/image" Target="../media/image1.png"/><Relationship Id="rId31" Type="http://schemas.openxmlformats.org/officeDocument/2006/relationships/oleObject" Target="../embeddings/oleObject1.bin"/><Relationship Id="rId32" Type="http://schemas.openxmlformats.org/officeDocument/2006/relationships/image" Target="../media/image2.wmf"/><Relationship Id="rId33" Type="http://schemas.openxmlformats.org/officeDocument/2006/relationships/slideLayout" Target="../slideLayouts/slideLayout1.xml"/><Relationship Id="rId3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53560" y="1282320"/>
            <a:ext cx="8604360" cy="124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afd00"/>
                </a:solidFill>
                <a:latin typeface="Times New Roman"/>
              </a:rPr>
              <a:t>La Iniciativa Global </a:t>
            </a:r>
            <a:br>
              <a:rPr sz="5400"/>
            </a:br>
            <a:r>
              <a:rPr b="1" lang="en-US" sz="5400" spc="-1" strike="noStrike">
                <a:solidFill>
                  <a:srgbClr val="fafd00"/>
                </a:solidFill>
                <a:latin typeface="Times New Roman"/>
              </a:rPr>
              <a:t>de Carbón</a:t>
            </a:r>
            <a:endParaRPr b="0" lang="en-US" sz="5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914400" y="2792160"/>
            <a:ext cx="8145360" cy="315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Book Antiqua"/>
              </a:rPr>
              <a:t>Banco Mundial 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Book Antiqua"/>
              </a:rPr>
              <a:t>Odil Tunaly Payton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Book Antiqua"/>
              </a:rPr>
              <a:t>Seminario Latinoamericano y del Caribe 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Book Antiqua"/>
              </a:rPr>
              <a:t>Sobre Gases de Efecto Invernadero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Book Antiqua"/>
              </a:rPr>
              <a:t>Quito, 22 de mayo, 1998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0" name=""/>
          <p:cNvGraphicFramePr/>
          <p:nvPr/>
        </p:nvGraphicFramePr>
        <p:xfrm>
          <a:off x="380880" y="0"/>
          <a:ext cx="9126720" cy="684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0"/>
                    <a:ext cx="9126720" cy="684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45960" y="134640"/>
            <a:ext cx="94204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Times New Roman"/>
              </a:rPr>
              <a:t>¿Porqué Contribuir al Fondo de Carbón </a:t>
            </a:r>
            <a:r>
              <a:rPr b="1" lang="en-US" sz="4200" spc="-1" strike="noStrike">
                <a:solidFill>
                  <a:srgbClr val="fafd00"/>
                </a:solidFill>
                <a:latin typeface="Times New Roman"/>
              </a:rPr>
              <a:t>del Banco Mundial</a:t>
            </a:r>
            <a:r>
              <a:rPr b="1" lang="en-US" sz="4000" spc="-1" strike="noStrike">
                <a:solidFill>
                  <a:srgbClr val="fafd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9600" y="1382760"/>
            <a:ext cx="9531360" cy="4030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Book Antiqua"/>
              </a:rPr>
              <a:t>Porque el Banco Mundial: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05280" indent="-305280">
              <a:spcBef>
                <a:spcPts val="64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Book Antiqua"/>
              </a:rPr>
              <a:t>Tiene experiencia en administrar proyectos para reducir los GEI por el Fondo Global del Medioambiente (GEF) y el Programa de Actividades Implementados Conjuntos (AIJ)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305280" indent="-305280">
              <a:spcBef>
                <a:spcPts val="64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Book Antiqua"/>
              </a:rPr>
              <a:t>Puede co-financiar proyectos, y así reducir el riezgo para el contribuyente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305280" indent="-305280">
              <a:spcBef>
                <a:spcPts val="64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Book Antiqua"/>
              </a:rPr>
              <a:t>Tiene credibilidád internacionál de producir reducciones de calidad alta 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305280" indent="-305280">
              <a:spcBef>
                <a:spcPts val="64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Book Antiqua"/>
              </a:rPr>
              <a:t>Tiene connecciones con más de 100 países donde potencialmente se podrían llevar a cabo proyectos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63120" y="674280"/>
            <a:ext cx="8417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Times New Roman"/>
              </a:rPr>
              <a:t>¿Cómo Ayudará el Fondo de Carbón a los Países Clientes </a:t>
            </a:r>
            <a:br>
              <a:rPr sz="4000"/>
            </a:br>
            <a:r>
              <a:rPr b="1" lang="en-US" sz="4000" spc="-1" strike="noStrike">
                <a:solidFill>
                  <a:srgbClr val="fafd00"/>
                </a:solidFill>
                <a:latin typeface="Times New Roman"/>
              </a:rPr>
              <a:t>del Banco Mundial?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97960" y="2476080"/>
            <a:ext cx="8969400" cy="325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225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Book Antiqua"/>
              </a:rPr>
              <a:t>Excedentes sustanciales para los países en desarrollo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1225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Book Antiqua"/>
              </a:rPr>
              <a:t>Mobilización de recursos del sector privado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1225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Book Antiqua"/>
              </a:rPr>
              <a:t>Transferencia de technologías eficiente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1225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Book Antiqua"/>
              </a:rPr>
              <a:t>Reducción de contaminación local y regiona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95440" y="-360"/>
            <a:ext cx="8416800" cy="857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afd00"/>
                </a:solidFill>
                <a:latin typeface="Times New Roman"/>
              </a:rPr>
              <a:t>Status Actual del Fondo 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33280" y="757080"/>
            <a:ext cx="9655200" cy="435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Book Antiqua"/>
              </a:rPr>
              <a:t>El Fondo Prototipo de Carbón será establecido al final de Mayo 1998 (La Junta Ejecutiva del Banco dará su aprobación)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291600" indent="-29160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Book Antiqua"/>
              </a:rPr>
              <a:t>Han sido recibidos compromisos iniciales de no menos de $100 milliones (5 gobiernos y 12 compañías)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291600" indent="-29160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Book Antiqua"/>
              </a:rPr>
              <a:t>Ha sido establecido un proceso consultorio con los participantes, los países donde se puede llevar a cabo proyectos, y los expertos externos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291600" indent="-29160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Book Antiqua"/>
              </a:rPr>
              <a:t>Está en desarrolo un “pipeline” activo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291600" indent="-29160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Book Antiqua"/>
              </a:rPr>
              <a:t>La solicitúd de fondos y la operación comenzará en el transcurso de 1998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725040" y="1582560"/>
            <a:ext cx="8417160" cy="404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1199"/>
              </a:spcBef>
              <a:spcAft>
                <a:spcPts val="4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ff"/>
                </a:solidFill>
                <a:latin typeface="Book Antiqua"/>
              </a:rPr>
              <a:t>El Contexto</a:t>
            </a:r>
            <a:endParaRPr b="0" lang="en-US" sz="4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 algn="ctr">
              <a:lnSpc>
                <a:spcPct val="70000"/>
              </a:lnSpc>
              <a:spcBef>
                <a:spcPts val="1199"/>
              </a:spcBef>
              <a:spcAft>
                <a:spcPts val="4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ff"/>
                </a:solidFill>
                <a:latin typeface="Book Antiqua"/>
              </a:rPr>
              <a:t>El Fondo de Carbón</a:t>
            </a:r>
            <a:endParaRPr b="0" lang="en-US" sz="4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 algn="ctr">
              <a:lnSpc>
                <a:spcPct val="70000"/>
              </a:lnSpc>
              <a:spcBef>
                <a:spcPts val="1199"/>
              </a:spcBef>
              <a:spcAft>
                <a:spcPts val="4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ff"/>
                </a:solidFill>
                <a:latin typeface="Book Antiqua"/>
              </a:rPr>
              <a:t>Status Actual</a:t>
            </a:r>
            <a:endParaRPr b="0" lang="en-US" sz="4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9440" y="0"/>
            <a:ext cx="8418240" cy="84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afd00"/>
                </a:solidFill>
                <a:latin typeface="Times New Roman"/>
              </a:rPr>
              <a:t>El Protocolo de Kyoto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693720"/>
            <a:ext cx="9074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9000"/>
          </a:bodyPr>
          <a:p>
            <a:pPr marL="27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afd00"/>
                </a:solidFill>
                <a:latin typeface="Times New Roman"/>
              </a:rPr>
              <a:t>Contiene:</a:t>
            </a:r>
            <a:r>
              <a:rPr b="1" lang="es-ES_tradnl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270720" indent="-27072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 Antiqua"/>
              </a:rPr>
              <a:t>Un compromiso para los países desarrollados y los países en vías de transición a una economía del mercado </a:t>
            </a:r>
            <a:r>
              <a:rPr b="1" lang="es-ES_tradnl" sz="2000" spc="-1" strike="noStrike">
                <a:solidFill>
                  <a:srgbClr val="ffffff"/>
                </a:solidFill>
                <a:latin typeface="Book Antiqua"/>
              </a:rPr>
              <a:t>(el Anexo B) </a:t>
            </a:r>
            <a:r>
              <a:rPr b="1" lang="es-ES_tradnl" sz="2400" spc="-1" strike="noStrike">
                <a:solidFill>
                  <a:srgbClr val="ffffff"/>
                </a:solidFill>
                <a:latin typeface="Book Antiqua"/>
              </a:rPr>
              <a:t>de reducir emisiones de seis gases de efecto invernadero (GEI) a un nivel no menos de 5 porciento en promedio al de 1990 en el período de 2008 - 2012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270720" indent="-27072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 Antiqua"/>
              </a:rPr>
              <a:t>Elementos de flexibilidad: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586800" indent="-225720">
              <a:spcBef>
                <a:spcPts val="451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Book Antiqua"/>
              </a:rPr>
              <a:t>Implementacion Conjunta</a:t>
            </a:r>
            <a:r>
              <a:rPr b="1" lang="es-ES_tradnl" sz="1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s-ES_tradnl" sz="1800" spc="-1" strike="noStrike">
                <a:solidFill>
                  <a:srgbClr val="ffffff"/>
                </a:solidFill>
                <a:latin typeface="Book Antiqua"/>
              </a:rPr>
              <a:t>(IC) con créditos entre los países desarrollados y los países en vías de transicíon a una economía de mercado  (Anexo B)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1" marL="586800" indent="-225720">
              <a:spcBef>
                <a:spcPts val="451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Book Antiqua"/>
              </a:rPr>
              <a:t>Intercambio de unidades certificadas de reducción de emisiones entre los países en el Anexo B y los países en desarrollo por el Mecanismo de Desarrollo Limpio (MDL), despues del año 2000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270720" indent="-27072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 Antiqua"/>
              </a:rPr>
              <a:t>La mayoría de los ingredientes necesarios para establecer un mercado en reducción de emisiones (“carbon offsets”) aunque queda mucho para resolver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114120"/>
            <a:ext cx="9507600" cy="94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afd00"/>
                </a:solidFill>
                <a:latin typeface="Times New Roman"/>
              </a:rPr>
              <a:t>Escenarios Potenciales del Mercado </a:t>
            </a:r>
            <a:br>
              <a:rPr sz="3200"/>
            </a:br>
            <a:r>
              <a:rPr b="1" lang="es-ES_tradnl" sz="2000" spc="-1" strike="noStrike">
                <a:solidFill>
                  <a:srgbClr val="fafd00"/>
                </a:solidFill>
                <a:latin typeface="Times New Roman"/>
              </a:rPr>
              <a:t>(volúmen de transacciones en billiones de US$, 1996)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738680" y="1162080"/>
            <a:ext cx="80316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2000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667560" y="1162080"/>
            <a:ext cx="80316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2005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17080" y="1162080"/>
            <a:ext cx="80316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2020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22720" y="1776240"/>
            <a:ext cx="2041560" cy="1800"/>
          </a:xfrm>
          <a:prstGeom prst="rect">
            <a:avLst/>
          </a:prstGeom>
          <a:solidFill>
            <a:srgbClr val="40d9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175440" y="1776240"/>
            <a:ext cx="1440" cy="1800"/>
          </a:xfrm>
          <a:prstGeom prst="rect">
            <a:avLst/>
          </a:prstGeom>
          <a:solidFill>
            <a:srgbClr val="40d9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186600" y="1776240"/>
            <a:ext cx="1768320" cy="1800"/>
          </a:xfrm>
          <a:prstGeom prst="rect">
            <a:avLst/>
          </a:prstGeom>
          <a:solidFill>
            <a:srgbClr val="40d9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64640" y="1776240"/>
            <a:ext cx="2880" cy="1800"/>
          </a:xfrm>
          <a:prstGeom prst="rect">
            <a:avLst/>
          </a:prstGeom>
          <a:solidFill>
            <a:srgbClr val="40d9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975440" y="1776240"/>
            <a:ext cx="1489320" cy="1800"/>
          </a:xfrm>
          <a:prstGeom prst="rect">
            <a:avLst/>
          </a:prstGeom>
          <a:solidFill>
            <a:srgbClr val="40d9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964040" y="2073240"/>
            <a:ext cx="33696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18400" y="2073240"/>
            <a:ext cx="49248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467560" y="2073240"/>
            <a:ext cx="49248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60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964040" y="3141720"/>
            <a:ext cx="33696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92920" y="3141720"/>
            <a:ext cx="33696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467560" y="3141720"/>
            <a:ext cx="49248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964040" y="4157640"/>
            <a:ext cx="33696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92920" y="4157640"/>
            <a:ext cx="33696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467560" y="4157640"/>
            <a:ext cx="49248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5245200"/>
            <a:ext cx="3932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02200" y="1787400"/>
            <a:ext cx="1440" cy="1059120"/>
          </a:xfrm>
          <a:prstGeom prst="rect">
            <a:avLst/>
          </a:prstGeom>
          <a:solidFill>
            <a:srgbClr val="40d9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674720" y="1744560"/>
            <a:ext cx="108288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Alto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155600" y="2073240"/>
            <a:ext cx="2543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Alcance Glob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52560" y="2338560"/>
            <a:ext cx="31338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Compromisos Fuert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102200" y="2855880"/>
            <a:ext cx="1440" cy="1008000"/>
          </a:xfrm>
          <a:prstGeom prst="rect">
            <a:avLst/>
          </a:prstGeom>
          <a:solidFill>
            <a:srgbClr val="40d9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171440" y="2892600"/>
            <a:ext cx="281016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Book Antiqua"/>
              </a:rPr>
              <a:t>Mediano (PK):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92240" y="3209760"/>
            <a:ext cx="46260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Book Antiqua"/>
              </a:rPr>
              <a:t>Alcance Geografico Extensiv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25320" y="3525840"/>
            <a:ext cx="43038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Compromisos Moderad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102200" y="3871800"/>
            <a:ext cx="1440" cy="1073160"/>
          </a:xfrm>
          <a:prstGeom prst="rect">
            <a:avLst/>
          </a:prstGeom>
          <a:solidFill>
            <a:srgbClr val="40d9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717560" y="4016520"/>
            <a:ext cx="100008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Bajo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41360" y="4095720"/>
            <a:ext cx="25920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40d9ca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41440" y="4389480"/>
            <a:ext cx="4157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Europa Central y Del Es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446120" y="4414680"/>
            <a:ext cx="12654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34680" y="4687920"/>
            <a:ext cx="2799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Compromisos Débi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47640" y="5573880"/>
            <a:ext cx="32274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81000" y="5824440"/>
            <a:ext cx="24606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395960" y="5245200"/>
            <a:ext cx="16794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324480" y="5245200"/>
            <a:ext cx="16797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1000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09640" y="385560"/>
            <a:ext cx="8416800" cy="75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fafd00"/>
                </a:solidFill>
                <a:latin typeface="Times New Roman"/>
              </a:rPr>
              <a:t>Las Necesidades del Mercado y </a:t>
            </a:r>
            <a:br>
              <a:rPr sz="3800"/>
            </a:br>
            <a:r>
              <a:rPr b="1" lang="es-ES_tradnl" sz="3800" spc="-1" strike="noStrike">
                <a:solidFill>
                  <a:srgbClr val="fafd00"/>
                </a:solidFill>
                <a:latin typeface="Times New Roman"/>
              </a:rPr>
              <a:t>El Papél de Banco Mundial</a:t>
            </a:r>
            <a:endParaRPr b="0" lang="en-US" sz="3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0040" y="3865680"/>
            <a:ext cx="8943840" cy="2527920"/>
          </a:xfrm>
          <a:prstGeom prst="rect">
            <a:avLst/>
          </a:prstGeom>
          <a:noFill/>
          <a:ln w="12600">
            <a:solidFill>
              <a:srgbClr val="40d9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4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Banco Mundial será un agente en las transacciones de reducciones, ofreciendo dos producto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9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Book Antiqua"/>
              </a:rPr>
              <a:t>1) Transacciones por proyectos (bilateral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9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Book Antiqua"/>
              </a:rPr>
              <a:t>2) El Fondo de Carbón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 flipV="1">
            <a:off x="488880" y="1412280"/>
            <a:ext cx="6480" cy="6120"/>
          </a:xfrm>
          <a:prstGeom prst="rect">
            <a:avLst/>
          </a:prstGeom>
          <a:solidFill>
            <a:srgbClr val="40d9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 flipV="1">
            <a:off x="488880" y="1412280"/>
            <a:ext cx="6480" cy="6120"/>
          </a:xfrm>
          <a:prstGeom prst="rect">
            <a:avLst/>
          </a:prstGeom>
          <a:solidFill>
            <a:srgbClr val="40d9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503280" y="1411920"/>
            <a:ext cx="4495680" cy="6120"/>
          </a:xfrm>
          <a:prstGeom prst="rect">
            <a:avLst/>
          </a:prstGeom>
          <a:solidFill>
            <a:srgbClr val="40d9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5010120" y="1412280"/>
            <a:ext cx="6480" cy="6120"/>
          </a:xfrm>
          <a:prstGeom prst="rect">
            <a:avLst/>
          </a:prstGeom>
          <a:solidFill>
            <a:srgbClr val="40d9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027760" y="1411920"/>
            <a:ext cx="4432320" cy="6120"/>
          </a:xfrm>
          <a:prstGeom prst="rect">
            <a:avLst/>
          </a:prstGeom>
          <a:solidFill>
            <a:srgbClr val="40d9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9469440" y="1412280"/>
            <a:ext cx="6480" cy="6120"/>
          </a:xfrm>
          <a:prstGeom prst="rect">
            <a:avLst/>
          </a:prstGeom>
          <a:solidFill>
            <a:srgbClr val="40d9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flipV="1">
            <a:off x="9469440" y="1412280"/>
            <a:ext cx="6480" cy="6120"/>
          </a:xfrm>
          <a:prstGeom prst="rect">
            <a:avLst/>
          </a:prstGeom>
          <a:solidFill>
            <a:srgbClr val="40d9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488880" y="1428840"/>
            <a:ext cx="6480" cy="1919160"/>
          </a:xfrm>
          <a:prstGeom prst="rect">
            <a:avLst/>
          </a:prstGeom>
          <a:solidFill>
            <a:srgbClr val="40d9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5010120" y="1428840"/>
            <a:ext cx="6480" cy="1919160"/>
          </a:xfrm>
          <a:prstGeom prst="rect">
            <a:avLst/>
          </a:prstGeom>
          <a:solidFill>
            <a:srgbClr val="40d9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9469440" y="1428840"/>
            <a:ext cx="6480" cy="1919160"/>
          </a:xfrm>
          <a:prstGeom prst="rect">
            <a:avLst/>
          </a:prstGeom>
          <a:solidFill>
            <a:srgbClr val="40d9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12640" y="1450800"/>
            <a:ext cx="538668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Los compradores d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reducciones necesita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11840" y="2298600"/>
            <a:ext cx="414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d9ca"/>
                </a:solidFill>
                <a:latin typeface="Symbol"/>
                <a:ea typeface="Symbol"/>
              </a:rPr>
              <a:t>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74920" y="2306520"/>
            <a:ext cx="374004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Book Antiqua"/>
              </a:rPr>
              <a:t>Buenas oportunidades d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Book Antiqua"/>
              </a:rPr>
              <a:t>inversió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3520" y="2909880"/>
            <a:ext cx="414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d9ca"/>
                </a:solidFill>
                <a:latin typeface="Symbol"/>
                <a:ea typeface="Symbol"/>
              </a:rPr>
              <a:t>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22360" y="2971800"/>
            <a:ext cx="411480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Book Antiqua"/>
              </a:rPr>
              <a:t>Certificación de reduccione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810320" y="1461960"/>
            <a:ext cx="424116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Los proveedores d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reducciones necesitan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100480" y="2427120"/>
            <a:ext cx="3510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d9ca"/>
                </a:solidFill>
                <a:latin typeface="Symbol"/>
                <a:ea typeface="Symbol"/>
              </a:rPr>
              <a:t>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240520" y="2389320"/>
            <a:ext cx="336060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Book Antiqua"/>
              </a:rPr>
              <a:t>Acción en el excedent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055480" y="2824200"/>
            <a:ext cx="414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d9ca"/>
                </a:solidFill>
                <a:latin typeface="Symbol"/>
                <a:ea typeface="Symbol"/>
              </a:rPr>
              <a:t>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22240" y="2843280"/>
            <a:ext cx="343368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ff"/>
                </a:solidFill>
                <a:latin typeface="Book Antiqua"/>
              </a:rPr>
              <a:t>Acceso a la technologí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 flipV="1">
            <a:off x="488880" y="3357000"/>
            <a:ext cx="6480" cy="6120"/>
          </a:xfrm>
          <a:prstGeom prst="rect">
            <a:avLst/>
          </a:prstGeom>
          <a:solidFill>
            <a:srgbClr val="40d9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488880" y="3357000"/>
            <a:ext cx="6480" cy="6120"/>
          </a:xfrm>
          <a:prstGeom prst="rect">
            <a:avLst/>
          </a:prstGeom>
          <a:solidFill>
            <a:srgbClr val="40d9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 flipV="1">
            <a:off x="4887360" y="3357000"/>
            <a:ext cx="6120" cy="6120"/>
          </a:xfrm>
          <a:prstGeom prst="rect">
            <a:avLst/>
          </a:prstGeom>
          <a:solidFill>
            <a:srgbClr val="40d9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4905360" y="3357000"/>
            <a:ext cx="93600" cy="6120"/>
          </a:xfrm>
          <a:prstGeom prst="rect">
            <a:avLst/>
          </a:prstGeom>
          <a:solidFill>
            <a:srgbClr val="40d9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 flipV="1">
            <a:off x="5010120" y="3357000"/>
            <a:ext cx="6480" cy="6120"/>
          </a:xfrm>
          <a:prstGeom prst="rect">
            <a:avLst/>
          </a:prstGeom>
          <a:solidFill>
            <a:srgbClr val="40d9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9469440" y="3357000"/>
            <a:ext cx="6480" cy="6120"/>
          </a:xfrm>
          <a:prstGeom prst="rect">
            <a:avLst/>
          </a:prstGeom>
          <a:solidFill>
            <a:srgbClr val="40d9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 flipV="1">
            <a:off x="9469440" y="3357000"/>
            <a:ext cx="6480" cy="6120"/>
          </a:xfrm>
          <a:prstGeom prst="rect">
            <a:avLst/>
          </a:prstGeom>
          <a:solidFill>
            <a:srgbClr val="40d9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23800" y="3355920"/>
            <a:ext cx="4496040" cy="6480"/>
          </a:xfrm>
          <a:prstGeom prst="rect">
            <a:avLst/>
          </a:prstGeom>
          <a:solidFill>
            <a:srgbClr val="40d9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4979880" y="3355920"/>
            <a:ext cx="4496040" cy="6480"/>
          </a:xfrm>
          <a:prstGeom prst="rect">
            <a:avLst/>
          </a:prstGeom>
          <a:solidFill>
            <a:srgbClr val="40d9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4520" y="572760"/>
            <a:ext cx="9028080" cy="90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afd00"/>
                </a:solidFill>
                <a:latin typeface="Times New Roman"/>
              </a:rPr>
              <a:t>Un Ejemplo Bilateral de </a:t>
            </a:r>
            <a:br>
              <a:rPr sz="3600"/>
            </a:br>
            <a:r>
              <a:rPr b="1" lang="es-ES_tradnl" sz="3600" spc="-1" strike="noStrike">
                <a:solidFill>
                  <a:srgbClr val="fafd00"/>
                </a:solidFill>
                <a:latin typeface="Times New Roman"/>
              </a:rPr>
              <a:t>Implementación Conjunta:</a:t>
            </a:r>
            <a:br>
              <a:rPr sz="3600"/>
            </a:br>
            <a:r>
              <a:rPr b="1" lang="es-ES_tradnl" sz="3600" spc="-1" strike="noStrike">
                <a:solidFill>
                  <a:srgbClr val="fafd00"/>
                </a:solidFill>
                <a:latin typeface="Times New Roman"/>
              </a:rPr>
              <a:t>Noruega y la India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81040" y="1805040"/>
            <a:ext cx="90993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-315360"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ffffff"/>
                </a:solidFill>
                <a:latin typeface="Book Antiqua"/>
              </a:rPr>
              <a:t>Reducciones nacionales: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lvl="1" marL="683280" indent="-262800"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Book Antiqua"/>
              </a:rPr>
              <a:t>mejorar una central eléctrica eficiente de gas natural en </a:t>
            </a:r>
            <a:r>
              <a:rPr b="1" lang="es-ES_tradnl" sz="2600" spc="-1" strike="noStrike">
                <a:solidFill>
                  <a:srgbClr val="ffffff"/>
                </a:solidFill>
                <a:latin typeface="Book Antiqua"/>
              </a:rPr>
              <a:t>Noruega:  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lvl="1" marL="68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s-ES_tradnl" sz="2600" spc="-1" strike="noStrike">
                <a:solidFill>
                  <a:srgbClr val="ffffff"/>
                </a:solidFill>
                <a:latin typeface="Book Antiqua"/>
              </a:rPr>
              <a:t>$60/tonelada de carbón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315360" indent="-315360"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ffffff"/>
                </a:solidFill>
                <a:latin typeface="Book Antiqua"/>
              </a:rPr>
              <a:t>La opción de Implementación Conjunta: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lvl="1" marL="683280" indent="-262800"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Book Antiqua"/>
              </a:rPr>
              <a:t>financiar el cambio de technología en la central eléctrica de bajo eficiencia en la India:  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lvl="1" marL="68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s-ES_tradnl" sz="2600" spc="-1" strike="noStrike">
                <a:solidFill>
                  <a:srgbClr val="ffffff"/>
                </a:solidFill>
                <a:latin typeface="Book Antiqua"/>
              </a:rPr>
              <a:t>$10/tonelada de carbón 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315360" indent="-315360">
              <a:spcBef>
                <a:spcPts val="75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ffffff"/>
                </a:solidFill>
                <a:latin typeface="Book Antiqua"/>
              </a:rPr>
              <a:t>El excedente para compartir:  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lvl="1" marL="683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Book Antiqua"/>
              </a:rPr>
              <a:t>$60 - $10 = </a:t>
            </a:r>
            <a:r>
              <a:rPr b="1" lang="es-ES_tradnl" sz="2800" spc="-1" strike="noStrike">
                <a:solidFill>
                  <a:srgbClr val="40d9ca"/>
                </a:solidFill>
                <a:latin typeface="Book Antiqua"/>
              </a:rPr>
              <a:t>$50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747720" y="957240"/>
            <a:ext cx="8416800" cy="9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53960" y="2552760"/>
            <a:ext cx="9159840" cy="21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79520" y="614520"/>
            <a:ext cx="841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Los Objetivos del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Fondo de Carbón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65000" y="2235240"/>
            <a:ext cx="8417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Ofrecer reducciones de alta calidad  y precio competitiv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Asegurar que los compradores y los proveedores de reducciones reciben buena parte del valor añadi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743040" y="6195960"/>
            <a:ext cx="2062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504120" y="2562120"/>
            <a:ext cx="1873080" cy="1332000"/>
          </a:xfrm>
          <a:custGeom>
            <a:avLst/>
            <a:gdLst/>
            <a:ahLst/>
            <a:rect l="l" t="t" r="r" b="b"/>
            <a:pathLst>
              <a:path w="1090" h="839">
                <a:moveTo>
                  <a:pt x="763" y="113"/>
                </a:moveTo>
                <a:lnTo>
                  <a:pt x="771" y="105"/>
                </a:lnTo>
                <a:lnTo>
                  <a:pt x="779" y="105"/>
                </a:lnTo>
                <a:lnTo>
                  <a:pt x="787" y="105"/>
                </a:lnTo>
                <a:lnTo>
                  <a:pt x="795" y="105"/>
                </a:lnTo>
                <a:lnTo>
                  <a:pt x="803" y="105"/>
                </a:lnTo>
                <a:lnTo>
                  <a:pt x="811" y="105"/>
                </a:lnTo>
                <a:lnTo>
                  <a:pt x="818" y="105"/>
                </a:lnTo>
                <a:lnTo>
                  <a:pt x="826" y="105"/>
                </a:lnTo>
                <a:lnTo>
                  <a:pt x="834" y="105"/>
                </a:lnTo>
                <a:lnTo>
                  <a:pt x="834" y="96"/>
                </a:lnTo>
                <a:lnTo>
                  <a:pt x="834" y="87"/>
                </a:lnTo>
                <a:lnTo>
                  <a:pt x="834" y="79"/>
                </a:lnTo>
                <a:lnTo>
                  <a:pt x="834" y="70"/>
                </a:lnTo>
                <a:lnTo>
                  <a:pt x="834" y="61"/>
                </a:lnTo>
                <a:lnTo>
                  <a:pt x="834" y="52"/>
                </a:lnTo>
                <a:lnTo>
                  <a:pt x="834" y="44"/>
                </a:lnTo>
                <a:lnTo>
                  <a:pt x="834" y="35"/>
                </a:lnTo>
                <a:lnTo>
                  <a:pt x="834" y="26"/>
                </a:lnTo>
                <a:lnTo>
                  <a:pt x="834" y="17"/>
                </a:lnTo>
                <a:lnTo>
                  <a:pt x="834" y="9"/>
                </a:lnTo>
                <a:lnTo>
                  <a:pt x="834" y="0"/>
                </a:lnTo>
                <a:lnTo>
                  <a:pt x="842" y="9"/>
                </a:lnTo>
                <a:lnTo>
                  <a:pt x="850" y="17"/>
                </a:lnTo>
                <a:lnTo>
                  <a:pt x="850" y="26"/>
                </a:lnTo>
                <a:lnTo>
                  <a:pt x="858" y="35"/>
                </a:lnTo>
                <a:lnTo>
                  <a:pt x="866" y="44"/>
                </a:lnTo>
                <a:lnTo>
                  <a:pt x="874" y="52"/>
                </a:lnTo>
                <a:lnTo>
                  <a:pt x="882" y="70"/>
                </a:lnTo>
                <a:lnTo>
                  <a:pt x="898" y="87"/>
                </a:lnTo>
                <a:lnTo>
                  <a:pt x="906" y="96"/>
                </a:lnTo>
                <a:lnTo>
                  <a:pt x="914" y="113"/>
                </a:lnTo>
                <a:lnTo>
                  <a:pt x="930" y="140"/>
                </a:lnTo>
                <a:lnTo>
                  <a:pt x="946" y="157"/>
                </a:lnTo>
                <a:lnTo>
                  <a:pt x="962" y="175"/>
                </a:lnTo>
                <a:lnTo>
                  <a:pt x="978" y="201"/>
                </a:lnTo>
                <a:lnTo>
                  <a:pt x="986" y="218"/>
                </a:lnTo>
                <a:lnTo>
                  <a:pt x="1001" y="236"/>
                </a:lnTo>
                <a:lnTo>
                  <a:pt x="1017" y="253"/>
                </a:lnTo>
                <a:lnTo>
                  <a:pt x="1025" y="271"/>
                </a:lnTo>
                <a:lnTo>
                  <a:pt x="1033" y="288"/>
                </a:lnTo>
                <a:lnTo>
                  <a:pt x="1049" y="297"/>
                </a:lnTo>
                <a:lnTo>
                  <a:pt x="1057" y="314"/>
                </a:lnTo>
                <a:lnTo>
                  <a:pt x="1065" y="323"/>
                </a:lnTo>
                <a:lnTo>
                  <a:pt x="1065" y="332"/>
                </a:lnTo>
                <a:lnTo>
                  <a:pt x="1073" y="340"/>
                </a:lnTo>
                <a:lnTo>
                  <a:pt x="1081" y="349"/>
                </a:lnTo>
                <a:lnTo>
                  <a:pt x="1081" y="358"/>
                </a:lnTo>
                <a:lnTo>
                  <a:pt x="1089" y="358"/>
                </a:lnTo>
                <a:lnTo>
                  <a:pt x="1081" y="358"/>
                </a:lnTo>
                <a:lnTo>
                  <a:pt x="1081" y="367"/>
                </a:lnTo>
                <a:lnTo>
                  <a:pt x="1073" y="375"/>
                </a:lnTo>
                <a:lnTo>
                  <a:pt x="1065" y="375"/>
                </a:lnTo>
                <a:lnTo>
                  <a:pt x="1065" y="384"/>
                </a:lnTo>
                <a:lnTo>
                  <a:pt x="1057" y="393"/>
                </a:lnTo>
                <a:lnTo>
                  <a:pt x="1049" y="410"/>
                </a:lnTo>
                <a:lnTo>
                  <a:pt x="1033" y="419"/>
                </a:lnTo>
                <a:lnTo>
                  <a:pt x="1025" y="436"/>
                </a:lnTo>
                <a:lnTo>
                  <a:pt x="1017" y="445"/>
                </a:lnTo>
                <a:lnTo>
                  <a:pt x="1001" y="463"/>
                </a:lnTo>
                <a:lnTo>
                  <a:pt x="986" y="480"/>
                </a:lnTo>
                <a:lnTo>
                  <a:pt x="978" y="498"/>
                </a:lnTo>
                <a:lnTo>
                  <a:pt x="962" y="515"/>
                </a:lnTo>
                <a:lnTo>
                  <a:pt x="946" y="532"/>
                </a:lnTo>
                <a:lnTo>
                  <a:pt x="930" y="559"/>
                </a:lnTo>
                <a:lnTo>
                  <a:pt x="914" y="567"/>
                </a:lnTo>
                <a:lnTo>
                  <a:pt x="906" y="585"/>
                </a:lnTo>
                <a:lnTo>
                  <a:pt x="898" y="602"/>
                </a:lnTo>
                <a:lnTo>
                  <a:pt x="882" y="611"/>
                </a:lnTo>
                <a:lnTo>
                  <a:pt x="874" y="629"/>
                </a:lnTo>
                <a:lnTo>
                  <a:pt x="866" y="637"/>
                </a:lnTo>
                <a:lnTo>
                  <a:pt x="858" y="646"/>
                </a:lnTo>
                <a:lnTo>
                  <a:pt x="850" y="655"/>
                </a:lnTo>
                <a:lnTo>
                  <a:pt x="850" y="663"/>
                </a:lnTo>
                <a:lnTo>
                  <a:pt x="842" y="663"/>
                </a:lnTo>
                <a:lnTo>
                  <a:pt x="842" y="672"/>
                </a:lnTo>
                <a:lnTo>
                  <a:pt x="834" y="672"/>
                </a:lnTo>
                <a:lnTo>
                  <a:pt x="834" y="681"/>
                </a:lnTo>
                <a:lnTo>
                  <a:pt x="834" y="672"/>
                </a:lnTo>
                <a:lnTo>
                  <a:pt x="834" y="663"/>
                </a:lnTo>
                <a:lnTo>
                  <a:pt x="834" y="655"/>
                </a:lnTo>
                <a:lnTo>
                  <a:pt x="834" y="646"/>
                </a:lnTo>
                <a:lnTo>
                  <a:pt x="834" y="637"/>
                </a:lnTo>
                <a:lnTo>
                  <a:pt x="834" y="629"/>
                </a:lnTo>
                <a:lnTo>
                  <a:pt x="834" y="620"/>
                </a:lnTo>
                <a:lnTo>
                  <a:pt x="834" y="611"/>
                </a:lnTo>
                <a:lnTo>
                  <a:pt x="834" y="602"/>
                </a:lnTo>
                <a:lnTo>
                  <a:pt x="834" y="594"/>
                </a:lnTo>
                <a:lnTo>
                  <a:pt x="834" y="585"/>
                </a:lnTo>
                <a:lnTo>
                  <a:pt x="834" y="576"/>
                </a:lnTo>
                <a:lnTo>
                  <a:pt x="834" y="567"/>
                </a:lnTo>
                <a:lnTo>
                  <a:pt x="834" y="559"/>
                </a:lnTo>
                <a:lnTo>
                  <a:pt x="834" y="550"/>
                </a:lnTo>
                <a:lnTo>
                  <a:pt x="826" y="550"/>
                </a:lnTo>
                <a:lnTo>
                  <a:pt x="826" y="559"/>
                </a:lnTo>
                <a:lnTo>
                  <a:pt x="818" y="559"/>
                </a:lnTo>
                <a:lnTo>
                  <a:pt x="811" y="559"/>
                </a:lnTo>
                <a:lnTo>
                  <a:pt x="803" y="559"/>
                </a:lnTo>
                <a:lnTo>
                  <a:pt x="795" y="559"/>
                </a:lnTo>
                <a:lnTo>
                  <a:pt x="787" y="559"/>
                </a:lnTo>
                <a:lnTo>
                  <a:pt x="779" y="559"/>
                </a:lnTo>
                <a:lnTo>
                  <a:pt x="771" y="567"/>
                </a:lnTo>
                <a:lnTo>
                  <a:pt x="763" y="567"/>
                </a:lnTo>
                <a:lnTo>
                  <a:pt x="755" y="567"/>
                </a:lnTo>
                <a:lnTo>
                  <a:pt x="747" y="567"/>
                </a:lnTo>
                <a:lnTo>
                  <a:pt x="739" y="576"/>
                </a:lnTo>
                <a:lnTo>
                  <a:pt x="731" y="576"/>
                </a:lnTo>
                <a:lnTo>
                  <a:pt x="723" y="576"/>
                </a:lnTo>
                <a:lnTo>
                  <a:pt x="715" y="585"/>
                </a:lnTo>
                <a:lnTo>
                  <a:pt x="707" y="585"/>
                </a:lnTo>
                <a:lnTo>
                  <a:pt x="699" y="585"/>
                </a:lnTo>
                <a:lnTo>
                  <a:pt x="691" y="594"/>
                </a:lnTo>
                <a:lnTo>
                  <a:pt x="683" y="594"/>
                </a:lnTo>
                <a:lnTo>
                  <a:pt x="675" y="594"/>
                </a:lnTo>
                <a:lnTo>
                  <a:pt x="667" y="602"/>
                </a:lnTo>
                <a:lnTo>
                  <a:pt x="659" y="602"/>
                </a:lnTo>
                <a:lnTo>
                  <a:pt x="651" y="611"/>
                </a:lnTo>
                <a:lnTo>
                  <a:pt x="643" y="611"/>
                </a:lnTo>
                <a:lnTo>
                  <a:pt x="643" y="620"/>
                </a:lnTo>
                <a:lnTo>
                  <a:pt x="635" y="620"/>
                </a:lnTo>
                <a:lnTo>
                  <a:pt x="628" y="629"/>
                </a:lnTo>
                <a:lnTo>
                  <a:pt x="620" y="629"/>
                </a:lnTo>
                <a:lnTo>
                  <a:pt x="612" y="637"/>
                </a:lnTo>
                <a:lnTo>
                  <a:pt x="604" y="637"/>
                </a:lnTo>
                <a:lnTo>
                  <a:pt x="596" y="646"/>
                </a:lnTo>
                <a:lnTo>
                  <a:pt x="596" y="655"/>
                </a:lnTo>
                <a:lnTo>
                  <a:pt x="588" y="655"/>
                </a:lnTo>
                <a:lnTo>
                  <a:pt x="580" y="663"/>
                </a:lnTo>
                <a:lnTo>
                  <a:pt x="572" y="672"/>
                </a:lnTo>
                <a:lnTo>
                  <a:pt x="564" y="681"/>
                </a:lnTo>
                <a:lnTo>
                  <a:pt x="556" y="690"/>
                </a:lnTo>
                <a:lnTo>
                  <a:pt x="556" y="698"/>
                </a:lnTo>
                <a:lnTo>
                  <a:pt x="548" y="698"/>
                </a:lnTo>
                <a:lnTo>
                  <a:pt x="540" y="707"/>
                </a:lnTo>
                <a:lnTo>
                  <a:pt x="540" y="716"/>
                </a:lnTo>
                <a:lnTo>
                  <a:pt x="532" y="725"/>
                </a:lnTo>
                <a:lnTo>
                  <a:pt x="524" y="725"/>
                </a:lnTo>
                <a:lnTo>
                  <a:pt x="524" y="733"/>
                </a:lnTo>
                <a:lnTo>
                  <a:pt x="516" y="742"/>
                </a:lnTo>
                <a:lnTo>
                  <a:pt x="516" y="751"/>
                </a:lnTo>
                <a:lnTo>
                  <a:pt x="508" y="751"/>
                </a:lnTo>
                <a:lnTo>
                  <a:pt x="508" y="759"/>
                </a:lnTo>
                <a:lnTo>
                  <a:pt x="508" y="768"/>
                </a:lnTo>
                <a:lnTo>
                  <a:pt x="500" y="777"/>
                </a:lnTo>
                <a:lnTo>
                  <a:pt x="500" y="786"/>
                </a:lnTo>
                <a:lnTo>
                  <a:pt x="493" y="786"/>
                </a:lnTo>
                <a:lnTo>
                  <a:pt x="493" y="794"/>
                </a:lnTo>
                <a:lnTo>
                  <a:pt x="493" y="803"/>
                </a:lnTo>
                <a:lnTo>
                  <a:pt x="485" y="803"/>
                </a:lnTo>
                <a:lnTo>
                  <a:pt x="485" y="812"/>
                </a:lnTo>
                <a:lnTo>
                  <a:pt x="485" y="821"/>
                </a:lnTo>
                <a:lnTo>
                  <a:pt x="477" y="821"/>
                </a:lnTo>
                <a:lnTo>
                  <a:pt x="477" y="829"/>
                </a:lnTo>
                <a:lnTo>
                  <a:pt x="469" y="829"/>
                </a:lnTo>
                <a:lnTo>
                  <a:pt x="469" y="821"/>
                </a:lnTo>
                <a:lnTo>
                  <a:pt x="461" y="821"/>
                </a:lnTo>
                <a:lnTo>
                  <a:pt x="454" y="812"/>
                </a:lnTo>
                <a:lnTo>
                  <a:pt x="446" y="812"/>
                </a:lnTo>
                <a:lnTo>
                  <a:pt x="438" y="803"/>
                </a:lnTo>
                <a:lnTo>
                  <a:pt x="430" y="794"/>
                </a:lnTo>
                <a:lnTo>
                  <a:pt x="422" y="786"/>
                </a:lnTo>
                <a:lnTo>
                  <a:pt x="414" y="777"/>
                </a:lnTo>
                <a:lnTo>
                  <a:pt x="406" y="768"/>
                </a:lnTo>
                <a:lnTo>
                  <a:pt x="390" y="759"/>
                </a:lnTo>
                <a:lnTo>
                  <a:pt x="382" y="751"/>
                </a:lnTo>
                <a:lnTo>
                  <a:pt x="366" y="742"/>
                </a:lnTo>
                <a:lnTo>
                  <a:pt x="350" y="733"/>
                </a:lnTo>
                <a:lnTo>
                  <a:pt x="342" y="725"/>
                </a:lnTo>
                <a:lnTo>
                  <a:pt x="326" y="716"/>
                </a:lnTo>
                <a:lnTo>
                  <a:pt x="318" y="707"/>
                </a:lnTo>
                <a:lnTo>
                  <a:pt x="310" y="698"/>
                </a:lnTo>
                <a:lnTo>
                  <a:pt x="302" y="690"/>
                </a:lnTo>
                <a:lnTo>
                  <a:pt x="294" y="681"/>
                </a:lnTo>
                <a:lnTo>
                  <a:pt x="286" y="681"/>
                </a:lnTo>
                <a:lnTo>
                  <a:pt x="278" y="672"/>
                </a:lnTo>
                <a:lnTo>
                  <a:pt x="271" y="663"/>
                </a:lnTo>
                <a:lnTo>
                  <a:pt x="263" y="663"/>
                </a:lnTo>
                <a:lnTo>
                  <a:pt x="263" y="655"/>
                </a:lnTo>
                <a:lnTo>
                  <a:pt x="255" y="655"/>
                </a:lnTo>
                <a:lnTo>
                  <a:pt x="247" y="663"/>
                </a:lnTo>
                <a:lnTo>
                  <a:pt x="239" y="672"/>
                </a:lnTo>
                <a:lnTo>
                  <a:pt x="231" y="672"/>
                </a:lnTo>
                <a:lnTo>
                  <a:pt x="223" y="681"/>
                </a:lnTo>
                <a:lnTo>
                  <a:pt x="215" y="681"/>
                </a:lnTo>
                <a:lnTo>
                  <a:pt x="207" y="690"/>
                </a:lnTo>
                <a:lnTo>
                  <a:pt x="199" y="698"/>
                </a:lnTo>
                <a:lnTo>
                  <a:pt x="183" y="707"/>
                </a:lnTo>
                <a:lnTo>
                  <a:pt x="175" y="716"/>
                </a:lnTo>
                <a:lnTo>
                  <a:pt x="159" y="725"/>
                </a:lnTo>
                <a:lnTo>
                  <a:pt x="143" y="733"/>
                </a:lnTo>
                <a:lnTo>
                  <a:pt x="127" y="742"/>
                </a:lnTo>
                <a:lnTo>
                  <a:pt x="111" y="759"/>
                </a:lnTo>
                <a:lnTo>
                  <a:pt x="95" y="768"/>
                </a:lnTo>
                <a:lnTo>
                  <a:pt x="88" y="777"/>
                </a:lnTo>
                <a:lnTo>
                  <a:pt x="72" y="786"/>
                </a:lnTo>
                <a:lnTo>
                  <a:pt x="56" y="794"/>
                </a:lnTo>
                <a:lnTo>
                  <a:pt x="48" y="803"/>
                </a:lnTo>
                <a:lnTo>
                  <a:pt x="40" y="812"/>
                </a:lnTo>
                <a:lnTo>
                  <a:pt x="32" y="812"/>
                </a:lnTo>
                <a:lnTo>
                  <a:pt x="24" y="821"/>
                </a:lnTo>
                <a:lnTo>
                  <a:pt x="16" y="821"/>
                </a:lnTo>
                <a:lnTo>
                  <a:pt x="8" y="829"/>
                </a:lnTo>
                <a:lnTo>
                  <a:pt x="0" y="838"/>
                </a:lnTo>
                <a:lnTo>
                  <a:pt x="0" y="829"/>
                </a:lnTo>
                <a:lnTo>
                  <a:pt x="0" y="821"/>
                </a:lnTo>
                <a:lnTo>
                  <a:pt x="8" y="812"/>
                </a:lnTo>
                <a:lnTo>
                  <a:pt x="8" y="803"/>
                </a:lnTo>
                <a:lnTo>
                  <a:pt x="8" y="794"/>
                </a:lnTo>
                <a:lnTo>
                  <a:pt x="8" y="786"/>
                </a:lnTo>
                <a:lnTo>
                  <a:pt x="16" y="777"/>
                </a:lnTo>
                <a:lnTo>
                  <a:pt x="16" y="759"/>
                </a:lnTo>
                <a:lnTo>
                  <a:pt x="16" y="751"/>
                </a:lnTo>
                <a:lnTo>
                  <a:pt x="16" y="742"/>
                </a:lnTo>
                <a:lnTo>
                  <a:pt x="24" y="733"/>
                </a:lnTo>
                <a:lnTo>
                  <a:pt x="24" y="725"/>
                </a:lnTo>
                <a:lnTo>
                  <a:pt x="32" y="707"/>
                </a:lnTo>
                <a:lnTo>
                  <a:pt x="32" y="698"/>
                </a:lnTo>
                <a:lnTo>
                  <a:pt x="40" y="690"/>
                </a:lnTo>
                <a:lnTo>
                  <a:pt x="40" y="672"/>
                </a:lnTo>
                <a:lnTo>
                  <a:pt x="48" y="663"/>
                </a:lnTo>
                <a:lnTo>
                  <a:pt x="56" y="646"/>
                </a:lnTo>
                <a:lnTo>
                  <a:pt x="56" y="637"/>
                </a:lnTo>
                <a:lnTo>
                  <a:pt x="64" y="620"/>
                </a:lnTo>
                <a:lnTo>
                  <a:pt x="72" y="611"/>
                </a:lnTo>
                <a:lnTo>
                  <a:pt x="80" y="594"/>
                </a:lnTo>
                <a:lnTo>
                  <a:pt x="80" y="585"/>
                </a:lnTo>
                <a:lnTo>
                  <a:pt x="88" y="567"/>
                </a:lnTo>
                <a:lnTo>
                  <a:pt x="95" y="550"/>
                </a:lnTo>
                <a:lnTo>
                  <a:pt x="103" y="541"/>
                </a:lnTo>
                <a:lnTo>
                  <a:pt x="111" y="524"/>
                </a:lnTo>
                <a:lnTo>
                  <a:pt x="119" y="515"/>
                </a:lnTo>
                <a:lnTo>
                  <a:pt x="127" y="498"/>
                </a:lnTo>
                <a:lnTo>
                  <a:pt x="135" y="480"/>
                </a:lnTo>
                <a:lnTo>
                  <a:pt x="151" y="471"/>
                </a:lnTo>
                <a:lnTo>
                  <a:pt x="159" y="454"/>
                </a:lnTo>
                <a:lnTo>
                  <a:pt x="167" y="445"/>
                </a:lnTo>
                <a:lnTo>
                  <a:pt x="175" y="436"/>
                </a:lnTo>
                <a:lnTo>
                  <a:pt x="183" y="419"/>
                </a:lnTo>
                <a:lnTo>
                  <a:pt x="191" y="410"/>
                </a:lnTo>
                <a:lnTo>
                  <a:pt x="207" y="393"/>
                </a:lnTo>
                <a:lnTo>
                  <a:pt x="215" y="384"/>
                </a:lnTo>
                <a:lnTo>
                  <a:pt x="223" y="375"/>
                </a:lnTo>
                <a:lnTo>
                  <a:pt x="231" y="367"/>
                </a:lnTo>
                <a:lnTo>
                  <a:pt x="247" y="349"/>
                </a:lnTo>
                <a:lnTo>
                  <a:pt x="255" y="340"/>
                </a:lnTo>
                <a:lnTo>
                  <a:pt x="263" y="332"/>
                </a:lnTo>
                <a:lnTo>
                  <a:pt x="278" y="323"/>
                </a:lnTo>
                <a:lnTo>
                  <a:pt x="286" y="314"/>
                </a:lnTo>
                <a:lnTo>
                  <a:pt x="302" y="306"/>
                </a:lnTo>
                <a:lnTo>
                  <a:pt x="310" y="297"/>
                </a:lnTo>
                <a:lnTo>
                  <a:pt x="318" y="288"/>
                </a:lnTo>
                <a:lnTo>
                  <a:pt x="334" y="279"/>
                </a:lnTo>
                <a:lnTo>
                  <a:pt x="342" y="271"/>
                </a:lnTo>
                <a:lnTo>
                  <a:pt x="350" y="262"/>
                </a:lnTo>
                <a:lnTo>
                  <a:pt x="366" y="253"/>
                </a:lnTo>
                <a:lnTo>
                  <a:pt x="374" y="244"/>
                </a:lnTo>
                <a:lnTo>
                  <a:pt x="390" y="236"/>
                </a:lnTo>
                <a:lnTo>
                  <a:pt x="398" y="236"/>
                </a:lnTo>
                <a:lnTo>
                  <a:pt x="414" y="227"/>
                </a:lnTo>
                <a:lnTo>
                  <a:pt x="422" y="218"/>
                </a:lnTo>
                <a:lnTo>
                  <a:pt x="430" y="210"/>
                </a:lnTo>
                <a:lnTo>
                  <a:pt x="446" y="210"/>
                </a:lnTo>
                <a:lnTo>
                  <a:pt x="454" y="201"/>
                </a:lnTo>
                <a:lnTo>
                  <a:pt x="469" y="192"/>
                </a:lnTo>
                <a:lnTo>
                  <a:pt x="477" y="192"/>
                </a:lnTo>
                <a:lnTo>
                  <a:pt x="493" y="183"/>
                </a:lnTo>
                <a:lnTo>
                  <a:pt x="500" y="175"/>
                </a:lnTo>
                <a:lnTo>
                  <a:pt x="508" y="175"/>
                </a:lnTo>
                <a:lnTo>
                  <a:pt x="524" y="166"/>
                </a:lnTo>
                <a:lnTo>
                  <a:pt x="532" y="166"/>
                </a:lnTo>
                <a:lnTo>
                  <a:pt x="548" y="157"/>
                </a:lnTo>
                <a:lnTo>
                  <a:pt x="556" y="157"/>
                </a:lnTo>
                <a:lnTo>
                  <a:pt x="572" y="148"/>
                </a:lnTo>
                <a:lnTo>
                  <a:pt x="580" y="148"/>
                </a:lnTo>
                <a:lnTo>
                  <a:pt x="596" y="148"/>
                </a:lnTo>
                <a:lnTo>
                  <a:pt x="604" y="140"/>
                </a:lnTo>
                <a:lnTo>
                  <a:pt x="612" y="140"/>
                </a:lnTo>
                <a:lnTo>
                  <a:pt x="628" y="140"/>
                </a:lnTo>
                <a:lnTo>
                  <a:pt x="635" y="131"/>
                </a:lnTo>
                <a:lnTo>
                  <a:pt x="651" y="131"/>
                </a:lnTo>
                <a:lnTo>
                  <a:pt x="659" y="131"/>
                </a:lnTo>
                <a:lnTo>
                  <a:pt x="667" y="122"/>
                </a:lnTo>
                <a:lnTo>
                  <a:pt x="683" y="122"/>
                </a:lnTo>
                <a:lnTo>
                  <a:pt x="691" y="122"/>
                </a:lnTo>
                <a:lnTo>
                  <a:pt x="699" y="122"/>
                </a:lnTo>
                <a:lnTo>
                  <a:pt x="707" y="113"/>
                </a:lnTo>
                <a:lnTo>
                  <a:pt x="723" y="113"/>
                </a:lnTo>
                <a:lnTo>
                  <a:pt x="731" y="113"/>
                </a:lnTo>
                <a:lnTo>
                  <a:pt x="739" y="113"/>
                </a:lnTo>
                <a:lnTo>
                  <a:pt x="747" y="113"/>
                </a:lnTo>
                <a:lnTo>
                  <a:pt x="755" y="113"/>
                </a:lnTo>
                <a:lnTo>
                  <a:pt x="763" y="113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04120" y="2562120"/>
            <a:ext cx="1884240" cy="1343160"/>
          </a:xfrm>
          <a:custGeom>
            <a:avLst/>
            <a:gdLst/>
            <a:ahLst/>
            <a:rect l="l" t="t" r="r" b="b"/>
            <a:pathLst>
              <a:path w="1096" h="846">
                <a:moveTo>
                  <a:pt x="767" y="114"/>
                </a:moveTo>
                <a:lnTo>
                  <a:pt x="775" y="106"/>
                </a:lnTo>
                <a:lnTo>
                  <a:pt x="783" y="106"/>
                </a:lnTo>
                <a:lnTo>
                  <a:pt x="791" y="106"/>
                </a:lnTo>
                <a:lnTo>
                  <a:pt x="799" y="106"/>
                </a:lnTo>
                <a:lnTo>
                  <a:pt x="807" y="106"/>
                </a:lnTo>
                <a:lnTo>
                  <a:pt x="815" y="106"/>
                </a:lnTo>
                <a:lnTo>
                  <a:pt x="823" y="106"/>
                </a:lnTo>
                <a:lnTo>
                  <a:pt x="831" y="106"/>
                </a:lnTo>
                <a:lnTo>
                  <a:pt x="839" y="106"/>
                </a:lnTo>
                <a:lnTo>
                  <a:pt x="839" y="97"/>
                </a:lnTo>
                <a:lnTo>
                  <a:pt x="839" y="88"/>
                </a:lnTo>
                <a:lnTo>
                  <a:pt x="839" y="79"/>
                </a:lnTo>
                <a:lnTo>
                  <a:pt x="839" y="70"/>
                </a:lnTo>
                <a:lnTo>
                  <a:pt x="839" y="62"/>
                </a:lnTo>
                <a:lnTo>
                  <a:pt x="839" y="53"/>
                </a:lnTo>
                <a:lnTo>
                  <a:pt x="839" y="44"/>
                </a:lnTo>
                <a:lnTo>
                  <a:pt x="839" y="35"/>
                </a:lnTo>
                <a:lnTo>
                  <a:pt x="839" y="26"/>
                </a:lnTo>
                <a:lnTo>
                  <a:pt x="839" y="18"/>
                </a:lnTo>
                <a:lnTo>
                  <a:pt x="839" y="9"/>
                </a:lnTo>
                <a:lnTo>
                  <a:pt x="839" y="0"/>
                </a:lnTo>
                <a:lnTo>
                  <a:pt x="847" y="9"/>
                </a:lnTo>
                <a:lnTo>
                  <a:pt x="855" y="18"/>
                </a:lnTo>
                <a:lnTo>
                  <a:pt x="855" y="26"/>
                </a:lnTo>
                <a:lnTo>
                  <a:pt x="863" y="35"/>
                </a:lnTo>
                <a:lnTo>
                  <a:pt x="871" y="44"/>
                </a:lnTo>
                <a:lnTo>
                  <a:pt x="879" y="53"/>
                </a:lnTo>
                <a:lnTo>
                  <a:pt x="887" y="70"/>
                </a:lnTo>
                <a:lnTo>
                  <a:pt x="903" y="88"/>
                </a:lnTo>
                <a:lnTo>
                  <a:pt x="911" y="97"/>
                </a:lnTo>
                <a:lnTo>
                  <a:pt x="919" y="114"/>
                </a:lnTo>
                <a:lnTo>
                  <a:pt x="935" y="141"/>
                </a:lnTo>
                <a:lnTo>
                  <a:pt x="951" y="158"/>
                </a:lnTo>
                <a:lnTo>
                  <a:pt x="967" y="176"/>
                </a:lnTo>
                <a:lnTo>
                  <a:pt x="983" y="202"/>
                </a:lnTo>
                <a:lnTo>
                  <a:pt x="991" y="220"/>
                </a:lnTo>
                <a:lnTo>
                  <a:pt x="1007" y="238"/>
                </a:lnTo>
                <a:lnTo>
                  <a:pt x="1023" y="255"/>
                </a:lnTo>
                <a:lnTo>
                  <a:pt x="1031" y="273"/>
                </a:lnTo>
                <a:lnTo>
                  <a:pt x="1039" y="290"/>
                </a:lnTo>
                <a:lnTo>
                  <a:pt x="1055" y="299"/>
                </a:lnTo>
                <a:lnTo>
                  <a:pt x="1063" y="317"/>
                </a:lnTo>
                <a:lnTo>
                  <a:pt x="1071" y="326"/>
                </a:lnTo>
                <a:lnTo>
                  <a:pt x="1071" y="334"/>
                </a:lnTo>
                <a:lnTo>
                  <a:pt x="1079" y="343"/>
                </a:lnTo>
                <a:lnTo>
                  <a:pt x="1087" y="352"/>
                </a:lnTo>
                <a:lnTo>
                  <a:pt x="1087" y="361"/>
                </a:lnTo>
                <a:lnTo>
                  <a:pt x="1095" y="361"/>
                </a:lnTo>
                <a:lnTo>
                  <a:pt x="1087" y="361"/>
                </a:lnTo>
                <a:lnTo>
                  <a:pt x="1087" y="370"/>
                </a:lnTo>
                <a:lnTo>
                  <a:pt x="1079" y="378"/>
                </a:lnTo>
                <a:lnTo>
                  <a:pt x="1071" y="378"/>
                </a:lnTo>
                <a:lnTo>
                  <a:pt x="1071" y="387"/>
                </a:lnTo>
                <a:lnTo>
                  <a:pt x="1063" y="396"/>
                </a:lnTo>
                <a:lnTo>
                  <a:pt x="1055" y="414"/>
                </a:lnTo>
                <a:lnTo>
                  <a:pt x="1039" y="423"/>
                </a:lnTo>
                <a:lnTo>
                  <a:pt x="1031" y="440"/>
                </a:lnTo>
                <a:lnTo>
                  <a:pt x="1023" y="449"/>
                </a:lnTo>
                <a:lnTo>
                  <a:pt x="1007" y="467"/>
                </a:lnTo>
                <a:lnTo>
                  <a:pt x="991" y="484"/>
                </a:lnTo>
                <a:lnTo>
                  <a:pt x="983" y="502"/>
                </a:lnTo>
                <a:lnTo>
                  <a:pt x="967" y="519"/>
                </a:lnTo>
                <a:lnTo>
                  <a:pt x="951" y="537"/>
                </a:lnTo>
                <a:lnTo>
                  <a:pt x="935" y="563"/>
                </a:lnTo>
                <a:lnTo>
                  <a:pt x="919" y="572"/>
                </a:lnTo>
                <a:lnTo>
                  <a:pt x="911" y="590"/>
                </a:lnTo>
                <a:lnTo>
                  <a:pt x="903" y="607"/>
                </a:lnTo>
                <a:lnTo>
                  <a:pt x="887" y="616"/>
                </a:lnTo>
                <a:lnTo>
                  <a:pt x="879" y="634"/>
                </a:lnTo>
                <a:lnTo>
                  <a:pt x="871" y="643"/>
                </a:lnTo>
                <a:lnTo>
                  <a:pt x="863" y="651"/>
                </a:lnTo>
                <a:lnTo>
                  <a:pt x="855" y="660"/>
                </a:lnTo>
                <a:lnTo>
                  <a:pt x="855" y="669"/>
                </a:lnTo>
                <a:lnTo>
                  <a:pt x="847" y="669"/>
                </a:lnTo>
                <a:lnTo>
                  <a:pt x="847" y="678"/>
                </a:lnTo>
                <a:lnTo>
                  <a:pt x="839" y="678"/>
                </a:lnTo>
                <a:lnTo>
                  <a:pt x="839" y="687"/>
                </a:lnTo>
                <a:lnTo>
                  <a:pt x="839" y="678"/>
                </a:lnTo>
                <a:lnTo>
                  <a:pt x="839" y="669"/>
                </a:lnTo>
                <a:lnTo>
                  <a:pt x="839" y="660"/>
                </a:lnTo>
                <a:lnTo>
                  <a:pt x="839" y="651"/>
                </a:lnTo>
                <a:lnTo>
                  <a:pt x="839" y="643"/>
                </a:lnTo>
                <a:lnTo>
                  <a:pt x="839" y="634"/>
                </a:lnTo>
                <a:lnTo>
                  <a:pt x="839" y="625"/>
                </a:lnTo>
                <a:lnTo>
                  <a:pt x="839" y="616"/>
                </a:lnTo>
                <a:lnTo>
                  <a:pt x="839" y="607"/>
                </a:lnTo>
                <a:lnTo>
                  <a:pt x="839" y="599"/>
                </a:lnTo>
                <a:lnTo>
                  <a:pt x="839" y="590"/>
                </a:lnTo>
                <a:lnTo>
                  <a:pt x="839" y="581"/>
                </a:lnTo>
                <a:lnTo>
                  <a:pt x="839" y="572"/>
                </a:lnTo>
                <a:lnTo>
                  <a:pt x="839" y="563"/>
                </a:lnTo>
                <a:lnTo>
                  <a:pt x="839" y="555"/>
                </a:lnTo>
                <a:lnTo>
                  <a:pt x="831" y="555"/>
                </a:lnTo>
                <a:lnTo>
                  <a:pt x="831" y="563"/>
                </a:lnTo>
                <a:lnTo>
                  <a:pt x="823" y="563"/>
                </a:lnTo>
                <a:lnTo>
                  <a:pt x="815" y="563"/>
                </a:lnTo>
                <a:lnTo>
                  <a:pt x="807" y="563"/>
                </a:lnTo>
                <a:lnTo>
                  <a:pt x="799" y="563"/>
                </a:lnTo>
                <a:lnTo>
                  <a:pt x="791" y="563"/>
                </a:lnTo>
                <a:lnTo>
                  <a:pt x="783" y="563"/>
                </a:lnTo>
                <a:lnTo>
                  <a:pt x="775" y="572"/>
                </a:lnTo>
                <a:lnTo>
                  <a:pt x="767" y="572"/>
                </a:lnTo>
                <a:lnTo>
                  <a:pt x="759" y="572"/>
                </a:lnTo>
                <a:lnTo>
                  <a:pt x="751" y="572"/>
                </a:lnTo>
                <a:lnTo>
                  <a:pt x="743" y="581"/>
                </a:lnTo>
                <a:lnTo>
                  <a:pt x="735" y="581"/>
                </a:lnTo>
                <a:lnTo>
                  <a:pt x="727" y="581"/>
                </a:lnTo>
                <a:lnTo>
                  <a:pt x="719" y="590"/>
                </a:lnTo>
                <a:lnTo>
                  <a:pt x="711" y="590"/>
                </a:lnTo>
                <a:lnTo>
                  <a:pt x="703" y="590"/>
                </a:lnTo>
                <a:lnTo>
                  <a:pt x="695" y="599"/>
                </a:lnTo>
                <a:lnTo>
                  <a:pt x="687" y="599"/>
                </a:lnTo>
                <a:lnTo>
                  <a:pt x="679" y="599"/>
                </a:lnTo>
                <a:lnTo>
                  <a:pt x="671" y="607"/>
                </a:lnTo>
                <a:lnTo>
                  <a:pt x="663" y="607"/>
                </a:lnTo>
                <a:lnTo>
                  <a:pt x="655" y="616"/>
                </a:lnTo>
                <a:lnTo>
                  <a:pt x="647" y="616"/>
                </a:lnTo>
                <a:lnTo>
                  <a:pt x="647" y="625"/>
                </a:lnTo>
                <a:lnTo>
                  <a:pt x="639" y="625"/>
                </a:lnTo>
                <a:lnTo>
                  <a:pt x="631" y="634"/>
                </a:lnTo>
                <a:lnTo>
                  <a:pt x="623" y="634"/>
                </a:lnTo>
                <a:lnTo>
                  <a:pt x="615" y="643"/>
                </a:lnTo>
                <a:lnTo>
                  <a:pt x="607" y="643"/>
                </a:lnTo>
                <a:lnTo>
                  <a:pt x="599" y="651"/>
                </a:lnTo>
                <a:lnTo>
                  <a:pt x="599" y="660"/>
                </a:lnTo>
                <a:lnTo>
                  <a:pt x="591" y="660"/>
                </a:lnTo>
                <a:lnTo>
                  <a:pt x="583" y="669"/>
                </a:lnTo>
                <a:lnTo>
                  <a:pt x="575" y="678"/>
                </a:lnTo>
                <a:lnTo>
                  <a:pt x="567" y="687"/>
                </a:lnTo>
                <a:lnTo>
                  <a:pt x="559" y="695"/>
                </a:lnTo>
                <a:lnTo>
                  <a:pt x="559" y="704"/>
                </a:lnTo>
                <a:lnTo>
                  <a:pt x="551" y="704"/>
                </a:lnTo>
                <a:lnTo>
                  <a:pt x="543" y="713"/>
                </a:lnTo>
                <a:lnTo>
                  <a:pt x="543" y="722"/>
                </a:lnTo>
                <a:lnTo>
                  <a:pt x="535" y="731"/>
                </a:lnTo>
                <a:lnTo>
                  <a:pt x="527" y="731"/>
                </a:lnTo>
                <a:lnTo>
                  <a:pt x="527" y="739"/>
                </a:lnTo>
                <a:lnTo>
                  <a:pt x="519" y="748"/>
                </a:lnTo>
                <a:lnTo>
                  <a:pt x="519" y="757"/>
                </a:lnTo>
                <a:lnTo>
                  <a:pt x="511" y="757"/>
                </a:lnTo>
                <a:lnTo>
                  <a:pt x="511" y="766"/>
                </a:lnTo>
                <a:lnTo>
                  <a:pt x="511" y="775"/>
                </a:lnTo>
                <a:lnTo>
                  <a:pt x="503" y="783"/>
                </a:lnTo>
                <a:lnTo>
                  <a:pt x="503" y="792"/>
                </a:lnTo>
                <a:lnTo>
                  <a:pt x="496" y="792"/>
                </a:lnTo>
                <a:lnTo>
                  <a:pt x="496" y="801"/>
                </a:lnTo>
                <a:lnTo>
                  <a:pt x="496" y="810"/>
                </a:lnTo>
                <a:lnTo>
                  <a:pt x="488" y="810"/>
                </a:lnTo>
                <a:lnTo>
                  <a:pt x="488" y="819"/>
                </a:lnTo>
                <a:lnTo>
                  <a:pt x="488" y="827"/>
                </a:lnTo>
                <a:lnTo>
                  <a:pt x="480" y="827"/>
                </a:lnTo>
                <a:lnTo>
                  <a:pt x="480" y="836"/>
                </a:lnTo>
                <a:lnTo>
                  <a:pt x="472" y="836"/>
                </a:lnTo>
                <a:lnTo>
                  <a:pt x="472" y="827"/>
                </a:lnTo>
                <a:lnTo>
                  <a:pt x="464" y="827"/>
                </a:lnTo>
                <a:lnTo>
                  <a:pt x="456" y="819"/>
                </a:lnTo>
                <a:lnTo>
                  <a:pt x="448" y="819"/>
                </a:lnTo>
                <a:lnTo>
                  <a:pt x="440" y="810"/>
                </a:lnTo>
                <a:lnTo>
                  <a:pt x="432" y="801"/>
                </a:lnTo>
                <a:lnTo>
                  <a:pt x="424" y="792"/>
                </a:lnTo>
                <a:lnTo>
                  <a:pt x="416" y="783"/>
                </a:lnTo>
                <a:lnTo>
                  <a:pt x="408" y="775"/>
                </a:lnTo>
                <a:lnTo>
                  <a:pt x="392" y="766"/>
                </a:lnTo>
                <a:lnTo>
                  <a:pt x="384" y="757"/>
                </a:lnTo>
                <a:lnTo>
                  <a:pt x="368" y="748"/>
                </a:lnTo>
                <a:lnTo>
                  <a:pt x="352" y="739"/>
                </a:lnTo>
                <a:lnTo>
                  <a:pt x="344" y="731"/>
                </a:lnTo>
                <a:lnTo>
                  <a:pt x="328" y="722"/>
                </a:lnTo>
                <a:lnTo>
                  <a:pt x="320" y="713"/>
                </a:lnTo>
                <a:lnTo>
                  <a:pt x="312" y="704"/>
                </a:lnTo>
                <a:lnTo>
                  <a:pt x="304" y="695"/>
                </a:lnTo>
                <a:lnTo>
                  <a:pt x="296" y="687"/>
                </a:lnTo>
                <a:lnTo>
                  <a:pt x="288" y="687"/>
                </a:lnTo>
                <a:lnTo>
                  <a:pt x="280" y="678"/>
                </a:lnTo>
                <a:lnTo>
                  <a:pt x="272" y="669"/>
                </a:lnTo>
                <a:lnTo>
                  <a:pt x="264" y="669"/>
                </a:lnTo>
                <a:lnTo>
                  <a:pt x="264" y="660"/>
                </a:lnTo>
                <a:lnTo>
                  <a:pt x="256" y="660"/>
                </a:lnTo>
                <a:lnTo>
                  <a:pt x="248" y="669"/>
                </a:lnTo>
                <a:lnTo>
                  <a:pt x="240" y="678"/>
                </a:lnTo>
                <a:lnTo>
                  <a:pt x="232" y="678"/>
                </a:lnTo>
                <a:lnTo>
                  <a:pt x="224" y="687"/>
                </a:lnTo>
                <a:lnTo>
                  <a:pt x="216" y="687"/>
                </a:lnTo>
                <a:lnTo>
                  <a:pt x="208" y="695"/>
                </a:lnTo>
                <a:lnTo>
                  <a:pt x="200" y="704"/>
                </a:lnTo>
                <a:lnTo>
                  <a:pt x="184" y="713"/>
                </a:lnTo>
                <a:lnTo>
                  <a:pt x="176" y="722"/>
                </a:lnTo>
                <a:lnTo>
                  <a:pt x="160" y="731"/>
                </a:lnTo>
                <a:lnTo>
                  <a:pt x="144" y="739"/>
                </a:lnTo>
                <a:lnTo>
                  <a:pt x="128" y="748"/>
                </a:lnTo>
                <a:lnTo>
                  <a:pt x="112" y="766"/>
                </a:lnTo>
                <a:lnTo>
                  <a:pt x="96" y="775"/>
                </a:lnTo>
                <a:lnTo>
                  <a:pt x="88" y="783"/>
                </a:lnTo>
                <a:lnTo>
                  <a:pt x="72" y="792"/>
                </a:lnTo>
                <a:lnTo>
                  <a:pt x="56" y="801"/>
                </a:lnTo>
                <a:lnTo>
                  <a:pt x="48" y="810"/>
                </a:lnTo>
                <a:lnTo>
                  <a:pt x="40" y="819"/>
                </a:lnTo>
                <a:lnTo>
                  <a:pt x="32" y="819"/>
                </a:lnTo>
                <a:lnTo>
                  <a:pt x="24" y="827"/>
                </a:lnTo>
                <a:lnTo>
                  <a:pt x="16" y="827"/>
                </a:lnTo>
                <a:lnTo>
                  <a:pt x="8" y="836"/>
                </a:lnTo>
                <a:lnTo>
                  <a:pt x="0" y="845"/>
                </a:lnTo>
                <a:lnTo>
                  <a:pt x="0" y="836"/>
                </a:lnTo>
                <a:lnTo>
                  <a:pt x="0" y="827"/>
                </a:lnTo>
                <a:lnTo>
                  <a:pt x="8" y="819"/>
                </a:lnTo>
                <a:lnTo>
                  <a:pt x="8" y="810"/>
                </a:lnTo>
                <a:lnTo>
                  <a:pt x="8" y="801"/>
                </a:lnTo>
                <a:lnTo>
                  <a:pt x="8" y="792"/>
                </a:lnTo>
                <a:lnTo>
                  <a:pt x="16" y="783"/>
                </a:lnTo>
                <a:lnTo>
                  <a:pt x="16" y="766"/>
                </a:lnTo>
                <a:lnTo>
                  <a:pt x="16" y="757"/>
                </a:lnTo>
                <a:lnTo>
                  <a:pt x="16" y="748"/>
                </a:lnTo>
                <a:lnTo>
                  <a:pt x="24" y="739"/>
                </a:lnTo>
                <a:lnTo>
                  <a:pt x="24" y="731"/>
                </a:lnTo>
                <a:lnTo>
                  <a:pt x="32" y="713"/>
                </a:lnTo>
                <a:lnTo>
                  <a:pt x="32" y="704"/>
                </a:lnTo>
                <a:lnTo>
                  <a:pt x="40" y="695"/>
                </a:lnTo>
                <a:lnTo>
                  <a:pt x="40" y="678"/>
                </a:lnTo>
                <a:lnTo>
                  <a:pt x="48" y="669"/>
                </a:lnTo>
                <a:lnTo>
                  <a:pt x="56" y="651"/>
                </a:lnTo>
                <a:lnTo>
                  <a:pt x="56" y="643"/>
                </a:lnTo>
                <a:lnTo>
                  <a:pt x="64" y="625"/>
                </a:lnTo>
                <a:lnTo>
                  <a:pt x="72" y="616"/>
                </a:lnTo>
                <a:lnTo>
                  <a:pt x="80" y="599"/>
                </a:lnTo>
                <a:lnTo>
                  <a:pt x="80" y="590"/>
                </a:lnTo>
                <a:lnTo>
                  <a:pt x="88" y="572"/>
                </a:lnTo>
                <a:lnTo>
                  <a:pt x="96" y="555"/>
                </a:lnTo>
                <a:lnTo>
                  <a:pt x="104" y="546"/>
                </a:lnTo>
                <a:lnTo>
                  <a:pt x="112" y="528"/>
                </a:lnTo>
                <a:lnTo>
                  <a:pt x="120" y="519"/>
                </a:lnTo>
                <a:lnTo>
                  <a:pt x="128" y="502"/>
                </a:lnTo>
                <a:lnTo>
                  <a:pt x="136" y="484"/>
                </a:lnTo>
                <a:lnTo>
                  <a:pt x="152" y="475"/>
                </a:lnTo>
                <a:lnTo>
                  <a:pt x="160" y="458"/>
                </a:lnTo>
                <a:lnTo>
                  <a:pt x="168" y="449"/>
                </a:lnTo>
                <a:lnTo>
                  <a:pt x="176" y="440"/>
                </a:lnTo>
                <a:lnTo>
                  <a:pt x="184" y="423"/>
                </a:lnTo>
                <a:lnTo>
                  <a:pt x="192" y="414"/>
                </a:lnTo>
                <a:lnTo>
                  <a:pt x="208" y="396"/>
                </a:lnTo>
                <a:lnTo>
                  <a:pt x="216" y="387"/>
                </a:lnTo>
                <a:lnTo>
                  <a:pt x="224" y="378"/>
                </a:lnTo>
                <a:lnTo>
                  <a:pt x="232" y="370"/>
                </a:lnTo>
                <a:lnTo>
                  <a:pt x="248" y="352"/>
                </a:lnTo>
                <a:lnTo>
                  <a:pt x="256" y="343"/>
                </a:lnTo>
                <a:lnTo>
                  <a:pt x="264" y="334"/>
                </a:lnTo>
                <a:lnTo>
                  <a:pt x="280" y="326"/>
                </a:lnTo>
                <a:lnTo>
                  <a:pt x="288" y="317"/>
                </a:lnTo>
                <a:lnTo>
                  <a:pt x="304" y="308"/>
                </a:lnTo>
                <a:lnTo>
                  <a:pt x="312" y="299"/>
                </a:lnTo>
                <a:lnTo>
                  <a:pt x="320" y="290"/>
                </a:lnTo>
                <a:lnTo>
                  <a:pt x="336" y="282"/>
                </a:lnTo>
                <a:lnTo>
                  <a:pt x="344" y="273"/>
                </a:lnTo>
                <a:lnTo>
                  <a:pt x="352" y="264"/>
                </a:lnTo>
                <a:lnTo>
                  <a:pt x="368" y="255"/>
                </a:lnTo>
                <a:lnTo>
                  <a:pt x="376" y="246"/>
                </a:lnTo>
                <a:lnTo>
                  <a:pt x="392" y="238"/>
                </a:lnTo>
                <a:lnTo>
                  <a:pt x="400" y="238"/>
                </a:lnTo>
                <a:lnTo>
                  <a:pt x="416" y="229"/>
                </a:lnTo>
                <a:lnTo>
                  <a:pt x="424" y="220"/>
                </a:lnTo>
                <a:lnTo>
                  <a:pt x="432" y="211"/>
                </a:lnTo>
                <a:lnTo>
                  <a:pt x="448" y="211"/>
                </a:lnTo>
                <a:lnTo>
                  <a:pt x="456" y="202"/>
                </a:lnTo>
                <a:lnTo>
                  <a:pt x="472" y="194"/>
                </a:lnTo>
                <a:lnTo>
                  <a:pt x="480" y="194"/>
                </a:lnTo>
                <a:lnTo>
                  <a:pt x="496" y="185"/>
                </a:lnTo>
                <a:lnTo>
                  <a:pt x="503" y="176"/>
                </a:lnTo>
                <a:lnTo>
                  <a:pt x="511" y="176"/>
                </a:lnTo>
                <a:lnTo>
                  <a:pt x="527" y="167"/>
                </a:lnTo>
                <a:lnTo>
                  <a:pt x="535" y="167"/>
                </a:lnTo>
                <a:lnTo>
                  <a:pt x="551" y="158"/>
                </a:lnTo>
                <a:lnTo>
                  <a:pt x="559" y="158"/>
                </a:lnTo>
                <a:lnTo>
                  <a:pt x="575" y="150"/>
                </a:lnTo>
                <a:lnTo>
                  <a:pt x="583" y="150"/>
                </a:lnTo>
                <a:lnTo>
                  <a:pt x="599" y="150"/>
                </a:lnTo>
                <a:lnTo>
                  <a:pt x="607" y="141"/>
                </a:lnTo>
                <a:lnTo>
                  <a:pt x="615" y="141"/>
                </a:lnTo>
                <a:lnTo>
                  <a:pt x="631" y="141"/>
                </a:lnTo>
                <a:lnTo>
                  <a:pt x="639" y="132"/>
                </a:lnTo>
                <a:lnTo>
                  <a:pt x="655" y="132"/>
                </a:lnTo>
                <a:lnTo>
                  <a:pt x="663" y="132"/>
                </a:lnTo>
                <a:lnTo>
                  <a:pt x="671" y="123"/>
                </a:lnTo>
                <a:lnTo>
                  <a:pt x="687" y="123"/>
                </a:lnTo>
                <a:lnTo>
                  <a:pt x="695" y="123"/>
                </a:lnTo>
                <a:lnTo>
                  <a:pt x="703" y="123"/>
                </a:lnTo>
                <a:lnTo>
                  <a:pt x="711" y="114"/>
                </a:lnTo>
                <a:lnTo>
                  <a:pt x="727" y="114"/>
                </a:lnTo>
                <a:lnTo>
                  <a:pt x="735" y="114"/>
                </a:lnTo>
                <a:lnTo>
                  <a:pt x="743" y="114"/>
                </a:lnTo>
                <a:lnTo>
                  <a:pt x="751" y="114"/>
                </a:lnTo>
                <a:lnTo>
                  <a:pt x="759" y="114"/>
                </a:lnTo>
                <a:lnTo>
                  <a:pt x="767" y="114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180280" y="2759040"/>
            <a:ext cx="1435320" cy="1568520"/>
          </a:xfrm>
          <a:custGeom>
            <a:avLst/>
            <a:gdLst/>
            <a:ahLst/>
            <a:rect l="l" t="t" r="r" b="b"/>
            <a:pathLst>
              <a:path w="835" h="988">
                <a:moveTo>
                  <a:pt x="699" y="655"/>
                </a:moveTo>
                <a:lnTo>
                  <a:pt x="699" y="664"/>
                </a:lnTo>
                <a:lnTo>
                  <a:pt x="699" y="673"/>
                </a:lnTo>
                <a:lnTo>
                  <a:pt x="707" y="681"/>
                </a:lnTo>
                <a:lnTo>
                  <a:pt x="707" y="690"/>
                </a:lnTo>
                <a:lnTo>
                  <a:pt x="707" y="699"/>
                </a:lnTo>
                <a:lnTo>
                  <a:pt x="707" y="707"/>
                </a:lnTo>
                <a:lnTo>
                  <a:pt x="707" y="716"/>
                </a:lnTo>
                <a:lnTo>
                  <a:pt x="715" y="716"/>
                </a:lnTo>
                <a:lnTo>
                  <a:pt x="715" y="725"/>
                </a:lnTo>
                <a:lnTo>
                  <a:pt x="715" y="734"/>
                </a:lnTo>
                <a:lnTo>
                  <a:pt x="723" y="734"/>
                </a:lnTo>
                <a:lnTo>
                  <a:pt x="731" y="734"/>
                </a:lnTo>
                <a:lnTo>
                  <a:pt x="739" y="734"/>
                </a:lnTo>
                <a:lnTo>
                  <a:pt x="747" y="734"/>
                </a:lnTo>
                <a:lnTo>
                  <a:pt x="755" y="734"/>
                </a:lnTo>
                <a:lnTo>
                  <a:pt x="763" y="734"/>
                </a:lnTo>
                <a:lnTo>
                  <a:pt x="770" y="734"/>
                </a:lnTo>
                <a:lnTo>
                  <a:pt x="778" y="734"/>
                </a:lnTo>
                <a:lnTo>
                  <a:pt x="786" y="734"/>
                </a:lnTo>
                <a:lnTo>
                  <a:pt x="794" y="734"/>
                </a:lnTo>
                <a:lnTo>
                  <a:pt x="802" y="734"/>
                </a:lnTo>
                <a:lnTo>
                  <a:pt x="810" y="734"/>
                </a:lnTo>
                <a:lnTo>
                  <a:pt x="818" y="734"/>
                </a:lnTo>
                <a:lnTo>
                  <a:pt x="826" y="734"/>
                </a:lnTo>
                <a:lnTo>
                  <a:pt x="834" y="734"/>
                </a:lnTo>
                <a:lnTo>
                  <a:pt x="834" y="742"/>
                </a:lnTo>
                <a:lnTo>
                  <a:pt x="826" y="742"/>
                </a:lnTo>
                <a:lnTo>
                  <a:pt x="818" y="751"/>
                </a:lnTo>
                <a:lnTo>
                  <a:pt x="810" y="751"/>
                </a:lnTo>
                <a:lnTo>
                  <a:pt x="802" y="760"/>
                </a:lnTo>
                <a:lnTo>
                  <a:pt x="794" y="769"/>
                </a:lnTo>
                <a:lnTo>
                  <a:pt x="786" y="777"/>
                </a:lnTo>
                <a:lnTo>
                  <a:pt x="770" y="786"/>
                </a:lnTo>
                <a:lnTo>
                  <a:pt x="763" y="795"/>
                </a:lnTo>
                <a:lnTo>
                  <a:pt x="747" y="804"/>
                </a:lnTo>
                <a:lnTo>
                  <a:pt x="731" y="821"/>
                </a:lnTo>
                <a:lnTo>
                  <a:pt x="715" y="830"/>
                </a:lnTo>
                <a:lnTo>
                  <a:pt x="699" y="847"/>
                </a:lnTo>
                <a:lnTo>
                  <a:pt x="675" y="865"/>
                </a:lnTo>
                <a:lnTo>
                  <a:pt x="659" y="873"/>
                </a:lnTo>
                <a:lnTo>
                  <a:pt x="635" y="891"/>
                </a:lnTo>
                <a:lnTo>
                  <a:pt x="620" y="900"/>
                </a:lnTo>
                <a:lnTo>
                  <a:pt x="604" y="917"/>
                </a:lnTo>
                <a:lnTo>
                  <a:pt x="596" y="926"/>
                </a:lnTo>
                <a:lnTo>
                  <a:pt x="580" y="935"/>
                </a:lnTo>
                <a:lnTo>
                  <a:pt x="572" y="943"/>
                </a:lnTo>
                <a:lnTo>
                  <a:pt x="556" y="952"/>
                </a:lnTo>
                <a:lnTo>
                  <a:pt x="548" y="961"/>
                </a:lnTo>
                <a:lnTo>
                  <a:pt x="540" y="970"/>
                </a:lnTo>
                <a:lnTo>
                  <a:pt x="532" y="970"/>
                </a:lnTo>
                <a:lnTo>
                  <a:pt x="532" y="978"/>
                </a:lnTo>
                <a:lnTo>
                  <a:pt x="524" y="978"/>
                </a:lnTo>
                <a:lnTo>
                  <a:pt x="524" y="987"/>
                </a:lnTo>
                <a:lnTo>
                  <a:pt x="516" y="987"/>
                </a:lnTo>
                <a:lnTo>
                  <a:pt x="508" y="978"/>
                </a:lnTo>
                <a:lnTo>
                  <a:pt x="500" y="970"/>
                </a:lnTo>
                <a:lnTo>
                  <a:pt x="492" y="970"/>
                </a:lnTo>
                <a:lnTo>
                  <a:pt x="485" y="961"/>
                </a:lnTo>
                <a:lnTo>
                  <a:pt x="477" y="952"/>
                </a:lnTo>
                <a:lnTo>
                  <a:pt x="461" y="943"/>
                </a:lnTo>
                <a:lnTo>
                  <a:pt x="445" y="935"/>
                </a:lnTo>
                <a:lnTo>
                  <a:pt x="429" y="926"/>
                </a:lnTo>
                <a:lnTo>
                  <a:pt x="413" y="917"/>
                </a:lnTo>
                <a:lnTo>
                  <a:pt x="397" y="900"/>
                </a:lnTo>
                <a:lnTo>
                  <a:pt x="381" y="891"/>
                </a:lnTo>
                <a:lnTo>
                  <a:pt x="357" y="873"/>
                </a:lnTo>
                <a:lnTo>
                  <a:pt x="334" y="865"/>
                </a:lnTo>
                <a:lnTo>
                  <a:pt x="310" y="847"/>
                </a:lnTo>
                <a:lnTo>
                  <a:pt x="294" y="830"/>
                </a:lnTo>
                <a:lnTo>
                  <a:pt x="270" y="821"/>
                </a:lnTo>
                <a:lnTo>
                  <a:pt x="254" y="804"/>
                </a:lnTo>
                <a:lnTo>
                  <a:pt x="238" y="795"/>
                </a:lnTo>
                <a:lnTo>
                  <a:pt x="222" y="786"/>
                </a:lnTo>
                <a:lnTo>
                  <a:pt x="207" y="777"/>
                </a:lnTo>
                <a:lnTo>
                  <a:pt x="199" y="769"/>
                </a:lnTo>
                <a:lnTo>
                  <a:pt x="191" y="760"/>
                </a:lnTo>
                <a:lnTo>
                  <a:pt x="175" y="751"/>
                </a:lnTo>
                <a:lnTo>
                  <a:pt x="167" y="751"/>
                </a:lnTo>
                <a:lnTo>
                  <a:pt x="167" y="742"/>
                </a:lnTo>
                <a:lnTo>
                  <a:pt x="159" y="742"/>
                </a:lnTo>
                <a:lnTo>
                  <a:pt x="151" y="742"/>
                </a:lnTo>
                <a:lnTo>
                  <a:pt x="151" y="734"/>
                </a:lnTo>
                <a:lnTo>
                  <a:pt x="159" y="734"/>
                </a:lnTo>
                <a:lnTo>
                  <a:pt x="167" y="734"/>
                </a:lnTo>
                <a:lnTo>
                  <a:pt x="175" y="734"/>
                </a:lnTo>
                <a:lnTo>
                  <a:pt x="183" y="734"/>
                </a:lnTo>
                <a:lnTo>
                  <a:pt x="191" y="734"/>
                </a:lnTo>
                <a:lnTo>
                  <a:pt x="199" y="734"/>
                </a:lnTo>
                <a:lnTo>
                  <a:pt x="207" y="734"/>
                </a:lnTo>
                <a:lnTo>
                  <a:pt x="214" y="734"/>
                </a:lnTo>
                <a:lnTo>
                  <a:pt x="222" y="734"/>
                </a:lnTo>
                <a:lnTo>
                  <a:pt x="230" y="734"/>
                </a:lnTo>
                <a:lnTo>
                  <a:pt x="238" y="734"/>
                </a:lnTo>
                <a:lnTo>
                  <a:pt x="246" y="734"/>
                </a:lnTo>
                <a:lnTo>
                  <a:pt x="254" y="734"/>
                </a:lnTo>
                <a:lnTo>
                  <a:pt x="262" y="734"/>
                </a:lnTo>
                <a:lnTo>
                  <a:pt x="270" y="734"/>
                </a:lnTo>
                <a:lnTo>
                  <a:pt x="278" y="734"/>
                </a:lnTo>
                <a:lnTo>
                  <a:pt x="286" y="734"/>
                </a:lnTo>
                <a:lnTo>
                  <a:pt x="278" y="725"/>
                </a:lnTo>
                <a:lnTo>
                  <a:pt x="278" y="716"/>
                </a:lnTo>
                <a:lnTo>
                  <a:pt x="278" y="707"/>
                </a:lnTo>
                <a:lnTo>
                  <a:pt x="278" y="699"/>
                </a:lnTo>
                <a:lnTo>
                  <a:pt x="270" y="690"/>
                </a:lnTo>
                <a:lnTo>
                  <a:pt x="270" y="681"/>
                </a:lnTo>
                <a:lnTo>
                  <a:pt x="270" y="673"/>
                </a:lnTo>
                <a:lnTo>
                  <a:pt x="262" y="673"/>
                </a:lnTo>
                <a:lnTo>
                  <a:pt x="262" y="664"/>
                </a:lnTo>
                <a:lnTo>
                  <a:pt x="262" y="655"/>
                </a:lnTo>
                <a:lnTo>
                  <a:pt x="254" y="655"/>
                </a:lnTo>
                <a:lnTo>
                  <a:pt x="254" y="646"/>
                </a:lnTo>
                <a:lnTo>
                  <a:pt x="246" y="638"/>
                </a:lnTo>
                <a:lnTo>
                  <a:pt x="238" y="629"/>
                </a:lnTo>
                <a:lnTo>
                  <a:pt x="238" y="620"/>
                </a:lnTo>
                <a:lnTo>
                  <a:pt x="230" y="611"/>
                </a:lnTo>
                <a:lnTo>
                  <a:pt x="222" y="603"/>
                </a:lnTo>
                <a:lnTo>
                  <a:pt x="214" y="594"/>
                </a:lnTo>
                <a:lnTo>
                  <a:pt x="214" y="585"/>
                </a:lnTo>
                <a:lnTo>
                  <a:pt x="207" y="585"/>
                </a:lnTo>
                <a:lnTo>
                  <a:pt x="199" y="576"/>
                </a:lnTo>
                <a:lnTo>
                  <a:pt x="199" y="568"/>
                </a:lnTo>
                <a:lnTo>
                  <a:pt x="191" y="559"/>
                </a:lnTo>
                <a:lnTo>
                  <a:pt x="183" y="559"/>
                </a:lnTo>
                <a:lnTo>
                  <a:pt x="183" y="550"/>
                </a:lnTo>
                <a:lnTo>
                  <a:pt x="175" y="550"/>
                </a:lnTo>
                <a:lnTo>
                  <a:pt x="167" y="542"/>
                </a:lnTo>
                <a:lnTo>
                  <a:pt x="159" y="533"/>
                </a:lnTo>
                <a:lnTo>
                  <a:pt x="151" y="524"/>
                </a:lnTo>
                <a:lnTo>
                  <a:pt x="143" y="524"/>
                </a:lnTo>
                <a:lnTo>
                  <a:pt x="135" y="515"/>
                </a:lnTo>
                <a:lnTo>
                  <a:pt x="127" y="507"/>
                </a:lnTo>
                <a:lnTo>
                  <a:pt x="119" y="507"/>
                </a:lnTo>
                <a:lnTo>
                  <a:pt x="111" y="498"/>
                </a:lnTo>
                <a:lnTo>
                  <a:pt x="103" y="489"/>
                </a:lnTo>
                <a:lnTo>
                  <a:pt x="95" y="489"/>
                </a:lnTo>
                <a:lnTo>
                  <a:pt x="87" y="480"/>
                </a:lnTo>
                <a:lnTo>
                  <a:pt x="79" y="480"/>
                </a:lnTo>
                <a:lnTo>
                  <a:pt x="71" y="480"/>
                </a:lnTo>
                <a:lnTo>
                  <a:pt x="71" y="472"/>
                </a:lnTo>
                <a:lnTo>
                  <a:pt x="64" y="472"/>
                </a:lnTo>
                <a:lnTo>
                  <a:pt x="56" y="472"/>
                </a:lnTo>
                <a:lnTo>
                  <a:pt x="48" y="463"/>
                </a:lnTo>
                <a:lnTo>
                  <a:pt x="40" y="463"/>
                </a:lnTo>
                <a:lnTo>
                  <a:pt x="32" y="463"/>
                </a:lnTo>
                <a:lnTo>
                  <a:pt x="24" y="463"/>
                </a:lnTo>
                <a:lnTo>
                  <a:pt x="16" y="454"/>
                </a:lnTo>
                <a:lnTo>
                  <a:pt x="8" y="454"/>
                </a:lnTo>
                <a:lnTo>
                  <a:pt x="0" y="454"/>
                </a:lnTo>
                <a:lnTo>
                  <a:pt x="0" y="445"/>
                </a:lnTo>
                <a:lnTo>
                  <a:pt x="8" y="445"/>
                </a:lnTo>
                <a:lnTo>
                  <a:pt x="8" y="437"/>
                </a:lnTo>
                <a:lnTo>
                  <a:pt x="16" y="428"/>
                </a:lnTo>
                <a:lnTo>
                  <a:pt x="24" y="419"/>
                </a:lnTo>
                <a:lnTo>
                  <a:pt x="32" y="411"/>
                </a:lnTo>
                <a:lnTo>
                  <a:pt x="40" y="402"/>
                </a:lnTo>
                <a:lnTo>
                  <a:pt x="48" y="393"/>
                </a:lnTo>
                <a:lnTo>
                  <a:pt x="56" y="384"/>
                </a:lnTo>
                <a:lnTo>
                  <a:pt x="64" y="367"/>
                </a:lnTo>
                <a:lnTo>
                  <a:pt x="71" y="358"/>
                </a:lnTo>
                <a:lnTo>
                  <a:pt x="79" y="341"/>
                </a:lnTo>
                <a:lnTo>
                  <a:pt x="95" y="332"/>
                </a:lnTo>
                <a:lnTo>
                  <a:pt x="103" y="314"/>
                </a:lnTo>
                <a:lnTo>
                  <a:pt x="111" y="306"/>
                </a:lnTo>
                <a:lnTo>
                  <a:pt x="119" y="297"/>
                </a:lnTo>
                <a:lnTo>
                  <a:pt x="127" y="288"/>
                </a:lnTo>
                <a:lnTo>
                  <a:pt x="135" y="280"/>
                </a:lnTo>
                <a:lnTo>
                  <a:pt x="143" y="271"/>
                </a:lnTo>
                <a:lnTo>
                  <a:pt x="143" y="262"/>
                </a:lnTo>
                <a:lnTo>
                  <a:pt x="151" y="253"/>
                </a:lnTo>
                <a:lnTo>
                  <a:pt x="159" y="245"/>
                </a:lnTo>
                <a:lnTo>
                  <a:pt x="167" y="236"/>
                </a:lnTo>
                <a:lnTo>
                  <a:pt x="167" y="227"/>
                </a:lnTo>
                <a:lnTo>
                  <a:pt x="159" y="227"/>
                </a:lnTo>
                <a:lnTo>
                  <a:pt x="159" y="218"/>
                </a:lnTo>
                <a:lnTo>
                  <a:pt x="151" y="210"/>
                </a:lnTo>
                <a:lnTo>
                  <a:pt x="143" y="201"/>
                </a:lnTo>
                <a:lnTo>
                  <a:pt x="135" y="192"/>
                </a:lnTo>
                <a:lnTo>
                  <a:pt x="127" y="183"/>
                </a:lnTo>
                <a:lnTo>
                  <a:pt x="127" y="166"/>
                </a:lnTo>
                <a:lnTo>
                  <a:pt x="119" y="157"/>
                </a:lnTo>
                <a:lnTo>
                  <a:pt x="111" y="148"/>
                </a:lnTo>
                <a:lnTo>
                  <a:pt x="95" y="131"/>
                </a:lnTo>
                <a:lnTo>
                  <a:pt x="87" y="122"/>
                </a:lnTo>
                <a:lnTo>
                  <a:pt x="79" y="105"/>
                </a:lnTo>
                <a:lnTo>
                  <a:pt x="71" y="87"/>
                </a:lnTo>
                <a:lnTo>
                  <a:pt x="64" y="79"/>
                </a:lnTo>
                <a:lnTo>
                  <a:pt x="56" y="70"/>
                </a:lnTo>
                <a:lnTo>
                  <a:pt x="48" y="52"/>
                </a:lnTo>
                <a:lnTo>
                  <a:pt x="40" y="44"/>
                </a:lnTo>
                <a:lnTo>
                  <a:pt x="40" y="35"/>
                </a:lnTo>
                <a:lnTo>
                  <a:pt x="32" y="35"/>
                </a:lnTo>
                <a:lnTo>
                  <a:pt x="24" y="26"/>
                </a:lnTo>
                <a:lnTo>
                  <a:pt x="24" y="17"/>
                </a:lnTo>
                <a:lnTo>
                  <a:pt x="24" y="9"/>
                </a:lnTo>
                <a:lnTo>
                  <a:pt x="16" y="9"/>
                </a:lnTo>
                <a:lnTo>
                  <a:pt x="16" y="0"/>
                </a:lnTo>
                <a:lnTo>
                  <a:pt x="24" y="0"/>
                </a:lnTo>
                <a:lnTo>
                  <a:pt x="32" y="9"/>
                </a:lnTo>
                <a:lnTo>
                  <a:pt x="40" y="9"/>
                </a:lnTo>
                <a:lnTo>
                  <a:pt x="48" y="9"/>
                </a:lnTo>
                <a:lnTo>
                  <a:pt x="56" y="9"/>
                </a:lnTo>
                <a:lnTo>
                  <a:pt x="64" y="9"/>
                </a:lnTo>
                <a:lnTo>
                  <a:pt x="64" y="17"/>
                </a:lnTo>
                <a:lnTo>
                  <a:pt x="71" y="17"/>
                </a:lnTo>
                <a:lnTo>
                  <a:pt x="79" y="17"/>
                </a:lnTo>
                <a:lnTo>
                  <a:pt x="87" y="17"/>
                </a:lnTo>
                <a:lnTo>
                  <a:pt x="95" y="26"/>
                </a:lnTo>
                <a:lnTo>
                  <a:pt x="111" y="26"/>
                </a:lnTo>
                <a:lnTo>
                  <a:pt x="119" y="26"/>
                </a:lnTo>
                <a:lnTo>
                  <a:pt x="127" y="26"/>
                </a:lnTo>
                <a:lnTo>
                  <a:pt x="135" y="35"/>
                </a:lnTo>
                <a:lnTo>
                  <a:pt x="143" y="35"/>
                </a:lnTo>
                <a:lnTo>
                  <a:pt x="151" y="44"/>
                </a:lnTo>
                <a:lnTo>
                  <a:pt x="159" y="44"/>
                </a:lnTo>
                <a:lnTo>
                  <a:pt x="175" y="44"/>
                </a:lnTo>
                <a:lnTo>
                  <a:pt x="183" y="52"/>
                </a:lnTo>
                <a:lnTo>
                  <a:pt x="191" y="52"/>
                </a:lnTo>
                <a:lnTo>
                  <a:pt x="199" y="61"/>
                </a:lnTo>
                <a:lnTo>
                  <a:pt x="214" y="61"/>
                </a:lnTo>
                <a:lnTo>
                  <a:pt x="222" y="70"/>
                </a:lnTo>
                <a:lnTo>
                  <a:pt x="230" y="70"/>
                </a:lnTo>
                <a:lnTo>
                  <a:pt x="246" y="79"/>
                </a:lnTo>
                <a:lnTo>
                  <a:pt x="254" y="79"/>
                </a:lnTo>
                <a:lnTo>
                  <a:pt x="262" y="87"/>
                </a:lnTo>
                <a:lnTo>
                  <a:pt x="278" y="96"/>
                </a:lnTo>
                <a:lnTo>
                  <a:pt x="286" y="96"/>
                </a:lnTo>
                <a:lnTo>
                  <a:pt x="294" y="105"/>
                </a:lnTo>
                <a:lnTo>
                  <a:pt x="310" y="114"/>
                </a:lnTo>
                <a:lnTo>
                  <a:pt x="318" y="122"/>
                </a:lnTo>
                <a:lnTo>
                  <a:pt x="326" y="122"/>
                </a:lnTo>
                <a:lnTo>
                  <a:pt x="342" y="131"/>
                </a:lnTo>
                <a:lnTo>
                  <a:pt x="349" y="140"/>
                </a:lnTo>
                <a:lnTo>
                  <a:pt x="357" y="148"/>
                </a:lnTo>
                <a:lnTo>
                  <a:pt x="373" y="157"/>
                </a:lnTo>
                <a:lnTo>
                  <a:pt x="381" y="166"/>
                </a:lnTo>
                <a:lnTo>
                  <a:pt x="397" y="175"/>
                </a:lnTo>
                <a:lnTo>
                  <a:pt x="405" y="183"/>
                </a:lnTo>
                <a:lnTo>
                  <a:pt x="413" y="192"/>
                </a:lnTo>
                <a:lnTo>
                  <a:pt x="429" y="201"/>
                </a:lnTo>
                <a:lnTo>
                  <a:pt x="437" y="210"/>
                </a:lnTo>
                <a:lnTo>
                  <a:pt x="445" y="218"/>
                </a:lnTo>
                <a:lnTo>
                  <a:pt x="461" y="227"/>
                </a:lnTo>
                <a:lnTo>
                  <a:pt x="469" y="236"/>
                </a:lnTo>
                <a:lnTo>
                  <a:pt x="477" y="245"/>
                </a:lnTo>
                <a:lnTo>
                  <a:pt x="485" y="253"/>
                </a:lnTo>
                <a:lnTo>
                  <a:pt x="492" y="262"/>
                </a:lnTo>
                <a:lnTo>
                  <a:pt x="508" y="280"/>
                </a:lnTo>
                <a:lnTo>
                  <a:pt x="516" y="288"/>
                </a:lnTo>
                <a:lnTo>
                  <a:pt x="524" y="297"/>
                </a:lnTo>
                <a:lnTo>
                  <a:pt x="532" y="306"/>
                </a:lnTo>
                <a:lnTo>
                  <a:pt x="540" y="314"/>
                </a:lnTo>
                <a:lnTo>
                  <a:pt x="548" y="332"/>
                </a:lnTo>
                <a:lnTo>
                  <a:pt x="556" y="341"/>
                </a:lnTo>
                <a:lnTo>
                  <a:pt x="564" y="349"/>
                </a:lnTo>
                <a:lnTo>
                  <a:pt x="572" y="358"/>
                </a:lnTo>
                <a:lnTo>
                  <a:pt x="580" y="376"/>
                </a:lnTo>
                <a:lnTo>
                  <a:pt x="588" y="384"/>
                </a:lnTo>
                <a:lnTo>
                  <a:pt x="596" y="393"/>
                </a:lnTo>
                <a:lnTo>
                  <a:pt x="596" y="402"/>
                </a:lnTo>
                <a:lnTo>
                  <a:pt x="604" y="419"/>
                </a:lnTo>
                <a:lnTo>
                  <a:pt x="612" y="428"/>
                </a:lnTo>
                <a:lnTo>
                  <a:pt x="620" y="437"/>
                </a:lnTo>
                <a:lnTo>
                  <a:pt x="620" y="445"/>
                </a:lnTo>
                <a:lnTo>
                  <a:pt x="627" y="454"/>
                </a:lnTo>
                <a:lnTo>
                  <a:pt x="635" y="463"/>
                </a:lnTo>
                <a:lnTo>
                  <a:pt x="635" y="480"/>
                </a:lnTo>
                <a:lnTo>
                  <a:pt x="643" y="489"/>
                </a:lnTo>
                <a:lnTo>
                  <a:pt x="643" y="498"/>
                </a:lnTo>
                <a:lnTo>
                  <a:pt x="651" y="507"/>
                </a:lnTo>
                <a:lnTo>
                  <a:pt x="651" y="515"/>
                </a:lnTo>
                <a:lnTo>
                  <a:pt x="659" y="524"/>
                </a:lnTo>
                <a:lnTo>
                  <a:pt x="659" y="533"/>
                </a:lnTo>
                <a:lnTo>
                  <a:pt x="667" y="550"/>
                </a:lnTo>
                <a:lnTo>
                  <a:pt x="667" y="559"/>
                </a:lnTo>
                <a:lnTo>
                  <a:pt x="675" y="568"/>
                </a:lnTo>
                <a:lnTo>
                  <a:pt x="675" y="576"/>
                </a:lnTo>
                <a:lnTo>
                  <a:pt x="683" y="585"/>
                </a:lnTo>
                <a:lnTo>
                  <a:pt x="683" y="594"/>
                </a:lnTo>
                <a:lnTo>
                  <a:pt x="683" y="611"/>
                </a:lnTo>
                <a:lnTo>
                  <a:pt x="691" y="620"/>
                </a:lnTo>
                <a:lnTo>
                  <a:pt x="691" y="629"/>
                </a:lnTo>
                <a:lnTo>
                  <a:pt x="691" y="638"/>
                </a:lnTo>
                <a:lnTo>
                  <a:pt x="699" y="646"/>
                </a:lnTo>
                <a:lnTo>
                  <a:pt x="699" y="655"/>
                </a:lnTo>
              </a:path>
            </a:pathLst>
          </a:custGeom>
          <a:solidFill>
            <a:srgbClr val="40d9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180280" y="2759040"/>
            <a:ext cx="1446480" cy="1577880"/>
          </a:xfrm>
          <a:custGeom>
            <a:avLst/>
            <a:gdLst/>
            <a:ahLst/>
            <a:rect l="l" t="t" r="r" b="b"/>
            <a:pathLst>
              <a:path w="841" h="994">
                <a:moveTo>
                  <a:pt x="704" y="659"/>
                </a:moveTo>
                <a:lnTo>
                  <a:pt x="704" y="668"/>
                </a:lnTo>
                <a:lnTo>
                  <a:pt x="704" y="677"/>
                </a:lnTo>
                <a:lnTo>
                  <a:pt x="712" y="685"/>
                </a:lnTo>
                <a:lnTo>
                  <a:pt x="712" y="694"/>
                </a:lnTo>
                <a:lnTo>
                  <a:pt x="712" y="703"/>
                </a:lnTo>
                <a:lnTo>
                  <a:pt x="712" y="712"/>
                </a:lnTo>
                <a:lnTo>
                  <a:pt x="712" y="721"/>
                </a:lnTo>
                <a:lnTo>
                  <a:pt x="720" y="721"/>
                </a:lnTo>
                <a:lnTo>
                  <a:pt x="720" y="729"/>
                </a:lnTo>
                <a:lnTo>
                  <a:pt x="720" y="738"/>
                </a:lnTo>
                <a:lnTo>
                  <a:pt x="728" y="738"/>
                </a:lnTo>
                <a:lnTo>
                  <a:pt x="736" y="738"/>
                </a:lnTo>
                <a:lnTo>
                  <a:pt x="744" y="738"/>
                </a:lnTo>
                <a:lnTo>
                  <a:pt x="752" y="738"/>
                </a:lnTo>
                <a:lnTo>
                  <a:pt x="760" y="738"/>
                </a:lnTo>
                <a:lnTo>
                  <a:pt x="768" y="738"/>
                </a:lnTo>
                <a:lnTo>
                  <a:pt x="776" y="738"/>
                </a:lnTo>
                <a:lnTo>
                  <a:pt x="784" y="738"/>
                </a:lnTo>
                <a:lnTo>
                  <a:pt x="792" y="738"/>
                </a:lnTo>
                <a:lnTo>
                  <a:pt x="800" y="738"/>
                </a:lnTo>
                <a:lnTo>
                  <a:pt x="808" y="738"/>
                </a:lnTo>
                <a:lnTo>
                  <a:pt x="816" y="738"/>
                </a:lnTo>
                <a:lnTo>
                  <a:pt x="824" y="738"/>
                </a:lnTo>
                <a:lnTo>
                  <a:pt x="832" y="738"/>
                </a:lnTo>
                <a:lnTo>
                  <a:pt x="840" y="738"/>
                </a:lnTo>
                <a:lnTo>
                  <a:pt x="840" y="747"/>
                </a:lnTo>
                <a:lnTo>
                  <a:pt x="832" y="747"/>
                </a:lnTo>
                <a:lnTo>
                  <a:pt x="824" y="756"/>
                </a:lnTo>
                <a:lnTo>
                  <a:pt x="816" y="756"/>
                </a:lnTo>
                <a:lnTo>
                  <a:pt x="808" y="765"/>
                </a:lnTo>
                <a:lnTo>
                  <a:pt x="800" y="773"/>
                </a:lnTo>
                <a:lnTo>
                  <a:pt x="792" y="782"/>
                </a:lnTo>
                <a:lnTo>
                  <a:pt x="776" y="791"/>
                </a:lnTo>
                <a:lnTo>
                  <a:pt x="768" y="800"/>
                </a:lnTo>
                <a:lnTo>
                  <a:pt x="752" y="808"/>
                </a:lnTo>
                <a:lnTo>
                  <a:pt x="736" y="826"/>
                </a:lnTo>
                <a:lnTo>
                  <a:pt x="720" y="835"/>
                </a:lnTo>
                <a:lnTo>
                  <a:pt x="704" y="852"/>
                </a:lnTo>
                <a:lnTo>
                  <a:pt x="680" y="870"/>
                </a:lnTo>
                <a:lnTo>
                  <a:pt x="664" y="879"/>
                </a:lnTo>
                <a:lnTo>
                  <a:pt x="640" y="896"/>
                </a:lnTo>
                <a:lnTo>
                  <a:pt x="624" y="905"/>
                </a:lnTo>
                <a:lnTo>
                  <a:pt x="608" y="923"/>
                </a:lnTo>
                <a:lnTo>
                  <a:pt x="600" y="931"/>
                </a:lnTo>
                <a:lnTo>
                  <a:pt x="584" y="940"/>
                </a:lnTo>
                <a:lnTo>
                  <a:pt x="576" y="949"/>
                </a:lnTo>
                <a:lnTo>
                  <a:pt x="560" y="958"/>
                </a:lnTo>
                <a:lnTo>
                  <a:pt x="552" y="967"/>
                </a:lnTo>
                <a:lnTo>
                  <a:pt x="544" y="975"/>
                </a:lnTo>
                <a:lnTo>
                  <a:pt x="536" y="975"/>
                </a:lnTo>
                <a:lnTo>
                  <a:pt x="536" y="984"/>
                </a:lnTo>
                <a:lnTo>
                  <a:pt x="528" y="984"/>
                </a:lnTo>
                <a:lnTo>
                  <a:pt x="528" y="993"/>
                </a:lnTo>
                <a:lnTo>
                  <a:pt x="520" y="993"/>
                </a:lnTo>
                <a:lnTo>
                  <a:pt x="512" y="984"/>
                </a:lnTo>
                <a:lnTo>
                  <a:pt x="504" y="975"/>
                </a:lnTo>
                <a:lnTo>
                  <a:pt x="496" y="975"/>
                </a:lnTo>
                <a:lnTo>
                  <a:pt x="488" y="967"/>
                </a:lnTo>
                <a:lnTo>
                  <a:pt x="480" y="958"/>
                </a:lnTo>
                <a:lnTo>
                  <a:pt x="464" y="949"/>
                </a:lnTo>
                <a:lnTo>
                  <a:pt x="448" y="940"/>
                </a:lnTo>
                <a:lnTo>
                  <a:pt x="432" y="931"/>
                </a:lnTo>
                <a:lnTo>
                  <a:pt x="416" y="923"/>
                </a:lnTo>
                <a:lnTo>
                  <a:pt x="400" y="905"/>
                </a:lnTo>
                <a:lnTo>
                  <a:pt x="384" y="896"/>
                </a:lnTo>
                <a:lnTo>
                  <a:pt x="360" y="879"/>
                </a:lnTo>
                <a:lnTo>
                  <a:pt x="336" y="870"/>
                </a:lnTo>
                <a:lnTo>
                  <a:pt x="312" y="852"/>
                </a:lnTo>
                <a:lnTo>
                  <a:pt x="296" y="835"/>
                </a:lnTo>
                <a:lnTo>
                  <a:pt x="272" y="826"/>
                </a:lnTo>
                <a:lnTo>
                  <a:pt x="256" y="808"/>
                </a:lnTo>
                <a:lnTo>
                  <a:pt x="240" y="800"/>
                </a:lnTo>
                <a:lnTo>
                  <a:pt x="224" y="791"/>
                </a:lnTo>
                <a:lnTo>
                  <a:pt x="208" y="782"/>
                </a:lnTo>
                <a:lnTo>
                  <a:pt x="200" y="773"/>
                </a:lnTo>
                <a:lnTo>
                  <a:pt x="192" y="765"/>
                </a:lnTo>
                <a:lnTo>
                  <a:pt x="176" y="756"/>
                </a:lnTo>
                <a:lnTo>
                  <a:pt x="168" y="756"/>
                </a:lnTo>
                <a:lnTo>
                  <a:pt x="168" y="747"/>
                </a:lnTo>
                <a:lnTo>
                  <a:pt x="160" y="747"/>
                </a:lnTo>
                <a:lnTo>
                  <a:pt x="152" y="747"/>
                </a:lnTo>
                <a:lnTo>
                  <a:pt x="152" y="738"/>
                </a:lnTo>
                <a:lnTo>
                  <a:pt x="160" y="738"/>
                </a:lnTo>
                <a:lnTo>
                  <a:pt x="168" y="738"/>
                </a:lnTo>
                <a:lnTo>
                  <a:pt x="176" y="738"/>
                </a:lnTo>
                <a:lnTo>
                  <a:pt x="184" y="738"/>
                </a:lnTo>
                <a:lnTo>
                  <a:pt x="192" y="738"/>
                </a:lnTo>
                <a:lnTo>
                  <a:pt x="200" y="738"/>
                </a:lnTo>
                <a:lnTo>
                  <a:pt x="208" y="738"/>
                </a:lnTo>
                <a:lnTo>
                  <a:pt x="216" y="738"/>
                </a:lnTo>
                <a:lnTo>
                  <a:pt x="224" y="738"/>
                </a:lnTo>
                <a:lnTo>
                  <a:pt x="232" y="738"/>
                </a:lnTo>
                <a:lnTo>
                  <a:pt x="240" y="738"/>
                </a:lnTo>
                <a:lnTo>
                  <a:pt x="248" y="738"/>
                </a:lnTo>
                <a:lnTo>
                  <a:pt x="256" y="738"/>
                </a:lnTo>
                <a:lnTo>
                  <a:pt x="264" y="738"/>
                </a:lnTo>
                <a:lnTo>
                  <a:pt x="272" y="738"/>
                </a:lnTo>
                <a:lnTo>
                  <a:pt x="280" y="738"/>
                </a:lnTo>
                <a:lnTo>
                  <a:pt x="288" y="738"/>
                </a:lnTo>
                <a:lnTo>
                  <a:pt x="280" y="729"/>
                </a:lnTo>
                <a:lnTo>
                  <a:pt x="280" y="721"/>
                </a:lnTo>
                <a:lnTo>
                  <a:pt x="280" y="712"/>
                </a:lnTo>
                <a:lnTo>
                  <a:pt x="280" y="703"/>
                </a:lnTo>
                <a:lnTo>
                  <a:pt x="272" y="694"/>
                </a:lnTo>
                <a:lnTo>
                  <a:pt x="272" y="685"/>
                </a:lnTo>
                <a:lnTo>
                  <a:pt x="272" y="677"/>
                </a:lnTo>
                <a:lnTo>
                  <a:pt x="264" y="677"/>
                </a:lnTo>
                <a:lnTo>
                  <a:pt x="264" y="668"/>
                </a:lnTo>
                <a:lnTo>
                  <a:pt x="264" y="659"/>
                </a:lnTo>
                <a:lnTo>
                  <a:pt x="256" y="659"/>
                </a:lnTo>
                <a:lnTo>
                  <a:pt x="256" y="650"/>
                </a:lnTo>
                <a:lnTo>
                  <a:pt x="248" y="641"/>
                </a:lnTo>
                <a:lnTo>
                  <a:pt x="240" y="633"/>
                </a:lnTo>
                <a:lnTo>
                  <a:pt x="240" y="624"/>
                </a:lnTo>
                <a:lnTo>
                  <a:pt x="232" y="615"/>
                </a:lnTo>
                <a:lnTo>
                  <a:pt x="224" y="606"/>
                </a:lnTo>
                <a:lnTo>
                  <a:pt x="216" y="598"/>
                </a:lnTo>
                <a:lnTo>
                  <a:pt x="216" y="589"/>
                </a:lnTo>
                <a:lnTo>
                  <a:pt x="208" y="589"/>
                </a:lnTo>
                <a:lnTo>
                  <a:pt x="200" y="580"/>
                </a:lnTo>
                <a:lnTo>
                  <a:pt x="200" y="571"/>
                </a:lnTo>
                <a:lnTo>
                  <a:pt x="192" y="562"/>
                </a:lnTo>
                <a:lnTo>
                  <a:pt x="184" y="562"/>
                </a:lnTo>
                <a:lnTo>
                  <a:pt x="184" y="554"/>
                </a:lnTo>
                <a:lnTo>
                  <a:pt x="176" y="554"/>
                </a:lnTo>
                <a:lnTo>
                  <a:pt x="168" y="545"/>
                </a:lnTo>
                <a:lnTo>
                  <a:pt x="160" y="536"/>
                </a:lnTo>
                <a:lnTo>
                  <a:pt x="152" y="527"/>
                </a:lnTo>
                <a:lnTo>
                  <a:pt x="144" y="527"/>
                </a:lnTo>
                <a:lnTo>
                  <a:pt x="136" y="518"/>
                </a:lnTo>
                <a:lnTo>
                  <a:pt x="128" y="510"/>
                </a:lnTo>
                <a:lnTo>
                  <a:pt x="120" y="510"/>
                </a:lnTo>
                <a:lnTo>
                  <a:pt x="112" y="501"/>
                </a:lnTo>
                <a:lnTo>
                  <a:pt x="104" y="492"/>
                </a:lnTo>
                <a:lnTo>
                  <a:pt x="96" y="492"/>
                </a:lnTo>
                <a:lnTo>
                  <a:pt x="88" y="483"/>
                </a:lnTo>
                <a:lnTo>
                  <a:pt x="80" y="483"/>
                </a:lnTo>
                <a:lnTo>
                  <a:pt x="72" y="483"/>
                </a:lnTo>
                <a:lnTo>
                  <a:pt x="72" y="475"/>
                </a:lnTo>
                <a:lnTo>
                  <a:pt x="64" y="475"/>
                </a:lnTo>
                <a:lnTo>
                  <a:pt x="56" y="475"/>
                </a:lnTo>
                <a:lnTo>
                  <a:pt x="48" y="466"/>
                </a:lnTo>
                <a:lnTo>
                  <a:pt x="40" y="466"/>
                </a:lnTo>
                <a:lnTo>
                  <a:pt x="32" y="466"/>
                </a:lnTo>
                <a:lnTo>
                  <a:pt x="24" y="466"/>
                </a:lnTo>
                <a:lnTo>
                  <a:pt x="16" y="457"/>
                </a:lnTo>
                <a:lnTo>
                  <a:pt x="8" y="457"/>
                </a:lnTo>
                <a:lnTo>
                  <a:pt x="0" y="457"/>
                </a:lnTo>
                <a:lnTo>
                  <a:pt x="0" y="448"/>
                </a:lnTo>
                <a:lnTo>
                  <a:pt x="8" y="448"/>
                </a:lnTo>
                <a:lnTo>
                  <a:pt x="8" y="439"/>
                </a:lnTo>
                <a:lnTo>
                  <a:pt x="16" y="431"/>
                </a:lnTo>
                <a:lnTo>
                  <a:pt x="24" y="422"/>
                </a:lnTo>
                <a:lnTo>
                  <a:pt x="32" y="413"/>
                </a:lnTo>
                <a:lnTo>
                  <a:pt x="40" y="404"/>
                </a:lnTo>
                <a:lnTo>
                  <a:pt x="48" y="395"/>
                </a:lnTo>
                <a:lnTo>
                  <a:pt x="56" y="387"/>
                </a:lnTo>
                <a:lnTo>
                  <a:pt x="64" y="369"/>
                </a:lnTo>
                <a:lnTo>
                  <a:pt x="72" y="360"/>
                </a:lnTo>
                <a:lnTo>
                  <a:pt x="80" y="343"/>
                </a:lnTo>
                <a:lnTo>
                  <a:pt x="96" y="334"/>
                </a:lnTo>
                <a:lnTo>
                  <a:pt x="104" y="316"/>
                </a:lnTo>
                <a:lnTo>
                  <a:pt x="112" y="308"/>
                </a:lnTo>
                <a:lnTo>
                  <a:pt x="120" y="299"/>
                </a:lnTo>
                <a:lnTo>
                  <a:pt x="128" y="290"/>
                </a:lnTo>
                <a:lnTo>
                  <a:pt x="136" y="281"/>
                </a:lnTo>
                <a:lnTo>
                  <a:pt x="144" y="272"/>
                </a:lnTo>
                <a:lnTo>
                  <a:pt x="144" y="264"/>
                </a:lnTo>
                <a:lnTo>
                  <a:pt x="152" y="255"/>
                </a:lnTo>
                <a:lnTo>
                  <a:pt x="160" y="246"/>
                </a:lnTo>
                <a:lnTo>
                  <a:pt x="168" y="237"/>
                </a:lnTo>
                <a:lnTo>
                  <a:pt x="168" y="228"/>
                </a:lnTo>
                <a:lnTo>
                  <a:pt x="160" y="228"/>
                </a:lnTo>
                <a:lnTo>
                  <a:pt x="160" y="220"/>
                </a:lnTo>
                <a:lnTo>
                  <a:pt x="152" y="211"/>
                </a:lnTo>
                <a:lnTo>
                  <a:pt x="144" y="202"/>
                </a:lnTo>
                <a:lnTo>
                  <a:pt x="136" y="193"/>
                </a:lnTo>
                <a:lnTo>
                  <a:pt x="128" y="185"/>
                </a:lnTo>
                <a:lnTo>
                  <a:pt x="128" y="167"/>
                </a:lnTo>
                <a:lnTo>
                  <a:pt x="120" y="158"/>
                </a:lnTo>
                <a:lnTo>
                  <a:pt x="112" y="149"/>
                </a:lnTo>
                <a:lnTo>
                  <a:pt x="96" y="132"/>
                </a:lnTo>
                <a:lnTo>
                  <a:pt x="88" y="123"/>
                </a:lnTo>
                <a:lnTo>
                  <a:pt x="80" y="105"/>
                </a:lnTo>
                <a:lnTo>
                  <a:pt x="72" y="88"/>
                </a:lnTo>
                <a:lnTo>
                  <a:pt x="64" y="79"/>
                </a:lnTo>
                <a:lnTo>
                  <a:pt x="56" y="70"/>
                </a:lnTo>
                <a:lnTo>
                  <a:pt x="48" y="53"/>
                </a:lnTo>
                <a:lnTo>
                  <a:pt x="40" y="44"/>
                </a:lnTo>
                <a:lnTo>
                  <a:pt x="40" y="35"/>
                </a:lnTo>
                <a:lnTo>
                  <a:pt x="32" y="35"/>
                </a:lnTo>
                <a:lnTo>
                  <a:pt x="24" y="26"/>
                </a:lnTo>
                <a:lnTo>
                  <a:pt x="24" y="18"/>
                </a:lnTo>
                <a:lnTo>
                  <a:pt x="24" y="9"/>
                </a:lnTo>
                <a:lnTo>
                  <a:pt x="16" y="9"/>
                </a:lnTo>
                <a:lnTo>
                  <a:pt x="16" y="0"/>
                </a:lnTo>
                <a:lnTo>
                  <a:pt x="24" y="0"/>
                </a:lnTo>
                <a:lnTo>
                  <a:pt x="32" y="9"/>
                </a:lnTo>
                <a:lnTo>
                  <a:pt x="40" y="9"/>
                </a:lnTo>
                <a:lnTo>
                  <a:pt x="48" y="9"/>
                </a:lnTo>
                <a:lnTo>
                  <a:pt x="56" y="9"/>
                </a:lnTo>
                <a:lnTo>
                  <a:pt x="64" y="9"/>
                </a:lnTo>
                <a:lnTo>
                  <a:pt x="64" y="18"/>
                </a:lnTo>
                <a:lnTo>
                  <a:pt x="72" y="18"/>
                </a:lnTo>
                <a:lnTo>
                  <a:pt x="80" y="18"/>
                </a:lnTo>
                <a:lnTo>
                  <a:pt x="88" y="18"/>
                </a:lnTo>
                <a:lnTo>
                  <a:pt x="96" y="26"/>
                </a:lnTo>
                <a:lnTo>
                  <a:pt x="112" y="26"/>
                </a:lnTo>
                <a:lnTo>
                  <a:pt x="120" y="26"/>
                </a:lnTo>
                <a:lnTo>
                  <a:pt x="128" y="26"/>
                </a:lnTo>
                <a:lnTo>
                  <a:pt x="136" y="35"/>
                </a:lnTo>
                <a:lnTo>
                  <a:pt x="144" y="35"/>
                </a:lnTo>
                <a:lnTo>
                  <a:pt x="152" y="44"/>
                </a:lnTo>
                <a:lnTo>
                  <a:pt x="160" y="44"/>
                </a:lnTo>
                <a:lnTo>
                  <a:pt x="176" y="44"/>
                </a:lnTo>
                <a:lnTo>
                  <a:pt x="184" y="53"/>
                </a:lnTo>
                <a:lnTo>
                  <a:pt x="192" y="53"/>
                </a:lnTo>
                <a:lnTo>
                  <a:pt x="200" y="62"/>
                </a:lnTo>
                <a:lnTo>
                  <a:pt x="216" y="62"/>
                </a:lnTo>
                <a:lnTo>
                  <a:pt x="224" y="70"/>
                </a:lnTo>
                <a:lnTo>
                  <a:pt x="232" y="70"/>
                </a:lnTo>
                <a:lnTo>
                  <a:pt x="248" y="79"/>
                </a:lnTo>
                <a:lnTo>
                  <a:pt x="256" y="79"/>
                </a:lnTo>
                <a:lnTo>
                  <a:pt x="264" y="88"/>
                </a:lnTo>
                <a:lnTo>
                  <a:pt x="280" y="97"/>
                </a:lnTo>
                <a:lnTo>
                  <a:pt x="288" y="97"/>
                </a:lnTo>
                <a:lnTo>
                  <a:pt x="296" y="105"/>
                </a:lnTo>
                <a:lnTo>
                  <a:pt x="312" y="114"/>
                </a:lnTo>
                <a:lnTo>
                  <a:pt x="320" y="123"/>
                </a:lnTo>
                <a:lnTo>
                  <a:pt x="328" y="123"/>
                </a:lnTo>
                <a:lnTo>
                  <a:pt x="344" y="132"/>
                </a:lnTo>
                <a:lnTo>
                  <a:pt x="352" y="141"/>
                </a:lnTo>
                <a:lnTo>
                  <a:pt x="360" y="149"/>
                </a:lnTo>
                <a:lnTo>
                  <a:pt x="376" y="158"/>
                </a:lnTo>
                <a:lnTo>
                  <a:pt x="384" y="167"/>
                </a:lnTo>
                <a:lnTo>
                  <a:pt x="400" y="176"/>
                </a:lnTo>
                <a:lnTo>
                  <a:pt x="408" y="185"/>
                </a:lnTo>
                <a:lnTo>
                  <a:pt x="416" y="193"/>
                </a:lnTo>
                <a:lnTo>
                  <a:pt x="432" y="202"/>
                </a:lnTo>
                <a:lnTo>
                  <a:pt x="440" y="211"/>
                </a:lnTo>
                <a:lnTo>
                  <a:pt x="448" y="220"/>
                </a:lnTo>
                <a:lnTo>
                  <a:pt x="464" y="228"/>
                </a:lnTo>
                <a:lnTo>
                  <a:pt x="472" y="237"/>
                </a:lnTo>
                <a:lnTo>
                  <a:pt x="480" y="246"/>
                </a:lnTo>
                <a:lnTo>
                  <a:pt x="488" y="255"/>
                </a:lnTo>
                <a:lnTo>
                  <a:pt x="496" y="264"/>
                </a:lnTo>
                <a:lnTo>
                  <a:pt x="512" y="281"/>
                </a:lnTo>
                <a:lnTo>
                  <a:pt x="520" y="290"/>
                </a:lnTo>
                <a:lnTo>
                  <a:pt x="528" y="299"/>
                </a:lnTo>
                <a:lnTo>
                  <a:pt x="536" y="308"/>
                </a:lnTo>
                <a:lnTo>
                  <a:pt x="544" y="316"/>
                </a:lnTo>
                <a:lnTo>
                  <a:pt x="552" y="334"/>
                </a:lnTo>
                <a:lnTo>
                  <a:pt x="560" y="343"/>
                </a:lnTo>
                <a:lnTo>
                  <a:pt x="568" y="352"/>
                </a:lnTo>
                <a:lnTo>
                  <a:pt x="576" y="360"/>
                </a:lnTo>
                <a:lnTo>
                  <a:pt x="584" y="378"/>
                </a:lnTo>
                <a:lnTo>
                  <a:pt x="592" y="387"/>
                </a:lnTo>
                <a:lnTo>
                  <a:pt x="600" y="395"/>
                </a:lnTo>
                <a:lnTo>
                  <a:pt x="600" y="404"/>
                </a:lnTo>
                <a:lnTo>
                  <a:pt x="608" y="422"/>
                </a:lnTo>
                <a:lnTo>
                  <a:pt x="616" y="431"/>
                </a:lnTo>
                <a:lnTo>
                  <a:pt x="624" y="439"/>
                </a:lnTo>
                <a:lnTo>
                  <a:pt x="624" y="448"/>
                </a:lnTo>
                <a:lnTo>
                  <a:pt x="632" y="457"/>
                </a:lnTo>
                <a:lnTo>
                  <a:pt x="640" y="466"/>
                </a:lnTo>
                <a:lnTo>
                  <a:pt x="640" y="483"/>
                </a:lnTo>
                <a:lnTo>
                  <a:pt x="648" y="492"/>
                </a:lnTo>
                <a:lnTo>
                  <a:pt x="648" y="501"/>
                </a:lnTo>
                <a:lnTo>
                  <a:pt x="656" y="510"/>
                </a:lnTo>
                <a:lnTo>
                  <a:pt x="656" y="518"/>
                </a:lnTo>
                <a:lnTo>
                  <a:pt x="664" y="527"/>
                </a:lnTo>
                <a:lnTo>
                  <a:pt x="664" y="536"/>
                </a:lnTo>
                <a:lnTo>
                  <a:pt x="672" y="554"/>
                </a:lnTo>
                <a:lnTo>
                  <a:pt x="672" y="562"/>
                </a:lnTo>
                <a:lnTo>
                  <a:pt x="680" y="571"/>
                </a:lnTo>
                <a:lnTo>
                  <a:pt x="680" y="580"/>
                </a:lnTo>
                <a:lnTo>
                  <a:pt x="688" y="589"/>
                </a:lnTo>
                <a:lnTo>
                  <a:pt x="688" y="598"/>
                </a:lnTo>
                <a:lnTo>
                  <a:pt x="688" y="615"/>
                </a:lnTo>
                <a:lnTo>
                  <a:pt x="696" y="624"/>
                </a:lnTo>
                <a:lnTo>
                  <a:pt x="696" y="633"/>
                </a:lnTo>
                <a:lnTo>
                  <a:pt x="696" y="641"/>
                </a:lnTo>
                <a:lnTo>
                  <a:pt x="704" y="650"/>
                </a:lnTo>
                <a:lnTo>
                  <a:pt x="704" y="659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99320" y="4168800"/>
            <a:ext cx="1724040" cy="1441440"/>
          </a:xfrm>
          <a:custGeom>
            <a:avLst/>
            <a:gdLst/>
            <a:ahLst/>
            <a:rect l="l" t="t" r="r" b="b"/>
            <a:pathLst>
              <a:path w="1003" h="908">
                <a:moveTo>
                  <a:pt x="334" y="767"/>
                </a:moveTo>
                <a:lnTo>
                  <a:pt x="326" y="767"/>
                </a:lnTo>
                <a:lnTo>
                  <a:pt x="318" y="776"/>
                </a:lnTo>
                <a:lnTo>
                  <a:pt x="302" y="776"/>
                </a:lnTo>
                <a:lnTo>
                  <a:pt x="294" y="776"/>
                </a:lnTo>
                <a:lnTo>
                  <a:pt x="286" y="776"/>
                </a:lnTo>
                <a:lnTo>
                  <a:pt x="278" y="776"/>
                </a:lnTo>
                <a:lnTo>
                  <a:pt x="270" y="785"/>
                </a:lnTo>
                <a:lnTo>
                  <a:pt x="262" y="785"/>
                </a:lnTo>
                <a:lnTo>
                  <a:pt x="254" y="785"/>
                </a:lnTo>
                <a:lnTo>
                  <a:pt x="247" y="785"/>
                </a:lnTo>
                <a:lnTo>
                  <a:pt x="247" y="793"/>
                </a:lnTo>
                <a:lnTo>
                  <a:pt x="247" y="802"/>
                </a:lnTo>
                <a:lnTo>
                  <a:pt x="247" y="811"/>
                </a:lnTo>
                <a:lnTo>
                  <a:pt x="247" y="820"/>
                </a:lnTo>
                <a:lnTo>
                  <a:pt x="247" y="828"/>
                </a:lnTo>
                <a:lnTo>
                  <a:pt x="247" y="837"/>
                </a:lnTo>
                <a:lnTo>
                  <a:pt x="247" y="846"/>
                </a:lnTo>
                <a:lnTo>
                  <a:pt x="247" y="855"/>
                </a:lnTo>
                <a:lnTo>
                  <a:pt x="247" y="863"/>
                </a:lnTo>
                <a:lnTo>
                  <a:pt x="247" y="872"/>
                </a:lnTo>
                <a:lnTo>
                  <a:pt x="247" y="881"/>
                </a:lnTo>
                <a:lnTo>
                  <a:pt x="247" y="890"/>
                </a:lnTo>
                <a:lnTo>
                  <a:pt x="247" y="898"/>
                </a:lnTo>
                <a:lnTo>
                  <a:pt x="247" y="907"/>
                </a:lnTo>
                <a:lnTo>
                  <a:pt x="247" y="898"/>
                </a:lnTo>
                <a:lnTo>
                  <a:pt x="239" y="898"/>
                </a:lnTo>
                <a:lnTo>
                  <a:pt x="239" y="890"/>
                </a:lnTo>
                <a:lnTo>
                  <a:pt x="231" y="881"/>
                </a:lnTo>
                <a:lnTo>
                  <a:pt x="223" y="872"/>
                </a:lnTo>
                <a:lnTo>
                  <a:pt x="215" y="863"/>
                </a:lnTo>
                <a:lnTo>
                  <a:pt x="207" y="855"/>
                </a:lnTo>
                <a:lnTo>
                  <a:pt x="199" y="837"/>
                </a:lnTo>
                <a:lnTo>
                  <a:pt x="191" y="828"/>
                </a:lnTo>
                <a:lnTo>
                  <a:pt x="175" y="811"/>
                </a:lnTo>
                <a:lnTo>
                  <a:pt x="167" y="793"/>
                </a:lnTo>
                <a:lnTo>
                  <a:pt x="151" y="776"/>
                </a:lnTo>
                <a:lnTo>
                  <a:pt x="135" y="759"/>
                </a:lnTo>
                <a:lnTo>
                  <a:pt x="119" y="741"/>
                </a:lnTo>
                <a:lnTo>
                  <a:pt x="103" y="724"/>
                </a:lnTo>
                <a:lnTo>
                  <a:pt x="95" y="706"/>
                </a:lnTo>
                <a:lnTo>
                  <a:pt x="80" y="689"/>
                </a:lnTo>
                <a:lnTo>
                  <a:pt x="64" y="671"/>
                </a:lnTo>
                <a:lnTo>
                  <a:pt x="56" y="654"/>
                </a:lnTo>
                <a:lnTo>
                  <a:pt x="48" y="645"/>
                </a:lnTo>
                <a:lnTo>
                  <a:pt x="40" y="636"/>
                </a:lnTo>
                <a:lnTo>
                  <a:pt x="32" y="619"/>
                </a:lnTo>
                <a:lnTo>
                  <a:pt x="24" y="610"/>
                </a:lnTo>
                <a:lnTo>
                  <a:pt x="16" y="601"/>
                </a:lnTo>
                <a:lnTo>
                  <a:pt x="8" y="601"/>
                </a:lnTo>
                <a:lnTo>
                  <a:pt x="8" y="593"/>
                </a:lnTo>
                <a:lnTo>
                  <a:pt x="0" y="584"/>
                </a:lnTo>
                <a:lnTo>
                  <a:pt x="0" y="575"/>
                </a:lnTo>
                <a:lnTo>
                  <a:pt x="8" y="575"/>
                </a:lnTo>
                <a:lnTo>
                  <a:pt x="8" y="566"/>
                </a:lnTo>
                <a:lnTo>
                  <a:pt x="16" y="558"/>
                </a:lnTo>
                <a:lnTo>
                  <a:pt x="24" y="549"/>
                </a:lnTo>
                <a:lnTo>
                  <a:pt x="32" y="540"/>
                </a:lnTo>
                <a:lnTo>
                  <a:pt x="40" y="523"/>
                </a:lnTo>
                <a:lnTo>
                  <a:pt x="48" y="514"/>
                </a:lnTo>
                <a:lnTo>
                  <a:pt x="56" y="497"/>
                </a:lnTo>
                <a:lnTo>
                  <a:pt x="64" y="479"/>
                </a:lnTo>
                <a:lnTo>
                  <a:pt x="80" y="462"/>
                </a:lnTo>
                <a:lnTo>
                  <a:pt x="95" y="444"/>
                </a:lnTo>
                <a:lnTo>
                  <a:pt x="103" y="427"/>
                </a:lnTo>
                <a:lnTo>
                  <a:pt x="119" y="401"/>
                </a:lnTo>
                <a:lnTo>
                  <a:pt x="135" y="383"/>
                </a:lnTo>
                <a:lnTo>
                  <a:pt x="151" y="366"/>
                </a:lnTo>
                <a:lnTo>
                  <a:pt x="167" y="339"/>
                </a:lnTo>
                <a:lnTo>
                  <a:pt x="175" y="323"/>
                </a:lnTo>
                <a:lnTo>
                  <a:pt x="191" y="314"/>
                </a:lnTo>
                <a:lnTo>
                  <a:pt x="199" y="297"/>
                </a:lnTo>
                <a:lnTo>
                  <a:pt x="207" y="279"/>
                </a:lnTo>
                <a:lnTo>
                  <a:pt x="215" y="271"/>
                </a:lnTo>
                <a:lnTo>
                  <a:pt x="223" y="262"/>
                </a:lnTo>
                <a:lnTo>
                  <a:pt x="231" y="253"/>
                </a:lnTo>
                <a:lnTo>
                  <a:pt x="239" y="244"/>
                </a:lnTo>
                <a:lnTo>
                  <a:pt x="239" y="236"/>
                </a:lnTo>
                <a:lnTo>
                  <a:pt x="247" y="227"/>
                </a:lnTo>
                <a:lnTo>
                  <a:pt x="247" y="236"/>
                </a:lnTo>
                <a:lnTo>
                  <a:pt x="247" y="244"/>
                </a:lnTo>
                <a:lnTo>
                  <a:pt x="247" y="253"/>
                </a:lnTo>
                <a:lnTo>
                  <a:pt x="247" y="262"/>
                </a:lnTo>
                <a:lnTo>
                  <a:pt x="247" y="271"/>
                </a:lnTo>
                <a:lnTo>
                  <a:pt x="247" y="279"/>
                </a:lnTo>
                <a:lnTo>
                  <a:pt x="247" y="288"/>
                </a:lnTo>
                <a:lnTo>
                  <a:pt x="239" y="297"/>
                </a:lnTo>
                <a:lnTo>
                  <a:pt x="239" y="306"/>
                </a:lnTo>
                <a:lnTo>
                  <a:pt x="239" y="314"/>
                </a:lnTo>
                <a:lnTo>
                  <a:pt x="239" y="323"/>
                </a:lnTo>
                <a:lnTo>
                  <a:pt x="239" y="332"/>
                </a:lnTo>
                <a:lnTo>
                  <a:pt x="247" y="332"/>
                </a:lnTo>
                <a:lnTo>
                  <a:pt x="254" y="332"/>
                </a:lnTo>
                <a:lnTo>
                  <a:pt x="262" y="332"/>
                </a:lnTo>
                <a:lnTo>
                  <a:pt x="262" y="323"/>
                </a:lnTo>
                <a:lnTo>
                  <a:pt x="270" y="323"/>
                </a:lnTo>
                <a:lnTo>
                  <a:pt x="278" y="323"/>
                </a:lnTo>
                <a:lnTo>
                  <a:pt x="286" y="323"/>
                </a:lnTo>
                <a:lnTo>
                  <a:pt x="294" y="314"/>
                </a:lnTo>
                <a:lnTo>
                  <a:pt x="302" y="314"/>
                </a:lnTo>
                <a:lnTo>
                  <a:pt x="310" y="314"/>
                </a:lnTo>
                <a:lnTo>
                  <a:pt x="318" y="306"/>
                </a:lnTo>
                <a:lnTo>
                  <a:pt x="326" y="306"/>
                </a:lnTo>
                <a:lnTo>
                  <a:pt x="334" y="297"/>
                </a:lnTo>
                <a:lnTo>
                  <a:pt x="342" y="297"/>
                </a:lnTo>
                <a:lnTo>
                  <a:pt x="350" y="297"/>
                </a:lnTo>
                <a:lnTo>
                  <a:pt x="358" y="288"/>
                </a:lnTo>
                <a:lnTo>
                  <a:pt x="366" y="288"/>
                </a:lnTo>
                <a:lnTo>
                  <a:pt x="374" y="279"/>
                </a:lnTo>
                <a:lnTo>
                  <a:pt x="382" y="279"/>
                </a:lnTo>
                <a:lnTo>
                  <a:pt x="390" y="271"/>
                </a:lnTo>
                <a:lnTo>
                  <a:pt x="398" y="262"/>
                </a:lnTo>
                <a:lnTo>
                  <a:pt x="406" y="262"/>
                </a:lnTo>
                <a:lnTo>
                  <a:pt x="414" y="253"/>
                </a:lnTo>
                <a:lnTo>
                  <a:pt x="421" y="244"/>
                </a:lnTo>
                <a:lnTo>
                  <a:pt x="429" y="244"/>
                </a:lnTo>
                <a:lnTo>
                  <a:pt x="437" y="236"/>
                </a:lnTo>
                <a:lnTo>
                  <a:pt x="437" y="227"/>
                </a:lnTo>
                <a:lnTo>
                  <a:pt x="445" y="218"/>
                </a:lnTo>
                <a:lnTo>
                  <a:pt x="453" y="218"/>
                </a:lnTo>
                <a:lnTo>
                  <a:pt x="461" y="210"/>
                </a:lnTo>
                <a:lnTo>
                  <a:pt x="461" y="201"/>
                </a:lnTo>
                <a:lnTo>
                  <a:pt x="469" y="201"/>
                </a:lnTo>
                <a:lnTo>
                  <a:pt x="477" y="192"/>
                </a:lnTo>
                <a:lnTo>
                  <a:pt x="477" y="183"/>
                </a:lnTo>
                <a:lnTo>
                  <a:pt x="485" y="175"/>
                </a:lnTo>
                <a:lnTo>
                  <a:pt x="493" y="175"/>
                </a:lnTo>
                <a:lnTo>
                  <a:pt x="493" y="166"/>
                </a:lnTo>
                <a:lnTo>
                  <a:pt x="501" y="157"/>
                </a:lnTo>
                <a:lnTo>
                  <a:pt x="501" y="148"/>
                </a:lnTo>
                <a:lnTo>
                  <a:pt x="509" y="148"/>
                </a:lnTo>
                <a:lnTo>
                  <a:pt x="509" y="140"/>
                </a:lnTo>
                <a:lnTo>
                  <a:pt x="517" y="131"/>
                </a:lnTo>
                <a:lnTo>
                  <a:pt x="517" y="122"/>
                </a:lnTo>
                <a:lnTo>
                  <a:pt x="525" y="122"/>
                </a:lnTo>
                <a:lnTo>
                  <a:pt x="525" y="114"/>
                </a:lnTo>
                <a:lnTo>
                  <a:pt x="525" y="105"/>
                </a:lnTo>
                <a:lnTo>
                  <a:pt x="533" y="105"/>
                </a:lnTo>
                <a:lnTo>
                  <a:pt x="533" y="96"/>
                </a:lnTo>
                <a:lnTo>
                  <a:pt x="533" y="87"/>
                </a:lnTo>
                <a:lnTo>
                  <a:pt x="541" y="87"/>
                </a:lnTo>
                <a:lnTo>
                  <a:pt x="541" y="79"/>
                </a:lnTo>
                <a:lnTo>
                  <a:pt x="541" y="70"/>
                </a:lnTo>
                <a:lnTo>
                  <a:pt x="549" y="70"/>
                </a:lnTo>
                <a:lnTo>
                  <a:pt x="549" y="61"/>
                </a:lnTo>
                <a:lnTo>
                  <a:pt x="549" y="52"/>
                </a:lnTo>
                <a:lnTo>
                  <a:pt x="549" y="44"/>
                </a:lnTo>
                <a:lnTo>
                  <a:pt x="557" y="35"/>
                </a:lnTo>
                <a:lnTo>
                  <a:pt x="557" y="26"/>
                </a:lnTo>
                <a:lnTo>
                  <a:pt x="557" y="17"/>
                </a:lnTo>
                <a:lnTo>
                  <a:pt x="557" y="9"/>
                </a:lnTo>
                <a:lnTo>
                  <a:pt x="565" y="9"/>
                </a:lnTo>
                <a:lnTo>
                  <a:pt x="565" y="0"/>
                </a:lnTo>
                <a:lnTo>
                  <a:pt x="573" y="9"/>
                </a:lnTo>
                <a:lnTo>
                  <a:pt x="581" y="9"/>
                </a:lnTo>
                <a:lnTo>
                  <a:pt x="588" y="17"/>
                </a:lnTo>
                <a:lnTo>
                  <a:pt x="596" y="26"/>
                </a:lnTo>
                <a:lnTo>
                  <a:pt x="612" y="35"/>
                </a:lnTo>
                <a:lnTo>
                  <a:pt x="620" y="35"/>
                </a:lnTo>
                <a:lnTo>
                  <a:pt x="628" y="44"/>
                </a:lnTo>
                <a:lnTo>
                  <a:pt x="644" y="52"/>
                </a:lnTo>
                <a:lnTo>
                  <a:pt x="652" y="61"/>
                </a:lnTo>
                <a:lnTo>
                  <a:pt x="668" y="70"/>
                </a:lnTo>
                <a:lnTo>
                  <a:pt x="684" y="79"/>
                </a:lnTo>
                <a:lnTo>
                  <a:pt x="692" y="87"/>
                </a:lnTo>
                <a:lnTo>
                  <a:pt x="708" y="96"/>
                </a:lnTo>
                <a:lnTo>
                  <a:pt x="724" y="105"/>
                </a:lnTo>
                <a:lnTo>
                  <a:pt x="732" y="114"/>
                </a:lnTo>
                <a:lnTo>
                  <a:pt x="740" y="122"/>
                </a:lnTo>
                <a:lnTo>
                  <a:pt x="755" y="131"/>
                </a:lnTo>
                <a:lnTo>
                  <a:pt x="763" y="140"/>
                </a:lnTo>
                <a:lnTo>
                  <a:pt x="771" y="140"/>
                </a:lnTo>
                <a:lnTo>
                  <a:pt x="771" y="148"/>
                </a:lnTo>
                <a:lnTo>
                  <a:pt x="779" y="148"/>
                </a:lnTo>
                <a:lnTo>
                  <a:pt x="787" y="157"/>
                </a:lnTo>
                <a:lnTo>
                  <a:pt x="795" y="157"/>
                </a:lnTo>
                <a:lnTo>
                  <a:pt x="803" y="157"/>
                </a:lnTo>
                <a:lnTo>
                  <a:pt x="811" y="157"/>
                </a:lnTo>
                <a:lnTo>
                  <a:pt x="811" y="148"/>
                </a:lnTo>
                <a:lnTo>
                  <a:pt x="819" y="148"/>
                </a:lnTo>
                <a:lnTo>
                  <a:pt x="827" y="140"/>
                </a:lnTo>
                <a:lnTo>
                  <a:pt x="835" y="131"/>
                </a:lnTo>
                <a:lnTo>
                  <a:pt x="843" y="122"/>
                </a:lnTo>
                <a:lnTo>
                  <a:pt x="859" y="122"/>
                </a:lnTo>
                <a:lnTo>
                  <a:pt x="867" y="114"/>
                </a:lnTo>
                <a:lnTo>
                  <a:pt x="875" y="105"/>
                </a:lnTo>
                <a:lnTo>
                  <a:pt x="891" y="96"/>
                </a:lnTo>
                <a:lnTo>
                  <a:pt x="899" y="87"/>
                </a:lnTo>
                <a:lnTo>
                  <a:pt x="915" y="79"/>
                </a:lnTo>
                <a:lnTo>
                  <a:pt x="922" y="70"/>
                </a:lnTo>
                <a:lnTo>
                  <a:pt x="938" y="61"/>
                </a:lnTo>
                <a:lnTo>
                  <a:pt x="946" y="52"/>
                </a:lnTo>
                <a:lnTo>
                  <a:pt x="954" y="44"/>
                </a:lnTo>
                <a:lnTo>
                  <a:pt x="962" y="35"/>
                </a:lnTo>
                <a:lnTo>
                  <a:pt x="970" y="35"/>
                </a:lnTo>
                <a:lnTo>
                  <a:pt x="978" y="26"/>
                </a:lnTo>
                <a:lnTo>
                  <a:pt x="986" y="26"/>
                </a:lnTo>
                <a:lnTo>
                  <a:pt x="986" y="17"/>
                </a:lnTo>
                <a:lnTo>
                  <a:pt x="994" y="17"/>
                </a:lnTo>
                <a:lnTo>
                  <a:pt x="994" y="9"/>
                </a:lnTo>
                <a:lnTo>
                  <a:pt x="1002" y="9"/>
                </a:lnTo>
                <a:lnTo>
                  <a:pt x="1002" y="17"/>
                </a:lnTo>
                <a:lnTo>
                  <a:pt x="1002" y="26"/>
                </a:lnTo>
                <a:lnTo>
                  <a:pt x="1002" y="35"/>
                </a:lnTo>
                <a:lnTo>
                  <a:pt x="994" y="44"/>
                </a:lnTo>
                <a:lnTo>
                  <a:pt x="994" y="52"/>
                </a:lnTo>
                <a:lnTo>
                  <a:pt x="994" y="61"/>
                </a:lnTo>
                <a:lnTo>
                  <a:pt x="994" y="70"/>
                </a:lnTo>
                <a:lnTo>
                  <a:pt x="994" y="79"/>
                </a:lnTo>
                <a:lnTo>
                  <a:pt x="994" y="87"/>
                </a:lnTo>
                <a:lnTo>
                  <a:pt x="986" y="96"/>
                </a:lnTo>
                <a:lnTo>
                  <a:pt x="986" y="114"/>
                </a:lnTo>
                <a:lnTo>
                  <a:pt x="986" y="122"/>
                </a:lnTo>
                <a:lnTo>
                  <a:pt x="978" y="131"/>
                </a:lnTo>
                <a:lnTo>
                  <a:pt x="978" y="148"/>
                </a:lnTo>
                <a:lnTo>
                  <a:pt x="978" y="157"/>
                </a:lnTo>
                <a:lnTo>
                  <a:pt x="970" y="166"/>
                </a:lnTo>
                <a:lnTo>
                  <a:pt x="970" y="183"/>
                </a:lnTo>
                <a:lnTo>
                  <a:pt x="970" y="192"/>
                </a:lnTo>
                <a:lnTo>
                  <a:pt x="962" y="201"/>
                </a:lnTo>
                <a:lnTo>
                  <a:pt x="962" y="218"/>
                </a:lnTo>
                <a:lnTo>
                  <a:pt x="954" y="227"/>
                </a:lnTo>
                <a:lnTo>
                  <a:pt x="954" y="236"/>
                </a:lnTo>
                <a:lnTo>
                  <a:pt x="946" y="253"/>
                </a:lnTo>
                <a:lnTo>
                  <a:pt x="946" y="262"/>
                </a:lnTo>
                <a:lnTo>
                  <a:pt x="938" y="271"/>
                </a:lnTo>
                <a:lnTo>
                  <a:pt x="930" y="288"/>
                </a:lnTo>
                <a:lnTo>
                  <a:pt x="930" y="297"/>
                </a:lnTo>
                <a:lnTo>
                  <a:pt x="922" y="306"/>
                </a:lnTo>
                <a:lnTo>
                  <a:pt x="915" y="323"/>
                </a:lnTo>
                <a:lnTo>
                  <a:pt x="915" y="332"/>
                </a:lnTo>
                <a:lnTo>
                  <a:pt x="907" y="339"/>
                </a:lnTo>
                <a:lnTo>
                  <a:pt x="899" y="348"/>
                </a:lnTo>
                <a:lnTo>
                  <a:pt x="899" y="366"/>
                </a:lnTo>
                <a:lnTo>
                  <a:pt x="891" y="374"/>
                </a:lnTo>
                <a:lnTo>
                  <a:pt x="883" y="383"/>
                </a:lnTo>
                <a:lnTo>
                  <a:pt x="875" y="392"/>
                </a:lnTo>
                <a:lnTo>
                  <a:pt x="875" y="401"/>
                </a:lnTo>
                <a:lnTo>
                  <a:pt x="867" y="409"/>
                </a:lnTo>
                <a:lnTo>
                  <a:pt x="859" y="418"/>
                </a:lnTo>
                <a:lnTo>
                  <a:pt x="851" y="427"/>
                </a:lnTo>
                <a:lnTo>
                  <a:pt x="851" y="435"/>
                </a:lnTo>
                <a:lnTo>
                  <a:pt x="843" y="444"/>
                </a:lnTo>
                <a:lnTo>
                  <a:pt x="835" y="453"/>
                </a:lnTo>
                <a:lnTo>
                  <a:pt x="827" y="462"/>
                </a:lnTo>
                <a:lnTo>
                  <a:pt x="819" y="470"/>
                </a:lnTo>
                <a:lnTo>
                  <a:pt x="811" y="479"/>
                </a:lnTo>
                <a:lnTo>
                  <a:pt x="803" y="488"/>
                </a:lnTo>
                <a:lnTo>
                  <a:pt x="795" y="497"/>
                </a:lnTo>
                <a:lnTo>
                  <a:pt x="787" y="505"/>
                </a:lnTo>
                <a:lnTo>
                  <a:pt x="779" y="523"/>
                </a:lnTo>
                <a:lnTo>
                  <a:pt x="771" y="532"/>
                </a:lnTo>
                <a:lnTo>
                  <a:pt x="763" y="540"/>
                </a:lnTo>
                <a:lnTo>
                  <a:pt x="755" y="549"/>
                </a:lnTo>
                <a:lnTo>
                  <a:pt x="740" y="558"/>
                </a:lnTo>
                <a:lnTo>
                  <a:pt x="732" y="566"/>
                </a:lnTo>
                <a:lnTo>
                  <a:pt x="724" y="575"/>
                </a:lnTo>
                <a:lnTo>
                  <a:pt x="708" y="584"/>
                </a:lnTo>
                <a:lnTo>
                  <a:pt x="700" y="593"/>
                </a:lnTo>
                <a:lnTo>
                  <a:pt x="684" y="601"/>
                </a:lnTo>
                <a:lnTo>
                  <a:pt x="676" y="610"/>
                </a:lnTo>
                <a:lnTo>
                  <a:pt x="668" y="619"/>
                </a:lnTo>
                <a:lnTo>
                  <a:pt x="652" y="628"/>
                </a:lnTo>
                <a:lnTo>
                  <a:pt x="644" y="636"/>
                </a:lnTo>
                <a:lnTo>
                  <a:pt x="628" y="645"/>
                </a:lnTo>
                <a:lnTo>
                  <a:pt x="620" y="654"/>
                </a:lnTo>
                <a:lnTo>
                  <a:pt x="604" y="663"/>
                </a:lnTo>
                <a:lnTo>
                  <a:pt x="596" y="671"/>
                </a:lnTo>
                <a:lnTo>
                  <a:pt x="581" y="671"/>
                </a:lnTo>
                <a:lnTo>
                  <a:pt x="573" y="680"/>
                </a:lnTo>
                <a:lnTo>
                  <a:pt x="565" y="689"/>
                </a:lnTo>
                <a:lnTo>
                  <a:pt x="549" y="697"/>
                </a:lnTo>
                <a:lnTo>
                  <a:pt x="541" y="697"/>
                </a:lnTo>
                <a:lnTo>
                  <a:pt x="525" y="706"/>
                </a:lnTo>
                <a:lnTo>
                  <a:pt x="517" y="706"/>
                </a:lnTo>
                <a:lnTo>
                  <a:pt x="501" y="715"/>
                </a:lnTo>
                <a:lnTo>
                  <a:pt x="493" y="724"/>
                </a:lnTo>
                <a:lnTo>
                  <a:pt x="477" y="724"/>
                </a:lnTo>
                <a:lnTo>
                  <a:pt x="469" y="732"/>
                </a:lnTo>
                <a:lnTo>
                  <a:pt x="461" y="732"/>
                </a:lnTo>
                <a:lnTo>
                  <a:pt x="445" y="732"/>
                </a:lnTo>
                <a:lnTo>
                  <a:pt x="437" y="741"/>
                </a:lnTo>
                <a:lnTo>
                  <a:pt x="421" y="741"/>
                </a:lnTo>
                <a:lnTo>
                  <a:pt x="414" y="750"/>
                </a:lnTo>
                <a:lnTo>
                  <a:pt x="398" y="750"/>
                </a:lnTo>
                <a:lnTo>
                  <a:pt x="390" y="759"/>
                </a:lnTo>
                <a:lnTo>
                  <a:pt x="382" y="759"/>
                </a:lnTo>
                <a:lnTo>
                  <a:pt x="366" y="759"/>
                </a:lnTo>
                <a:lnTo>
                  <a:pt x="358" y="767"/>
                </a:lnTo>
                <a:lnTo>
                  <a:pt x="350" y="767"/>
                </a:lnTo>
                <a:lnTo>
                  <a:pt x="334" y="767"/>
                </a:lnTo>
              </a:path>
            </a:pathLst>
          </a:custGeom>
          <a:solidFill>
            <a:srgbClr val="40d9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99320" y="4168800"/>
            <a:ext cx="1733760" cy="1454040"/>
          </a:xfrm>
          <a:custGeom>
            <a:avLst/>
            <a:gdLst/>
            <a:ahLst/>
            <a:rect l="l" t="t" r="r" b="b"/>
            <a:pathLst>
              <a:path w="1009" h="916">
                <a:moveTo>
                  <a:pt x="336" y="774"/>
                </a:moveTo>
                <a:lnTo>
                  <a:pt x="328" y="774"/>
                </a:lnTo>
                <a:lnTo>
                  <a:pt x="320" y="783"/>
                </a:lnTo>
                <a:lnTo>
                  <a:pt x="304" y="783"/>
                </a:lnTo>
                <a:lnTo>
                  <a:pt x="296" y="783"/>
                </a:lnTo>
                <a:lnTo>
                  <a:pt x="288" y="783"/>
                </a:lnTo>
                <a:lnTo>
                  <a:pt x="280" y="783"/>
                </a:lnTo>
                <a:lnTo>
                  <a:pt x="272" y="792"/>
                </a:lnTo>
                <a:lnTo>
                  <a:pt x="264" y="792"/>
                </a:lnTo>
                <a:lnTo>
                  <a:pt x="256" y="792"/>
                </a:lnTo>
                <a:lnTo>
                  <a:pt x="248" y="792"/>
                </a:lnTo>
                <a:lnTo>
                  <a:pt x="248" y="800"/>
                </a:lnTo>
                <a:lnTo>
                  <a:pt x="248" y="809"/>
                </a:lnTo>
                <a:lnTo>
                  <a:pt x="248" y="818"/>
                </a:lnTo>
                <a:lnTo>
                  <a:pt x="248" y="827"/>
                </a:lnTo>
                <a:lnTo>
                  <a:pt x="248" y="836"/>
                </a:lnTo>
                <a:lnTo>
                  <a:pt x="248" y="845"/>
                </a:lnTo>
                <a:lnTo>
                  <a:pt x="248" y="853"/>
                </a:lnTo>
                <a:lnTo>
                  <a:pt x="248" y="862"/>
                </a:lnTo>
                <a:lnTo>
                  <a:pt x="248" y="871"/>
                </a:lnTo>
                <a:lnTo>
                  <a:pt x="248" y="880"/>
                </a:lnTo>
                <a:lnTo>
                  <a:pt x="248" y="889"/>
                </a:lnTo>
                <a:lnTo>
                  <a:pt x="248" y="897"/>
                </a:lnTo>
                <a:lnTo>
                  <a:pt x="248" y="906"/>
                </a:lnTo>
                <a:lnTo>
                  <a:pt x="248" y="915"/>
                </a:lnTo>
                <a:lnTo>
                  <a:pt x="248" y="906"/>
                </a:lnTo>
                <a:lnTo>
                  <a:pt x="240" y="906"/>
                </a:lnTo>
                <a:lnTo>
                  <a:pt x="240" y="897"/>
                </a:lnTo>
                <a:lnTo>
                  <a:pt x="232" y="889"/>
                </a:lnTo>
                <a:lnTo>
                  <a:pt x="224" y="880"/>
                </a:lnTo>
                <a:lnTo>
                  <a:pt x="216" y="871"/>
                </a:lnTo>
                <a:lnTo>
                  <a:pt x="208" y="862"/>
                </a:lnTo>
                <a:lnTo>
                  <a:pt x="200" y="845"/>
                </a:lnTo>
                <a:lnTo>
                  <a:pt x="192" y="836"/>
                </a:lnTo>
                <a:lnTo>
                  <a:pt x="176" y="818"/>
                </a:lnTo>
                <a:lnTo>
                  <a:pt x="168" y="800"/>
                </a:lnTo>
                <a:lnTo>
                  <a:pt x="152" y="783"/>
                </a:lnTo>
                <a:lnTo>
                  <a:pt x="136" y="765"/>
                </a:lnTo>
                <a:lnTo>
                  <a:pt x="120" y="748"/>
                </a:lnTo>
                <a:lnTo>
                  <a:pt x="104" y="730"/>
                </a:lnTo>
                <a:lnTo>
                  <a:pt x="96" y="712"/>
                </a:lnTo>
                <a:lnTo>
                  <a:pt x="80" y="695"/>
                </a:lnTo>
                <a:lnTo>
                  <a:pt x="64" y="677"/>
                </a:lnTo>
                <a:lnTo>
                  <a:pt x="56" y="660"/>
                </a:lnTo>
                <a:lnTo>
                  <a:pt x="48" y="651"/>
                </a:lnTo>
                <a:lnTo>
                  <a:pt x="40" y="642"/>
                </a:lnTo>
                <a:lnTo>
                  <a:pt x="32" y="624"/>
                </a:lnTo>
                <a:lnTo>
                  <a:pt x="24" y="616"/>
                </a:lnTo>
                <a:lnTo>
                  <a:pt x="16" y="607"/>
                </a:lnTo>
                <a:lnTo>
                  <a:pt x="8" y="607"/>
                </a:lnTo>
                <a:lnTo>
                  <a:pt x="8" y="598"/>
                </a:lnTo>
                <a:lnTo>
                  <a:pt x="0" y="589"/>
                </a:lnTo>
                <a:lnTo>
                  <a:pt x="0" y="580"/>
                </a:lnTo>
                <a:lnTo>
                  <a:pt x="8" y="580"/>
                </a:lnTo>
                <a:lnTo>
                  <a:pt x="8" y="571"/>
                </a:lnTo>
                <a:lnTo>
                  <a:pt x="16" y="563"/>
                </a:lnTo>
                <a:lnTo>
                  <a:pt x="24" y="554"/>
                </a:lnTo>
                <a:lnTo>
                  <a:pt x="32" y="545"/>
                </a:lnTo>
                <a:lnTo>
                  <a:pt x="40" y="527"/>
                </a:lnTo>
                <a:lnTo>
                  <a:pt x="48" y="519"/>
                </a:lnTo>
                <a:lnTo>
                  <a:pt x="56" y="501"/>
                </a:lnTo>
                <a:lnTo>
                  <a:pt x="64" y="483"/>
                </a:lnTo>
                <a:lnTo>
                  <a:pt x="80" y="466"/>
                </a:lnTo>
                <a:lnTo>
                  <a:pt x="96" y="448"/>
                </a:lnTo>
                <a:lnTo>
                  <a:pt x="104" y="431"/>
                </a:lnTo>
                <a:lnTo>
                  <a:pt x="120" y="404"/>
                </a:lnTo>
                <a:lnTo>
                  <a:pt x="136" y="386"/>
                </a:lnTo>
                <a:lnTo>
                  <a:pt x="152" y="369"/>
                </a:lnTo>
                <a:lnTo>
                  <a:pt x="168" y="342"/>
                </a:lnTo>
                <a:lnTo>
                  <a:pt x="176" y="326"/>
                </a:lnTo>
                <a:lnTo>
                  <a:pt x="192" y="317"/>
                </a:lnTo>
                <a:lnTo>
                  <a:pt x="200" y="299"/>
                </a:lnTo>
                <a:lnTo>
                  <a:pt x="208" y="282"/>
                </a:lnTo>
                <a:lnTo>
                  <a:pt x="216" y="273"/>
                </a:lnTo>
                <a:lnTo>
                  <a:pt x="224" y="264"/>
                </a:lnTo>
                <a:lnTo>
                  <a:pt x="232" y="255"/>
                </a:lnTo>
                <a:lnTo>
                  <a:pt x="240" y="247"/>
                </a:lnTo>
                <a:lnTo>
                  <a:pt x="240" y="238"/>
                </a:lnTo>
                <a:lnTo>
                  <a:pt x="248" y="229"/>
                </a:lnTo>
                <a:lnTo>
                  <a:pt x="248" y="238"/>
                </a:lnTo>
                <a:lnTo>
                  <a:pt x="248" y="247"/>
                </a:lnTo>
                <a:lnTo>
                  <a:pt x="248" y="255"/>
                </a:lnTo>
                <a:lnTo>
                  <a:pt x="248" y="264"/>
                </a:lnTo>
                <a:lnTo>
                  <a:pt x="248" y="273"/>
                </a:lnTo>
                <a:lnTo>
                  <a:pt x="248" y="282"/>
                </a:lnTo>
                <a:lnTo>
                  <a:pt x="248" y="291"/>
                </a:lnTo>
                <a:lnTo>
                  <a:pt x="240" y="299"/>
                </a:lnTo>
                <a:lnTo>
                  <a:pt x="240" y="308"/>
                </a:lnTo>
                <a:lnTo>
                  <a:pt x="240" y="317"/>
                </a:lnTo>
                <a:lnTo>
                  <a:pt x="240" y="326"/>
                </a:lnTo>
                <a:lnTo>
                  <a:pt x="240" y="335"/>
                </a:lnTo>
                <a:lnTo>
                  <a:pt x="248" y="335"/>
                </a:lnTo>
                <a:lnTo>
                  <a:pt x="256" y="335"/>
                </a:lnTo>
                <a:lnTo>
                  <a:pt x="264" y="335"/>
                </a:lnTo>
                <a:lnTo>
                  <a:pt x="264" y="326"/>
                </a:lnTo>
                <a:lnTo>
                  <a:pt x="272" y="326"/>
                </a:lnTo>
                <a:lnTo>
                  <a:pt x="280" y="326"/>
                </a:lnTo>
                <a:lnTo>
                  <a:pt x="288" y="326"/>
                </a:lnTo>
                <a:lnTo>
                  <a:pt x="296" y="317"/>
                </a:lnTo>
                <a:lnTo>
                  <a:pt x="304" y="317"/>
                </a:lnTo>
                <a:lnTo>
                  <a:pt x="312" y="317"/>
                </a:lnTo>
                <a:lnTo>
                  <a:pt x="320" y="308"/>
                </a:lnTo>
                <a:lnTo>
                  <a:pt x="328" y="308"/>
                </a:lnTo>
                <a:lnTo>
                  <a:pt x="336" y="299"/>
                </a:lnTo>
                <a:lnTo>
                  <a:pt x="344" y="299"/>
                </a:lnTo>
                <a:lnTo>
                  <a:pt x="352" y="299"/>
                </a:lnTo>
                <a:lnTo>
                  <a:pt x="360" y="291"/>
                </a:lnTo>
                <a:lnTo>
                  <a:pt x="368" y="291"/>
                </a:lnTo>
                <a:lnTo>
                  <a:pt x="376" y="282"/>
                </a:lnTo>
                <a:lnTo>
                  <a:pt x="384" y="282"/>
                </a:lnTo>
                <a:lnTo>
                  <a:pt x="392" y="273"/>
                </a:lnTo>
                <a:lnTo>
                  <a:pt x="400" y="264"/>
                </a:lnTo>
                <a:lnTo>
                  <a:pt x="408" y="264"/>
                </a:lnTo>
                <a:lnTo>
                  <a:pt x="416" y="255"/>
                </a:lnTo>
                <a:lnTo>
                  <a:pt x="424" y="247"/>
                </a:lnTo>
                <a:lnTo>
                  <a:pt x="432" y="247"/>
                </a:lnTo>
                <a:lnTo>
                  <a:pt x="440" y="238"/>
                </a:lnTo>
                <a:lnTo>
                  <a:pt x="440" y="229"/>
                </a:lnTo>
                <a:lnTo>
                  <a:pt x="448" y="220"/>
                </a:lnTo>
                <a:lnTo>
                  <a:pt x="456" y="220"/>
                </a:lnTo>
                <a:lnTo>
                  <a:pt x="464" y="211"/>
                </a:lnTo>
                <a:lnTo>
                  <a:pt x="464" y="203"/>
                </a:lnTo>
                <a:lnTo>
                  <a:pt x="472" y="203"/>
                </a:lnTo>
                <a:lnTo>
                  <a:pt x="480" y="194"/>
                </a:lnTo>
                <a:lnTo>
                  <a:pt x="480" y="185"/>
                </a:lnTo>
                <a:lnTo>
                  <a:pt x="488" y="176"/>
                </a:lnTo>
                <a:lnTo>
                  <a:pt x="496" y="176"/>
                </a:lnTo>
                <a:lnTo>
                  <a:pt x="496" y="167"/>
                </a:lnTo>
                <a:lnTo>
                  <a:pt x="504" y="159"/>
                </a:lnTo>
                <a:lnTo>
                  <a:pt x="504" y="150"/>
                </a:lnTo>
                <a:lnTo>
                  <a:pt x="512" y="150"/>
                </a:lnTo>
                <a:lnTo>
                  <a:pt x="512" y="141"/>
                </a:lnTo>
                <a:lnTo>
                  <a:pt x="520" y="132"/>
                </a:lnTo>
                <a:lnTo>
                  <a:pt x="520" y="123"/>
                </a:lnTo>
                <a:lnTo>
                  <a:pt x="528" y="123"/>
                </a:lnTo>
                <a:lnTo>
                  <a:pt x="528" y="115"/>
                </a:lnTo>
                <a:lnTo>
                  <a:pt x="528" y="106"/>
                </a:lnTo>
                <a:lnTo>
                  <a:pt x="536" y="106"/>
                </a:lnTo>
                <a:lnTo>
                  <a:pt x="536" y="97"/>
                </a:lnTo>
                <a:lnTo>
                  <a:pt x="536" y="88"/>
                </a:lnTo>
                <a:lnTo>
                  <a:pt x="544" y="88"/>
                </a:lnTo>
                <a:lnTo>
                  <a:pt x="544" y="79"/>
                </a:lnTo>
                <a:lnTo>
                  <a:pt x="544" y="70"/>
                </a:lnTo>
                <a:lnTo>
                  <a:pt x="552" y="70"/>
                </a:lnTo>
                <a:lnTo>
                  <a:pt x="552" y="62"/>
                </a:lnTo>
                <a:lnTo>
                  <a:pt x="552" y="53"/>
                </a:lnTo>
                <a:lnTo>
                  <a:pt x="552" y="44"/>
                </a:lnTo>
                <a:lnTo>
                  <a:pt x="560" y="35"/>
                </a:lnTo>
                <a:lnTo>
                  <a:pt x="560" y="26"/>
                </a:lnTo>
                <a:lnTo>
                  <a:pt x="560" y="18"/>
                </a:lnTo>
                <a:lnTo>
                  <a:pt x="560" y="9"/>
                </a:lnTo>
                <a:lnTo>
                  <a:pt x="568" y="9"/>
                </a:lnTo>
                <a:lnTo>
                  <a:pt x="568" y="0"/>
                </a:lnTo>
                <a:lnTo>
                  <a:pt x="576" y="9"/>
                </a:lnTo>
                <a:lnTo>
                  <a:pt x="584" y="9"/>
                </a:lnTo>
                <a:lnTo>
                  <a:pt x="592" y="18"/>
                </a:lnTo>
                <a:lnTo>
                  <a:pt x="600" y="26"/>
                </a:lnTo>
                <a:lnTo>
                  <a:pt x="616" y="35"/>
                </a:lnTo>
                <a:lnTo>
                  <a:pt x="624" y="35"/>
                </a:lnTo>
                <a:lnTo>
                  <a:pt x="632" y="44"/>
                </a:lnTo>
                <a:lnTo>
                  <a:pt x="648" y="53"/>
                </a:lnTo>
                <a:lnTo>
                  <a:pt x="656" y="62"/>
                </a:lnTo>
                <a:lnTo>
                  <a:pt x="672" y="70"/>
                </a:lnTo>
                <a:lnTo>
                  <a:pt x="688" y="79"/>
                </a:lnTo>
                <a:lnTo>
                  <a:pt x="696" y="88"/>
                </a:lnTo>
                <a:lnTo>
                  <a:pt x="712" y="97"/>
                </a:lnTo>
                <a:lnTo>
                  <a:pt x="728" y="106"/>
                </a:lnTo>
                <a:lnTo>
                  <a:pt x="736" y="115"/>
                </a:lnTo>
                <a:lnTo>
                  <a:pt x="744" y="123"/>
                </a:lnTo>
                <a:lnTo>
                  <a:pt x="760" y="132"/>
                </a:lnTo>
                <a:lnTo>
                  <a:pt x="768" y="141"/>
                </a:lnTo>
                <a:lnTo>
                  <a:pt x="776" y="141"/>
                </a:lnTo>
                <a:lnTo>
                  <a:pt x="776" y="150"/>
                </a:lnTo>
                <a:lnTo>
                  <a:pt x="784" y="150"/>
                </a:lnTo>
                <a:lnTo>
                  <a:pt x="792" y="159"/>
                </a:lnTo>
                <a:lnTo>
                  <a:pt x="800" y="159"/>
                </a:lnTo>
                <a:lnTo>
                  <a:pt x="808" y="159"/>
                </a:lnTo>
                <a:lnTo>
                  <a:pt x="816" y="159"/>
                </a:lnTo>
                <a:lnTo>
                  <a:pt x="816" y="150"/>
                </a:lnTo>
                <a:lnTo>
                  <a:pt x="824" y="150"/>
                </a:lnTo>
                <a:lnTo>
                  <a:pt x="832" y="141"/>
                </a:lnTo>
                <a:lnTo>
                  <a:pt x="840" y="132"/>
                </a:lnTo>
                <a:lnTo>
                  <a:pt x="848" y="123"/>
                </a:lnTo>
                <a:lnTo>
                  <a:pt x="864" y="123"/>
                </a:lnTo>
                <a:lnTo>
                  <a:pt x="872" y="115"/>
                </a:lnTo>
                <a:lnTo>
                  <a:pt x="880" y="106"/>
                </a:lnTo>
                <a:lnTo>
                  <a:pt x="896" y="97"/>
                </a:lnTo>
                <a:lnTo>
                  <a:pt x="904" y="88"/>
                </a:lnTo>
                <a:lnTo>
                  <a:pt x="920" y="79"/>
                </a:lnTo>
                <a:lnTo>
                  <a:pt x="928" y="70"/>
                </a:lnTo>
                <a:lnTo>
                  <a:pt x="944" y="62"/>
                </a:lnTo>
                <a:lnTo>
                  <a:pt x="952" y="53"/>
                </a:lnTo>
                <a:lnTo>
                  <a:pt x="960" y="44"/>
                </a:lnTo>
                <a:lnTo>
                  <a:pt x="968" y="35"/>
                </a:lnTo>
                <a:lnTo>
                  <a:pt x="976" y="35"/>
                </a:lnTo>
                <a:lnTo>
                  <a:pt x="984" y="26"/>
                </a:lnTo>
                <a:lnTo>
                  <a:pt x="992" y="26"/>
                </a:lnTo>
                <a:lnTo>
                  <a:pt x="992" y="18"/>
                </a:lnTo>
                <a:lnTo>
                  <a:pt x="1000" y="18"/>
                </a:lnTo>
                <a:lnTo>
                  <a:pt x="1000" y="9"/>
                </a:lnTo>
                <a:lnTo>
                  <a:pt x="1008" y="9"/>
                </a:lnTo>
                <a:lnTo>
                  <a:pt x="1008" y="18"/>
                </a:lnTo>
                <a:lnTo>
                  <a:pt x="1008" y="26"/>
                </a:lnTo>
                <a:lnTo>
                  <a:pt x="1008" y="35"/>
                </a:lnTo>
                <a:lnTo>
                  <a:pt x="1000" y="44"/>
                </a:lnTo>
                <a:lnTo>
                  <a:pt x="1000" y="53"/>
                </a:lnTo>
                <a:lnTo>
                  <a:pt x="1000" y="62"/>
                </a:lnTo>
                <a:lnTo>
                  <a:pt x="1000" y="70"/>
                </a:lnTo>
                <a:lnTo>
                  <a:pt x="1000" y="79"/>
                </a:lnTo>
                <a:lnTo>
                  <a:pt x="1000" y="88"/>
                </a:lnTo>
                <a:lnTo>
                  <a:pt x="992" y="97"/>
                </a:lnTo>
                <a:lnTo>
                  <a:pt x="992" y="115"/>
                </a:lnTo>
                <a:lnTo>
                  <a:pt x="992" y="123"/>
                </a:lnTo>
                <a:lnTo>
                  <a:pt x="984" y="132"/>
                </a:lnTo>
                <a:lnTo>
                  <a:pt x="984" y="150"/>
                </a:lnTo>
                <a:lnTo>
                  <a:pt x="984" y="159"/>
                </a:lnTo>
                <a:lnTo>
                  <a:pt x="976" y="167"/>
                </a:lnTo>
                <a:lnTo>
                  <a:pt x="976" y="185"/>
                </a:lnTo>
                <a:lnTo>
                  <a:pt x="976" y="194"/>
                </a:lnTo>
                <a:lnTo>
                  <a:pt x="968" y="203"/>
                </a:lnTo>
                <a:lnTo>
                  <a:pt x="968" y="220"/>
                </a:lnTo>
                <a:lnTo>
                  <a:pt x="960" y="229"/>
                </a:lnTo>
                <a:lnTo>
                  <a:pt x="960" y="238"/>
                </a:lnTo>
                <a:lnTo>
                  <a:pt x="952" y="255"/>
                </a:lnTo>
                <a:lnTo>
                  <a:pt x="952" y="264"/>
                </a:lnTo>
                <a:lnTo>
                  <a:pt x="944" y="273"/>
                </a:lnTo>
                <a:lnTo>
                  <a:pt x="936" y="291"/>
                </a:lnTo>
                <a:lnTo>
                  <a:pt x="936" y="299"/>
                </a:lnTo>
                <a:lnTo>
                  <a:pt x="928" y="308"/>
                </a:lnTo>
                <a:lnTo>
                  <a:pt x="920" y="326"/>
                </a:lnTo>
                <a:lnTo>
                  <a:pt x="920" y="335"/>
                </a:lnTo>
                <a:lnTo>
                  <a:pt x="912" y="342"/>
                </a:lnTo>
                <a:lnTo>
                  <a:pt x="904" y="351"/>
                </a:lnTo>
                <a:lnTo>
                  <a:pt x="904" y="369"/>
                </a:lnTo>
                <a:lnTo>
                  <a:pt x="896" y="378"/>
                </a:lnTo>
                <a:lnTo>
                  <a:pt x="888" y="386"/>
                </a:lnTo>
                <a:lnTo>
                  <a:pt x="880" y="395"/>
                </a:lnTo>
                <a:lnTo>
                  <a:pt x="880" y="404"/>
                </a:lnTo>
                <a:lnTo>
                  <a:pt x="872" y="413"/>
                </a:lnTo>
                <a:lnTo>
                  <a:pt x="864" y="422"/>
                </a:lnTo>
                <a:lnTo>
                  <a:pt x="856" y="431"/>
                </a:lnTo>
                <a:lnTo>
                  <a:pt x="856" y="439"/>
                </a:lnTo>
                <a:lnTo>
                  <a:pt x="848" y="448"/>
                </a:lnTo>
                <a:lnTo>
                  <a:pt x="840" y="457"/>
                </a:lnTo>
                <a:lnTo>
                  <a:pt x="832" y="466"/>
                </a:lnTo>
                <a:lnTo>
                  <a:pt x="824" y="475"/>
                </a:lnTo>
                <a:lnTo>
                  <a:pt x="816" y="483"/>
                </a:lnTo>
                <a:lnTo>
                  <a:pt x="808" y="492"/>
                </a:lnTo>
                <a:lnTo>
                  <a:pt x="800" y="501"/>
                </a:lnTo>
                <a:lnTo>
                  <a:pt x="792" y="510"/>
                </a:lnTo>
                <a:lnTo>
                  <a:pt x="784" y="527"/>
                </a:lnTo>
                <a:lnTo>
                  <a:pt x="776" y="536"/>
                </a:lnTo>
                <a:lnTo>
                  <a:pt x="768" y="545"/>
                </a:lnTo>
                <a:lnTo>
                  <a:pt x="760" y="554"/>
                </a:lnTo>
                <a:lnTo>
                  <a:pt x="744" y="563"/>
                </a:lnTo>
                <a:lnTo>
                  <a:pt x="736" y="571"/>
                </a:lnTo>
                <a:lnTo>
                  <a:pt x="728" y="580"/>
                </a:lnTo>
                <a:lnTo>
                  <a:pt x="712" y="589"/>
                </a:lnTo>
                <a:lnTo>
                  <a:pt x="704" y="598"/>
                </a:lnTo>
                <a:lnTo>
                  <a:pt x="688" y="607"/>
                </a:lnTo>
                <a:lnTo>
                  <a:pt x="680" y="616"/>
                </a:lnTo>
                <a:lnTo>
                  <a:pt x="672" y="624"/>
                </a:lnTo>
                <a:lnTo>
                  <a:pt x="656" y="633"/>
                </a:lnTo>
                <a:lnTo>
                  <a:pt x="648" y="642"/>
                </a:lnTo>
                <a:lnTo>
                  <a:pt x="632" y="651"/>
                </a:lnTo>
                <a:lnTo>
                  <a:pt x="624" y="660"/>
                </a:lnTo>
                <a:lnTo>
                  <a:pt x="608" y="668"/>
                </a:lnTo>
                <a:lnTo>
                  <a:pt x="600" y="677"/>
                </a:lnTo>
                <a:lnTo>
                  <a:pt x="584" y="677"/>
                </a:lnTo>
                <a:lnTo>
                  <a:pt x="576" y="686"/>
                </a:lnTo>
                <a:lnTo>
                  <a:pt x="568" y="695"/>
                </a:lnTo>
                <a:lnTo>
                  <a:pt x="552" y="704"/>
                </a:lnTo>
                <a:lnTo>
                  <a:pt x="544" y="704"/>
                </a:lnTo>
                <a:lnTo>
                  <a:pt x="528" y="712"/>
                </a:lnTo>
                <a:lnTo>
                  <a:pt x="520" y="712"/>
                </a:lnTo>
                <a:lnTo>
                  <a:pt x="504" y="721"/>
                </a:lnTo>
                <a:lnTo>
                  <a:pt x="496" y="730"/>
                </a:lnTo>
                <a:lnTo>
                  <a:pt x="480" y="730"/>
                </a:lnTo>
                <a:lnTo>
                  <a:pt x="472" y="739"/>
                </a:lnTo>
                <a:lnTo>
                  <a:pt x="464" y="739"/>
                </a:lnTo>
                <a:lnTo>
                  <a:pt x="448" y="739"/>
                </a:lnTo>
                <a:lnTo>
                  <a:pt x="440" y="748"/>
                </a:lnTo>
                <a:lnTo>
                  <a:pt x="424" y="748"/>
                </a:lnTo>
                <a:lnTo>
                  <a:pt x="416" y="756"/>
                </a:lnTo>
                <a:lnTo>
                  <a:pt x="400" y="756"/>
                </a:lnTo>
                <a:lnTo>
                  <a:pt x="392" y="765"/>
                </a:lnTo>
                <a:lnTo>
                  <a:pt x="384" y="765"/>
                </a:lnTo>
                <a:lnTo>
                  <a:pt x="368" y="765"/>
                </a:lnTo>
                <a:lnTo>
                  <a:pt x="360" y="774"/>
                </a:lnTo>
                <a:lnTo>
                  <a:pt x="352" y="774"/>
                </a:lnTo>
                <a:lnTo>
                  <a:pt x="336" y="774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311880" y="3708360"/>
            <a:ext cx="1584360" cy="1735200"/>
          </a:xfrm>
          <a:custGeom>
            <a:avLst/>
            <a:gdLst/>
            <a:ahLst/>
            <a:rect l="l" t="t" r="r" b="b"/>
            <a:pathLst>
              <a:path w="922" h="1093">
                <a:moveTo>
                  <a:pt x="111" y="315"/>
                </a:moveTo>
                <a:lnTo>
                  <a:pt x="111" y="306"/>
                </a:lnTo>
                <a:lnTo>
                  <a:pt x="111" y="297"/>
                </a:lnTo>
                <a:lnTo>
                  <a:pt x="111" y="289"/>
                </a:lnTo>
                <a:lnTo>
                  <a:pt x="103" y="280"/>
                </a:lnTo>
                <a:lnTo>
                  <a:pt x="103" y="271"/>
                </a:lnTo>
                <a:lnTo>
                  <a:pt x="103" y="262"/>
                </a:lnTo>
                <a:lnTo>
                  <a:pt x="103" y="254"/>
                </a:lnTo>
                <a:lnTo>
                  <a:pt x="103" y="245"/>
                </a:lnTo>
                <a:lnTo>
                  <a:pt x="95" y="245"/>
                </a:lnTo>
                <a:lnTo>
                  <a:pt x="87" y="245"/>
                </a:lnTo>
                <a:lnTo>
                  <a:pt x="79" y="245"/>
                </a:lnTo>
                <a:lnTo>
                  <a:pt x="72" y="245"/>
                </a:lnTo>
                <a:lnTo>
                  <a:pt x="64" y="245"/>
                </a:lnTo>
                <a:lnTo>
                  <a:pt x="56" y="245"/>
                </a:lnTo>
                <a:lnTo>
                  <a:pt x="48" y="245"/>
                </a:lnTo>
                <a:lnTo>
                  <a:pt x="40" y="245"/>
                </a:lnTo>
                <a:lnTo>
                  <a:pt x="32" y="245"/>
                </a:lnTo>
                <a:lnTo>
                  <a:pt x="24" y="245"/>
                </a:lnTo>
                <a:lnTo>
                  <a:pt x="16" y="245"/>
                </a:lnTo>
                <a:lnTo>
                  <a:pt x="8" y="245"/>
                </a:lnTo>
                <a:lnTo>
                  <a:pt x="0" y="245"/>
                </a:lnTo>
                <a:lnTo>
                  <a:pt x="8" y="245"/>
                </a:lnTo>
                <a:lnTo>
                  <a:pt x="8" y="236"/>
                </a:lnTo>
                <a:lnTo>
                  <a:pt x="16" y="236"/>
                </a:lnTo>
                <a:lnTo>
                  <a:pt x="24" y="227"/>
                </a:lnTo>
                <a:lnTo>
                  <a:pt x="32" y="219"/>
                </a:lnTo>
                <a:lnTo>
                  <a:pt x="48" y="219"/>
                </a:lnTo>
                <a:lnTo>
                  <a:pt x="56" y="210"/>
                </a:lnTo>
                <a:lnTo>
                  <a:pt x="72" y="201"/>
                </a:lnTo>
                <a:lnTo>
                  <a:pt x="87" y="184"/>
                </a:lnTo>
                <a:lnTo>
                  <a:pt x="103" y="175"/>
                </a:lnTo>
                <a:lnTo>
                  <a:pt x="119" y="166"/>
                </a:lnTo>
                <a:lnTo>
                  <a:pt x="135" y="149"/>
                </a:lnTo>
                <a:lnTo>
                  <a:pt x="159" y="140"/>
                </a:lnTo>
                <a:lnTo>
                  <a:pt x="183" y="122"/>
                </a:lnTo>
                <a:lnTo>
                  <a:pt x="199" y="105"/>
                </a:lnTo>
                <a:lnTo>
                  <a:pt x="223" y="96"/>
                </a:lnTo>
                <a:lnTo>
                  <a:pt x="238" y="79"/>
                </a:lnTo>
                <a:lnTo>
                  <a:pt x="262" y="70"/>
                </a:lnTo>
                <a:lnTo>
                  <a:pt x="278" y="52"/>
                </a:lnTo>
                <a:lnTo>
                  <a:pt x="286" y="44"/>
                </a:lnTo>
                <a:lnTo>
                  <a:pt x="302" y="35"/>
                </a:lnTo>
                <a:lnTo>
                  <a:pt x="318" y="26"/>
                </a:lnTo>
                <a:lnTo>
                  <a:pt x="326" y="17"/>
                </a:lnTo>
                <a:lnTo>
                  <a:pt x="334" y="17"/>
                </a:lnTo>
                <a:lnTo>
                  <a:pt x="342" y="9"/>
                </a:lnTo>
                <a:lnTo>
                  <a:pt x="350" y="9"/>
                </a:lnTo>
                <a:lnTo>
                  <a:pt x="350" y="0"/>
                </a:lnTo>
                <a:lnTo>
                  <a:pt x="358" y="0"/>
                </a:lnTo>
                <a:lnTo>
                  <a:pt x="366" y="0"/>
                </a:lnTo>
                <a:lnTo>
                  <a:pt x="366" y="9"/>
                </a:lnTo>
                <a:lnTo>
                  <a:pt x="374" y="9"/>
                </a:lnTo>
                <a:lnTo>
                  <a:pt x="382" y="17"/>
                </a:lnTo>
                <a:lnTo>
                  <a:pt x="389" y="17"/>
                </a:lnTo>
                <a:lnTo>
                  <a:pt x="397" y="26"/>
                </a:lnTo>
                <a:lnTo>
                  <a:pt x="413" y="35"/>
                </a:lnTo>
                <a:lnTo>
                  <a:pt x="421" y="44"/>
                </a:lnTo>
                <a:lnTo>
                  <a:pt x="437" y="52"/>
                </a:lnTo>
                <a:lnTo>
                  <a:pt x="445" y="70"/>
                </a:lnTo>
                <a:lnTo>
                  <a:pt x="461" y="79"/>
                </a:lnTo>
                <a:lnTo>
                  <a:pt x="477" y="96"/>
                </a:lnTo>
                <a:lnTo>
                  <a:pt x="501" y="105"/>
                </a:lnTo>
                <a:lnTo>
                  <a:pt x="517" y="122"/>
                </a:lnTo>
                <a:lnTo>
                  <a:pt x="540" y="140"/>
                </a:lnTo>
                <a:lnTo>
                  <a:pt x="556" y="149"/>
                </a:lnTo>
                <a:lnTo>
                  <a:pt x="572" y="166"/>
                </a:lnTo>
                <a:lnTo>
                  <a:pt x="588" y="175"/>
                </a:lnTo>
                <a:lnTo>
                  <a:pt x="604" y="184"/>
                </a:lnTo>
                <a:lnTo>
                  <a:pt x="611" y="201"/>
                </a:lnTo>
                <a:lnTo>
                  <a:pt x="627" y="210"/>
                </a:lnTo>
                <a:lnTo>
                  <a:pt x="635" y="219"/>
                </a:lnTo>
                <a:lnTo>
                  <a:pt x="643" y="219"/>
                </a:lnTo>
                <a:lnTo>
                  <a:pt x="651" y="227"/>
                </a:lnTo>
                <a:lnTo>
                  <a:pt x="659" y="236"/>
                </a:lnTo>
                <a:lnTo>
                  <a:pt x="667" y="236"/>
                </a:lnTo>
                <a:lnTo>
                  <a:pt x="667" y="245"/>
                </a:lnTo>
                <a:lnTo>
                  <a:pt x="675" y="245"/>
                </a:lnTo>
                <a:lnTo>
                  <a:pt x="667" y="245"/>
                </a:lnTo>
                <a:lnTo>
                  <a:pt x="659" y="245"/>
                </a:lnTo>
                <a:lnTo>
                  <a:pt x="651" y="245"/>
                </a:lnTo>
                <a:lnTo>
                  <a:pt x="643" y="245"/>
                </a:lnTo>
                <a:lnTo>
                  <a:pt x="635" y="245"/>
                </a:lnTo>
                <a:lnTo>
                  <a:pt x="627" y="245"/>
                </a:lnTo>
                <a:lnTo>
                  <a:pt x="619" y="245"/>
                </a:lnTo>
                <a:lnTo>
                  <a:pt x="611" y="245"/>
                </a:lnTo>
                <a:lnTo>
                  <a:pt x="604" y="245"/>
                </a:lnTo>
                <a:lnTo>
                  <a:pt x="596" y="245"/>
                </a:lnTo>
                <a:lnTo>
                  <a:pt x="588" y="245"/>
                </a:lnTo>
                <a:lnTo>
                  <a:pt x="580" y="245"/>
                </a:lnTo>
                <a:lnTo>
                  <a:pt x="572" y="245"/>
                </a:lnTo>
                <a:lnTo>
                  <a:pt x="564" y="245"/>
                </a:lnTo>
                <a:lnTo>
                  <a:pt x="556" y="245"/>
                </a:lnTo>
                <a:lnTo>
                  <a:pt x="556" y="254"/>
                </a:lnTo>
                <a:lnTo>
                  <a:pt x="564" y="262"/>
                </a:lnTo>
                <a:lnTo>
                  <a:pt x="564" y="271"/>
                </a:lnTo>
                <a:lnTo>
                  <a:pt x="564" y="280"/>
                </a:lnTo>
                <a:lnTo>
                  <a:pt x="564" y="289"/>
                </a:lnTo>
                <a:lnTo>
                  <a:pt x="572" y="297"/>
                </a:lnTo>
                <a:lnTo>
                  <a:pt x="572" y="306"/>
                </a:lnTo>
                <a:lnTo>
                  <a:pt x="572" y="315"/>
                </a:lnTo>
                <a:lnTo>
                  <a:pt x="572" y="324"/>
                </a:lnTo>
                <a:lnTo>
                  <a:pt x="580" y="324"/>
                </a:lnTo>
                <a:lnTo>
                  <a:pt x="580" y="332"/>
                </a:lnTo>
                <a:lnTo>
                  <a:pt x="580" y="341"/>
                </a:lnTo>
                <a:lnTo>
                  <a:pt x="588" y="350"/>
                </a:lnTo>
                <a:lnTo>
                  <a:pt x="588" y="359"/>
                </a:lnTo>
                <a:lnTo>
                  <a:pt x="588" y="367"/>
                </a:lnTo>
                <a:lnTo>
                  <a:pt x="596" y="376"/>
                </a:lnTo>
                <a:lnTo>
                  <a:pt x="596" y="385"/>
                </a:lnTo>
                <a:lnTo>
                  <a:pt x="604" y="394"/>
                </a:lnTo>
                <a:lnTo>
                  <a:pt x="611" y="402"/>
                </a:lnTo>
                <a:lnTo>
                  <a:pt x="611" y="411"/>
                </a:lnTo>
                <a:lnTo>
                  <a:pt x="619" y="420"/>
                </a:lnTo>
                <a:lnTo>
                  <a:pt x="619" y="428"/>
                </a:lnTo>
                <a:lnTo>
                  <a:pt x="627" y="437"/>
                </a:lnTo>
                <a:lnTo>
                  <a:pt x="635" y="446"/>
                </a:lnTo>
                <a:lnTo>
                  <a:pt x="643" y="455"/>
                </a:lnTo>
                <a:lnTo>
                  <a:pt x="643" y="463"/>
                </a:lnTo>
                <a:lnTo>
                  <a:pt x="651" y="472"/>
                </a:lnTo>
                <a:lnTo>
                  <a:pt x="659" y="481"/>
                </a:lnTo>
                <a:lnTo>
                  <a:pt x="667" y="490"/>
                </a:lnTo>
                <a:lnTo>
                  <a:pt x="675" y="498"/>
                </a:lnTo>
                <a:lnTo>
                  <a:pt x="683" y="507"/>
                </a:lnTo>
                <a:lnTo>
                  <a:pt x="683" y="516"/>
                </a:lnTo>
                <a:lnTo>
                  <a:pt x="691" y="516"/>
                </a:lnTo>
                <a:lnTo>
                  <a:pt x="698" y="525"/>
                </a:lnTo>
                <a:lnTo>
                  <a:pt x="706" y="533"/>
                </a:lnTo>
                <a:lnTo>
                  <a:pt x="714" y="542"/>
                </a:lnTo>
                <a:lnTo>
                  <a:pt x="722" y="542"/>
                </a:lnTo>
                <a:lnTo>
                  <a:pt x="730" y="551"/>
                </a:lnTo>
                <a:lnTo>
                  <a:pt x="738" y="551"/>
                </a:lnTo>
                <a:lnTo>
                  <a:pt x="746" y="560"/>
                </a:lnTo>
                <a:lnTo>
                  <a:pt x="754" y="560"/>
                </a:lnTo>
                <a:lnTo>
                  <a:pt x="762" y="568"/>
                </a:lnTo>
                <a:lnTo>
                  <a:pt x="770" y="568"/>
                </a:lnTo>
                <a:lnTo>
                  <a:pt x="778" y="577"/>
                </a:lnTo>
                <a:lnTo>
                  <a:pt x="786" y="577"/>
                </a:lnTo>
                <a:lnTo>
                  <a:pt x="794" y="586"/>
                </a:lnTo>
                <a:lnTo>
                  <a:pt x="802" y="586"/>
                </a:lnTo>
                <a:lnTo>
                  <a:pt x="810" y="586"/>
                </a:lnTo>
                <a:lnTo>
                  <a:pt x="818" y="595"/>
                </a:lnTo>
                <a:lnTo>
                  <a:pt x="826" y="595"/>
                </a:lnTo>
                <a:lnTo>
                  <a:pt x="834" y="595"/>
                </a:lnTo>
                <a:lnTo>
                  <a:pt x="842" y="603"/>
                </a:lnTo>
                <a:lnTo>
                  <a:pt x="849" y="603"/>
                </a:lnTo>
                <a:lnTo>
                  <a:pt x="857" y="603"/>
                </a:lnTo>
                <a:lnTo>
                  <a:pt x="865" y="612"/>
                </a:lnTo>
                <a:lnTo>
                  <a:pt x="873" y="612"/>
                </a:lnTo>
                <a:lnTo>
                  <a:pt x="881" y="612"/>
                </a:lnTo>
                <a:lnTo>
                  <a:pt x="889" y="612"/>
                </a:lnTo>
                <a:lnTo>
                  <a:pt x="889" y="621"/>
                </a:lnTo>
                <a:lnTo>
                  <a:pt x="897" y="621"/>
                </a:lnTo>
                <a:lnTo>
                  <a:pt x="905" y="621"/>
                </a:lnTo>
                <a:lnTo>
                  <a:pt x="913" y="621"/>
                </a:lnTo>
                <a:lnTo>
                  <a:pt x="921" y="621"/>
                </a:lnTo>
                <a:lnTo>
                  <a:pt x="921" y="629"/>
                </a:lnTo>
                <a:lnTo>
                  <a:pt x="913" y="637"/>
                </a:lnTo>
                <a:lnTo>
                  <a:pt x="905" y="646"/>
                </a:lnTo>
                <a:lnTo>
                  <a:pt x="905" y="655"/>
                </a:lnTo>
                <a:lnTo>
                  <a:pt x="897" y="664"/>
                </a:lnTo>
                <a:lnTo>
                  <a:pt x="889" y="672"/>
                </a:lnTo>
                <a:lnTo>
                  <a:pt x="881" y="681"/>
                </a:lnTo>
                <a:lnTo>
                  <a:pt x="873" y="690"/>
                </a:lnTo>
                <a:lnTo>
                  <a:pt x="865" y="707"/>
                </a:lnTo>
                <a:lnTo>
                  <a:pt x="857" y="716"/>
                </a:lnTo>
                <a:lnTo>
                  <a:pt x="849" y="733"/>
                </a:lnTo>
                <a:lnTo>
                  <a:pt x="834" y="751"/>
                </a:lnTo>
                <a:lnTo>
                  <a:pt x="826" y="760"/>
                </a:lnTo>
                <a:lnTo>
                  <a:pt x="818" y="777"/>
                </a:lnTo>
                <a:lnTo>
                  <a:pt x="802" y="786"/>
                </a:lnTo>
                <a:lnTo>
                  <a:pt x="794" y="803"/>
                </a:lnTo>
                <a:lnTo>
                  <a:pt x="786" y="812"/>
                </a:lnTo>
                <a:lnTo>
                  <a:pt x="786" y="821"/>
                </a:lnTo>
                <a:lnTo>
                  <a:pt x="778" y="830"/>
                </a:lnTo>
                <a:lnTo>
                  <a:pt x="770" y="838"/>
                </a:lnTo>
                <a:lnTo>
                  <a:pt x="762" y="847"/>
                </a:lnTo>
                <a:lnTo>
                  <a:pt x="762" y="856"/>
                </a:lnTo>
                <a:lnTo>
                  <a:pt x="754" y="856"/>
                </a:lnTo>
                <a:lnTo>
                  <a:pt x="754" y="865"/>
                </a:lnTo>
                <a:lnTo>
                  <a:pt x="746" y="873"/>
                </a:lnTo>
                <a:lnTo>
                  <a:pt x="754" y="873"/>
                </a:lnTo>
                <a:lnTo>
                  <a:pt x="754" y="882"/>
                </a:lnTo>
                <a:lnTo>
                  <a:pt x="762" y="891"/>
                </a:lnTo>
                <a:lnTo>
                  <a:pt x="770" y="900"/>
                </a:lnTo>
                <a:lnTo>
                  <a:pt x="778" y="908"/>
                </a:lnTo>
                <a:lnTo>
                  <a:pt x="786" y="917"/>
                </a:lnTo>
                <a:lnTo>
                  <a:pt x="786" y="926"/>
                </a:lnTo>
                <a:lnTo>
                  <a:pt x="794" y="935"/>
                </a:lnTo>
                <a:lnTo>
                  <a:pt x="802" y="943"/>
                </a:lnTo>
                <a:lnTo>
                  <a:pt x="818" y="952"/>
                </a:lnTo>
                <a:lnTo>
                  <a:pt x="826" y="970"/>
                </a:lnTo>
                <a:lnTo>
                  <a:pt x="834" y="978"/>
                </a:lnTo>
                <a:lnTo>
                  <a:pt x="849" y="996"/>
                </a:lnTo>
                <a:lnTo>
                  <a:pt x="857" y="1005"/>
                </a:lnTo>
                <a:lnTo>
                  <a:pt x="865" y="1022"/>
                </a:lnTo>
                <a:lnTo>
                  <a:pt x="873" y="1031"/>
                </a:lnTo>
                <a:lnTo>
                  <a:pt x="881" y="1040"/>
                </a:lnTo>
                <a:lnTo>
                  <a:pt x="889" y="1048"/>
                </a:lnTo>
                <a:lnTo>
                  <a:pt x="897" y="1057"/>
                </a:lnTo>
                <a:lnTo>
                  <a:pt x="905" y="1066"/>
                </a:lnTo>
                <a:lnTo>
                  <a:pt x="913" y="1075"/>
                </a:lnTo>
                <a:lnTo>
                  <a:pt x="913" y="1083"/>
                </a:lnTo>
                <a:lnTo>
                  <a:pt x="921" y="1083"/>
                </a:lnTo>
                <a:lnTo>
                  <a:pt x="921" y="1092"/>
                </a:lnTo>
                <a:lnTo>
                  <a:pt x="913" y="1092"/>
                </a:lnTo>
                <a:lnTo>
                  <a:pt x="905" y="1092"/>
                </a:lnTo>
                <a:lnTo>
                  <a:pt x="897" y="1083"/>
                </a:lnTo>
                <a:lnTo>
                  <a:pt x="889" y="1083"/>
                </a:lnTo>
                <a:lnTo>
                  <a:pt x="881" y="1083"/>
                </a:lnTo>
                <a:lnTo>
                  <a:pt x="873" y="1083"/>
                </a:lnTo>
                <a:lnTo>
                  <a:pt x="865" y="1083"/>
                </a:lnTo>
                <a:lnTo>
                  <a:pt x="849" y="1083"/>
                </a:lnTo>
                <a:lnTo>
                  <a:pt x="842" y="1083"/>
                </a:lnTo>
                <a:lnTo>
                  <a:pt x="826" y="1075"/>
                </a:lnTo>
                <a:lnTo>
                  <a:pt x="810" y="1075"/>
                </a:lnTo>
                <a:lnTo>
                  <a:pt x="802" y="1075"/>
                </a:lnTo>
                <a:lnTo>
                  <a:pt x="786" y="1075"/>
                </a:lnTo>
                <a:lnTo>
                  <a:pt x="770" y="1066"/>
                </a:lnTo>
                <a:lnTo>
                  <a:pt x="754" y="1066"/>
                </a:lnTo>
                <a:lnTo>
                  <a:pt x="746" y="1066"/>
                </a:lnTo>
                <a:lnTo>
                  <a:pt x="730" y="1057"/>
                </a:lnTo>
                <a:lnTo>
                  <a:pt x="714" y="1057"/>
                </a:lnTo>
                <a:lnTo>
                  <a:pt x="698" y="1048"/>
                </a:lnTo>
                <a:lnTo>
                  <a:pt x="683" y="1048"/>
                </a:lnTo>
                <a:lnTo>
                  <a:pt x="675" y="1040"/>
                </a:lnTo>
                <a:lnTo>
                  <a:pt x="659" y="1031"/>
                </a:lnTo>
                <a:lnTo>
                  <a:pt x="643" y="1031"/>
                </a:lnTo>
                <a:lnTo>
                  <a:pt x="627" y="1022"/>
                </a:lnTo>
                <a:lnTo>
                  <a:pt x="611" y="1013"/>
                </a:lnTo>
                <a:lnTo>
                  <a:pt x="596" y="1013"/>
                </a:lnTo>
                <a:lnTo>
                  <a:pt x="580" y="1005"/>
                </a:lnTo>
                <a:lnTo>
                  <a:pt x="572" y="996"/>
                </a:lnTo>
                <a:lnTo>
                  <a:pt x="556" y="987"/>
                </a:lnTo>
                <a:lnTo>
                  <a:pt x="540" y="978"/>
                </a:lnTo>
                <a:lnTo>
                  <a:pt x="525" y="970"/>
                </a:lnTo>
                <a:lnTo>
                  <a:pt x="509" y="961"/>
                </a:lnTo>
                <a:lnTo>
                  <a:pt x="501" y="952"/>
                </a:lnTo>
                <a:lnTo>
                  <a:pt x="485" y="943"/>
                </a:lnTo>
                <a:lnTo>
                  <a:pt x="469" y="935"/>
                </a:lnTo>
                <a:lnTo>
                  <a:pt x="453" y="926"/>
                </a:lnTo>
                <a:lnTo>
                  <a:pt x="445" y="917"/>
                </a:lnTo>
                <a:lnTo>
                  <a:pt x="429" y="908"/>
                </a:lnTo>
                <a:lnTo>
                  <a:pt x="421" y="900"/>
                </a:lnTo>
                <a:lnTo>
                  <a:pt x="405" y="891"/>
                </a:lnTo>
                <a:lnTo>
                  <a:pt x="397" y="882"/>
                </a:lnTo>
                <a:lnTo>
                  <a:pt x="382" y="865"/>
                </a:lnTo>
                <a:lnTo>
                  <a:pt x="374" y="856"/>
                </a:lnTo>
                <a:lnTo>
                  <a:pt x="358" y="847"/>
                </a:lnTo>
                <a:lnTo>
                  <a:pt x="350" y="838"/>
                </a:lnTo>
                <a:lnTo>
                  <a:pt x="334" y="821"/>
                </a:lnTo>
                <a:lnTo>
                  <a:pt x="326" y="812"/>
                </a:lnTo>
                <a:lnTo>
                  <a:pt x="318" y="803"/>
                </a:lnTo>
                <a:lnTo>
                  <a:pt x="310" y="786"/>
                </a:lnTo>
                <a:lnTo>
                  <a:pt x="294" y="777"/>
                </a:lnTo>
                <a:lnTo>
                  <a:pt x="286" y="768"/>
                </a:lnTo>
                <a:lnTo>
                  <a:pt x="278" y="751"/>
                </a:lnTo>
                <a:lnTo>
                  <a:pt x="270" y="742"/>
                </a:lnTo>
                <a:lnTo>
                  <a:pt x="262" y="725"/>
                </a:lnTo>
                <a:lnTo>
                  <a:pt x="254" y="716"/>
                </a:lnTo>
                <a:lnTo>
                  <a:pt x="246" y="698"/>
                </a:lnTo>
                <a:lnTo>
                  <a:pt x="238" y="690"/>
                </a:lnTo>
                <a:lnTo>
                  <a:pt x="230" y="681"/>
                </a:lnTo>
                <a:lnTo>
                  <a:pt x="223" y="664"/>
                </a:lnTo>
                <a:lnTo>
                  <a:pt x="215" y="655"/>
                </a:lnTo>
                <a:lnTo>
                  <a:pt x="207" y="637"/>
                </a:lnTo>
                <a:lnTo>
                  <a:pt x="199" y="629"/>
                </a:lnTo>
                <a:lnTo>
                  <a:pt x="191" y="612"/>
                </a:lnTo>
                <a:lnTo>
                  <a:pt x="191" y="603"/>
                </a:lnTo>
                <a:lnTo>
                  <a:pt x="183" y="586"/>
                </a:lnTo>
                <a:lnTo>
                  <a:pt x="175" y="577"/>
                </a:lnTo>
                <a:lnTo>
                  <a:pt x="167" y="560"/>
                </a:lnTo>
                <a:lnTo>
                  <a:pt x="167" y="551"/>
                </a:lnTo>
                <a:lnTo>
                  <a:pt x="159" y="542"/>
                </a:lnTo>
                <a:lnTo>
                  <a:pt x="159" y="525"/>
                </a:lnTo>
                <a:lnTo>
                  <a:pt x="151" y="516"/>
                </a:lnTo>
                <a:lnTo>
                  <a:pt x="151" y="498"/>
                </a:lnTo>
                <a:lnTo>
                  <a:pt x="143" y="490"/>
                </a:lnTo>
                <a:lnTo>
                  <a:pt x="143" y="481"/>
                </a:lnTo>
                <a:lnTo>
                  <a:pt x="143" y="472"/>
                </a:lnTo>
                <a:lnTo>
                  <a:pt x="135" y="455"/>
                </a:lnTo>
                <a:lnTo>
                  <a:pt x="135" y="446"/>
                </a:lnTo>
                <a:lnTo>
                  <a:pt x="135" y="437"/>
                </a:lnTo>
                <a:lnTo>
                  <a:pt x="127" y="420"/>
                </a:lnTo>
                <a:lnTo>
                  <a:pt x="127" y="411"/>
                </a:lnTo>
                <a:lnTo>
                  <a:pt x="127" y="402"/>
                </a:lnTo>
                <a:lnTo>
                  <a:pt x="119" y="394"/>
                </a:lnTo>
                <a:lnTo>
                  <a:pt x="119" y="385"/>
                </a:lnTo>
                <a:lnTo>
                  <a:pt x="119" y="376"/>
                </a:lnTo>
                <a:lnTo>
                  <a:pt x="119" y="367"/>
                </a:lnTo>
                <a:lnTo>
                  <a:pt x="119" y="359"/>
                </a:lnTo>
                <a:lnTo>
                  <a:pt x="111" y="350"/>
                </a:lnTo>
                <a:lnTo>
                  <a:pt x="111" y="341"/>
                </a:lnTo>
                <a:lnTo>
                  <a:pt x="111" y="332"/>
                </a:lnTo>
                <a:lnTo>
                  <a:pt x="111" y="324"/>
                </a:lnTo>
                <a:lnTo>
                  <a:pt x="111" y="31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311880" y="3708360"/>
            <a:ext cx="1595520" cy="1746360"/>
          </a:xfrm>
          <a:custGeom>
            <a:avLst/>
            <a:gdLst/>
            <a:ahLst/>
            <a:rect l="l" t="t" r="r" b="b"/>
            <a:pathLst>
              <a:path w="928" h="1100">
                <a:moveTo>
                  <a:pt x="112" y="317"/>
                </a:moveTo>
                <a:lnTo>
                  <a:pt x="112" y="308"/>
                </a:lnTo>
                <a:lnTo>
                  <a:pt x="112" y="299"/>
                </a:lnTo>
                <a:lnTo>
                  <a:pt x="112" y="290"/>
                </a:lnTo>
                <a:lnTo>
                  <a:pt x="104" y="282"/>
                </a:lnTo>
                <a:lnTo>
                  <a:pt x="104" y="273"/>
                </a:lnTo>
                <a:lnTo>
                  <a:pt x="104" y="264"/>
                </a:lnTo>
                <a:lnTo>
                  <a:pt x="104" y="255"/>
                </a:lnTo>
                <a:lnTo>
                  <a:pt x="104" y="246"/>
                </a:lnTo>
                <a:lnTo>
                  <a:pt x="96" y="246"/>
                </a:lnTo>
                <a:lnTo>
                  <a:pt x="88" y="246"/>
                </a:lnTo>
                <a:lnTo>
                  <a:pt x="80" y="246"/>
                </a:lnTo>
                <a:lnTo>
                  <a:pt x="72" y="246"/>
                </a:lnTo>
                <a:lnTo>
                  <a:pt x="64" y="246"/>
                </a:lnTo>
                <a:lnTo>
                  <a:pt x="56" y="246"/>
                </a:lnTo>
                <a:lnTo>
                  <a:pt x="48" y="246"/>
                </a:lnTo>
                <a:lnTo>
                  <a:pt x="40" y="246"/>
                </a:lnTo>
                <a:lnTo>
                  <a:pt x="32" y="246"/>
                </a:lnTo>
                <a:lnTo>
                  <a:pt x="24" y="246"/>
                </a:lnTo>
                <a:lnTo>
                  <a:pt x="16" y="246"/>
                </a:lnTo>
                <a:lnTo>
                  <a:pt x="8" y="246"/>
                </a:lnTo>
                <a:lnTo>
                  <a:pt x="0" y="246"/>
                </a:lnTo>
                <a:lnTo>
                  <a:pt x="8" y="246"/>
                </a:lnTo>
                <a:lnTo>
                  <a:pt x="8" y="238"/>
                </a:lnTo>
                <a:lnTo>
                  <a:pt x="16" y="238"/>
                </a:lnTo>
                <a:lnTo>
                  <a:pt x="24" y="229"/>
                </a:lnTo>
                <a:lnTo>
                  <a:pt x="32" y="220"/>
                </a:lnTo>
                <a:lnTo>
                  <a:pt x="48" y="220"/>
                </a:lnTo>
                <a:lnTo>
                  <a:pt x="56" y="211"/>
                </a:lnTo>
                <a:lnTo>
                  <a:pt x="72" y="202"/>
                </a:lnTo>
                <a:lnTo>
                  <a:pt x="88" y="185"/>
                </a:lnTo>
                <a:lnTo>
                  <a:pt x="104" y="176"/>
                </a:lnTo>
                <a:lnTo>
                  <a:pt x="120" y="167"/>
                </a:lnTo>
                <a:lnTo>
                  <a:pt x="136" y="150"/>
                </a:lnTo>
                <a:lnTo>
                  <a:pt x="160" y="141"/>
                </a:lnTo>
                <a:lnTo>
                  <a:pt x="184" y="123"/>
                </a:lnTo>
                <a:lnTo>
                  <a:pt x="200" y="106"/>
                </a:lnTo>
                <a:lnTo>
                  <a:pt x="224" y="97"/>
                </a:lnTo>
                <a:lnTo>
                  <a:pt x="240" y="79"/>
                </a:lnTo>
                <a:lnTo>
                  <a:pt x="264" y="70"/>
                </a:lnTo>
                <a:lnTo>
                  <a:pt x="280" y="53"/>
                </a:lnTo>
                <a:lnTo>
                  <a:pt x="288" y="44"/>
                </a:lnTo>
                <a:lnTo>
                  <a:pt x="304" y="35"/>
                </a:lnTo>
                <a:lnTo>
                  <a:pt x="320" y="26"/>
                </a:lnTo>
                <a:lnTo>
                  <a:pt x="328" y="18"/>
                </a:lnTo>
                <a:lnTo>
                  <a:pt x="336" y="18"/>
                </a:lnTo>
                <a:lnTo>
                  <a:pt x="344" y="9"/>
                </a:lnTo>
                <a:lnTo>
                  <a:pt x="352" y="9"/>
                </a:lnTo>
                <a:lnTo>
                  <a:pt x="352" y="0"/>
                </a:lnTo>
                <a:lnTo>
                  <a:pt x="360" y="0"/>
                </a:lnTo>
                <a:lnTo>
                  <a:pt x="368" y="0"/>
                </a:lnTo>
                <a:lnTo>
                  <a:pt x="368" y="9"/>
                </a:lnTo>
                <a:lnTo>
                  <a:pt x="376" y="9"/>
                </a:lnTo>
                <a:lnTo>
                  <a:pt x="384" y="18"/>
                </a:lnTo>
                <a:lnTo>
                  <a:pt x="392" y="18"/>
                </a:lnTo>
                <a:lnTo>
                  <a:pt x="400" y="26"/>
                </a:lnTo>
                <a:lnTo>
                  <a:pt x="416" y="35"/>
                </a:lnTo>
                <a:lnTo>
                  <a:pt x="424" y="44"/>
                </a:lnTo>
                <a:lnTo>
                  <a:pt x="440" y="53"/>
                </a:lnTo>
                <a:lnTo>
                  <a:pt x="448" y="70"/>
                </a:lnTo>
                <a:lnTo>
                  <a:pt x="464" y="79"/>
                </a:lnTo>
                <a:lnTo>
                  <a:pt x="480" y="97"/>
                </a:lnTo>
                <a:lnTo>
                  <a:pt x="504" y="106"/>
                </a:lnTo>
                <a:lnTo>
                  <a:pt x="520" y="123"/>
                </a:lnTo>
                <a:lnTo>
                  <a:pt x="544" y="141"/>
                </a:lnTo>
                <a:lnTo>
                  <a:pt x="560" y="150"/>
                </a:lnTo>
                <a:lnTo>
                  <a:pt x="576" y="167"/>
                </a:lnTo>
                <a:lnTo>
                  <a:pt x="592" y="176"/>
                </a:lnTo>
                <a:lnTo>
                  <a:pt x="608" y="185"/>
                </a:lnTo>
                <a:lnTo>
                  <a:pt x="615" y="202"/>
                </a:lnTo>
                <a:lnTo>
                  <a:pt x="631" y="211"/>
                </a:lnTo>
                <a:lnTo>
                  <a:pt x="639" y="220"/>
                </a:lnTo>
                <a:lnTo>
                  <a:pt x="647" y="220"/>
                </a:lnTo>
                <a:lnTo>
                  <a:pt x="655" y="229"/>
                </a:lnTo>
                <a:lnTo>
                  <a:pt x="663" y="238"/>
                </a:lnTo>
                <a:lnTo>
                  <a:pt x="671" y="238"/>
                </a:lnTo>
                <a:lnTo>
                  <a:pt x="671" y="246"/>
                </a:lnTo>
                <a:lnTo>
                  <a:pt x="679" y="246"/>
                </a:lnTo>
                <a:lnTo>
                  <a:pt x="671" y="246"/>
                </a:lnTo>
                <a:lnTo>
                  <a:pt x="663" y="246"/>
                </a:lnTo>
                <a:lnTo>
                  <a:pt x="655" y="246"/>
                </a:lnTo>
                <a:lnTo>
                  <a:pt x="647" y="246"/>
                </a:lnTo>
                <a:lnTo>
                  <a:pt x="639" y="246"/>
                </a:lnTo>
                <a:lnTo>
                  <a:pt x="631" y="246"/>
                </a:lnTo>
                <a:lnTo>
                  <a:pt x="623" y="246"/>
                </a:lnTo>
                <a:lnTo>
                  <a:pt x="615" y="246"/>
                </a:lnTo>
                <a:lnTo>
                  <a:pt x="608" y="246"/>
                </a:lnTo>
                <a:lnTo>
                  <a:pt x="600" y="246"/>
                </a:lnTo>
                <a:lnTo>
                  <a:pt x="592" y="246"/>
                </a:lnTo>
                <a:lnTo>
                  <a:pt x="584" y="246"/>
                </a:lnTo>
                <a:lnTo>
                  <a:pt x="576" y="246"/>
                </a:lnTo>
                <a:lnTo>
                  <a:pt x="568" y="246"/>
                </a:lnTo>
                <a:lnTo>
                  <a:pt x="560" y="246"/>
                </a:lnTo>
                <a:lnTo>
                  <a:pt x="560" y="255"/>
                </a:lnTo>
                <a:lnTo>
                  <a:pt x="568" y="264"/>
                </a:lnTo>
                <a:lnTo>
                  <a:pt x="568" y="273"/>
                </a:lnTo>
                <a:lnTo>
                  <a:pt x="568" y="282"/>
                </a:lnTo>
                <a:lnTo>
                  <a:pt x="568" y="290"/>
                </a:lnTo>
                <a:lnTo>
                  <a:pt x="576" y="299"/>
                </a:lnTo>
                <a:lnTo>
                  <a:pt x="576" y="308"/>
                </a:lnTo>
                <a:lnTo>
                  <a:pt x="576" y="317"/>
                </a:lnTo>
                <a:lnTo>
                  <a:pt x="576" y="326"/>
                </a:lnTo>
                <a:lnTo>
                  <a:pt x="584" y="326"/>
                </a:lnTo>
                <a:lnTo>
                  <a:pt x="584" y="334"/>
                </a:lnTo>
                <a:lnTo>
                  <a:pt x="584" y="343"/>
                </a:lnTo>
                <a:lnTo>
                  <a:pt x="592" y="352"/>
                </a:lnTo>
                <a:lnTo>
                  <a:pt x="592" y="361"/>
                </a:lnTo>
                <a:lnTo>
                  <a:pt x="592" y="370"/>
                </a:lnTo>
                <a:lnTo>
                  <a:pt x="600" y="378"/>
                </a:lnTo>
                <a:lnTo>
                  <a:pt x="600" y="387"/>
                </a:lnTo>
                <a:lnTo>
                  <a:pt x="608" y="396"/>
                </a:lnTo>
                <a:lnTo>
                  <a:pt x="615" y="405"/>
                </a:lnTo>
                <a:lnTo>
                  <a:pt x="615" y="414"/>
                </a:lnTo>
                <a:lnTo>
                  <a:pt x="623" y="422"/>
                </a:lnTo>
                <a:lnTo>
                  <a:pt x="623" y="431"/>
                </a:lnTo>
                <a:lnTo>
                  <a:pt x="631" y="440"/>
                </a:lnTo>
                <a:lnTo>
                  <a:pt x="639" y="449"/>
                </a:lnTo>
                <a:lnTo>
                  <a:pt x="647" y="458"/>
                </a:lnTo>
                <a:lnTo>
                  <a:pt x="647" y="466"/>
                </a:lnTo>
                <a:lnTo>
                  <a:pt x="655" y="475"/>
                </a:lnTo>
                <a:lnTo>
                  <a:pt x="663" y="484"/>
                </a:lnTo>
                <a:lnTo>
                  <a:pt x="671" y="493"/>
                </a:lnTo>
                <a:lnTo>
                  <a:pt x="679" y="502"/>
                </a:lnTo>
                <a:lnTo>
                  <a:pt x="687" y="510"/>
                </a:lnTo>
                <a:lnTo>
                  <a:pt x="687" y="519"/>
                </a:lnTo>
                <a:lnTo>
                  <a:pt x="695" y="519"/>
                </a:lnTo>
                <a:lnTo>
                  <a:pt x="703" y="528"/>
                </a:lnTo>
                <a:lnTo>
                  <a:pt x="711" y="537"/>
                </a:lnTo>
                <a:lnTo>
                  <a:pt x="719" y="546"/>
                </a:lnTo>
                <a:lnTo>
                  <a:pt x="727" y="546"/>
                </a:lnTo>
                <a:lnTo>
                  <a:pt x="735" y="554"/>
                </a:lnTo>
                <a:lnTo>
                  <a:pt x="743" y="554"/>
                </a:lnTo>
                <a:lnTo>
                  <a:pt x="751" y="563"/>
                </a:lnTo>
                <a:lnTo>
                  <a:pt x="759" y="563"/>
                </a:lnTo>
                <a:lnTo>
                  <a:pt x="767" y="572"/>
                </a:lnTo>
                <a:lnTo>
                  <a:pt x="775" y="572"/>
                </a:lnTo>
                <a:lnTo>
                  <a:pt x="783" y="581"/>
                </a:lnTo>
                <a:lnTo>
                  <a:pt x="791" y="581"/>
                </a:lnTo>
                <a:lnTo>
                  <a:pt x="799" y="590"/>
                </a:lnTo>
                <a:lnTo>
                  <a:pt x="807" y="590"/>
                </a:lnTo>
                <a:lnTo>
                  <a:pt x="815" y="590"/>
                </a:lnTo>
                <a:lnTo>
                  <a:pt x="823" y="598"/>
                </a:lnTo>
                <a:lnTo>
                  <a:pt x="831" y="598"/>
                </a:lnTo>
                <a:lnTo>
                  <a:pt x="839" y="598"/>
                </a:lnTo>
                <a:lnTo>
                  <a:pt x="847" y="607"/>
                </a:lnTo>
                <a:lnTo>
                  <a:pt x="855" y="607"/>
                </a:lnTo>
                <a:lnTo>
                  <a:pt x="863" y="607"/>
                </a:lnTo>
                <a:lnTo>
                  <a:pt x="871" y="616"/>
                </a:lnTo>
                <a:lnTo>
                  <a:pt x="879" y="616"/>
                </a:lnTo>
                <a:lnTo>
                  <a:pt x="887" y="616"/>
                </a:lnTo>
                <a:lnTo>
                  <a:pt x="895" y="616"/>
                </a:lnTo>
                <a:lnTo>
                  <a:pt x="895" y="625"/>
                </a:lnTo>
                <a:lnTo>
                  <a:pt x="903" y="625"/>
                </a:lnTo>
                <a:lnTo>
                  <a:pt x="911" y="625"/>
                </a:lnTo>
                <a:lnTo>
                  <a:pt x="919" y="625"/>
                </a:lnTo>
                <a:lnTo>
                  <a:pt x="927" y="625"/>
                </a:lnTo>
                <a:lnTo>
                  <a:pt x="927" y="633"/>
                </a:lnTo>
                <a:lnTo>
                  <a:pt x="919" y="641"/>
                </a:lnTo>
                <a:lnTo>
                  <a:pt x="911" y="650"/>
                </a:lnTo>
                <a:lnTo>
                  <a:pt x="911" y="659"/>
                </a:lnTo>
                <a:lnTo>
                  <a:pt x="903" y="668"/>
                </a:lnTo>
                <a:lnTo>
                  <a:pt x="895" y="677"/>
                </a:lnTo>
                <a:lnTo>
                  <a:pt x="887" y="685"/>
                </a:lnTo>
                <a:lnTo>
                  <a:pt x="879" y="694"/>
                </a:lnTo>
                <a:lnTo>
                  <a:pt x="871" y="712"/>
                </a:lnTo>
                <a:lnTo>
                  <a:pt x="863" y="721"/>
                </a:lnTo>
                <a:lnTo>
                  <a:pt x="855" y="738"/>
                </a:lnTo>
                <a:lnTo>
                  <a:pt x="839" y="756"/>
                </a:lnTo>
                <a:lnTo>
                  <a:pt x="831" y="765"/>
                </a:lnTo>
                <a:lnTo>
                  <a:pt x="823" y="782"/>
                </a:lnTo>
                <a:lnTo>
                  <a:pt x="807" y="791"/>
                </a:lnTo>
                <a:lnTo>
                  <a:pt x="799" y="809"/>
                </a:lnTo>
                <a:lnTo>
                  <a:pt x="791" y="817"/>
                </a:lnTo>
                <a:lnTo>
                  <a:pt x="791" y="826"/>
                </a:lnTo>
                <a:lnTo>
                  <a:pt x="783" y="835"/>
                </a:lnTo>
                <a:lnTo>
                  <a:pt x="775" y="844"/>
                </a:lnTo>
                <a:lnTo>
                  <a:pt x="767" y="853"/>
                </a:lnTo>
                <a:lnTo>
                  <a:pt x="767" y="861"/>
                </a:lnTo>
                <a:lnTo>
                  <a:pt x="759" y="861"/>
                </a:lnTo>
                <a:lnTo>
                  <a:pt x="759" y="870"/>
                </a:lnTo>
                <a:lnTo>
                  <a:pt x="751" y="879"/>
                </a:lnTo>
                <a:lnTo>
                  <a:pt x="759" y="879"/>
                </a:lnTo>
                <a:lnTo>
                  <a:pt x="759" y="888"/>
                </a:lnTo>
                <a:lnTo>
                  <a:pt x="767" y="897"/>
                </a:lnTo>
                <a:lnTo>
                  <a:pt x="775" y="905"/>
                </a:lnTo>
                <a:lnTo>
                  <a:pt x="783" y="914"/>
                </a:lnTo>
                <a:lnTo>
                  <a:pt x="791" y="923"/>
                </a:lnTo>
                <a:lnTo>
                  <a:pt x="791" y="932"/>
                </a:lnTo>
                <a:lnTo>
                  <a:pt x="799" y="941"/>
                </a:lnTo>
                <a:lnTo>
                  <a:pt x="807" y="949"/>
                </a:lnTo>
                <a:lnTo>
                  <a:pt x="823" y="958"/>
                </a:lnTo>
                <a:lnTo>
                  <a:pt x="831" y="976"/>
                </a:lnTo>
                <a:lnTo>
                  <a:pt x="839" y="985"/>
                </a:lnTo>
                <a:lnTo>
                  <a:pt x="855" y="1002"/>
                </a:lnTo>
                <a:lnTo>
                  <a:pt x="863" y="1011"/>
                </a:lnTo>
                <a:lnTo>
                  <a:pt x="871" y="1029"/>
                </a:lnTo>
                <a:lnTo>
                  <a:pt x="879" y="1037"/>
                </a:lnTo>
                <a:lnTo>
                  <a:pt x="887" y="1046"/>
                </a:lnTo>
                <a:lnTo>
                  <a:pt x="895" y="1055"/>
                </a:lnTo>
                <a:lnTo>
                  <a:pt x="903" y="1064"/>
                </a:lnTo>
                <a:lnTo>
                  <a:pt x="911" y="1073"/>
                </a:lnTo>
                <a:lnTo>
                  <a:pt x="919" y="1081"/>
                </a:lnTo>
                <a:lnTo>
                  <a:pt x="919" y="1090"/>
                </a:lnTo>
                <a:lnTo>
                  <a:pt x="927" y="1090"/>
                </a:lnTo>
                <a:lnTo>
                  <a:pt x="927" y="1099"/>
                </a:lnTo>
                <a:lnTo>
                  <a:pt x="919" y="1099"/>
                </a:lnTo>
                <a:lnTo>
                  <a:pt x="911" y="1099"/>
                </a:lnTo>
                <a:lnTo>
                  <a:pt x="903" y="1090"/>
                </a:lnTo>
                <a:lnTo>
                  <a:pt x="895" y="1090"/>
                </a:lnTo>
                <a:lnTo>
                  <a:pt x="887" y="1090"/>
                </a:lnTo>
                <a:lnTo>
                  <a:pt x="879" y="1090"/>
                </a:lnTo>
                <a:lnTo>
                  <a:pt x="871" y="1090"/>
                </a:lnTo>
                <a:lnTo>
                  <a:pt x="855" y="1090"/>
                </a:lnTo>
                <a:lnTo>
                  <a:pt x="847" y="1090"/>
                </a:lnTo>
                <a:lnTo>
                  <a:pt x="831" y="1081"/>
                </a:lnTo>
                <a:lnTo>
                  <a:pt x="815" y="1081"/>
                </a:lnTo>
                <a:lnTo>
                  <a:pt x="807" y="1081"/>
                </a:lnTo>
                <a:lnTo>
                  <a:pt x="791" y="1081"/>
                </a:lnTo>
                <a:lnTo>
                  <a:pt x="775" y="1073"/>
                </a:lnTo>
                <a:lnTo>
                  <a:pt x="759" y="1073"/>
                </a:lnTo>
                <a:lnTo>
                  <a:pt x="751" y="1073"/>
                </a:lnTo>
                <a:lnTo>
                  <a:pt x="735" y="1064"/>
                </a:lnTo>
                <a:lnTo>
                  <a:pt x="719" y="1064"/>
                </a:lnTo>
                <a:lnTo>
                  <a:pt x="703" y="1055"/>
                </a:lnTo>
                <a:lnTo>
                  <a:pt x="687" y="1055"/>
                </a:lnTo>
                <a:lnTo>
                  <a:pt x="679" y="1046"/>
                </a:lnTo>
                <a:lnTo>
                  <a:pt x="663" y="1037"/>
                </a:lnTo>
                <a:lnTo>
                  <a:pt x="647" y="1037"/>
                </a:lnTo>
                <a:lnTo>
                  <a:pt x="631" y="1029"/>
                </a:lnTo>
                <a:lnTo>
                  <a:pt x="615" y="1020"/>
                </a:lnTo>
                <a:lnTo>
                  <a:pt x="600" y="1020"/>
                </a:lnTo>
                <a:lnTo>
                  <a:pt x="584" y="1011"/>
                </a:lnTo>
                <a:lnTo>
                  <a:pt x="576" y="1002"/>
                </a:lnTo>
                <a:lnTo>
                  <a:pt x="560" y="993"/>
                </a:lnTo>
                <a:lnTo>
                  <a:pt x="544" y="985"/>
                </a:lnTo>
                <a:lnTo>
                  <a:pt x="528" y="976"/>
                </a:lnTo>
                <a:lnTo>
                  <a:pt x="512" y="967"/>
                </a:lnTo>
                <a:lnTo>
                  <a:pt x="504" y="958"/>
                </a:lnTo>
                <a:lnTo>
                  <a:pt x="488" y="949"/>
                </a:lnTo>
                <a:lnTo>
                  <a:pt x="472" y="941"/>
                </a:lnTo>
                <a:lnTo>
                  <a:pt x="456" y="932"/>
                </a:lnTo>
                <a:lnTo>
                  <a:pt x="448" y="923"/>
                </a:lnTo>
                <a:lnTo>
                  <a:pt x="432" y="914"/>
                </a:lnTo>
                <a:lnTo>
                  <a:pt x="424" y="905"/>
                </a:lnTo>
                <a:lnTo>
                  <a:pt x="408" y="897"/>
                </a:lnTo>
                <a:lnTo>
                  <a:pt x="400" y="888"/>
                </a:lnTo>
                <a:lnTo>
                  <a:pt x="384" y="870"/>
                </a:lnTo>
                <a:lnTo>
                  <a:pt x="376" y="861"/>
                </a:lnTo>
                <a:lnTo>
                  <a:pt x="360" y="853"/>
                </a:lnTo>
                <a:lnTo>
                  <a:pt x="352" y="844"/>
                </a:lnTo>
                <a:lnTo>
                  <a:pt x="336" y="826"/>
                </a:lnTo>
                <a:lnTo>
                  <a:pt x="328" y="817"/>
                </a:lnTo>
                <a:lnTo>
                  <a:pt x="320" y="809"/>
                </a:lnTo>
                <a:lnTo>
                  <a:pt x="312" y="791"/>
                </a:lnTo>
                <a:lnTo>
                  <a:pt x="296" y="782"/>
                </a:lnTo>
                <a:lnTo>
                  <a:pt x="288" y="773"/>
                </a:lnTo>
                <a:lnTo>
                  <a:pt x="280" y="756"/>
                </a:lnTo>
                <a:lnTo>
                  <a:pt x="272" y="747"/>
                </a:lnTo>
                <a:lnTo>
                  <a:pt x="264" y="729"/>
                </a:lnTo>
                <a:lnTo>
                  <a:pt x="256" y="721"/>
                </a:lnTo>
                <a:lnTo>
                  <a:pt x="248" y="703"/>
                </a:lnTo>
                <a:lnTo>
                  <a:pt x="240" y="694"/>
                </a:lnTo>
                <a:lnTo>
                  <a:pt x="232" y="685"/>
                </a:lnTo>
                <a:lnTo>
                  <a:pt x="224" y="668"/>
                </a:lnTo>
                <a:lnTo>
                  <a:pt x="216" y="659"/>
                </a:lnTo>
                <a:lnTo>
                  <a:pt x="208" y="641"/>
                </a:lnTo>
                <a:lnTo>
                  <a:pt x="200" y="633"/>
                </a:lnTo>
                <a:lnTo>
                  <a:pt x="192" y="616"/>
                </a:lnTo>
                <a:lnTo>
                  <a:pt x="192" y="607"/>
                </a:lnTo>
                <a:lnTo>
                  <a:pt x="184" y="590"/>
                </a:lnTo>
                <a:lnTo>
                  <a:pt x="176" y="581"/>
                </a:lnTo>
                <a:lnTo>
                  <a:pt x="168" y="563"/>
                </a:lnTo>
                <a:lnTo>
                  <a:pt x="168" y="554"/>
                </a:lnTo>
                <a:lnTo>
                  <a:pt x="160" y="546"/>
                </a:lnTo>
                <a:lnTo>
                  <a:pt x="160" y="528"/>
                </a:lnTo>
                <a:lnTo>
                  <a:pt x="152" y="519"/>
                </a:lnTo>
                <a:lnTo>
                  <a:pt x="152" y="502"/>
                </a:lnTo>
                <a:lnTo>
                  <a:pt x="144" y="493"/>
                </a:lnTo>
                <a:lnTo>
                  <a:pt x="144" y="484"/>
                </a:lnTo>
                <a:lnTo>
                  <a:pt x="144" y="475"/>
                </a:lnTo>
                <a:lnTo>
                  <a:pt x="136" y="458"/>
                </a:lnTo>
                <a:lnTo>
                  <a:pt x="136" y="449"/>
                </a:lnTo>
                <a:lnTo>
                  <a:pt x="136" y="440"/>
                </a:lnTo>
                <a:lnTo>
                  <a:pt x="128" y="422"/>
                </a:lnTo>
                <a:lnTo>
                  <a:pt x="128" y="414"/>
                </a:lnTo>
                <a:lnTo>
                  <a:pt x="128" y="405"/>
                </a:lnTo>
                <a:lnTo>
                  <a:pt x="120" y="396"/>
                </a:lnTo>
                <a:lnTo>
                  <a:pt x="120" y="387"/>
                </a:lnTo>
                <a:lnTo>
                  <a:pt x="120" y="378"/>
                </a:lnTo>
                <a:lnTo>
                  <a:pt x="120" y="370"/>
                </a:lnTo>
                <a:lnTo>
                  <a:pt x="120" y="361"/>
                </a:lnTo>
                <a:lnTo>
                  <a:pt x="112" y="352"/>
                </a:lnTo>
                <a:lnTo>
                  <a:pt x="112" y="343"/>
                </a:lnTo>
                <a:lnTo>
                  <a:pt x="112" y="334"/>
                </a:lnTo>
                <a:lnTo>
                  <a:pt x="112" y="326"/>
                </a:lnTo>
                <a:lnTo>
                  <a:pt x="112" y="317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83960" y="1440000"/>
            <a:ext cx="224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46680" y="398772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57120" y="2548080"/>
            <a:ext cx="1684440" cy="1123920"/>
          </a:xfrm>
          <a:custGeom>
            <a:avLst/>
            <a:gdLst/>
            <a:ahLst/>
            <a:rect l="l" t="t" r="r" b="b"/>
            <a:pathLst>
              <a:path w="979" h="708">
                <a:moveTo>
                  <a:pt x="692" y="96"/>
                </a:moveTo>
                <a:lnTo>
                  <a:pt x="700" y="96"/>
                </a:lnTo>
                <a:lnTo>
                  <a:pt x="716" y="96"/>
                </a:lnTo>
                <a:lnTo>
                  <a:pt x="724" y="96"/>
                </a:lnTo>
                <a:lnTo>
                  <a:pt x="732" y="96"/>
                </a:lnTo>
                <a:lnTo>
                  <a:pt x="739" y="96"/>
                </a:lnTo>
                <a:lnTo>
                  <a:pt x="747" y="96"/>
                </a:lnTo>
                <a:lnTo>
                  <a:pt x="755" y="96"/>
                </a:lnTo>
                <a:lnTo>
                  <a:pt x="763" y="96"/>
                </a:lnTo>
                <a:lnTo>
                  <a:pt x="771" y="96"/>
                </a:lnTo>
                <a:lnTo>
                  <a:pt x="779" y="96"/>
                </a:lnTo>
                <a:lnTo>
                  <a:pt x="787" y="96"/>
                </a:lnTo>
                <a:lnTo>
                  <a:pt x="787" y="87"/>
                </a:lnTo>
                <a:lnTo>
                  <a:pt x="787" y="79"/>
                </a:lnTo>
                <a:lnTo>
                  <a:pt x="787" y="70"/>
                </a:lnTo>
                <a:lnTo>
                  <a:pt x="787" y="61"/>
                </a:lnTo>
                <a:lnTo>
                  <a:pt x="787" y="52"/>
                </a:lnTo>
                <a:lnTo>
                  <a:pt x="787" y="44"/>
                </a:lnTo>
                <a:lnTo>
                  <a:pt x="787" y="35"/>
                </a:lnTo>
                <a:lnTo>
                  <a:pt x="787" y="26"/>
                </a:lnTo>
                <a:lnTo>
                  <a:pt x="787" y="17"/>
                </a:lnTo>
                <a:lnTo>
                  <a:pt x="787" y="9"/>
                </a:lnTo>
                <a:lnTo>
                  <a:pt x="787" y="0"/>
                </a:lnTo>
                <a:lnTo>
                  <a:pt x="787" y="9"/>
                </a:lnTo>
                <a:lnTo>
                  <a:pt x="795" y="17"/>
                </a:lnTo>
                <a:lnTo>
                  <a:pt x="795" y="26"/>
                </a:lnTo>
                <a:lnTo>
                  <a:pt x="803" y="26"/>
                </a:lnTo>
                <a:lnTo>
                  <a:pt x="811" y="44"/>
                </a:lnTo>
                <a:lnTo>
                  <a:pt x="819" y="52"/>
                </a:lnTo>
                <a:lnTo>
                  <a:pt x="819" y="61"/>
                </a:lnTo>
                <a:lnTo>
                  <a:pt x="827" y="79"/>
                </a:lnTo>
                <a:lnTo>
                  <a:pt x="843" y="87"/>
                </a:lnTo>
                <a:lnTo>
                  <a:pt x="851" y="105"/>
                </a:lnTo>
                <a:lnTo>
                  <a:pt x="859" y="122"/>
                </a:lnTo>
                <a:lnTo>
                  <a:pt x="867" y="140"/>
                </a:lnTo>
                <a:lnTo>
                  <a:pt x="883" y="157"/>
                </a:lnTo>
                <a:lnTo>
                  <a:pt x="891" y="175"/>
                </a:lnTo>
                <a:lnTo>
                  <a:pt x="906" y="192"/>
                </a:lnTo>
                <a:lnTo>
                  <a:pt x="914" y="209"/>
                </a:lnTo>
                <a:lnTo>
                  <a:pt x="922" y="227"/>
                </a:lnTo>
                <a:lnTo>
                  <a:pt x="930" y="244"/>
                </a:lnTo>
                <a:lnTo>
                  <a:pt x="938" y="253"/>
                </a:lnTo>
                <a:lnTo>
                  <a:pt x="946" y="271"/>
                </a:lnTo>
                <a:lnTo>
                  <a:pt x="954" y="279"/>
                </a:lnTo>
                <a:lnTo>
                  <a:pt x="962" y="288"/>
                </a:lnTo>
                <a:lnTo>
                  <a:pt x="962" y="297"/>
                </a:lnTo>
                <a:lnTo>
                  <a:pt x="970" y="305"/>
                </a:lnTo>
                <a:lnTo>
                  <a:pt x="978" y="314"/>
                </a:lnTo>
                <a:lnTo>
                  <a:pt x="978" y="323"/>
                </a:lnTo>
                <a:lnTo>
                  <a:pt x="970" y="332"/>
                </a:lnTo>
                <a:lnTo>
                  <a:pt x="962" y="340"/>
                </a:lnTo>
                <a:lnTo>
                  <a:pt x="962" y="349"/>
                </a:lnTo>
                <a:lnTo>
                  <a:pt x="954" y="358"/>
                </a:lnTo>
                <a:lnTo>
                  <a:pt x="946" y="367"/>
                </a:lnTo>
                <a:lnTo>
                  <a:pt x="938" y="384"/>
                </a:lnTo>
                <a:lnTo>
                  <a:pt x="930" y="393"/>
                </a:lnTo>
                <a:lnTo>
                  <a:pt x="922" y="410"/>
                </a:lnTo>
                <a:lnTo>
                  <a:pt x="914" y="419"/>
                </a:lnTo>
                <a:lnTo>
                  <a:pt x="906" y="436"/>
                </a:lnTo>
                <a:lnTo>
                  <a:pt x="891" y="454"/>
                </a:lnTo>
                <a:lnTo>
                  <a:pt x="883" y="480"/>
                </a:lnTo>
                <a:lnTo>
                  <a:pt x="867" y="498"/>
                </a:lnTo>
                <a:lnTo>
                  <a:pt x="859" y="515"/>
                </a:lnTo>
                <a:lnTo>
                  <a:pt x="851" y="532"/>
                </a:lnTo>
                <a:lnTo>
                  <a:pt x="843" y="550"/>
                </a:lnTo>
                <a:lnTo>
                  <a:pt x="827" y="559"/>
                </a:lnTo>
                <a:lnTo>
                  <a:pt x="819" y="576"/>
                </a:lnTo>
                <a:lnTo>
                  <a:pt x="819" y="585"/>
                </a:lnTo>
                <a:lnTo>
                  <a:pt x="811" y="594"/>
                </a:lnTo>
                <a:lnTo>
                  <a:pt x="803" y="602"/>
                </a:lnTo>
                <a:lnTo>
                  <a:pt x="795" y="611"/>
                </a:lnTo>
                <a:lnTo>
                  <a:pt x="795" y="620"/>
                </a:lnTo>
                <a:lnTo>
                  <a:pt x="787" y="628"/>
                </a:lnTo>
                <a:lnTo>
                  <a:pt x="787" y="637"/>
                </a:lnTo>
                <a:lnTo>
                  <a:pt x="787" y="628"/>
                </a:lnTo>
                <a:lnTo>
                  <a:pt x="787" y="620"/>
                </a:lnTo>
                <a:lnTo>
                  <a:pt x="787" y="611"/>
                </a:lnTo>
                <a:lnTo>
                  <a:pt x="787" y="602"/>
                </a:lnTo>
                <a:lnTo>
                  <a:pt x="787" y="594"/>
                </a:lnTo>
                <a:lnTo>
                  <a:pt x="787" y="585"/>
                </a:lnTo>
                <a:lnTo>
                  <a:pt x="787" y="576"/>
                </a:lnTo>
                <a:lnTo>
                  <a:pt x="787" y="567"/>
                </a:lnTo>
                <a:lnTo>
                  <a:pt x="787" y="559"/>
                </a:lnTo>
                <a:lnTo>
                  <a:pt x="787" y="550"/>
                </a:lnTo>
                <a:lnTo>
                  <a:pt x="787" y="541"/>
                </a:lnTo>
                <a:lnTo>
                  <a:pt x="779" y="541"/>
                </a:lnTo>
                <a:lnTo>
                  <a:pt x="771" y="541"/>
                </a:lnTo>
                <a:lnTo>
                  <a:pt x="763" y="541"/>
                </a:lnTo>
                <a:lnTo>
                  <a:pt x="755" y="541"/>
                </a:lnTo>
                <a:lnTo>
                  <a:pt x="747" y="541"/>
                </a:lnTo>
                <a:lnTo>
                  <a:pt x="739" y="541"/>
                </a:lnTo>
                <a:lnTo>
                  <a:pt x="732" y="541"/>
                </a:lnTo>
                <a:lnTo>
                  <a:pt x="724" y="541"/>
                </a:lnTo>
                <a:lnTo>
                  <a:pt x="716" y="541"/>
                </a:lnTo>
                <a:lnTo>
                  <a:pt x="708" y="550"/>
                </a:lnTo>
                <a:lnTo>
                  <a:pt x="700" y="550"/>
                </a:lnTo>
                <a:lnTo>
                  <a:pt x="692" y="550"/>
                </a:lnTo>
                <a:lnTo>
                  <a:pt x="684" y="550"/>
                </a:lnTo>
                <a:lnTo>
                  <a:pt x="676" y="550"/>
                </a:lnTo>
                <a:lnTo>
                  <a:pt x="668" y="550"/>
                </a:lnTo>
                <a:lnTo>
                  <a:pt x="660" y="559"/>
                </a:lnTo>
                <a:lnTo>
                  <a:pt x="652" y="559"/>
                </a:lnTo>
                <a:lnTo>
                  <a:pt x="644" y="559"/>
                </a:lnTo>
                <a:lnTo>
                  <a:pt x="636" y="559"/>
                </a:lnTo>
                <a:lnTo>
                  <a:pt x="628" y="567"/>
                </a:lnTo>
                <a:lnTo>
                  <a:pt x="620" y="567"/>
                </a:lnTo>
                <a:lnTo>
                  <a:pt x="612" y="576"/>
                </a:lnTo>
                <a:lnTo>
                  <a:pt x="604" y="576"/>
                </a:lnTo>
                <a:lnTo>
                  <a:pt x="596" y="576"/>
                </a:lnTo>
                <a:lnTo>
                  <a:pt x="596" y="585"/>
                </a:lnTo>
                <a:lnTo>
                  <a:pt x="588" y="585"/>
                </a:lnTo>
                <a:lnTo>
                  <a:pt x="580" y="585"/>
                </a:lnTo>
                <a:lnTo>
                  <a:pt x="572" y="594"/>
                </a:lnTo>
                <a:lnTo>
                  <a:pt x="565" y="602"/>
                </a:lnTo>
                <a:lnTo>
                  <a:pt x="557" y="602"/>
                </a:lnTo>
                <a:lnTo>
                  <a:pt x="549" y="611"/>
                </a:lnTo>
                <a:lnTo>
                  <a:pt x="541" y="611"/>
                </a:lnTo>
                <a:lnTo>
                  <a:pt x="541" y="620"/>
                </a:lnTo>
                <a:lnTo>
                  <a:pt x="533" y="620"/>
                </a:lnTo>
                <a:lnTo>
                  <a:pt x="525" y="628"/>
                </a:lnTo>
                <a:lnTo>
                  <a:pt x="517" y="637"/>
                </a:lnTo>
                <a:lnTo>
                  <a:pt x="509" y="646"/>
                </a:lnTo>
                <a:lnTo>
                  <a:pt x="501" y="646"/>
                </a:lnTo>
                <a:lnTo>
                  <a:pt x="501" y="655"/>
                </a:lnTo>
                <a:lnTo>
                  <a:pt x="493" y="655"/>
                </a:lnTo>
                <a:lnTo>
                  <a:pt x="485" y="663"/>
                </a:lnTo>
                <a:lnTo>
                  <a:pt x="485" y="672"/>
                </a:lnTo>
                <a:lnTo>
                  <a:pt x="477" y="672"/>
                </a:lnTo>
                <a:lnTo>
                  <a:pt x="477" y="681"/>
                </a:lnTo>
                <a:lnTo>
                  <a:pt x="469" y="690"/>
                </a:lnTo>
                <a:lnTo>
                  <a:pt x="469" y="698"/>
                </a:lnTo>
                <a:lnTo>
                  <a:pt x="461" y="698"/>
                </a:lnTo>
                <a:lnTo>
                  <a:pt x="461" y="707"/>
                </a:lnTo>
                <a:lnTo>
                  <a:pt x="453" y="707"/>
                </a:lnTo>
                <a:lnTo>
                  <a:pt x="453" y="698"/>
                </a:lnTo>
                <a:lnTo>
                  <a:pt x="445" y="698"/>
                </a:lnTo>
                <a:lnTo>
                  <a:pt x="445" y="690"/>
                </a:lnTo>
                <a:lnTo>
                  <a:pt x="437" y="690"/>
                </a:lnTo>
                <a:lnTo>
                  <a:pt x="429" y="681"/>
                </a:lnTo>
                <a:lnTo>
                  <a:pt x="429" y="672"/>
                </a:lnTo>
                <a:lnTo>
                  <a:pt x="421" y="663"/>
                </a:lnTo>
                <a:lnTo>
                  <a:pt x="413" y="655"/>
                </a:lnTo>
                <a:lnTo>
                  <a:pt x="406" y="646"/>
                </a:lnTo>
                <a:lnTo>
                  <a:pt x="390" y="637"/>
                </a:lnTo>
                <a:lnTo>
                  <a:pt x="382" y="628"/>
                </a:lnTo>
                <a:lnTo>
                  <a:pt x="374" y="611"/>
                </a:lnTo>
                <a:lnTo>
                  <a:pt x="358" y="602"/>
                </a:lnTo>
                <a:lnTo>
                  <a:pt x="350" y="585"/>
                </a:lnTo>
                <a:lnTo>
                  <a:pt x="334" y="576"/>
                </a:lnTo>
                <a:lnTo>
                  <a:pt x="326" y="567"/>
                </a:lnTo>
                <a:lnTo>
                  <a:pt x="318" y="559"/>
                </a:lnTo>
                <a:lnTo>
                  <a:pt x="310" y="541"/>
                </a:lnTo>
                <a:lnTo>
                  <a:pt x="302" y="532"/>
                </a:lnTo>
                <a:lnTo>
                  <a:pt x="294" y="532"/>
                </a:lnTo>
                <a:lnTo>
                  <a:pt x="286" y="524"/>
                </a:lnTo>
                <a:lnTo>
                  <a:pt x="278" y="515"/>
                </a:lnTo>
                <a:lnTo>
                  <a:pt x="278" y="506"/>
                </a:lnTo>
                <a:lnTo>
                  <a:pt x="270" y="506"/>
                </a:lnTo>
                <a:lnTo>
                  <a:pt x="270" y="498"/>
                </a:lnTo>
                <a:lnTo>
                  <a:pt x="262" y="498"/>
                </a:lnTo>
                <a:lnTo>
                  <a:pt x="254" y="498"/>
                </a:lnTo>
                <a:lnTo>
                  <a:pt x="246" y="498"/>
                </a:lnTo>
                <a:lnTo>
                  <a:pt x="239" y="498"/>
                </a:lnTo>
                <a:lnTo>
                  <a:pt x="231" y="498"/>
                </a:lnTo>
                <a:lnTo>
                  <a:pt x="223" y="506"/>
                </a:lnTo>
                <a:lnTo>
                  <a:pt x="215" y="506"/>
                </a:lnTo>
                <a:lnTo>
                  <a:pt x="199" y="506"/>
                </a:lnTo>
                <a:lnTo>
                  <a:pt x="191" y="515"/>
                </a:lnTo>
                <a:lnTo>
                  <a:pt x="175" y="515"/>
                </a:lnTo>
                <a:lnTo>
                  <a:pt x="167" y="515"/>
                </a:lnTo>
                <a:lnTo>
                  <a:pt x="151" y="524"/>
                </a:lnTo>
                <a:lnTo>
                  <a:pt x="135" y="524"/>
                </a:lnTo>
                <a:lnTo>
                  <a:pt x="119" y="524"/>
                </a:lnTo>
                <a:lnTo>
                  <a:pt x="103" y="532"/>
                </a:lnTo>
                <a:lnTo>
                  <a:pt x="87" y="532"/>
                </a:lnTo>
                <a:lnTo>
                  <a:pt x="80" y="532"/>
                </a:lnTo>
                <a:lnTo>
                  <a:pt x="64" y="541"/>
                </a:lnTo>
                <a:lnTo>
                  <a:pt x="56" y="541"/>
                </a:lnTo>
                <a:lnTo>
                  <a:pt x="48" y="541"/>
                </a:lnTo>
                <a:lnTo>
                  <a:pt x="32" y="541"/>
                </a:lnTo>
                <a:lnTo>
                  <a:pt x="24" y="550"/>
                </a:lnTo>
                <a:lnTo>
                  <a:pt x="16" y="550"/>
                </a:lnTo>
                <a:lnTo>
                  <a:pt x="8" y="550"/>
                </a:lnTo>
                <a:lnTo>
                  <a:pt x="0" y="550"/>
                </a:lnTo>
                <a:lnTo>
                  <a:pt x="8" y="550"/>
                </a:lnTo>
                <a:lnTo>
                  <a:pt x="8" y="541"/>
                </a:lnTo>
                <a:lnTo>
                  <a:pt x="16" y="532"/>
                </a:lnTo>
                <a:lnTo>
                  <a:pt x="16" y="524"/>
                </a:lnTo>
                <a:lnTo>
                  <a:pt x="24" y="524"/>
                </a:lnTo>
                <a:lnTo>
                  <a:pt x="24" y="515"/>
                </a:lnTo>
                <a:lnTo>
                  <a:pt x="32" y="506"/>
                </a:lnTo>
                <a:lnTo>
                  <a:pt x="32" y="498"/>
                </a:lnTo>
                <a:lnTo>
                  <a:pt x="40" y="489"/>
                </a:lnTo>
                <a:lnTo>
                  <a:pt x="40" y="480"/>
                </a:lnTo>
                <a:lnTo>
                  <a:pt x="48" y="480"/>
                </a:lnTo>
                <a:lnTo>
                  <a:pt x="56" y="471"/>
                </a:lnTo>
                <a:lnTo>
                  <a:pt x="64" y="463"/>
                </a:lnTo>
                <a:lnTo>
                  <a:pt x="64" y="454"/>
                </a:lnTo>
                <a:lnTo>
                  <a:pt x="72" y="445"/>
                </a:lnTo>
                <a:lnTo>
                  <a:pt x="80" y="436"/>
                </a:lnTo>
                <a:lnTo>
                  <a:pt x="87" y="428"/>
                </a:lnTo>
                <a:lnTo>
                  <a:pt x="95" y="410"/>
                </a:lnTo>
                <a:lnTo>
                  <a:pt x="103" y="402"/>
                </a:lnTo>
                <a:lnTo>
                  <a:pt x="111" y="393"/>
                </a:lnTo>
                <a:lnTo>
                  <a:pt x="119" y="384"/>
                </a:lnTo>
                <a:lnTo>
                  <a:pt x="127" y="375"/>
                </a:lnTo>
                <a:lnTo>
                  <a:pt x="135" y="367"/>
                </a:lnTo>
                <a:lnTo>
                  <a:pt x="143" y="358"/>
                </a:lnTo>
                <a:lnTo>
                  <a:pt x="151" y="349"/>
                </a:lnTo>
                <a:lnTo>
                  <a:pt x="159" y="340"/>
                </a:lnTo>
                <a:lnTo>
                  <a:pt x="175" y="332"/>
                </a:lnTo>
                <a:lnTo>
                  <a:pt x="183" y="323"/>
                </a:lnTo>
                <a:lnTo>
                  <a:pt x="191" y="314"/>
                </a:lnTo>
                <a:lnTo>
                  <a:pt x="199" y="305"/>
                </a:lnTo>
                <a:lnTo>
                  <a:pt x="215" y="297"/>
                </a:lnTo>
                <a:lnTo>
                  <a:pt x="223" y="288"/>
                </a:lnTo>
                <a:lnTo>
                  <a:pt x="231" y="279"/>
                </a:lnTo>
                <a:lnTo>
                  <a:pt x="246" y="271"/>
                </a:lnTo>
                <a:lnTo>
                  <a:pt x="254" y="262"/>
                </a:lnTo>
                <a:lnTo>
                  <a:pt x="262" y="253"/>
                </a:lnTo>
                <a:lnTo>
                  <a:pt x="278" y="244"/>
                </a:lnTo>
                <a:lnTo>
                  <a:pt x="286" y="236"/>
                </a:lnTo>
                <a:lnTo>
                  <a:pt x="294" y="227"/>
                </a:lnTo>
                <a:lnTo>
                  <a:pt x="310" y="218"/>
                </a:lnTo>
                <a:lnTo>
                  <a:pt x="318" y="218"/>
                </a:lnTo>
                <a:lnTo>
                  <a:pt x="334" y="209"/>
                </a:lnTo>
                <a:lnTo>
                  <a:pt x="342" y="201"/>
                </a:lnTo>
                <a:lnTo>
                  <a:pt x="350" y="192"/>
                </a:lnTo>
                <a:lnTo>
                  <a:pt x="366" y="192"/>
                </a:lnTo>
                <a:lnTo>
                  <a:pt x="374" y="183"/>
                </a:lnTo>
                <a:lnTo>
                  <a:pt x="390" y="175"/>
                </a:lnTo>
                <a:lnTo>
                  <a:pt x="398" y="175"/>
                </a:lnTo>
                <a:lnTo>
                  <a:pt x="406" y="166"/>
                </a:lnTo>
                <a:lnTo>
                  <a:pt x="421" y="166"/>
                </a:lnTo>
                <a:lnTo>
                  <a:pt x="429" y="157"/>
                </a:lnTo>
                <a:lnTo>
                  <a:pt x="445" y="157"/>
                </a:lnTo>
                <a:lnTo>
                  <a:pt x="453" y="148"/>
                </a:lnTo>
                <a:lnTo>
                  <a:pt x="461" y="148"/>
                </a:lnTo>
                <a:lnTo>
                  <a:pt x="477" y="140"/>
                </a:lnTo>
                <a:lnTo>
                  <a:pt x="485" y="140"/>
                </a:lnTo>
                <a:lnTo>
                  <a:pt x="501" y="131"/>
                </a:lnTo>
                <a:lnTo>
                  <a:pt x="509" y="131"/>
                </a:lnTo>
                <a:lnTo>
                  <a:pt x="517" y="131"/>
                </a:lnTo>
                <a:lnTo>
                  <a:pt x="533" y="122"/>
                </a:lnTo>
                <a:lnTo>
                  <a:pt x="541" y="122"/>
                </a:lnTo>
                <a:lnTo>
                  <a:pt x="557" y="122"/>
                </a:lnTo>
                <a:lnTo>
                  <a:pt x="565" y="113"/>
                </a:lnTo>
                <a:lnTo>
                  <a:pt x="580" y="113"/>
                </a:lnTo>
                <a:lnTo>
                  <a:pt x="588" y="113"/>
                </a:lnTo>
                <a:lnTo>
                  <a:pt x="596" y="113"/>
                </a:lnTo>
                <a:lnTo>
                  <a:pt x="612" y="105"/>
                </a:lnTo>
                <a:lnTo>
                  <a:pt x="620" y="105"/>
                </a:lnTo>
                <a:lnTo>
                  <a:pt x="636" y="105"/>
                </a:lnTo>
                <a:lnTo>
                  <a:pt x="644" y="105"/>
                </a:lnTo>
                <a:lnTo>
                  <a:pt x="660" y="105"/>
                </a:lnTo>
                <a:lnTo>
                  <a:pt x="668" y="105"/>
                </a:lnTo>
                <a:lnTo>
                  <a:pt x="684" y="96"/>
                </a:lnTo>
                <a:lnTo>
                  <a:pt x="692" y="9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57120" y="2548080"/>
            <a:ext cx="1693800" cy="1133280"/>
          </a:xfrm>
          <a:custGeom>
            <a:avLst/>
            <a:gdLst/>
            <a:ahLst/>
            <a:rect l="l" t="t" r="r" b="b"/>
            <a:pathLst>
              <a:path w="985" h="714">
                <a:moveTo>
                  <a:pt x="696" y="97"/>
                </a:moveTo>
                <a:lnTo>
                  <a:pt x="704" y="97"/>
                </a:lnTo>
                <a:lnTo>
                  <a:pt x="720" y="97"/>
                </a:lnTo>
                <a:lnTo>
                  <a:pt x="728" y="97"/>
                </a:lnTo>
                <a:lnTo>
                  <a:pt x="736" y="97"/>
                </a:lnTo>
                <a:lnTo>
                  <a:pt x="744" y="97"/>
                </a:lnTo>
                <a:lnTo>
                  <a:pt x="752" y="97"/>
                </a:lnTo>
                <a:lnTo>
                  <a:pt x="760" y="97"/>
                </a:lnTo>
                <a:lnTo>
                  <a:pt x="768" y="97"/>
                </a:lnTo>
                <a:lnTo>
                  <a:pt x="776" y="97"/>
                </a:lnTo>
                <a:lnTo>
                  <a:pt x="784" y="97"/>
                </a:lnTo>
                <a:lnTo>
                  <a:pt x="792" y="97"/>
                </a:lnTo>
                <a:lnTo>
                  <a:pt x="792" y="88"/>
                </a:lnTo>
                <a:lnTo>
                  <a:pt x="792" y="79"/>
                </a:lnTo>
                <a:lnTo>
                  <a:pt x="792" y="70"/>
                </a:lnTo>
                <a:lnTo>
                  <a:pt x="792" y="62"/>
                </a:lnTo>
                <a:lnTo>
                  <a:pt x="792" y="53"/>
                </a:lnTo>
                <a:lnTo>
                  <a:pt x="792" y="44"/>
                </a:lnTo>
                <a:lnTo>
                  <a:pt x="792" y="35"/>
                </a:lnTo>
                <a:lnTo>
                  <a:pt x="792" y="26"/>
                </a:lnTo>
                <a:lnTo>
                  <a:pt x="792" y="18"/>
                </a:lnTo>
                <a:lnTo>
                  <a:pt x="792" y="9"/>
                </a:lnTo>
                <a:lnTo>
                  <a:pt x="792" y="0"/>
                </a:lnTo>
                <a:lnTo>
                  <a:pt x="792" y="9"/>
                </a:lnTo>
                <a:lnTo>
                  <a:pt x="800" y="18"/>
                </a:lnTo>
                <a:lnTo>
                  <a:pt x="800" y="26"/>
                </a:lnTo>
                <a:lnTo>
                  <a:pt x="808" y="26"/>
                </a:lnTo>
                <a:lnTo>
                  <a:pt x="816" y="44"/>
                </a:lnTo>
                <a:lnTo>
                  <a:pt x="824" y="53"/>
                </a:lnTo>
                <a:lnTo>
                  <a:pt x="824" y="62"/>
                </a:lnTo>
                <a:lnTo>
                  <a:pt x="832" y="79"/>
                </a:lnTo>
                <a:lnTo>
                  <a:pt x="848" y="88"/>
                </a:lnTo>
                <a:lnTo>
                  <a:pt x="856" y="106"/>
                </a:lnTo>
                <a:lnTo>
                  <a:pt x="864" y="123"/>
                </a:lnTo>
                <a:lnTo>
                  <a:pt x="872" y="141"/>
                </a:lnTo>
                <a:lnTo>
                  <a:pt x="888" y="158"/>
                </a:lnTo>
                <a:lnTo>
                  <a:pt x="896" y="176"/>
                </a:lnTo>
                <a:lnTo>
                  <a:pt x="912" y="194"/>
                </a:lnTo>
                <a:lnTo>
                  <a:pt x="920" y="211"/>
                </a:lnTo>
                <a:lnTo>
                  <a:pt x="928" y="229"/>
                </a:lnTo>
                <a:lnTo>
                  <a:pt x="936" y="246"/>
                </a:lnTo>
                <a:lnTo>
                  <a:pt x="944" y="255"/>
                </a:lnTo>
                <a:lnTo>
                  <a:pt x="952" y="273"/>
                </a:lnTo>
                <a:lnTo>
                  <a:pt x="960" y="282"/>
                </a:lnTo>
                <a:lnTo>
                  <a:pt x="968" y="290"/>
                </a:lnTo>
                <a:lnTo>
                  <a:pt x="968" y="299"/>
                </a:lnTo>
                <a:lnTo>
                  <a:pt x="976" y="308"/>
                </a:lnTo>
                <a:lnTo>
                  <a:pt x="984" y="317"/>
                </a:lnTo>
                <a:lnTo>
                  <a:pt x="984" y="326"/>
                </a:lnTo>
                <a:lnTo>
                  <a:pt x="976" y="334"/>
                </a:lnTo>
                <a:lnTo>
                  <a:pt x="968" y="343"/>
                </a:lnTo>
                <a:lnTo>
                  <a:pt x="968" y="352"/>
                </a:lnTo>
                <a:lnTo>
                  <a:pt x="960" y="361"/>
                </a:lnTo>
                <a:lnTo>
                  <a:pt x="952" y="370"/>
                </a:lnTo>
                <a:lnTo>
                  <a:pt x="944" y="387"/>
                </a:lnTo>
                <a:lnTo>
                  <a:pt x="936" y="396"/>
                </a:lnTo>
                <a:lnTo>
                  <a:pt x="928" y="414"/>
                </a:lnTo>
                <a:lnTo>
                  <a:pt x="920" y="423"/>
                </a:lnTo>
                <a:lnTo>
                  <a:pt x="912" y="440"/>
                </a:lnTo>
                <a:lnTo>
                  <a:pt x="896" y="458"/>
                </a:lnTo>
                <a:lnTo>
                  <a:pt x="888" y="484"/>
                </a:lnTo>
                <a:lnTo>
                  <a:pt x="872" y="502"/>
                </a:lnTo>
                <a:lnTo>
                  <a:pt x="864" y="519"/>
                </a:lnTo>
                <a:lnTo>
                  <a:pt x="856" y="537"/>
                </a:lnTo>
                <a:lnTo>
                  <a:pt x="848" y="555"/>
                </a:lnTo>
                <a:lnTo>
                  <a:pt x="832" y="563"/>
                </a:lnTo>
                <a:lnTo>
                  <a:pt x="824" y="581"/>
                </a:lnTo>
                <a:lnTo>
                  <a:pt x="824" y="590"/>
                </a:lnTo>
                <a:lnTo>
                  <a:pt x="816" y="599"/>
                </a:lnTo>
                <a:lnTo>
                  <a:pt x="808" y="607"/>
                </a:lnTo>
                <a:lnTo>
                  <a:pt x="800" y="616"/>
                </a:lnTo>
                <a:lnTo>
                  <a:pt x="800" y="625"/>
                </a:lnTo>
                <a:lnTo>
                  <a:pt x="792" y="634"/>
                </a:lnTo>
                <a:lnTo>
                  <a:pt x="792" y="643"/>
                </a:lnTo>
                <a:lnTo>
                  <a:pt x="792" y="634"/>
                </a:lnTo>
                <a:lnTo>
                  <a:pt x="792" y="625"/>
                </a:lnTo>
                <a:lnTo>
                  <a:pt x="792" y="616"/>
                </a:lnTo>
                <a:lnTo>
                  <a:pt x="792" y="607"/>
                </a:lnTo>
                <a:lnTo>
                  <a:pt x="792" y="599"/>
                </a:lnTo>
                <a:lnTo>
                  <a:pt x="792" y="590"/>
                </a:lnTo>
                <a:lnTo>
                  <a:pt x="792" y="581"/>
                </a:lnTo>
                <a:lnTo>
                  <a:pt x="792" y="572"/>
                </a:lnTo>
                <a:lnTo>
                  <a:pt x="792" y="563"/>
                </a:lnTo>
                <a:lnTo>
                  <a:pt x="792" y="555"/>
                </a:lnTo>
                <a:lnTo>
                  <a:pt x="792" y="546"/>
                </a:lnTo>
                <a:lnTo>
                  <a:pt x="784" y="546"/>
                </a:lnTo>
                <a:lnTo>
                  <a:pt x="776" y="546"/>
                </a:lnTo>
                <a:lnTo>
                  <a:pt x="768" y="546"/>
                </a:lnTo>
                <a:lnTo>
                  <a:pt x="760" y="546"/>
                </a:lnTo>
                <a:lnTo>
                  <a:pt x="752" y="546"/>
                </a:lnTo>
                <a:lnTo>
                  <a:pt x="744" y="546"/>
                </a:lnTo>
                <a:lnTo>
                  <a:pt x="736" y="546"/>
                </a:lnTo>
                <a:lnTo>
                  <a:pt x="728" y="546"/>
                </a:lnTo>
                <a:lnTo>
                  <a:pt x="720" y="546"/>
                </a:lnTo>
                <a:lnTo>
                  <a:pt x="712" y="555"/>
                </a:lnTo>
                <a:lnTo>
                  <a:pt x="704" y="555"/>
                </a:lnTo>
                <a:lnTo>
                  <a:pt x="696" y="555"/>
                </a:lnTo>
                <a:lnTo>
                  <a:pt x="688" y="555"/>
                </a:lnTo>
                <a:lnTo>
                  <a:pt x="680" y="555"/>
                </a:lnTo>
                <a:lnTo>
                  <a:pt x="672" y="555"/>
                </a:lnTo>
                <a:lnTo>
                  <a:pt x="664" y="563"/>
                </a:lnTo>
                <a:lnTo>
                  <a:pt x="656" y="563"/>
                </a:lnTo>
                <a:lnTo>
                  <a:pt x="648" y="563"/>
                </a:lnTo>
                <a:lnTo>
                  <a:pt x="640" y="563"/>
                </a:lnTo>
                <a:lnTo>
                  <a:pt x="632" y="572"/>
                </a:lnTo>
                <a:lnTo>
                  <a:pt x="624" y="572"/>
                </a:lnTo>
                <a:lnTo>
                  <a:pt x="616" y="581"/>
                </a:lnTo>
                <a:lnTo>
                  <a:pt x="608" y="581"/>
                </a:lnTo>
                <a:lnTo>
                  <a:pt x="600" y="581"/>
                </a:lnTo>
                <a:lnTo>
                  <a:pt x="600" y="590"/>
                </a:lnTo>
                <a:lnTo>
                  <a:pt x="592" y="590"/>
                </a:lnTo>
                <a:lnTo>
                  <a:pt x="584" y="590"/>
                </a:lnTo>
                <a:lnTo>
                  <a:pt x="576" y="599"/>
                </a:lnTo>
                <a:lnTo>
                  <a:pt x="568" y="607"/>
                </a:lnTo>
                <a:lnTo>
                  <a:pt x="560" y="607"/>
                </a:lnTo>
                <a:lnTo>
                  <a:pt x="552" y="616"/>
                </a:lnTo>
                <a:lnTo>
                  <a:pt x="544" y="616"/>
                </a:lnTo>
                <a:lnTo>
                  <a:pt x="544" y="625"/>
                </a:lnTo>
                <a:lnTo>
                  <a:pt x="536" y="625"/>
                </a:lnTo>
                <a:lnTo>
                  <a:pt x="528" y="634"/>
                </a:lnTo>
                <a:lnTo>
                  <a:pt x="520" y="643"/>
                </a:lnTo>
                <a:lnTo>
                  <a:pt x="512" y="651"/>
                </a:lnTo>
                <a:lnTo>
                  <a:pt x="504" y="651"/>
                </a:lnTo>
                <a:lnTo>
                  <a:pt x="504" y="660"/>
                </a:lnTo>
                <a:lnTo>
                  <a:pt x="496" y="660"/>
                </a:lnTo>
                <a:lnTo>
                  <a:pt x="488" y="669"/>
                </a:lnTo>
                <a:lnTo>
                  <a:pt x="488" y="678"/>
                </a:lnTo>
                <a:lnTo>
                  <a:pt x="480" y="678"/>
                </a:lnTo>
                <a:lnTo>
                  <a:pt x="480" y="687"/>
                </a:lnTo>
                <a:lnTo>
                  <a:pt x="472" y="695"/>
                </a:lnTo>
                <a:lnTo>
                  <a:pt x="472" y="704"/>
                </a:lnTo>
                <a:lnTo>
                  <a:pt x="464" y="704"/>
                </a:lnTo>
                <a:lnTo>
                  <a:pt x="464" y="713"/>
                </a:lnTo>
                <a:lnTo>
                  <a:pt x="456" y="713"/>
                </a:lnTo>
                <a:lnTo>
                  <a:pt x="456" y="704"/>
                </a:lnTo>
                <a:lnTo>
                  <a:pt x="448" y="704"/>
                </a:lnTo>
                <a:lnTo>
                  <a:pt x="448" y="695"/>
                </a:lnTo>
                <a:lnTo>
                  <a:pt x="440" y="695"/>
                </a:lnTo>
                <a:lnTo>
                  <a:pt x="432" y="687"/>
                </a:lnTo>
                <a:lnTo>
                  <a:pt x="432" y="678"/>
                </a:lnTo>
                <a:lnTo>
                  <a:pt x="424" y="669"/>
                </a:lnTo>
                <a:lnTo>
                  <a:pt x="416" y="660"/>
                </a:lnTo>
                <a:lnTo>
                  <a:pt x="408" y="651"/>
                </a:lnTo>
                <a:lnTo>
                  <a:pt x="392" y="643"/>
                </a:lnTo>
                <a:lnTo>
                  <a:pt x="384" y="634"/>
                </a:lnTo>
                <a:lnTo>
                  <a:pt x="376" y="616"/>
                </a:lnTo>
                <a:lnTo>
                  <a:pt x="360" y="607"/>
                </a:lnTo>
                <a:lnTo>
                  <a:pt x="352" y="590"/>
                </a:lnTo>
                <a:lnTo>
                  <a:pt x="336" y="581"/>
                </a:lnTo>
                <a:lnTo>
                  <a:pt x="328" y="572"/>
                </a:lnTo>
                <a:lnTo>
                  <a:pt x="320" y="563"/>
                </a:lnTo>
                <a:lnTo>
                  <a:pt x="312" y="546"/>
                </a:lnTo>
                <a:lnTo>
                  <a:pt x="304" y="537"/>
                </a:lnTo>
                <a:lnTo>
                  <a:pt x="296" y="537"/>
                </a:lnTo>
                <a:lnTo>
                  <a:pt x="288" y="528"/>
                </a:lnTo>
                <a:lnTo>
                  <a:pt x="280" y="519"/>
                </a:lnTo>
                <a:lnTo>
                  <a:pt x="280" y="511"/>
                </a:lnTo>
                <a:lnTo>
                  <a:pt x="272" y="511"/>
                </a:lnTo>
                <a:lnTo>
                  <a:pt x="272" y="502"/>
                </a:lnTo>
                <a:lnTo>
                  <a:pt x="264" y="502"/>
                </a:lnTo>
                <a:lnTo>
                  <a:pt x="256" y="502"/>
                </a:lnTo>
                <a:lnTo>
                  <a:pt x="248" y="502"/>
                </a:lnTo>
                <a:lnTo>
                  <a:pt x="240" y="502"/>
                </a:lnTo>
                <a:lnTo>
                  <a:pt x="232" y="502"/>
                </a:lnTo>
                <a:lnTo>
                  <a:pt x="224" y="511"/>
                </a:lnTo>
                <a:lnTo>
                  <a:pt x="216" y="511"/>
                </a:lnTo>
                <a:lnTo>
                  <a:pt x="200" y="511"/>
                </a:lnTo>
                <a:lnTo>
                  <a:pt x="192" y="519"/>
                </a:lnTo>
                <a:lnTo>
                  <a:pt x="176" y="519"/>
                </a:lnTo>
                <a:lnTo>
                  <a:pt x="168" y="519"/>
                </a:lnTo>
                <a:lnTo>
                  <a:pt x="152" y="528"/>
                </a:lnTo>
                <a:lnTo>
                  <a:pt x="136" y="528"/>
                </a:lnTo>
                <a:lnTo>
                  <a:pt x="120" y="528"/>
                </a:lnTo>
                <a:lnTo>
                  <a:pt x="104" y="537"/>
                </a:lnTo>
                <a:lnTo>
                  <a:pt x="88" y="537"/>
                </a:lnTo>
                <a:lnTo>
                  <a:pt x="80" y="537"/>
                </a:lnTo>
                <a:lnTo>
                  <a:pt x="64" y="546"/>
                </a:lnTo>
                <a:lnTo>
                  <a:pt x="56" y="546"/>
                </a:lnTo>
                <a:lnTo>
                  <a:pt x="48" y="546"/>
                </a:lnTo>
                <a:lnTo>
                  <a:pt x="32" y="546"/>
                </a:lnTo>
                <a:lnTo>
                  <a:pt x="24" y="555"/>
                </a:lnTo>
                <a:lnTo>
                  <a:pt x="16" y="555"/>
                </a:lnTo>
                <a:lnTo>
                  <a:pt x="8" y="555"/>
                </a:lnTo>
                <a:lnTo>
                  <a:pt x="0" y="555"/>
                </a:lnTo>
                <a:lnTo>
                  <a:pt x="8" y="555"/>
                </a:lnTo>
                <a:lnTo>
                  <a:pt x="8" y="546"/>
                </a:lnTo>
                <a:lnTo>
                  <a:pt x="16" y="537"/>
                </a:lnTo>
                <a:lnTo>
                  <a:pt x="16" y="528"/>
                </a:lnTo>
                <a:lnTo>
                  <a:pt x="24" y="528"/>
                </a:lnTo>
                <a:lnTo>
                  <a:pt x="24" y="519"/>
                </a:lnTo>
                <a:lnTo>
                  <a:pt x="32" y="511"/>
                </a:lnTo>
                <a:lnTo>
                  <a:pt x="32" y="502"/>
                </a:lnTo>
                <a:lnTo>
                  <a:pt x="40" y="493"/>
                </a:lnTo>
                <a:lnTo>
                  <a:pt x="40" y="484"/>
                </a:lnTo>
                <a:lnTo>
                  <a:pt x="48" y="484"/>
                </a:lnTo>
                <a:lnTo>
                  <a:pt x="56" y="475"/>
                </a:lnTo>
                <a:lnTo>
                  <a:pt x="64" y="467"/>
                </a:lnTo>
                <a:lnTo>
                  <a:pt x="64" y="458"/>
                </a:lnTo>
                <a:lnTo>
                  <a:pt x="72" y="449"/>
                </a:lnTo>
                <a:lnTo>
                  <a:pt x="80" y="440"/>
                </a:lnTo>
                <a:lnTo>
                  <a:pt x="88" y="431"/>
                </a:lnTo>
                <a:lnTo>
                  <a:pt x="96" y="414"/>
                </a:lnTo>
                <a:lnTo>
                  <a:pt x="104" y="405"/>
                </a:lnTo>
                <a:lnTo>
                  <a:pt x="112" y="396"/>
                </a:lnTo>
                <a:lnTo>
                  <a:pt x="120" y="387"/>
                </a:lnTo>
                <a:lnTo>
                  <a:pt x="128" y="379"/>
                </a:lnTo>
                <a:lnTo>
                  <a:pt x="136" y="370"/>
                </a:lnTo>
                <a:lnTo>
                  <a:pt x="144" y="361"/>
                </a:lnTo>
                <a:lnTo>
                  <a:pt x="152" y="352"/>
                </a:lnTo>
                <a:lnTo>
                  <a:pt x="160" y="343"/>
                </a:lnTo>
                <a:lnTo>
                  <a:pt x="176" y="334"/>
                </a:lnTo>
                <a:lnTo>
                  <a:pt x="184" y="326"/>
                </a:lnTo>
                <a:lnTo>
                  <a:pt x="192" y="317"/>
                </a:lnTo>
                <a:lnTo>
                  <a:pt x="200" y="308"/>
                </a:lnTo>
                <a:lnTo>
                  <a:pt x="216" y="299"/>
                </a:lnTo>
                <a:lnTo>
                  <a:pt x="224" y="290"/>
                </a:lnTo>
                <a:lnTo>
                  <a:pt x="232" y="282"/>
                </a:lnTo>
                <a:lnTo>
                  <a:pt x="248" y="273"/>
                </a:lnTo>
                <a:lnTo>
                  <a:pt x="256" y="264"/>
                </a:lnTo>
                <a:lnTo>
                  <a:pt x="264" y="255"/>
                </a:lnTo>
                <a:lnTo>
                  <a:pt x="280" y="246"/>
                </a:lnTo>
                <a:lnTo>
                  <a:pt x="288" y="238"/>
                </a:lnTo>
                <a:lnTo>
                  <a:pt x="296" y="229"/>
                </a:lnTo>
                <a:lnTo>
                  <a:pt x="312" y="220"/>
                </a:lnTo>
                <a:lnTo>
                  <a:pt x="320" y="220"/>
                </a:lnTo>
                <a:lnTo>
                  <a:pt x="336" y="211"/>
                </a:lnTo>
                <a:lnTo>
                  <a:pt x="344" y="202"/>
                </a:lnTo>
                <a:lnTo>
                  <a:pt x="352" y="194"/>
                </a:lnTo>
                <a:lnTo>
                  <a:pt x="368" y="194"/>
                </a:lnTo>
                <a:lnTo>
                  <a:pt x="376" y="185"/>
                </a:lnTo>
                <a:lnTo>
                  <a:pt x="392" y="176"/>
                </a:lnTo>
                <a:lnTo>
                  <a:pt x="400" y="176"/>
                </a:lnTo>
                <a:lnTo>
                  <a:pt x="408" y="167"/>
                </a:lnTo>
                <a:lnTo>
                  <a:pt x="424" y="167"/>
                </a:lnTo>
                <a:lnTo>
                  <a:pt x="432" y="158"/>
                </a:lnTo>
                <a:lnTo>
                  <a:pt x="448" y="158"/>
                </a:lnTo>
                <a:lnTo>
                  <a:pt x="456" y="150"/>
                </a:lnTo>
                <a:lnTo>
                  <a:pt x="464" y="150"/>
                </a:lnTo>
                <a:lnTo>
                  <a:pt x="480" y="141"/>
                </a:lnTo>
                <a:lnTo>
                  <a:pt x="488" y="141"/>
                </a:lnTo>
                <a:lnTo>
                  <a:pt x="504" y="132"/>
                </a:lnTo>
                <a:lnTo>
                  <a:pt x="512" y="132"/>
                </a:lnTo>
                <a:lnTo>
                  <a:pt x="520" y="132"/>
                </a:lnTo>
                <a:lnTo>
                  <a:pt x="536" y="123"/>
                </a:lnTo>
                <a:lnTo>
                  <a:pt x="544" y="123"/>
                </a:lnTo>
                <a:lnTo>
                  <a:pt x="560" y="123"/>
                </a:lnTo>
                <a:lnTo>
                  <a:pt x="568" y="114"/>
                </a:lnTo>
                <a:lnTo>
                  <a:pt x="584" y="114"/>
                </a:lnTo>
                <a:lnTo>
                  <a:pt x="592" y="114"/>
                </a:lnTo>
                <a:lnTo>
                  <a:pt x="600" y="114"/>
                </a:lnTo>
                <a:lnTo>
                  <a:pt x="616" y="106"/>
                </a:lnTo>
                <a:lnTo>
                  <a:pt x="624" y="106"/>
                </a:lnTo>
                <a:lnTo>
                  <a:pt x="640" y="106"/>
                </a:lnTo>
                <a:lnTo>
                  <a:pt x="648" y="106"/>
                </a:lnTo>
                <a:lnTo>
                  <a:pt x="664" y="106"/>
                </a:lnTo>
                <a:lnTo>
                  <a:pt x="672" y="106"/>
                </a:lnTo>
                <a:lnTo>
                  <a:pt x="688" y="97"/>
                </a:lnTo>
                <a:lnTo>
                  <a:pt x="696" y="97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911240" y="2701800"/>
            <a:ext cx="1379520" cy="1276560"/>
          </a:xfrm>
          <a:custGeom>
            <a:avLst/>
            <a:gdLst/>
            <a:ahLst/>
            <a:rect l="l" t="t" r="r" b="b"/>
            <a:pathLst>
              <a:path w="802" h="804">
                <a:moveTo>
                  <a:pt x="151" y="218"/>
                </a:moveTo>
                <a:lnTo>
                  <a:pt x="143" y="218"/>
                </a:lnTo>
                <a:lnTo>
                  <a:pt x="143" y="209"/>
                </a:lnTo>
                <a:lnTo>
                  <a:pt x="135" y="209"/>
                </a:lnTo>
                <a:lnTo>
                  <a:pt x="135" y="201"/>
                </a:lnTo>
                <a:lnTo>
                  <a:pt x="127" y="192"/>
                </a:lnTo>
                <a:lnTo>
                  <a:pt x="127" y="183"/>
                </a:lnTo>
                <a:lnTo>
                  <a:pt x="119" y="183"/>
                </a:lnTo>
                <a:lnTo>
                  <a:pt x="119" y="175"/>
                </a:lnTo>
                <a:lnTo>
                  <a:pt x="111" y="157"/>
                </a:lnTo>
                <a:lnTo>
                  <a:pt x="103" y="148"/>
                </a:lnTo>
                <a:lnTo>
                  <a:pt x="95" y="140"/>
                </a:lnTo>
                <a:lnTo>
                  <a:pt x="87" y="122"/>
                </a:lnTo>
                <a:lnTo>
                  <a:pt x="79" y="113"/>
                </a:lnTo>
                <a:lnTo>
                  <a:pt x="71" y="96"/>
                </a:lnTo>
                <a:lnTo>
                  <a:pt x="64" y="87"/>
                </a:lnTo>
                <a:lnTo>
                  <a:pt x="56" y="79"/>
                </a:lnTo>
                <a:lnTo>
                  <a:pt x="48" y="61"/>
                </a:lnTo>
                <a:lnTo>
                  <a:pt x="48" y="52"/>
                </a:lnTo>
                <a:lnTo>
                  <a:pt x="40" y="44"/>
                </a:lnTo>
                <a:lnTo>
                  <a:pt x="32" y="35"/>
                </a:lnTo>
                <a:lnTo>
                  <a:pt x="32" y="26"/>
                </a:lnTo>
                <a:lnTo>
                  <a:pt x="24" y="26"/>
                </a:lnTo>
                <a:lnTo>
                  <a:pt x="24" y="17"/>
                </a:lnTo>
                <a:lnTo>
                  <a:pt x="16" y="17"/>
                </a:lnTo>
                <a:lnTo>
                  <a:pt x="16" y="9"/>
                </a:lnTo>
                <a:lnTo>
                  <a:pt x="16" y="0"/>
                </a:lnTo>
                <a:lnTo>
                  <a:pt x="24" y="9"/>
                </a:lnTo>
                <a:lnTo>
                  <a:pt x="32" y="9"/>
                </a:lnTo>
                <a:lnTo>
                  <a:pt x="40" y="9"/>
                </a:lnTo>
                <a:lnTo>
                  <a:pt x="48" y="9"/>
                </a:lnTo>
                <a:lnTo>
                  <a:pt x="56" y="9"/>
                </a:lnTo>
                <a:lnTo>
                  <a:pt x="64" y="9"/>
                </a:lnTo>
                <a:lnTo>
                  <a:pt x="64" y="17"/>
                </a:lnTo>
                <a:lnTo>
                  <a:pt x="71" y="17"/>
                </a:lnTo>
                <a:lnTo>
                  <a:pt x="87" y="17"/>
                </a:lnTo>
                <a:lnTo>
                  <a:pt x="95" y="17"/>
                </a:lnTo>
                <a:lnTo>
                  <a:pt x="103" y="17"/>
                </a:lnTo>
                <a:lnTo>
                  <a:pt x="111" y="26"/>
                </a:lnTo>
                <a:lnTo>
                  <a:pt x="119" y="26"/>
                </a:lnTo>
                <a:lnTo>
                  <a:pt x="127" y="26"/>
                </a:lnTo>
                <a:lnTo>
                  <a:pt x="143" y="35"/>
                </a:lnTo>
                <a:lnTo>
                  <a:pt x="151" y="35"/>
                </a:lnTo>
                <a:lnTo>
                  <a:pt x="159" y="35"/>
                </a:lnTo>
                <a:lnTo>
                  <a:pt x="167" y="44"/>
                </a:lnTo>
                <a:lnTo>
                  <a:pt x="183" y="44"/>
                </a:lnTo>
                <a:lnTo>
                  <a:pt x="191" y="52"/>
                </a:lnTo>
                <a:lnTo>
                  <a:pt x="199" y="52"/>
                </a:lnTo>
                <a:lnTo>
                  <a:pt x="214" y="52"/>
                </a:lnTo>
                <a:lnTo>
                  <a:pt x="222" y="61"/>
                </a:lnTo>
                <a:lnTo>
                  <a:pt x="238" y="61"/>
                </a:lnTo>
                <a:lnTo>
                  <a:pt x="246" y="70"/>
                </a:lnTo>
                <a:lnTo>
                  <a:pt x="262" y="79"/>
                </a:lnTo>
                <a:lnTo>
                  <a:pt x="270" y="79"/>
                </a:lnTo>
                <a:lnTo>
                  <a:pt x="286" y="87"/>
                </a:lnTo>
                <a:lnTo>
                  <a:pt x="294" y="87"/>
                </a:lnTo>
                <a:lnTo>
                  <a:pt x="302" y="96"/>
                </a:lnTo>
                <a:lnTo>
                  <a:pt x="318" y="105"/>
                </a:lnTo>
                <a:lnTo>
                  <a:pt x="326" y="113"/>
                </a:lnTo>
                <a:lnTo>
                  <a:pt x="341" y="113"/>
                </a:lnTo>
                <a:lnTo>
                  <a:pt x="349" y="122"/>
                </a:lnTo>
                <a:lnTo>
                  <a:pt x="356" y="131"/>
                </a:lnTo>
                <a:lnTo>
                  <a:pt x="372" y="140"/>
                </a:lnTo>
                <a:lnTo>
                  <a:pt x="380" y="148"/>
                </a:lnTo>
                <a:lnTo>
                  <a:pt x="396" y="148"/>
                </a:lnTo>
                <a:lnTo>
                  <a:pt x="404" y="157"/>
                </a:lnTo>
                <a:lnTo>
                  <a:pt x="412" y="166"/>
                </a:lnTo>
                <a:lnTo>
                  <a:pt x="428" y="175"/>
                </a:lnTo>
                <a:lnTo>
                  <a:pt x="436" y="183"/>
                </a:lnTo>
                <a:lnTo>
                  <a:pt x="444" y="192"/>
                </a:lnTo>
                <a:lnTo>
                  <a:pt x="460" y="201"/>
                </a:lnTo>
                <a:lnTo>
                  <a:pt x="467" y="209"/>
                </a:lnTo>
                <a:lnTo>
                  <a:pt x="475" y="218"/>
                </a:lnTo>
                <a:lnTo>
                  <a:pt x="483" y="227"/>
                </a:lnTo>
                <a:lnTo>
                  <a:pt x="499" y="236"/>
                </a:lnTo>
                <a:lnTo>
                  <a:pt x="507" y="244"/>
                </a:lnTo>
                <a:lnTo>
                  <a:pt x="515" y="253"/>
                </a:lnTo>
                <a:lnTo>
                  <a:pt x="523" y="262"/>
                </a:lnTo>
                <a:lnTo>
                  <a:pt x="531" y="279"/>
                </a:lnTo>
                <a:lnTo>
                  <a:pt x="547" y="288"/>
                </a:lnTo>
                <a:lnTo>
                  <a:pt x="555" y="297"/>
                </a:lnTo>
                <a:lnTo>
                  <a:pt x="563" y="305"/>
                </a:lnTo>
                <a:lnTo>
                  <a:pt x="571" y="314"/>
                </a:lnTo>
                <a:lnTo>
                  <a:pt x="579" y="323"/>
                </a:lnTo>
                <a:lnTo>
                  <a:pt x="587" y="332"/>
                </a:lnTo>
                <a:lnTo>
                  <a:pt x="595" y="349"/>
                </a:lnTo>
                <a:lnTo>
                  <a:pt x="602" y="358"/>
                </a:lnTo>
                <a:lnTo>
                  <a:pt x="610" y="367"/>
                </a:lnTo>
                <a:lnTo>
                  <a:pt x="618" y="375"/>
                </a:lnTo>
                <a:lnTo>
                  <a:pt x="626" y="384"/>
                </a:lnTo>
                <a:lnTo>
                  <a:pt x="626" y="393"/>
                </a:lnTo>
                <a:lnTo>
                  <a:pt x="634" y="402"/>
                </a:lnTo>
                <a:lnTo>
                  <a:pt x="642" y="419"/>
                </a:lnTo>
                <a:lnTo>
                  <a:pt x="650" y="428"/>
                </a:lnTo>
                <a:lnTo>
                  <a:pt x="650" y="436"/>
                </a:lnTo>
                <a:lnTo>
                  <a:pt x="658" y="445"/>
                </a:lnTo>
                <a:lnTo>
                  <a:pt x="666" y="454"/>
                </a:lnTo>
                <a:lnTo>
                  <a:pt x="666" y="463"/>
                </a:lnTo>
                <a:lnTo>
                  <a:pt x="674" y="471"/>
                </a:lnTo>
                <a:lnTo>
                  <a:pt x="682" y="480"/>
                </a:lnTo>
                <a:lnTo>
                  <a:pt x="682" y="489"/>
                </a:lnTo>
                <a:lnTo>
                  <a:pt x="690" y="498"/>
                </a:lnTo>
                <a:lnTo>
                  <a:pt x="690" y="506"/>
                </a:lnTo>
                <a:lnTo>
                  <a:pt x="690" y="515"/>
                </a:lnTo>
                <a:lnTo>
                  <a:pt x="698" y="524"/>
                </a:lnTo>
                <a:lnTo>
                  <a:pt x="698" y="532"/>
                </a:lnTo>
                <a:lnTo>
                  <a:pt x="706" y="541"/>
                </a:lnTo>
                <a:lnTo>
                  <a:pt x="706" y="550"/>
                </a:lnTo>
                <a:lnTo>
                  <a:pt x="706" y="559"/>
                </a:lnTo>
                <a:lnTo>
                  <a:pt x="714" y="559"/>
                </a:lnTo>
                <a:lnTo>
                  <a:pt x="722" y="559"/>
                </a:lnTo>
                <a:lnTo>
                  <a:pt x="730" y="559"/>
                </a:lnTo>
                <a:lnTo>
                  <a:pt x="737" y="550"/>
                </a:lnTo>
                <a:lnTo>
                  <a:pt x="745" y="550"/>
                </a:lnTo>
                <a:lnTo>
                  <a:pt x="753" y="550"/>
                </a:lnTo>
                <a:lnTo>
                  <a:pt x="761" y="541"/>
                </a:lnTo>
                <a:lnTo>
                  <a:pt x="769" y="541"/>
                </a:lnTo>
                <a:lnTo>
                  <a:pt x="777" y="541"/>
                </a:lnTo>
                <a:lnTo>
                  <a:pt x="785" y="541"/>
                </a:lnTo>
                <a:lnTo>
                  <a:pt x="793" y="532"/>
                </a:lnTo>
                <a:lnTo>
                  <a:pt x="801" y="532"/>
                </a:lnTo>
                <a:lnTo>
                  <a:pt x="793" y="541"/>
                </a:lnTo>
                <a:lnTo>
                  <a:pt x="785" y="550"/>
                </a:lnTo>
                <a:lnTo>
                  <a:pt x="777" y="559"/>
                </a:lnTo>
                <a:lnTo>
                  <a:pt x="769" y="567"/>
                </a:lnTo>
                <a:lnTo>
                  <a:pt x="761" y="576"/>
                </a:lnTo>
                <a:lnTo>
                  <a:pt x="753" y="585"/>
                </a:lnTo>
                <a:lnTo>
                  <a:pt x="737" y="594"/>
                </a:lnTo>
                <a:lnTo>
                  <a:pt x="730" y="611"/>
                </a:lnTo>
                <a:lnTo>
                  <a:pt x="714" y="620"/>
                </a:lnTo>
                <a:lnTo>
                  <a:pt x="698" y="637"/>
                </a:lnTo>
                <a:lnTo>
                  <a:pt x="690" y="655"/>
                </a:lnTo>
                <a:lnTo>
                  <a:pt x="674" y="663"/>
                </a:lnTo>
                <a:lnTo>
                  <a:pt x="658" y="681"/>
                </a:lnTo>
                <a:lnTo>
                  <a:pt x="642" y="698"/>
                </a:lnTo>
                <a:lnTo>
                  <a:pt x="626" y="716"/>
                </a:lnTo>
                <a:lnTo>
                  <a:pt x="610" y="724"/>
                </a:lnTo>
                <a:lnTo>
                  <a:pt x="602" y="742"/>
                </a:lnTo>
                <a:lnTo>
                  <a:pt x="595" y="751"/>
                </a:lnTo>
                <a:lnTo>
                  <a:pt x="579" y="759"/>
                </a:lnTo>
                <a:lnTo>
                  <a:pt x="571" y="768"/>
                </a:lnTo>
                <a:lnTo>
                  <a:pt x="563" y="777"/>
                </a:lnTo>
                <a:lnTo>
                  <a:pt x="563" y="786"/>
                </a:lnTo>
                <a:lnTo>
                  <a:pt x="555" y="786"/>
                </a:lnTo>
                <a:lnTo>
                  <a:pt x="547" y="794"/>
                </a:lnTo>
                <a:lnTo>
                  <a:pt x="539" y="803"/>
                </a:lnTo>
                <a:lnTo>
                  <a:pt x="531" y="803"/>
                </a:lnTo>
                <a:lnTo>
                  <a:pt x="523" y="794"/>
                </a:lnTo>
                <a:lnTo>
                  <a:pt x="515" y="794"/>
                </a:lnTo>
                <a:lnTo>
                  <a:pt x="507" y="794"/>
                </a:lnTo>
                <a:lnTo>
                  <a:pt x="491" y="794"/>
                </a:lnTo>
                <a:lnTo>
                  <a:pt x="475" y="786"/>
                </a:lnTo>
                <a:lnTo>
                  <a:pt x="467" y="786"/>
                </a:lnTo>
                <a:lnTo>
                  <a:pt x="452" y="786"/>
                </a:lnTo>
                <a:lnTo>
                  <a:pt x="428" y="777"/>
                </a:lnTo>
                <a:lnTo>
                  <a:pt x="412" y="777"/>
                </a:lnTo>
                <a:lnTo>
                  <a:pt x="396" y="768"/>
                </a:lnTo>
                <a:lnTo>
                  <a:pt x="372" y="768"/>
                </a:lnTo>
                <a:lnTo>
                  <a:pt x="349" y="759"/>
                </a:lnTo>
                <a:lnTo>
                  <a:pt x="326" y="759"/>
                </a:lnTo>
                <a:lnTo>
                  <a:pt x="302" y="751"/>
                </a:lnTo>
                <a:lnTo>
                  <a:pt x="286" y="751"/>
                </a:lnTo>
                <a:lnTo>
                  <a:pt x="262" y="742"/>
                </a:lnTo>
                <a:lnTo>
                  <a:pt x="246" y="742"/>
                </a:lnTo>
                <a:lnTo>
                  <a:pt x="230" y="742"/>
                </a:lnTo>
                <a:lnTo>
                  <a:pt x="214" y="733"/>
                </a:lnTo>
                <a:lnTo>
                  <a:pt x="206" y="733"/>
                </a:lnTo>
                <a:lnTo>
                  <a:pt x="191" y="733"/>
                </a:lnTo>
                <a:lnTo>
                  <a:pt x="183" y="733"/>
                </a:lnTo>
                <a:lnTo>
                  <a:pt x="175" y="724"/>
                </a:lnTo>
                <a:lnTo>
                  <a:pt x="167" y="724"/>
                </a:lnTo>
                <a:lnTo>
                  <a:pt x="159" y="724"/>
                </a:lnTo>
                <a:lnTo>
                  <a:pt x="151" y="724"/>
                </a:lnTo>
                <a:lnTo>
                  <a:pt x="159" y="724"/>
                </a:lnTo>
                <a:lnTo>
                  <a:pt x="167" y="724"/>
                </a:lnTo>
                <a:lnTo>
                  <a:pt x="175" y="716"/>
                </a:lnTo>
                <a:lnTo>
                  <a:pt x="183" y="716"/>
                </a:lnTo>
                <a:lnTo>
                  <a:pt x="191" y="716"/>
                </a:lnTo>
                <a:lnTo>
                  <a:pt x="199" y="716"/>
                </a:lnTo>
                <a:lnTo>
                  <a:pt x="206" y="716"/>
                </a:lnTo>
                <a:lnTo>
                  <a:pt x="206" y="707"/>
                </a:lnTo>
                <a:lnTo>
                  <a:pt x="214" y="707"/>
                </a:lnTo>
                <a:lnTo>
                  <a:pt x="222" y="707"/>
                </a:lnTo>
                <a:lnTo>
                  <a:pt x="230" y="707"/>
                </a:lnTo>
                <a:lnTo>
                  <a:pt x="238" y="707"/>
                </a:lnTo>
                <a:lnTo>
                  <a:pt x="238" y="698"/>
                </a:lnTo>
                <a:lnTo>
                  <a:pt x="246" y="698"/>
                </a:lnTo>
                <a:lnTo>
                  <a:pt x="254" y="698"/>
                </a:lnTo>
                <a:lnTo>
                  <a:pt x="262" y="698"/>
                </a:lnTo>
                <a:lnTo>
                  <a:pt x="270" y="698"/>
                </a:lnTo>
                <a:lnTo>
                  <a:pt x="262" y="698"/>
                </a:lnTo>
                <a:lnTo>
                  <a:pt x="262" y="690"/>
                </a:lnTo>
                <a:lnTo>
                  <a:pt x="262" y="681"/>
                </a:lnTo>
                <a:lnTo>
                  <a:pt x="254" y="681"/>
                </a:lnTo>
                <a:lnTo>
                  <a:pt x="254" y="672"/>
                </a:lnTo>
                <a:lnTo>
                  <a:pt x="254" y="663"/>
                </a:lnTo>
                <a:lnTo>
                  <a:pt x="246" y="663"/>
                </a:lnTo>
                <a:lnTo>
                  <a:pt x="246" y="655"/>
                </a:lnTo>
                <a:lnTo>
                  <a:pt x="238" y="646"/>
                </a:lnTo>
                <a:lnTo>
                  <a:pt x="238" y="637"/>
                </a:lnTo>
                <a:lnTo>
                  <a:pt x="230" y="628"/>
                </a:lnTo>
                <a:lnTo>
                  <a:pt x="222" y="620"/>
                </a:lnTo>
                <a:lnTo>
                  <a:pt x="214" y="611"/>
                </a:lnTo>
                <a:lnTo>
                  <a:pt x="214" y="602"/>
                </a:lnTo>
                <a:lnTo>
                  <a:pt x="206" y="602"/>
                </a:lnTo>
                <a:lnTo>
                  <a:pt x="206" y="594"/>
                </a:lnTo>
                <a:lnTo>
                  <a:pt x="199" y="585"/>
                </a:lnTo>
                <a:lnTo>
                  <a:pt x="191" y="576"/>
                </a:lnTo>
                <a:lnTo>
                  <a:pt x="191" y="567"/>
                </a:lnTo>
                <a:lnTo>
                  <a:pt x="183" y="567"/>
                </a:lnTo>
                <a:lnTo>
                  <a:pt x="183" y="559"/>
                </a:lnTo>
                <a:lnTo>
                  <a:pt x="175" y="550"/>
                </a:lnTo>
                <a:lnTo>
                  <a:pt x="167" y="550"/>
                </a:lnTo>
                <a:lnTo>
                  <a:pt x="167" y="541"/>
                </a:lnTo>
                <a:lnTo>
                  <a:pt x="159" y="541"/>
                </a:lnTo>
                <a:lnTo>
                  <a:pt x="159" y="532"/>
                </a:lnTo>
                <a:lnTo>
                  <a:pt x="151" y="532"/>
                </a:lnTo>
                <a:lnTo>
                  <a:pt x="143" y="524"/>
                </a:lnTo>
                <a:lnTo>
                  <a:pt x="135" y="515"/>
                </a:lnTo>
                <a:lnTo>
                  <a:pt x="127" y="515"/>
                </a:lnTo>
                <a:lnTo>
                  <a:pt x="127" y="506"/>
                </a:lnTo>
                <a:lnTo>
                  <a:pt x="119" y="506"/>
                </a:lnTo>
                <a:lnTo>
                  <a:pt x="111" y="498"/>
                </a:lnTo>
                <a:lnTo>
                  <a:pt x="103" y="498"/>
                </a:lnTo>
                <a:lnTo>
                  <a:pt x="95" y="489"/>
                </a:lnTo>
                <a:lnTo>
                  <a:pt x="87" y="489"/>
                </a:lnTo>
                <a:lnTo>
                  <a:pt x="79" y="480"/>
                </a:lnTo>
                <a:lnTo>
                  <a:pt x="71" y="480"/>
                </a:lnTo>
                <a:lnTo>
                  <a:pt x="64" y="480"/>
                </a:lnTo>
                <a:lnTo>
                  <a:pt x="64" y="471"/>
                </a:lnTo>
                <a:lnTo>
                  <a:pt x="56" y="471"/>
                </a:lnTo>
                <a:lnTo>
                  <a:pt x="48" y="471"/>
                </a:lnTo>
                <a:lnTo>
                  <a:pt x="40" y="463"/>
                </a:lnTo>
                <a:lnTo>
                  <a:pt x="32" y="463"/>
                </a:lnTo>
                <a:lnTo>
                  <a:pt x="24" y="463"/>
                </a:lnTo>
                <a:lnTo>
                  <a:pt x="16" y="463"/>
                </a:lnTo>
                <a:lnTo>
                  <a:pt x="8" y="454"/>
                </a:lnTo>
                <a:lnTo>
                  <a:pt x="0" y="454"/>
                </a:lnTo>
                <a:lnTo>
                  <a:pt x="0" y="445"/>
                </a:lnTo>
                <a:lnTo>
                  <a:pt x="8" y="445"/>
                </a:lnTo>
                <a:lnTo>
                  <a:pt x="8" y="436"/>
                </a:lnTo>
                <a:lnTo>
                  <a:pt x="16" y="436"/>
                </a:lnTo>
                <a:lnTo>
                  <a:pt x="16" y="428"/>
                </a:lnTo>
                <a:lnTo>
                  <a:pt x="24" y="419"/>
                </a:lnTo>
                <a:lnTo>
                  <a:pt x="24" y="410"/>
                </a:lnTo>
                <a:lnTo>
                  <a:pt x="32" y="402"/>
                </a:lnTo>
                <a:lnTo>
                  <a:pt x="40" y="393"/>
                </a:lnTo>
                <a:lnTo>
                  <a:pt x="48" y="375"/>
                </a:lnTo>
                <a:lnTo>
                  <a:pt x="56" y="367"/>
                </a:lnTo>
                <a:lnTo>
                  <a:pt x="64" y="349"/>
                </a:lnTo>
                <a:lnTo>
                  <a:pt x="71" y="340"/>
                </a:lnTo>
                <a:lnTo>
                  <a:pt x="79" y="323"/>
                </a:lnTo>
                <a:lnTo>
                  <a:pt x="87" y="314"/>
                </a:lnTo>
                <a:lnTo>
                  <a:pt x="95" y="297"/>
                </a:lnTo>
                <a:lnTo>
                  <a:pt x="103" y="288"/>
                </a:lnTo>
                <a:lnTo>
                  <a:pt x="111" y="279"/>
                </a:lnTo>
                <a:lnTo>
                  <a:pt x="119" y="271"/>
                </a:lnTo>
                <a:lnTo>
                  <a:pt x="127" y="262"/>
                </a:lnTo>
                <a:lnTo>
                  <a:pt x="127" y="253"/>
                </a:lnTo>
                <a:lnTo>
                  <a:pt x="135" y="244"/>
                </a:lnTo>
                <a:lnTo>
                  <a:pt x="135" y="236"/>
                </a:lnTo>
                <a:lnTo>
                  <a:pt x="143" y="236"/>
                </a:lnTo>
                <a:lnTo>
                  <a:pt x="143" y="227"/>
                </a:lnTo>
                <a:lnTo>
                  <a:pt x="151" y="218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11240" y="2701800"/>
            <a:ext cx="1389240" cy="1287720"/>
          </a:xfrm>
          <a:custGeom>
            <a:avLst/>
            <a:gdLst/>
            <a:ahLst/>
            <a:rect l="l" t="t" r="r" b="b"/>
            <a:pathLst>
              <a:path w="808" h="811">
                <a:moveTo>
                  <a:pt x="152" y="220"/>
                </a:moveTo>
                <a:lnTo>
                  <a:pt x="144" y="220"/>
                </a:lnTo>
                <a:lnTo>
                  <a:pt x="144" y="211"/>
                </a:lnTo>
                <a:lnTo>
                  <a:pt x="136" y="211"/>
                </a:lnTo>
                <a:lnTo>
                  <a:pt x="136" y="203"/>
                </a:lnTo>
                <a:lnTo>
                  <a:pt x="128" y="194"/>
                </a:lnTo>
                <a:lnTo>
                  <a:pt x="128" y="185"/>
                </a:lnTo>
                <a:lnTo>
                  <a:pt x="120" y="185"/>
                </a:lnTo>
                <a:lnTo>
                  <a:pt x="120" y="176"/>
                </a:lnTo>
                <a:lnTo>
                  <a:pt x="112" y="158"/>
                </a:lnTo>
                <a:lnTo>
                  <a:pt x="104" y="150"/>
                </a:lnTo>
                <a:lnTo>
                  <a:pt x="96" y="141"/>
                </a:lnTo>
                <a:lnTo>
                  <a:pt x="88" y="123"/>
                </a:lnTo>
                <a:lnTo>
                  <a:pt x="80" y="114"/>
                </a:lnTo>
                <a:lnTo>
                  <a:pt x="72" y="97"/>
                </a:lnTo>
                <a:lnTo>
                  <a:pt x="64" y="88"/>
                </a:lnTo>
                <a:lnTo>
                  <a:pt x="56" y="79"/>
                </a:lnTo>
                <a:lnTo>
                  <a:pt x="48" y="62"/>
                </a:lnTo>
                <a:lnTo>
                  <a:pt x="48" y="53"/>
                </a:lnTo>
                <a:lnTo>
                  <a:pt x="40" y="44"/>
                </a:lnTo>
                <a:lnTo>
                  <a:pt x="32" y="35"/>
                </a:lnTo>
                <a:lnTo>
                  <a:pt x="32" y="26"/>
                </a:lnTo>
                <a:lnTo>
                  <a:pt x="24" y="26"/>
                </a:lnTo>
                <a:lnTo>
                  <a:pt x="24" y="18"/>
                </a:lnTo>
                <a:lnTo>
                  <a:pt x="16" y="18"/>
                </a:lnTo>
                <a:lnTo>
                  <a:pt x="16" y="9"/>
                </a:lnTo>
                <a:lnTo>
                  <a:pt x="16" y="0"/>
                </a:lnTo>
                <a:lnTo>
                  <a:pt x="24" y="9"/>
                </a:lnTo>
                <a:lnTo>
                  <a:pt x="32" y="9"/>
                </a:lnTo>
                <a:lnTo>
                  <a:pt x="40" y="9"/>
                </a:lnTo>
                <a:lnTo>
                  <a:pt x="48" y="9"/>
                </a:lnTo>
                <a:lnTo>
                  <a:pt x="56" y="9"/>
                </a:lnTo>
                <a:lnTo>
                  <a:pt x="64" y="9"/>
                </a:lnTo>
                <a:lnTo>
                  <a:pt x="64" y="18"/>
                </a:lnTo>
                <a:lnTo>
                  <a:pt x="72" y="18"/>
                </a:lnTo>
                <a:lnTo>
                  <a:pt x="88" y="18"/>
                </a:lnTo>
                <a:lnTo>
                  <a:pt x="96" y="18"/>
                </a:lnTo>
                <a:lnTo>
                  <a:pt x="104" y="18"/>
                </a:lnTo>
                <a:lnTo>
                  <a:pt x="112" y="26"/>
                </a:lnTo>
                <a:lnTo>
                  <a:pt x="120" y="26"/>
                </a:lnTo>
                <a:lnTo>
                  <a:pt x="128" y="26"/>
                </a:lnTo>
                <a:lnTo>
                  <a:pt x="144" y="35"/>
                </a:lnTo>
                <a:lnTo>
                  <a:pt x="152" y="35"/>
                </a:lnTo>
                <a:lnTo>
                  <a:pt x="160" y="35"/>
                </a:lnTo>
                <a:lnTo>
                  <a:pt x="168" y="44"/>
                </a:lnTo>
                <a:lnTo>
                  <a:pt x="184" y="44"/>
                </a:lnTo>
                <a:lnTo>
                  <a:pt x="192" y="53"/>
                </a:lnTo>
                <a:lnTo>
                  <a:pt x="200" y="53"/>
                </a:lnTo>
                <a:lnTo>
                  <a:pt x="216" y="53"/>
                </a:lnTo>
                <a:lnTo>
                  <a:pt x="224" y="62"/>
                </a:lnTo>
                <a:lnTo>
                  <a:pt x="240" y="62"/>
                </a:lnTo>
                <a:lnTo>
                  <a:pt x="248" y="70"/>
                </a:lnTo>
                <a:lnTo>
                  <a:pt x="264" y="79"/>
                </a:lnTo>
                <a:lnTo>
                  <a:pt x="272" y="79"/>
                </a:lnTo>
                <a:lnTo>
                  <a:pt x="288" y="88"/>
                </a:lnTo>
                <a:lnTo>
                  <a:pt x="296" y="88"/>
                </a:lnTo>
                <a:lnTo>
                  <a:pt x="304" y="97"/>
                </a:lnTo>
                <a:lnTo>
                  <a:pt x="320" y="106"/>
                </a:lnTo>
                <a:lnTo>
                  <a:pt x="328" y="114"/>
                </a:lnTo>
                <a:lnTo>
                  <a:pt x="344" y="114"/>
                </a:lnTo>
                <a:lnTo>
                  <a:pt x="352" y="123"/>
                </a:lnTo>
                <a:lnTo>
                  <a:pt x="359" y="132"/>
                </a:lnTo>
                <a:lnTo>
                  <a:pt x="375" y="141"/>
                </a:lnTo>
                <a:lnTo>
                  <a:pt x="383" y="150"/>
                </a:lnTo>
                <a:lnTo>
                  <a:pt x="399" y="150"/>
                </a:lnTo>
                <a:lnTo>
                  <a:pt x="407" y="158"/>
                </a:lnTo>
                <a:lnTo>
                  <a:pt x="415" y="167"/>
                </a:lnTo>
                <a:lnTo>
                  <a:pt x="431" y="176"/>
                </a:lnTo>
                <a:lnTo>
                  <a:pt x="439" y="185"/>
                </a:lnTo>
                <a:lnTo>
                  <a:pt x="447" y="194"/>
                </a:lnTo>
                <a:lnTo>
                  <a:pt x="463" y="203"/>
                </a:lnTo>
                <a:lnTo>
                  <a:pt x="471" y="211"/>
                </a:lnTo>
                <a:lnTo>
                  <a:pt x="479" y="220"/>
                </a:lnTo>
                <a:lnTo>
                  <a:pt x="487" y="229"/>
                </a:lnTo>
                <a:lnTo>
                  <a:pt x="503" y="238"/>
                </a:lnTo>
                <a:lnTo>
                  <a:pt x="511" y="247"/>
                </a:lnTo>
                <a:lnTo>
                  <a:pt x="519" y="255"/>
                </a:lnTo>
                <a:lnTo>
                  <a:pt x="527" y="264"/>
                </a:lnTo>
                <a:lnTo>
                  <a:pt x="535" y="282"/>
                </a:lnTo>
                <a:lnTo>
                  <a:pt x="551" y="291"/>
                </a:lnTo>
                <a:lnTo>
                  <a:pt x="559" y="299"/>
                </a:lnTo>
                <a:lnTo>
                  <a:pt x="567" y="308"/>
                </a:lnTo>
                <a:lnTo>
                  <a:pt x="575" y="317"/>
                </a:lnTo>
                <a:lnTo>
                  <a:pt x="583" y="326"/>
                </a:lnTo>
                <a:lnTo>
                  <a:pt x="591" y="335"/>
                </a:lnTo>
                <a:lnTo>
                  <a:pt x="599" y="352"/>
                </a:lnTo>
                <a:lnTo>
                  <a:pt x="607" y="361"/>
                </a:lnTo>
                <a:lnTo>
                  <a:pt x="615" y="370"/>
                </a:lnTo>
                <a:lnTo>
                  <a:pt x="623" y="379"/>
                </a:lnTo>
                <a:lnTo>
                  <a:pt x="631" y="387"/>
                </a:lnTo>
                <a:lnTo>
                  <a:pt x="631" y="396"/>
                </a:lnTo>
                <a:lnTo>
                  <a:pt x="639" y="405"/>
                </a:lnTo>
                <a:lnTo>
                  <a:pt x="647" y="423"/>
                </a:lnTo>
                <a:lnTo>
                  <a:pt x="655" y="431"/>
                </a:lnTo>
                <a:lnTo>
                  <a:pt x="655" y="440"/>
                </a:lnTo>
                <a:lnTo>
                  <a:pt x="663" y="449"/>
                </a:lnTo>
                <a:lnTo>
                  <a:pt x="671" y="458"/>
                </a:lnTo>
                <a:lnTo>
                  <a:pt x="671" y="467"/>
                </a:lnTo>
                <a:lnTo>
                  <a:pt x="679" y="475"/>
                </a:lnTo>
                <a:lnTo>
                  <a:pt x="687" y="484"/>
                </a:lnTo>
                <a:lnTo>
                  <a:pt x="687" y="493"/>
                </a:lnTo>
                <a:lnTo>
                  <a:pt x="695" y="502"/>
                </a:lnTo>
                <a:lnTo>
                  <a:pt x="695" y="511"/>
                </a:lnTo>
                <a:lnTo>
                  <a:pt x="695" y="519"/>
                </a:lnTo>
                <a:lnTo>
                  <a:pt x="703" y="528"/>
                </a:lnTo>
                <a:lnTo>
                  <a:pt x="703" y="537"/>
                </a:lnTo>
                <a:lnTo>
                  <a:pt x="711" y="546"/>
                </a:lnTo>
                <a:lnTo>
                  <a:pt x="711" y="555"/>
                </a:lnTo>
                <a:lnTo>
                  <a:pt x="711" y="563"/>
                </a:lnTo>
                <a:lnTo>
                  <a:pt x="719" y="563"/>
                </a:lnTo>
                <a:lnTo>
                  <a:pt x="727" y="563"/>
                </a:lnTo>
                <a:lnTo>
                  <a:pt x="735" y="563"/>
                </a:lnTo>
                <a:lnTo>
                  <a:pt x="743" y="555"/>
                </a:lnTo>
                <a:lnTo>
                  <a:pt x="751" y="555"/>
                </a:lnTo>
                <a:lnTo>
                  <a:pt x="759" y="555"/>
                </a:lnTo>
                <a:lnTo>
                  <a:pt x="767" y="546"/>
                </a:lnTo>
                <a:lnTo>
                  <a:pt x="775" y="546"/>
                </a:lnTo>
                <a:lnTo>
                  <a:pt x="783" y="546"/>
                </a:lnTo>
                <a:lnTo>
                  <a:pt x="791" y="546"/>
                </a:lnTo>
                <a:lnTo>
                  <a:pt x="799" y="537"/>
                </a:lnTo>
                <a:lnTo>
                  <a:pt x="807" y="537"/>
                </a:lnTo>
                <a:lnTo>
                  <a:pt x="799" y="546"/>
                </a:lnTo>
                <a:lnTo>
                  <a:pt x="791" y="555"/>
                </a:lnTo>
                <a:lnTo>
                  <a:pt x="783" y="563"/>
                </a:lnTo>
                <a:lnTo>
                  <a:pt x="775" y="572"/>
                </a:lnTo>
                <a:lnTo>
                  <a:pt x="767" y="581"/>
                </a:lnTo>
                <a:lnTo>
                  <a:pt x="759" y="590"/>
                </a:lnTo>
                <a:lnTo>
                  <a:pt x="743" y="599"/>
                </a:lnTo>
                <a:lnTo>
                  <a:pt x="735" y="616"/>
                </a:lnTo>
                <a:lnTo>
                  <a:pt x="719" y="625"/>
                </a:lnTo>
                <a:lnTo>
                  <a:pt x="703" y="643"/>
                </a:lnTo>
                <a:lnTo>
                  <a:pt x="695" y="660"/>
                </a:lnTo>
                <a:lnTo>
                  <a:pt x="679" y="669"/>
                </a:lnTo>
                <a:lnTo>
                  <a:pt x="663" y="687"/>
                </a:lnTo>
                <a:lnTo>
                  <a:pt x="647" y="704"/>
                </a:lnTo>
                <a:lnTo>
                  <a:pt x="631" y="722"/>
                </a:lnTo>
                <a:lnTo>
                  <a:pt x="615" y="731"/>
                </a:lnTo>
                <a:lnTo>
                  <a:pt x="607" y="748"/>
                </a:lnTo>
                <a:lnTo>
                  <a:pt x="599" y="757"/>
                </a:lnTo>
                <a:lnTo>
                  <a:pt x="583" y="766"/>
                </a:lnTo>
                <a:lnTo>
                  <a:pt x="575" y="775"/>
                </a:lnTo>
                <a:lnTo>
                  <a:pt x="567" y="784"/>
                </a:lnTo>
                <a:lnTo>
                  <a:pt x="567" y="792"/>
                </a:lnTo>
                <a:lnTo>
                  <a:pt x="559" y="792"/>
                </a:lnTo>
                <a:lnTo>
                  <a:pt x="551" y="801"/>
                </a:lnTo>
                <a:lnTo>
                  <a:pt x="543" y="810"/>
                </a:lnTo>
                <a:lnTo>
                  <a:pt x="535" y="810"/>
                </a:lnTo>
                <a:lnTo>
                  <a:pt x="527" y="801"/>
                </a:lnTo>
                <a:lnTo>
                  <a:pt x="519" y="801"/>
                </a:lnTo>
                <a:lnTo>
                  <a:pt x="511" y="801"/>
                </a:lnTo>
                <a:lnTo>
                  <a:pt x="495" y="801"/>
                </a:lnTo>
                <a:lnTo>
                  <a:pt x="479" y="792"/>
                </a:lnTo>
                <a:lnTo>
                  <a:pt x="471" y="792"/>
                </a:lnTo>
                <a:lnTo>
                  <a:pt x="455" y="792"/>
                </a:lnTo>
                <a:lnTo>
                  <a:pt x="431" y="784"/>
                </a:lnTo>
                <a:lnTo>
                  <a:pt x="415" y="784"/>
                </a:lnTo>
                <a:lnTo>
                  <a:pt x="399" y="775"/>
                </a:lnTo>
                <a:lnTo>
                  <a:pt x="375" y="775"/>
                </a:lnTo>
                <a:lnTo>
                  <a:pt x="352" y="766"/>
                </a:lnTo>
                <a:lnTo>
                  <a:pt x="328" y="766"/>
                </a:lnTo>
                <a:lnTo>
                  <a:pt x="304" y="757"/>
                </a:lnTo>
                <a:lnTo>
                  <a:pt x="288" y="757"/>
                </a:lnTo>
                <a:lnTo>
                  <a:pt x="264" y="748"/>
                </a:lnTo>
                <a:lnTo>
                  <a:pt x="248" y="748"/>
                </a:lnTo>
                <a:lnTo>
                  <a:pt x="232" y="748"/>
                </a:lnTo>
                <a:lnTo>
                  <a:pt x="216" y="740"/>
                </a:lnTo>
                <a:lnTo>
                  <a:pt x="208" y="740"/>
                </a:lnTo>
                <a:lnTo>
                  <a:pt x="192" y="740"/>
                </a:lnTo>
                <a:lnTo>
                  <a:pt x="184" y="740"/>
                </a:lnTo>
                <a:lnTo>
                  <a:pt x="176" y="731"/>
                </a:lnTo>
                <a:lnTo>
                  <a:pt x="168" y="731"/>
                </a:lnTo>
                <a:lnTo>
                  <a:pt x="160" y="731"/>
                </a:lnTo>
                <a:lnTo>
                  <a:pt x="152" y="731"/>
                </a:lnTo>
                <a:lnTo>
                  <a:pt x="160" y="731"/>
                </a:lnTo>
                <a:lnTo>
                  <a:pt x="168" y="731"/>
                </a:lnTo>
                <a:lnTo>
                  <a:pt x="176" y="722"/>
                </a:lnTo>
                <a:lnTo>
                  <a:pt x="184" y="722"/>
                </a:lnTo>
                <a:lnTo>
                  <a:pt x="192" y="722"/>
                </a:lnTo>
                <a:lnTo>
                  <a:pt x="200" y="722"/>
                </a:lnTo>
                <a:lnTo>
                  <a:pt x="208" y="722"/>
                </a:lnTo>
                <a:lnTo>
                  <a:pt x="208" y="713"/>
                </a:lnTo>
                <a:lnTo>
                  <a:pt x="216" y="713"/>
                </a:lnTo>
                <a:lnTo>
                  <a:pt x="224" y="713"/>
                </a:lnTo>
                <a:lnTo>
                  <a:pt x="232" y="713"/>
                </a:lnTo>
                <a:lnTo>
                  <a:pt x="240" y="713"/>
                </a:lnTo>
                <a:lnTo>
                  <a:pt x="240" y="704"/>
                </a:lnTo>
                <a:lnTo>
                  <a:pt x="248" y="704"/>
                </a:lnTo>
                <a:lnTo>
                  <a:pt x="256" y="704"/>
                </a:lnTo>
                <a:lnTo>
                  <a:pt x="264" y="704"/>
                </a:lnTo>
                <a:lnTo>
                  <a:pt x="272" y="704"/>
                </a:lnTo>
                <a:lnTo>
                  <a:pt x="264" y="704"/>
                </a:lnTo>
                <a:lnTo>
                  <a:pt x="264" y="696"/>
                </a:lnTo>
                <a:lnTo>
                  <a:pt x="264" y="687"/>
                </a:lnTo>
                <a:lnTo>
                  <a:pt x="256" y="687"/>
                </a:lnTo>
                <a:lnTo>
                  <a:pt x="256" y="678"/>
                </a:lnTo>
                <a:lnTo>
                  <a:pt x="256" y="669"/>
                </a:lnTo>
                <a:lnTo>
                  <a:pt x="248" y="669"/>
                </a:lnTo>
                <a:lnTo>
                  <a:pt x="248" y="660"/>
                </a:lnTo>
                <a:lnTo>
                  <a:pt x="240" y="652"/>
                </a:lnTo>
                <a:lnTo>
                  <a:pt x="240" y="643"/>
                </a:lnTo>
                <a:lnTo>
                  <a:pt x="232" y="634"/>
                </a:lnTo>
                <a:lnTo>
                  <a:pt x="224" y="625"/>
                </a:lnTo>
                <a:lnTo>
                  <a:pt x="216" y="616"/>
                </a:lnTo>
                <a:lnTo>
                  <a:pt x="216" y="608"/>
                </a:lnTo>
                <a:lnTo>
                  <a:pt x="208" y="608"/>
                </a:lnTo>
                <a:lnTo>
                  <a:pt x="208" y="599"/>
                </a:lnTo>
                <a:lnTo>
                  <a:pt x="200" y="590"/>
                </a:lnTo>
                <a:lnTo>
                  <a:pt x="192" y="581"/>
                </a:lnTo>
                <a:lnTo>
                  <a:pt x="192" y="572"/>
                </a:lnTo>
                <a:lnTo>
                  <a:pt x="184" y="572"/>
                </a:lnTo>
                <a:lnTo>
                  <a:pt x="184" y="563"/>
                </a:lnTo>
                <a:lnTo>
                  <a:pt x="176" y="555"/>
                </a:lnTo>
                <a:lnTo>
                  <a:pt x="168" y="555"/>
                </a:lnTo>
                <a:lnTo>
                  <a:pt x="168" y="546"/>
                </a:lnTo>
                <a:lnTo>
                  <a:pt x="160" y="546"/>
                </a:lnTo>
                <a:lnTo>
                  <a:pt x="160" y="537"/>
                </a:lnTo>
                <a:lnTo>
                  <a:pt x="152" y="537"/>
                </a:lnTo>
                <a:lnTo>
                  <a:pt x="144" y="528"/>
                </a:lnTo>
                <a:lnTo>
                  <a:pt x="136" y="519"/>
                </a:lnTo>
                <a:lnTo>
                  <a:pt x="128" y="519"/>
                </a:lnTo>
                <a:lnTo>
                  <a:pt x="128" y="511"/>
                </a:lnTo>
                <a:lnTo>
                  <a:pt x="120" y="511"/>
                </a:lnTo>
                <a:lnTo>
                  <a:pt x="112" y="502"/>
                </a:lnTo>
                <a:lnTo>
                  <a:pt x="104" y="502"/>
                </a:lnTo>
                <a:lnTo>
                  <a:pt x="96" y="493"/>
                </a:lnTo>
                <a:lnTo>
                  <a:pt x="88" y="493"/>
                </a:lnTo>
                <a:lnTo>
                  <a:pt x="80" y="484"/>
                </a:lnTo>
                <a:lnTo>
                  <a:pt x="72" y="484"/>
                </a:lnTo>
                <a:lnTo>
                  <a:pt x="64" y="484"/>
                </a:lnTo>
                <a:lnTo>
                  <a:pt x="64" y="475"/>
                </a:lnTo>
                <a:lnTo>
                  <a:pt x="56" y="475"/>
                </a:lnTo>
                <a:lnTo>
                  <a:pt x="48" y="475"/>
                </a:lnTo>
                <a:lnTo>
                  <a:pt x="40" y="467"/>
                </a:lnTo>
                <a:lnTo>
                  <a:pt x="32" y="467"/>
                </a:lnTo>
                <a:lnTo>
                  <a:pt x="24" y="467"/>
                </a:lnTo>
                <a:lnTo>
                  <a:pt x="16" y="467"/>
                </a:lnTo>
                <a:lnTo>
                  <a:pt x="8" y="458"/>
                </a:lnTo>
                <a:lnTo>
                  <a:pt x="0" y="458"/>
                </a:lnTo>
                <a:lnTo>
                  <a:pt x="0" y="449"/>
                </a:lnTo>
                <a:lnTo>
                  <a:pt x="8" y="449"/>
                </a:lnTo>
                <a:lnTo>
                  <a:pt x="8" y="440"/>
                </a:lnTo>
                <a:lnTo>
                  <a:pt x="16" y="440"/>
                </a:lnTo>
                <a:lnTo>
                  <a:pt x="16" y="431"/>
                </a:lnTo>
                <a:lnTo>
                  <a:pt x="24" y="423"/>
                </a:lnTo>
                <a:lnTo>
                  <a:pt x="24" y="414"/>
                </a:lnTo>
                <a:lnTo>
                  <a:pt x="32" y="405"/>
                </a:lnTo>
                <a:lnTo>
                  <a:pt x="40" y="396"/>
                </a:lnTo>
                <a:lnTo>
                  <a:pt x="48" y="379"/>
                </a:lnTo>
                <a:lnTo>
                  <a:pt x="56" y="370"/>
                </a:lnTo>
                <a:lnTo>
                  <a:pt x="64" y="352"/>
                </a:lnTo>
                <a:lnTo>
                  <a:pt x="72" y="343"/>
                </a:lnTo>
                <a:lnTo>
                  <a:pt x="80" y="326"/>
                </a:lnTo>
                <a:lnTo>
                  <a:pt x="88" y="317"/>
                </a:lnTo>
                <a:lnTo>
                  <a:pt x="96" y="299"/>
                </a:lnTo>
                <a:lnTo>
                  <a:pt x="104" y="291"/>
                </a:lnTo>
                <a:lnTo>
                  <a:pt x="112" y="282"/>
                </a:lnTo>
                <a:lnTo>
                  <a:pt x="120" y="273"/>
                </a:lnTo>
                <a:lnTo>
                  <a:pt x="128" y="264"/>
                </a:lnTo>
                <a:lnTo>
                  <a:pt x="128" y="255"/>
                </a:lnTo>
                <a:lnTo>
                  <a:pt x="136" y="247"/>
                </a:lnTo>
                <a:lnTo>
                  <a:pt x="136" y="238"/>
                </a:lnTo>
                <a:lnTo>
                  <a:pt x="144" y="238"/>
                </a:lnTo>
                <a:lnTo>
                  <a:pt x="144" y="229"/>
                </a:lnTo>
                <a:lnTo>
                  <a:pt x="152" y="22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008080" y="3778200"/>
            <a:ext cx="1200240" cy="1414440"/>
          </a:xfrm>
          <a:custGeom>
            <a:avLst/>
            <a:gdLst/>
            <a:ahLst/>
            <a:rect l="l" t="t" r="r" b="b"/>
            <a:pathLst>
              <a:path w="698" h="891">
                <a:moveTo>
                  <a:pt x="372" y="157"/>
                </a:moveTo>
                <a:lnTo>
                  <a:pt x="388" y="166"/>
                </a:lnTo>
                <a:lnTo>
                  <a:pt x="404" y="166"/>
                </a:lnTo>
                <a:lnTo>
                  <a:pt x="419" y="175"/>
                </a:lnTo>
                <a:lnTo>
                  <a:pt x="427" y="175"/>
                </a:lnTo>
                <a:lnTo>
                  <a:pt x="443" y="175"/>
                </a:lnTo>
                <a:lnTo>
                  <a:pt x="451" y="183"/>
                </a:lnTo>
                <a:lnTo>
                  <a:pt x="467" y="183"/>
                </a:lnTo>
                <a:lnTo>
                  <a:pt x="475" y="183"/>
                </a:lnTo>
                <a:lnTo>
                  <a:pt x="483" y="183"/>
                </a:lnTo>
                <a:lnTo>
                  <a:pt x="491" y="192"/>
                </a:lnTo>
                <a:lnTo>
                  <a:pt x="499" y="192"/>
                </a:lnTo>
                <a:lnTo>
                  <a:pt x="507" y="192"/>
                </a:lnTo>
                <a:lnTo>
                  <a:pt x="515" y="183"/>
                </a:lnTo>
                <a:lnTo>
                  <a:pt x="523" y="183"/>
                </a:lnTo>
                <a:lnTo>
                  <a:pt x="523" y="175"/>
                </a:lnTo>
                <a:lnTo>
                  <a:pt x="530" y="166"/>
                </a:lnTo>
                <a:lnTo>
                  <a:pt x="538" y="166"/>
                </a:lnTo>
                <a:lnTo>
                  <a:pt x="538" y="157"/>
                </a:lnTo>
                <a:lnTo>
                  <a:pt x="546" y="149"/>
                </a:lnTo>
                <a:lnTo>
                  <a:pt x="554" y="140"/>
                </a:lnTo>
                <a:lnTo>
                  <a:pt x="562" y="131"/>
                </a:lnTo>
                <a:lnTo>
                  <a:pt x="578" y="122"/>
                </a:lnTo>
                <a:lnTo>
                  <a:pt x="586" y="114"/>
                </a:lnTo>
                <a:lnTo>
                  <a:pt x="594" y="96"/>
                </a:lnTo>
                <a:lnTo>
                  <a:pt x="610" y="87"/>
                </a:lnTo>
                <a:lnTo>
                  <a:pt x="618" y="79"/>
                </a:lnTo>
                <a:lnTo>
                  <a:pt x="626" y="61"/>
                </a:lnTo>
                <a:lnTo>
                  <a:pt x="634" y="52"/>
                </a:lnTo>
                <a:lnTo>
                  <a:pt x="641" y="44"/>
                </a:lnTo>
                <a:lnTo>
                  <a:pt x="649" y="44"/>
                </a:lnTo>
                <a:lnTo>
                  <a:pt x="657" y="35"/>
                </a:lnTo>
                <a:lnTo>
                  <a:pt x="665" y="26"/>
                </a:lnTo>
                <a:lnTo>
                  <a:pt x="665" y="17"/>
                </a:lnTo>
                <a:lnTo>
                  <a:pt x="673" y="17"/>
                </a:lnTo>
                <a:lnTo>
                  <a:pt x="673" y="9"/>
                </a:lnTo>
                <a:lnTo>
                  <a:pt x="681" y="9"/>
                </a:lnTo>
                <a:lnTo>
                  <a:pt x="681" y="0"/>
                </a:lnTo>
                <a:lnTo>
                  <a:pt x="689" y="0"/>
                </a:lnTo>
                <a:lnTo>
                  <a:pt x="689" y="9"/>
                </a:lnTo>
                <a:lnTo>
                  <a:pt x="689" y="17"/>
                </a:lnTo>
                <a:lnTo>
                  <a:pt x="689" y="26"/>
                </a:lnTo>
                <a:lnTo>
                  <a:pt x="689" y="35"/>
                </a:lnTo>
                <a:lnTo>
                  <a:pt x="689" y="44"/>
                </a:lnTo>
                <a:lnTo>
                  <a:pt x="689" y="52"/>
                </a:lnTo>
                <a:lnTo>
                  <a:pt x="689" y="61"/>
                </a:lnTo>
                <a:lnTo>
                  <a:pt x="697" y="79"/>
                </a:lnTo>
                <a:lnTo>
                  <a:pt x="697" y="87"/>
                </a:lnTo>
                <a:lnTo>
                  <a:pt x="697" y="96"/>
                </a:lnTo>
                <a:lnTo>
                  <a:pt x="697" y="114"/>
                </a:lnTo>
                <a:lnTo>
                  <a:pt x="697" y="122"/>
                </a:lnTo>
                <a:lnTo>
                  <a:pt x="697" y="131"/>
                </a:lnTo>
                <a:lnTo>
                  <a:pt x="697" y="149"/>
                </a:lnTo>
                <a:lnTo>
                  <a:pt x="697" y="157"/>
                </a:lnTo>
                <a:lnTo>
                  <a:pt x="697" y="166"/>
                </a:lnTo>
                <a:lnTo>
                  <a:pt x="697" y="183"/>
                </a:lnTo>
                <a:lnTo>
                  <a:pt x="697" y="192"/>
                </a:lnTo>
                <a:lnTo>
                  <a:pt x="697" y="201"/>
                </a:lnTo>
                <a:lnTo>
                  <a:pt x="697" y="218"/>
                </a:lnTo>
                <a:lnTo>
                  <a:pt x="697" y="227"/>
                </a:lnTo>
                <a:lnTo>
                  <a:pt x="697" y="245"/>
                </a:lnTo>
                <a:lnTo>
                  <a:pt x="697" y="253"/>
                </a:lnTo>
                <a:lnTo>
                  <a:pt x="689" y="262"/>
                </a:lnTo>
                <a:lnTo>
                  <a:pt x="689" y="280"/>
                </a:lnTo>
                <a:lnTo>
                  <a:pt x="689" y="288"/>
                </a:lnTo>
                <a:lnTo>
                  <a:pt x="689" y="297"/>
                </a:lnTo>
                <a:lnTo>
                  <a:pt x="681" y="315"/>
                </a:lnTo>
                <a:lnTo>
                  <a:pt x="681" y="323"/>
                </a:lnTo>
                <a:lnTo>
                  <a:pt x="681" y="332"/>
                </a:lnTo>
                <a:lnTo>
                  <a:pt x="673" y="349"/>
                </a:lnTo>
                <a:lnTo>
                  <a:pt x="673" y="358"/>
                </a:lnTo>
                <a:lnTo>
                  <a:pt x="665" y="367"/>
                </a:lnTo>
                <a:lnTo>
                  <a:pt x="665" y="384"/>
                </a:lnTo>
                <a:lnTo>
                  <a:pt x="665" y="393"/>
                </a:lnTo>
                <a:lnTo>
                  <a:pt x="657" y="402"/>
                </a:lnTo>
                <a:lnTo>
                  <a:pt x="657" y="419"/>
                </a:lnTo>
                <a:lnTo>
                  <a:pt x="649" y="428"/>
                </a:lnTo>
                <a:lnTo>
                  <a:pt x="649" y="437"/>
                </a:lnTo>
                <a:lnTo>
                  <a:pt x="641" y="454"/>
                </a:lnTo>
                <a:lnTo>
                  <a:pt x="641" y="463"/>
                </a:lnTo>
                <a:lnTo>
                  <a:pt x="634" y="472"/>
                </a:lnTo>
                <a:lnTo>
                  <a:pt x="626" y="480"/>
                </a:lnTo>
                <a:lnTo>
                  <a:pt x="626" y="498"/>
                </a:lnTo>
                <a:lnTo>
                  <a:pt x="618" y="507"/>
                </a:lnTo>
                <a:lnTo>
                  <a:pt x="610" y="515"/>
                </a:lnTo>
                <a:lnTo>
                  <a:pt x="610" y="524"/>
                </a:lnTo>
                <a:lnTo>
                  <a:pt x="602" y="533"/>
                </a:lnTo>
                <a:lnTo>
                  <a:pt x="594" y="550"/>
                </a:lnTo>
                <a:lnTo>
                  <a:pt x="594" y="559"/>
                </a:lnTo>
                <a:lnTo>
                  <a:pt x="586" y="568"/>
                </a:lnTo>
                <a:lnTo>
                  <a:pt x="578" y="577"/>
                </a:lnTo>
                <a:lnTo>
                  <a:pt x="570" y="584"/>
                </a:lnTo>
                <a:lnTo>
                  <a:pt x="562" y="593"/>
                </a:lnTo>
                <a:lnTo>
                  <a:pt x="554" y="602"/>
                </a:lnTo>
                <a:lnTo>
                  <a:pt x="554" y="619"/>
                </a:lnTo>
                <a:lnTo>
                  <a:pt x="546" y="628"/>
                </a:lnTo>
                <a:lnTo>
                  <a:pt x="538" y="637"/>
                </a:lnTo>
                <a:lnTo>
                  <a:pt x="530" y="645"/>
                </a:lnTo>
                <a:lnTo>
                  <a:pt x="523" y="654"/>
                </a:lnTo>
                <a:lnTo>
                  <a:pt x="515" y="663"/>
                </a:lnTo>
                <a:lnTo>
                  <a:pt x="507" y="672"/>
                </a:lnTo>
                <a:lnTo>
                  <a:pt x="499" y="680"/>
                </a:lnTo>
                <a:lnTo>
                  <a:pt x="491" y="689"/>
                </a:lnTo>
                <a:lnTo>
                  <a:pt x="483" y="698"/>
                </a:lnTo>
                <a:lnTo>
                  <a:pt x="475" y="707"/>
                </a:lnTo>
                <a:lnTo>
                  <a:pt x="467" y="715"/>
                </a:lnTo>
                <a:lnTo>
                  <a:pt x="459" y="715"/>
                </a:lnTo>
                <a:lnTo>
                  <a:pt x="451" y="724"/>
                </a:lnTo>
                <a:lnTo>
                  <a:pt x="443" y="733"/>
                </a:lnTo>
                <a:lnTo>
                  <a:pt x="435" y="741"/>
                </a:lnTo>
                <a:lnTo>
                  <a:pt x="427" y="750"/>
                </a:lnTo>
                <a:lnTo>
                  <a:pt x="419" y="759"/>
                </a:lnTo>
                <a:lnTo>
                  <a:pt x="411" y="759"/>
                </a:lnTo>
                <a:lnTo>
                  <a:pt x="404" y="768"/>
                </a:lnTo>
                <a:lnTo>
                  <a:pt x="396" y="776"/>
                </a:lnTo>
                <a:lnTo>
                  <a:pt x="388" y="776"/>
                </a:lnTo>
                <a:lnTo>
                  <a:pt x="380" y="785"/>
                </a:lnTo>
                <a:lnTo>
                  <a:pt x="372" y="794"/>
                </a:lnTo>
                <a:lnTo>
                  <a:pt x="364" y="794"/>
                </a:lnTo>
                <a:lnTo>
                  <a:pt x="356" y="803"/>
                </a:lnTo>
                <a:lnTo>
                  <a:pt x="356" y="811"/>
                </a:lnTo>
                <a:lnTo>
                  <a:pt x="348" y="811"/>
                </a:lnTo>
                <a:lnTo>
                  <a:pt x="340" y="811"/>
                </a:lnTo>
                <a:lnTo>
                  <a:pt x="348" y="820"/>
                </a:lnTo>
                <a:lnTo>
                  <a:pt x="348" y="829"/>
                </a:lnTo>
                <a:lnTo>
                  <a:pt x="356" y="829"/>
                </a:lnTo>
                <a:lnTo>
                  <a:pt x="356" y="838"/>
                </a:lnTo>
                <a:lnTo>
                  <a:pt x="364" y="838"/>
                </a:lnTo>
                <a:lnTo>
                  <a:pt x="364" y="846"/>
                </a:lnTo>
                <a:lnTo>
                  <a:pt x="372" y="855"/>
                </a:lnTo>
                <a:lnTo>
                  <a:pt x="372" y="864"/>
                </a:lnTo>
                <a:lnTo>
                  <a:pt x="380" y="864"/>
                </a:lnTo>
                <a:lnTo>
                  <a:pt x="380" y="873"/>
                </a:lnTo>
                <a:lnTo>
                  <a:pt x="388" y="881"/>
                </a:lnTo>
                <a:lnTo>
                  <a:pt x="388" y="890"/>
                </a:lnTo>
                <a:lnTo>
                  <a:pt x="396" y="890"/>
                </a:lnTo>
                <a:lnTo>
                  <a:pt x="388" y="890"/>
                </a:lnTo>
                <a:lnTo>
                  <a:pt x="380" y="881"/>
                </a:lnTo>
                <a:lnTo>
                  <a:pt x="372" y="881"/>
                </a:lnTo>
                <a:lnTo>
                  <a:pt x="364" y="881"/>
                </a:lnTo>
                <a:lnTo>
                  <a:pt x="348" y="873"/>
                </a:lnTo>
                <a:lnTo>
                  <a:pt x="340" y="873"/>
                </a:lnTo>
                <a:lnTo>
                  <a:pt x="324" y="864"/>
                </a:lnTo>
                <a:lnTo>
                  <a:pt x="308" y="855"/>
                </a:lnTo>
                <a:lnTo>
                  <a:pt x="293" y="855"/>
                </a:lnTo>
                <a:lnTo>
                  <a:pt x="278" y="846"/>
                </a:lnTo>
                <a:lnTo>
                  <a:pt x="262" y="838"/>
                </a:lnTo>
                <a:lnTo>
                  <a:pt x="238" y="829"/>
                </a:lnTo>
                <a:lnTo>
                  <a:pt x="214" y="820"/>
                </a:lnTo>
                <a:lnTo>
                  <a:pt x="198" y="811"/>
                </a:lnTo>
                <a:lnTo>
                  <a:pt x="174" y="803"/>
                </a:lnTo>
                <a:lnTo>
                  <a:pt x="159" y="794"/>
                </a:lnTo>
                <a:lnTo>
                  <a:pt x="143" y="785"/>
                </a:lnTo>
                <a:lnTo>
                  <a:pt x="127" y="776"/>
                </a:lnTo>
                <a:lnTo>
                  <a:pt x="111" y="776"/>
                </a:lnTo>
                <a:lnTo>
                  <a:pt x="95" y="768"/>
                </a:lnTo>
                <a:lnTo>
                  <a:pt x="87" y="759"/>
                </a:lnTo>
                <a:lnTo>
                  <a:pt x="71" y="759"/>
                </a:lnTo>
                <a:lnTo>
                  <a:pt x="63" y="750"/>
                </a:lnTo>
                <a:lnTo>
                  <a:pt x="56" y="750"/>
                </a:lnTo>
                <a:lnTo>
                  <a:pt x="48" y="750"/>
                </a:lnTo>
                <a:lnTo>
                  <a:pt x="40" y="741"/>
                </a:lnTo>
                <a:lnTo>
                  <a:pt x="40" y="733"/>
                </a:lnTo>
                <a:lnTo>
                  <a:pt x="40" y="724"/>
                </a:lnTo>
                <a:lnTo>
                  <a:pt x="40" y="715"/>
                </a:lnTo>
                <a:lnTo>
                  <a:pt x="40" y="707"/>
                </a:lnTo>
                <a:lnTo>
                  <a:pt x="32" y="698"/>
                </a:lnTo>
                <a:lnTo>
                  <a:pt x="32" y="680"/>
                </a:lnTo>
                <a:lnTo>
                  <a:pt x="32" y="672"/>
                </a:lnTo>
                <a:lnTo>
                  <a:pt x="32" y="654"/>
                </a:lnTo>
                <a:lnTo>
                  <a:pt x="32" y="637"/>
                </a:lnTo>
                <a:lnTo>
                  <a:pt x="24" y="619"/>
                </a:lnTo>
                <a:lnTo>
                  <a:pt x="24" y="602"/>
                </a:lnTo>
                <a:lnTo>
                  <a:pt x="24" y="577"/>
                </a:lnTo>
                <a:lnTo>
                  <a:pt x="24" y="559"/>
                </a:lnTo>
                <a:lnTo>
                  <a:pt x="16" y="533"/>
                </a:lnTo>
                <a:lnTo>
                  <a:pt x="16" y="515"/>
                </a:lnTo>
                <a:lnTo>
                  <a:pt x="16" y="498"/>
                </a:lnTo>
                <a:lnTo>
                  <a:pt x="16" y="472"/>
                </a:lnTo>
                <a:lnTo>
                  <a:pt x="8" y="463"/>
                </a:lnTo>
                <a:lnTo>
                  <a:pt x="8" y="446"/>
                </a:lnTo>
                <a:lnTo>
                  <a:pt x="8" y="428"/>
                </a:lnTo>
                <a:lnTo>
                  <a:pt x="8" y="419"/>
                </a:lnTo>
                <a:lnTo>
                  <a:pt x="8" y="402"/>
                </a:lnTo>
                <a:lnTo>
                  <a:pt x="8" y="393"/>
                </a:lnTo>
                <a:lnTo>
                  <a:pt x="8" y="384"/>
                </a:lnTo>
                <a:lnTo>
                  <a:pt x="0" y="384"/>
                </a:lnTo>
                <a:lnTo>
                  <a:pt x="0" y="376"/>
                </a:lnTo>
                <a:lnTo>
                  <a:pt x="0" y="367"/>
                </a:lnTo>
                <a:lnTo>
                  <a:pt x="0" y="376"/>
                </a:lnTo>
                <a:lnTo>
                  <a:pt x="8" y="376"/>
                </a:lnTo>
                <a:lnTo>
                  <a:pt x="8" y="384"/>
                </a:lnTo>
                <a:lnTo>
                  <a:pt x="16" y="384"/>
                </a:lnTo>
                <a:lnTo>
                  <a:pt x="16" y="393"/>
                </a:lnTo>
                <a:lnTo>
                  <a:pt x="24" y="402"/>
                </a:lnTo>
                <a:lnTo>
                  <a:pt x="32" y="411"/>
                </a:lnTo>
                <a:lnTo>
                  <a:pt x="32" y="419"/>
                </a:lnTo>
                <a:lnTo>
                  <a:pt x="40" y="428"/>
                </a:lnTo>
                <a:lnTo>
                  <a:pt x="48" y="437"/>
                </a:lnTo>
                <a:lnTo>
                  <a:pt x="48" y="446"/>
                </a:lnTo>
                <a:lnTo>
                  <a:pt x="56" y="446"/>
                </a:lnTo>
                <a:lnTo>
                  <a:pt x="56" y="454"/>
                </a:lnTo>
                <a:lnTo>
                  <a:pt x="63" y="454"/>
                </a:lnTo>
                <a:lnTo>
                  <a:pt x="63" y="463"/>
                </a:lnTo>
                <a:lnTo>
                  <a:pt x="71" y="472"/>
                </a:lnTo>
                <a:lnTo>
                  <a:pt x="71" y="463"/>
                </a:lnTo>
                <a:lnTo>
                  <a:pt x="79" y="463"/>
                </a:lnTo>
                <a:lnTo>
                  <a:pt x="79" y="454"/>
                </a:lnTo>
                <a:lnTo>
                  <a:pt x="87" y="454"/>
                </a:lnTo>
                <a:lnTo>
                  <a:pt x="95" y="446"/>
                </a:lnTo>
                <a:lnTo>
                  <a:pt x="95" y="437"/>
                </a:lnTo>
                <a:lnTo>
                  <a:pt x="103" y="437"/>
                </a:lnTo>
                <a:lnTo>
                  <a:pt x="111" y="428"/>
                </a:lnTo>
                <a:lnTo>
                  <a:pt x="119" y="419"/>
                </a:lnTo>
                <a:lnTo>
                  <a:pt x="127" y="411"/>
                </a:lnTo>
                <a:lnTo>
                  <a:pt x="135" y="402"/>
                </a:lnTo>
                <a:lnTo>
                  <a:pt x="143" y="393"/>
                </a:lnTo>
                <a:lnTo>
                  <a:pt x="143" y="384"/>
                </a:lnTo>
                <a:lnTo>
                  <a:pt x="151" y="384"/>
                </a:lnTo>
                <a:lnTo>
                  <a:pt x="151" y="376"/>
                </a:lnTo>
                <a:lnTo>
                  <a:pt x="159" y="367"/>
                </a:lnTo>
                <a:lnTo>
                  <a:pt x="167" y="367"/>
                </a:lnTo>
                <a:lnTo>
                  <a:pt x="167" y="358"/>
                </a:lnTo>
                <a:lnTo>
                  <a:pt x="174" y="349"/>
                </a:lnTo>
                <a:lnTo>
                  <a:pt x="182" y="341"/>
                </a:lnTo>
                <a:lnTo>
                  <a:pt x="182" y="332"/>
                </a:lnTo>
                <a:lnTo>
                  <a:pt x="190" y="332"/>
                </a:lnTo>
                <a:lnTo>
                  <a:pt x="190" y="323"/>
                </a:lnTo>
                <a:lnTo>
                  <a:pt x="198" y="315"/>
                </a:lnTo>
                <a:lnTo>
                  <a:pt x="198" y="306"/>
                </a:lnTo>
                <a:lnTo>
                  <a:pt x="206" y="297"/>
                </a:lnTo>
                <a:lnTo>
                  <a:pt x="206" y="288"/>
                </a:lnTo>
                <a:lnTo>
                  <a:pt x="214" y="280"/>
                </a:lnTo>
                <a:lnTo>
                  <a:pt x="214" y="271"/>
                </a:lnTo>
                <a:lnTo>
                  <a:pt x="214" y="262"/>
                </a:lnTo>
                <a:lnTo>
                  <a:pt x="222" y="253"/>
                </a:lnTo>
                <a:lnTo>
                  <a:pt x="222" y="245"/>
                </a:lnTo>
                <a:lnTo>
                  <a:pt x="222" y="236"/>
                </a:lnTo>
                <a:lnTo>
                  <a:pt x="222" y="227"/>
                </a:lnTo>
                <a:lnTo>
                  <a:pt x="222" y="218"/>
                </a:lnTo>
                <a:lnTo>
                  <a:pt x="230" y="218"/>
                </a:lnTo>
                <a:lnTo>
                  <a:pt x="230" y="210"/>
                </a:lnTo>
                <a:lnTo>
                  <a:pt x="230" y="201"/>
                </a:lnTo>
                <a:lnTo>
                  <a:pt x="230" y="192"/>
                </a:lnTo>
                <a:lnTo>
                  <a:pt x="230" y="183"/>
                </a:lnTo>
                <a:lnTo>
                  <a:pt x="230" y="175"/>
                </a:lnTo>
                <a:lnTo>
                  <a:pt x="230" y="166"/>
                </a:lnTo>
                <a:lnTo>
                  <a:pt x="230" y="157"/>
                </a:lnTo>
                <a:lnTo>
                  <a:pt x="230" y="149"/>
                </a:lnTo>
                <a:lnTo>
                  <a:pt x="230" y="140"/>
                </a:lnTo>
                <a:lnTo>
                  <a:pt x="230" y="131"/>
                </a:lnTo>
                <a:lnTo>
                  <a:pt x="238" y="131"/>
                </a:lnTo>
                <a:lnTo>
                  <a:pt x="246" y="131"/>
                </a:lnTo>
                <a:lnTo>
                  <a:pt x="254" y="131"/>
                </a:lnTo>
                <a:lnTo>
                  <a:pt x="262" y="140"/>
                </a:lnTo>
                <a:lnTo>
                  <a:pt x="270" y="140"/>
                </a:lnTo>
                <a:lnTo>
                  <a:pt x="278" y="140"/>
                </a:lnTo>
                <a:lnTo>
                  <a:pt x="286" y="140"/>
                </a:lnTo>
                <a:lnTo>
                  <a:pt x="300" y="149"/>
                </a:lnTo>
                <a:lnTo>
                  <a:pt x="308" y="149"/>
                </a:lnTo>
                <a:lnTo>
                  <a:pt x="324" y="149"/>
                </a:lnTo>
                <a:lnTo>
                  <a:pt x="340" y="157"/>
                </a:lnTo>
                <a:lnTo>
                  <a:pt x="356" y="157"/>
                </a:lnTo>
                <a:lnTo>
                  <a:pt x="372" y="157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008080" y="3778200"/>
            <a:ext cx="1209960" cy="1424160"/>
          </a:xfrm>
          <a:custGeom>
            <a:avLst/>
            <a:gdLst/>
            <a:ahLst/>
            <a:rect l="l" t="t" r="r" b="b"/>
            <a:pathLst>
              <a:path w="704" h="897">
                <a:moveTo>
                  <a:pt x="375" y="158"/>
                </a:moveTo>
                <a:lnTo>
                  <a:pt x="391" y="167"/>
                </a:lnTo>
                <a:lnTo>
                  <a:pt x="407" y="167"/>
                </a:lnTo>
                <a:lnTo>
                  <a:pt x="423" y="176"/>
                </a:lnTo>
                <a:lnTo>
                  <a:pt x="431" y="176"/>
                </a:lnTo>
                <a:lnTo>
                  <a:pt x="447" y="176"/>
                </a:lnTo>
                <a:lnTo>
                  <a:pt x="455" y="185"/>
                </a:lnTo>
                <a:lnTo>
                  <a:pt x="471" y="185"/>
                </a:lnTo>
                <a:lnTo>
                  <a:pt x="479" y="185"/>
                </a:lnTo>
                <a:lnTo>
                  <a:pt x="487" y="185"/>
                </a:lnTo>
                <a:lnTo>
                  <a:pt x="495" y="193"/>
                </a:lnTo>
                <a:lnTo>
                  <a:pt x="503" y="193"/>
                </a:lnTo>
                <a:lnTo>
                  <a:pt x="511" y="193"/>
                </a:lnTo>
                <a:lnTo>
                  <a:pt x="519" y="185"/>
                </a:lnTo>
                <a:lnTo>
                  <a:pt x="527" y="185"/>
                </a:lnTo>
                <a:lnTo>
                  <a:pt x="527" y="176"/>
                </a:lnTo>
                <a:lnTo>
                  <a:pt x="535" y="167"/>
                </a:lnTo>
                <a:lnTo>
                  <a:pt x="543" y="167"/>
                </a:lnTo>
                <a:lnTo>
                  <a:pt x="543" y="158"/>
                </a:lnTo>
                <a:lnTo>
                  <a:pt x="551" y="150"/>
                </a:lnTo>
                <a:lnTo>
                  <a:pt x="559" y="141"/>
                </a:lnTo>
                <a:lnTo>
                  <a:pt x="567" y="132"/>
                </a:lnTo>
                <a:lnTo>
                  <a:pt x="583" y="123"/>
                </a:lnTo>
                <a:lnTo>
                  <a:pt x="591" y="114"/>
                </a:lnTo>
                <a:lnTo>
                  <a:pt x="599" y="97"/>
                </a:lnTo>
                <a:lnTo>
                  <a:pt x="615" y="88"/>
                </a:lnTo>
                <a:lnTo>
                  <a:pt x="623" y="79"/>
                </a:lnTo>
                <a:lnTo>
                  <a:pt x="631" y="62"/>
                </a:lnTo>
                <a:lnTo>
                  <a:pt x="639" y="53"/>
                </a:lnTo>
                <a:lnTo>
                  <a:pt x="647" y="44"/>
                </a:lnTo>
                <a:lnTo>
                  <a:pt x="655" y="44"/>
                </a:lnTo>
                <a:lnTo>
                  <a:pt x="663" y="35"/>
                </a:lnTo>
                <a:lnTo>
                  <a:pt x="671" y="26"/>
                </a:lnTo>
                <a:lnTo>
                  <a:pt x="671" y="18"/>
                </a:lnTo>
                <a:lnTo>
                  <a:pt x="679" y="18"/>
                </a:lnTo>
                <a:lnTo>
                  <a:pt x="679" y="9"/>
                </a:lnTo>
                <a:lnTo>
                  <a:pt x="687" y="9"/>
                </a:lnTo>
                <a:lnTo>
                  <a:pt x="687" y="0"/>
                </a:lnTo>
                <a:lnTo>
                  <a:pt x="695" y="0"/>
                </a:lnTo>
                <a:lnTo>
                  <a:pt x="695" y="9"/>
                </a:lnTo>
                <a:lnTo>
                  <a:pt x="695" y="18"/>
                </a:lnTo>
                <a:lnTo>
                  <a:pt x="695" y="26"/>
                </a:lnTo>
                <a:lnTo>
                  <a:pt x="695" y="35"/>
                </a:lnTo>
                <a:lnTo>
                  <a:pt x="695" y="44"/>
                </a:lnTo>
                <a:lnTo>
                  <a:pt x="695" y="53"/>
                </a:lnTo>
                <a:lnTo>
                  <a:pt x="695" y="62"/>
                </a:lnTo>
                <a:lnTo>
                  <a:pt x="703" y="79"/>
                </a:lnTo>
                <a:lnTo>
                  <a:pt x="703" y="88"/>
                </a:lnTo>
                <a:lnTo>
                  <a:pt x="703" y="97"/>
                </a:lnTo>
                <a:lnTo>
                  <a:pt x="703" y="114"/>
                </a:lnTo>
                <a:lnTo>
                  <a:pt x="703" y="123"/>
                </a:lnTo>
                <a:lnTo>
                  <a:pt x="703" y="132"/>
                </a:lnTo>
                <a:lnTo>
                  <a:pt x="703" y="150"/>
                </a:lnTo>
                <a:lnTo>
                  <a:pt x="703" y="158"/>
                </a:lnTo>
                <a:lnTo>
                  <a:pt x="703" y="167"/>
                </a:lnTo>
                <a:lnTo>
                  <a:pt x="703" y="185"/>
                </a:lnTo>
                <a:lnTo>
                  <a:pt x="703" y="193"/>
                </a:lnTo>
                <a:lnTo>
                  <a:pt x="703" y="202"/>
                </a:lnTo>
                <a:lnTo>
                  <a:pt x="703" y="220"/>
                </a:lnTo>
                <a:lnTo>
                  <a:pt x="703" y="229"/>
                </a:lnTo>
                <a:lnTo>
                  <a:pt x="703" y="246"/>
                </a:lnTo>
                <a:lnTo>
                  <a:pt x="703" y="255"/>
                </a:lnTo>
                <a:lnTo>
                  <a:pt x="695" y="264"/>
                </a:lnTo>
                <a:lnTo>
                  <a:pt x="695" y="281"/>
                </a:lnTo>
                <a:lnTo>
                  <a:pt x="695" y="290"/>
                </a:lnTo>
                <a:lnTo>
                  <a:pt x="695" y="299"/>
                </a:lnTo>
                <a:lnTo>
                  <a:pt x="687" y="317"/>
                </a:lnTo>
                <a:lnTo>
                  <a:pt x="687" y="325"/>
                </a:lnTo>
                <a:lnTo>
                  <a:pt x="687" y="334"/>
                </a:lnTo>
                <a:lnTo>
                  <a:pt x="679" y="352"/>
                </a:lnTo>
                <a:lnTo>
                  <a:pt x="679" y="361"/>
                </a:lnTo>
                <a:lnTo>
                  <a:pt x="671" y="369"/>
                </a:lnTo>
                <a:lnTo>
                  <a:pt x="671" y="387"/>
                </a:lnTo>
                <a:lnTo>
                  <a:pt x="671" y="396"/>
                </a:lnTo>
                <a:lnTo>
                  <a:pt x="663" y="405"/>
                </a:lnTo>
                <a:lnTo>
                  <a:pt x="663" y="422"/>
                </a:lnTo>
                <a:lnTo>
                  <a:pt x="655" y="431"/>
                </a:lnTo>
                <a:lnTo>
                  <a:pt x="655" y="440"/>
                </a:lnTo>
                <a:lnTo>
                  <a:pt x="647" y="457"/>
                </a:lnTo>
                <a:lnTo>
                  <a:pt x="647" y="466"/>
                </a:lnTo>
                <a:lnTo>
                  <a:pt x="639" y="475"/>
                </a:lnTo>
                <a:lnTo>
                  <a:pt x="631" y="484"/>
                </a:lnTo>
                <a:lnTo>
                  <a:pt x="631" y="501"/>
                </a:lnTo>
                <a:lnTo>
                  <a:pt x="623" y="510"/>
                </a:lnTo>
                <a:lnTo>
                  <a:pt x="615" y="519"/>
                </a:lnTo>
                <a:lnTo>
                  <a:pt x="615" y="528"/>
                </a:lnTo>
                <a:lnTo>
                  <a:pt x="607" y="537"/>
                </a:lnTo>
                <a:lnTo>
                  <a:pt x="599" y="554"/>
                </a:lnTo>
                <a:lnTo>
                  <a:pt x="599" y="563"/>
                </a:lnTo>
                <a:lnTo>
                  <a:pt x="591" y="572"/>
                </a:lnTo>
                <a:lnTo>
                  <a:pt x="583" y="580"/>
                </a:lnTo>
                <a:lnTo>
                  <a:pt x="575" y="588"/>
                </a:lnTo>
                <a:lnTo>
                  <a:pt x="567" y="597"/>
                </a:lnTo>
                <a:lnTo>
                  <a:pt x="559" y="606"/>
                </a:lnTo>
                <a:lnTo>
                  <a:pt x="559" y="623"/>
                </a:lnTo>
                <a:lnTo>
                  <a:pt x="551" y="632"/>
                </a:lnTo>
                <a:lnTo>
                  <a:pt x="543" y="641"/>
                </a:lnTo>
                <a:lnTo>
                  <a:pt x="535" y="650"/>
                </a:lnTo>
                <a:lnTo>
                  <a:pt x="527" y="659"/>
                </a:lnTo>
                <a:lnTo>
                  <a:pt x="519" y="667"/>
                </a:lnTo>
                <a:lnTo>
                  <a:pt x="511" y="676"/>
                </a:lnTo>
                <a:lnTo>
                  <a:pt x="503" y="685"/>
                </a:lnTo>
                <a:lnTo>
                  <a:pt x="495" y="694"/>
                </a:lnTo>
                <a:lnTo>
                  <a:pt x="487" y="703"/>
                </a:lnTo>
                <a:lnTo>
                  <a:pt x="479" y="711"/>
                </a:lnTo>
                <a:lnTo>
                  <a:pt x="471" y="720"/>
                </a:lnTo>
                <a:lnTo>
                  <a:pt x="463" y="720"/>
                </a:lnTo>
                <a:lnTo>
                  <a:pt x="455" y="729"/>
                </a:lnTo>
                <a:lnTo>
                  <a:pt x="447" y="738"/>
                </a:lnTo>
                <a:lnTo>
                  <a:pt x="439" y="746"/>
                </a:lnTo>
                <a:lnTo>
                  <a:pt x="431" y="755"/>
                </a:lnTo>
                <a:lnTo>
                  <a:pt x="423" y="764"/>
                </a:lnTo>
                <a:lnTo>
                  <a:pt x="415" y="764"/>
                </a:lnTo>
                <a:lnTo>
                  <a:pt x="407" y="773"/>
                </a:lnTo>
                <a:lnTo>
                  <a:pt x="399" y="782"/>
                </a:lnTo>
                <a:lnTo>
                  <a:pt x="391" y="782"/>
                </a:lnTo>
                <a:lnTo>
                  <a:pt x="383" y="790"/>
                </a:lnTo>
                <a:lnTo>
                  <a:pt x="375" y="799"/>
                </a:lnTo>
                <a:lnTo>
                  <a:pt x="367" y="799"/>
                </a:lnTo>
                <a:lnTo>
                  <a:pt x="359" y="808"/>
                </a:lnTo>
                <a:lnTo>
                  <a:pt x="359" y="817"/>
                </a:lnTo>
                <a:lnTo>
                  <a:pt x="351" y="817"/>
                </a:lnTo>
                <a:lnTo>
                  <a:pt x="343" y="817"/>
                </a:lnTo>
                <a:lnTo>
                  <a:pt x="351" y="826"/>
                </a:lnTo>
                <a:lnTo>
                  <a:pt x="351" y="834"/>
                </a:lnTo>
                <a:lnTo>
                  <a:pt x="359" y="834"/>
                </a:lnTo>
                <a:lnTo>
                  <a:pt x="359" y="843"/>
                </a:lnTo>
                <a:lnTo>
                  <a:pt x="367" y="843"/>
                </a:lnTo>
                <a:lnTo>
                  <a:pt x="367" y="852"/>
                </a:lnTo>
                <a:lnTo>
                  <a:pt x="375" y="861"/>
                </a:lnTo>
                <a:lnTo>
                  <a:pt x="375" y="870"/>
                </a:lnTo>
                <a:lnTo>
                  <a:pt x="383" y="870"/>
                </a:lnTo>
                <a:lnTo>
                  <a:pt x="383" y="878"/>
                </a:lnTo>
                <a:lnTo>
                  <a:pt x="391" y="887"/>
                </a:lnTo>
                <a:lnTo>
                  <a:pt x="391" y="896"/>
                </a:lnTo>
                <a:lnTo>
                  <a:pt x="399" y="896"/>
                </a:lnTo>
                <a:lnTo>
                  <a:pt x="391" y="896"/>
                </a:lnTo>
                <a:lnTo>
                  <a:pt x="383" y="887"/>
                </a:lnTo>
                <a:lnTo>
                  <a:pt x="375" y="887"/>
                </a:lnTo>
                <a:lnTo>
                  <a:pt x="367" y="887"/>
                </a:lnTo>
                <a:lnTo>
                  <a:pt x="351" y="878"/>
                </a:lnTo>
                <a:lnTo>
                  <a:pt x="343" y="878"/>
                </a:lnTo>
                <a:lnTo>
                  <a:pt x="327" y="870"/>
                </a:lnTo>
                <a:lnTo>
                  <a:pt x="311" y="861"/>
                </a:lnTo>
                <a:lnTo>
                  <a:pt x="296" y="861"/>
                </a:lnTo>
                <a:lnTo>
                  <a:pt x="280" y="852"/>
                </a:lnTo>
                <a:lnTo>
                  <a:pt x="264" y="843"/>
                </a:lnTo>
                <a:lnTo>
                  <a:pt x="240" y="834"/>
                </a:lnTo>
                <a:lnTo>
                  <a:pt x="216" y="826"/>
                </a:lnTo>
                <a:lnTo>
                  <a:pt x="200" y="817"/>
                </a:lnTo>
                <a:lnTo>
                  <a:pt x="176" y="808"/>
                </a:lnTo>
                <a:lnTo>
                  <a:pt x="160" y="799"/>
                </a:lnTo>
                <a:lnTo>
                  <a:pt x="144" y="790"/>
                </a:lnTo>
                <a:lnTo>
                  <a:pt x="128" y="782"/>
                </a:lnTo>
                <a:lnTo>
                  <a:pt x="112" y="782"/>
                </a:lnTo>
                <a:lnTo>
                  <a:pt x="96" y="773"/>
                </a:lnTo>
                <a:lnTo>
                  <a:pt x="88" y="764"/>
                </a:lnTo>
                <a:lnTo>
                  <a:pt x="72" y="764"/>
                </a:lnTo>
                <a:lnTo>
                  <a:pt x="64" y="755"/>
                </a:lnTo>
                <a:lnTo>
                  <a:pt x="56" y="755"/>
                </a:lnTo>
                <a:lnTo>
                  <a:pt x="48" y="755"/>
                </a:lnTo>
                <a:lnTo>
                  <a:pt x="40" y="746"/>
                </a:lnTo>
                <a:lnTo>
                  <a:pt x="40" y="738"/>
                </a:lnTo>
                <a:lnTo>
                  <a:pt x="40" y="729"/>
                </a:lnTo>
                <a:lnTo>
                  <a:pt x="40" y="720"/>
                </a:lnTo>
                <a:lnTo>
                  <a:pt x="40" y="711"/>
                </a:lnTo>
                <a:lnTo>
                  <a:pt x="32" y="703"/>
                </a:lnTo>
                <a:lnTo>
                  <a:pt x="32" y="685"/>
                </a:lnTo>
                <a:lnTo>
                  <a:pt x="32" y="676"/>
                </a:lnTo>
                <a:lnTo>
                  <a:pt x="32" y="659"/>
                </a:lnTo>
                <a:lnTo>
                  <a:pt x="32" y="641"/>
                </a:lnTo>
                <a:lnTo>
                  <a:pt x="24" y="623"/>
                </a:lnTo>
                <a:lnTo>
                  <a:pt x="24" y="606"/>
                </a:lnTo>
                <a:lnTo>
                  <a:pt x="24" y="580"/>
                </a:lnTo>
                <a:lnTo>
                  <a:pt x="24" y="563"/>
                </a:lnTo>
                <a:lnTo>
                  <a:pt x="16" y="537"/>
                </a:lnTo>
                <a:lnTo>
                  <a:pt x="16" y="519"/>
                </a:lnTo>
                <a:lnTo>
                  <a:pt x="16" y="501"/>
                </a:lnTo>
                <a:lnTo>
                  <a:pt x="16" y="475"/>
                </a:lnTo>
                <a:lnTo>
                  <a:pt x="8" y="466"/>
                </a:lnTo>
                <a:lnTo>
                  <a:pt x="8" y="449"/>
                </a:lnTo>
                <a:lnTo>
                  <a:pt x="8" y="431"/>
                </a:lnTo>
                <a:lnTo>
                  <a:pt x="8" y="422"/>
                </a:lnTo>
                <a:lnTo>
                  <a:pt x="8" y="405"/>
                </a:lnTo>
                <a:lnTo>
                  <a:pt x="8" y="396"/>
                </a:lnTo>
                <a:lnTo>
                  <a:pt x="8" y="387"/>
                </a:lnTo>
                <a:lnTo>
                  <a:pt x="0" y="387"/>
                </a:lnTo>
                <a:lnTo>
                  <a:pt x="0" y="378"/>
                </a:lnTo>
                <a:lnTo>
                  <a:pt x="0" y="369"/>
                </a:lnTo>
                <a:lnTo>
                  <a:pt x="0" y="378"/>
                </a:lnTo>
                <a:lnTo>
                  <a:pt x="8" y="378"/>
                </a:lnTo>
                <a:lnTo>
                  <a:pt x="8" y="387"/>
                </a:lnTo>
                <a:lnTo>
                  <a:pt x="16" y="387"/>
                </a:lnTo>
                <a:lnTo>
                  <a:pt x="16" y="396"/>
                </a:lnTo>
                <a:lnTo>
                  <a:pt x="24" y="405"/>
                </a:lnTo>
                <a:lnTo>
                  <a:pt x="32" y="413"/>
                </a:lnTo>
                <a:lnTo>
                  <a:pt x="32" y="422"/>
                </a:lnTo>
                <a:lnTo>
                  <a:pt x="40" y="431"/>
                </a:lnTo>
                <a:lnTo>
                  <a:pt x="48" y="440"/>
                </a:lnTo>
                <a:lnTo>
                  <a:pt x="48" y="449"/>
                </a:lnTo>
                <a:lnTo>
                  <a:pt x="56" y="449"/>
                </a:lnTo>
                <a:lnTo>
                  <a:pt x="56" y="457"/>
                </a:lnTo>
                <a:lnTo>
                  <a:pt x="64" y="457"/>
                </a:lnTo>
                <a:lnTo>
                  <a:pt x="64" y="466"/>
                </a:lnTo>
                <a:lnTo>
                  <a:pt x="72" y="475"/>
                </a:lnTo>
                <a:lnTo>
                  <a:pt x="72" y="466"/>
                </a:lnTo>
                <a:lnTo>
                  <a:pt x="80" y="466"/>
                </a:lnTo>
                <a:lnTo>
                  <a:pt x="80" y="457"/>
                </a:lnTo>
                <a:lnTo>
                  <a:pt x="88" y="457"/>
                </a:lnTo>
                <a:lnTo>
                  <a:pt x="96" y="449"/>
                </a:lnTo>
                <a:lnTo>
                  <a:pt x="96" y="440"/>
                </a:lnTo>
                <a:lnTo>
                  <a:pt x="104" y="440"/>
                </a:lnTo>
                <a:lnTo>
                  <a:pt x="112" y="431"/>
                </a:lnTo>
                <a:lnTo>
                  <a:pt x="120" y="422"/>
                </a:lnTo>
                <a:lnTo>
                  <a:pt x="128" y="413"/>
                </a:lnTo>
                <a:lnTo>
                  <a:pt x="136" y="405"/>
                </a:lnTo>
                <a:lnTo>
                  <a:pt x="144" y="396"/>
                </a:lnTo>
                <a:lnTo>
                  <a:pt x="144" y="387"/>
                </a:lnTo>
                <a:lnTo>
                  <a:pt x="152" y="387"/>
                </a:lnTo>
                <a:lnTo>
                  <a:pt x="152" y="378"/>
                </a:lnTo>
                <a:lnTo>
                  <a:pt x="160" y="369"/>
                </a:lnTo>
                <a:lnTo>
                  <a:pt x="168" y="369"/>
                </a:lnTo>
                <a:lnTo>
                  <a:pt x="168" y="361"/>
                </a:lnTo>
                <a:lnTo>
                  <a:pt x="176" y="352"/>
                </a:lnTo>
                <a:lnTo>
                  <a:pt x="184" y="343"/>
                </a:lnTo>
                <a:lnTo>
                  <a:pt x="184" y="334"/>
                </a:lnTo>
                <a:lnTo>
                  <a:pt x="192" y="334"/>
                </a:lnTo>
                <a:lnTo>
                  <a:pt x="192" y="325"/>
                </a:lnTo>
                <a:lnTo>
                  <a:pt x="200" y="317"/>
                </a:lnTo>
                <a:lnTo>
                  <a:pt x="200" y="308"/>
                </a:lnTo>
                <a:lnTo>
                  <a:pt x="208" y="299"/>
                </a:lnTo>
                <a:lnTo>
                  <a:pt x="208" y="290"/>
                </a:lnTo>
                <a:lnTo>
                  <a:pt x="216" y="281"/>
                </a:lnTo>
                <a:lnTo>
                  <a:pt x="216" y="273"/>
                </a:lnTo>
                <a:lnTo>
                  <a:pt x="216" y="264"/>
                </a:lnTo>
                <a:lnTo>
                  <a:pt x="224" y="255"/>
                </a:lnTo>
                <a:lnTo>
                  <a:pt x="224" y="246"/>
                </a:lnTo>
                <a:lnTo>
                  <a:pt x="224" y="237"/>
                </a:lnTo>
                <a:lnTo>
                  <a:pt x="224" y="229"/>
                </a:lnTo>
                <a:lnTo>
                  <a:pt x="224" y="220"/>
                </a:lnTo>
                <a:lnTo>
                  <a:pt x="232" y="220"/>
                </a:lnTo>
                <a:lnTo>
                  <a:pt x="232" y="211"/>
                </a:lnTo>
                <a:lnTo>
                  <a:pt x="232" y="202"/>
                </a:lnTo>
                <a:lnTo>
                  <a:pt x="232" y="193"/>
                </a:lnTo>
                <a:lnTo>
                  <a:pt x="232" y="185"/>
                </a:lnTo>
                <a:lnTo>
                  <a:pt x="232" y="176"/>
                </a:lnTo>
                <a:lnTo>
                  <a:pt x="232" y="167"/>
                </a:lnTo>
                <a:lnTo>
                  <a:pt x="232" y="158"/>
                </a:lnTo>
                <a:lnTo>
                  <a:pt x="232" y="150"/>
                </a:lnTo>
                <a:lnTo>
                  <a:pt x="232" y="141"/>
                </a:lnTo>
                <a:lnTo>
                  <a:pt x="232" y="132"/>
                </a:lnTo>
                <a:lnTo>
                  <a:pt x="240" y="132"/>
                </a:lnTo>
                <a:lnTo>
                  <a:pt x="248" y="132"/>
                </a:lnTo>
                <a:lnTo>
                  <a:pt x="256" y="132"/>
                </a:lnTo>
                <a:lnTo>
                  <a:pt x="264" y="141"/>
                </a:lnTo>
                <a:lnTo>
                  <a:pt x="272" y="141"/>
                </a:lnTo>
                <a:lnTo>
                  <a:pt x="280" y="141"/>
                </a:lnTo>
                <a:lnTo>
                  <a:pt x="288" y="141"/>
                </a:lnTo>
                <a:lnTo>
                  <a:pt x="303" y="150"/>
                </a:lnTo>
                <a:lnTo>
                  <a:pt x="311" y="150"/>
                </a:lnTo>
                <a:lnTo>
                  <a:pt x="327" y="150"/>
                </a:lnTo>
                <a:lnTo>
                  <a:pt x="343" y="158"/>
                </a:lnTo>
                <a:lnTo>
                  <a:pt x="359" y="158"/>
                </a:lnTo>
                <a:lnTo>
                  <a:pt x="375" y="158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43040" y="4392720"/>
            <a:ext cx="1627200" cy="939600"/>
          </a:xfrm>
          <a:custGeom>
            <a:avLst/>
            <a:gdLst/>
            <a:ahLst/>
            <a:rect l="l" t="t" r="r" b="b"/>
            <a:pathLst>
              <a:path w="947" h="592">
                <a:moveTo>
                  <a:pt x="48" y="148"/>
                </a:moveTo>
                <a:lnTo>
                  <a:pt x="48" y="148"/>
                </a:lnTo>
                <a:lnTo>
                  <a:pt x="56" y="148"/>
                </a:lnTo>
                <a:lnTo>
                  <a:pt x="56" y="139"/>
                </a:lnTo>
                <a:lnTo>
                  <a:pt x="64" y="139"/>
                </a:lnTo>
                <a:lnTo>
                  <a:pt x="72" y="139"/>
                </a:lnTo>
                <a:lnTo>
                  <a:pt x="79" y="131"/>
                </a:lnTo>
                <a:lnTo>
                  <a:pt x="87" y="131"/>
                </a:lnTo>
                <a:lnTo>
                  <a:pt x="103" y="122"/>
                </a:lnTo>
                <a:lnTo>
                  <a:pt x="111" y="122"/>
                </a:lnTo>
                <a:lnTo>
                  <a:pt x="127" y="113"/>
                </a:lnTo>
                <a:lnTo>
                  <a:pt x="143" y="104"/>
                </a:lnTo>
                <a:lnTo>
                  <a:pt x="159" y="96"/>
                </a:lnTo>
                <a:lnTo>
                  <a:pt x="183" y="87"/>
                </a:lnTo>
                <a:lnTo>
                  <a:pt x="199" y="87"/>
                </a:lnTo>
                <a:lnTo>
                  <a:pt x="223" y="70"/>
                </a:lnTo>
                <a:lnTo>
                  <a:pt x="238" y="61"/>
                </a:lnTo>
                <a:lnTo>
                  <a:pt x="262" y="61"/>
                </a:lnTo>
                <a:lnTo>
                  <a:pt x="278" y="52"/>
                </a:lnTo>
                <a:lnTo>
                  <a:pt x="294" y="44"/>
                </a:lnTo>
                <a:lnTo>
                  <a:pt x="310" y="35"/>
                </a:lnTo>
                <a:lnTo>
                  <a:pt x="326" y="26"/>
                </a:lnTo>
                <a:lnTo>
                  <a:pt x="334" y="26"/>
                </a:lnTo>
                <a:lnTo>
                  <a:pt x="350" y="17"/>
                </a:lnTo>
                <a:lnTo>
                  <a:pt x="358" y="17"/>
                </a:lnTo>
                <a:lnTo>
                  <a:pt x="366" y="9"/>
                </a:lnTo>
                <a:lnTo>
                  <a:pt x="374" y="9"/>
                </a:lnTo>
                <a:lnTo>
                  <a:pt x="382" y="9"/>
                </a:lnTo>
                <a:lnTo>
                  <a:pt x="382" y="0"/>
                </a:lnTo>
                <a:lnTo>
                  <a:pt x="390" y="0"/>
                </a:lnTo>
                <a:lnTo>
                  <a:pt x="390" y="9"/>
                </a:lnTo>
                <a:lnTo>
                  <a:pt x="382" y="9"/>
                </a:lnTo>
                <a:lnTo>
                  <a:pt x="382" y="17"/>
                </a:lnTo>
                <a:lnTo>
                  <a:pt x="374" y="17"/>
                </a:lnTo>
                <a:lnTo>
                  <a:pt x="374" y="26"/>
                </a:lnTo>
                <a:lnTo>
                  <a:pt x="366" y="35"/>
                </a:lnTo>
                <a:lnTo>
                  <a:pt x="358" y="44"/>
                </a:lnTo>
                <a:lnTo>
                  <a:pt x="358" y="52"/>
                </a:lnTo>
                <a:lnTo>
                  <a:pt x="350" y="61"/>
                </a:lnTo>
                <a:lnTo>
                  <a:pt x="342" y="61"/>
                </a:lnTo>
                <a:lnTo>
                  <a:pt x="342" y="70"/>
                </a:lnTo>
                <a:lnTo>
                  <a:pt x="334" y="78"/>
                </a:lnTo>
                <a:lnTo>
                  <a:pt x="334" y="87"/>
                </a:lnTo>
                <a:lnTo>
                  <a:pt x="342" y="87"/>
                </a:lnTo>
                <a:lnTo>
                  <a:pt x="350" y="96"/>
                </a:lnTo>
                <a:lnTo>
                  <a:pt x="358" y="96"/>
                </a:lnTo>
                <a:lnTo>
                  <a:pt x="366" y="104"/>
                </a:lnTo>
                <a:lnTo>
                  <a:pt x="374" y="104"/>
                </a:lnTo>
                <a:lnTo>
                  <a:pt x="382" y="104"/>
                </a:lnTo>
                <a:lnTo>
                  <a:pt x="390" y="113"/>
                </a:lnTo>
                <a:lnTo>
                  <a:pt x="397" y="113"/>
                </a:lnTo>
                <a:lnTo>
                  <a:pt x="405" y="122"/>
                </a:lnTo>
                <a:lnTo>
                  <a:pt x="413" y="122"/>
                </a:lnTo>
                <a:lnTo>
                  <a:pt x="421" y="122"/>
                </a:lnTo>
                <a:lnTo>
                  <a:pt x="429" y="131"/>
                </a:lnTo>
                <a:lnTo>
                  <a:pt x="437" y="131"/>
                </a:lnTo>
                <a:lnTo>
                  <a:pt x="445" y="131"/>
                </a:lnTo>
                <a:lnTo>
                  <a:pt x="453" y="131"/>
                </a:lnTo>
                <a:lnTo>
                  <a:pt x="453" y="139"/>
                </a:lnTo>
                <a:lnTo>
                  <a:pt x="461" y="139"/>
                </a:lnTo>
                <a:lnTo>
                  <a:pt x="469" y="139"/>
                </a:lnTo>
                <a:lnTo>
                  <a:pt x="477" y="139"/>
                </a:lnTo>
                <a:lnTo>
                  <a:pt x="485" y="139"/>
                </a:lnTo>
                <a:lnTo>
                  <a:pt x="493" y="148"/>
                </a:lnTo>
                <a:lnTo>
                  <a:pt x="501" y="148"/>
                </a:lnTo>
                <a:lnTo>
                  <a:pt x="509" y="148"/>
                </a:lnTo>
                <a:lnTo>
                  <a:pt x="517" y="148"/>
                </a:lnTo>
                <a:lnTo>
                  <a:pt x="525" y="148"/>
                </a:lnTo>
                <a:lnTo>
                  <a:pt x="533" y="148"/>
                </a:lnTo>
                <a:lnTo>
                  <a:pt x="541" y="148"/>
                </a:lnTo>
                <a:lnTo>
                  <a:pt x="549" y="148"/>
                </a:lnTo>
                <a:lnTo>
                  <a:pt x="556" y="148"/>
                </a:lnTo>
                <a:lnTo>
                  <a:pt x="564" y="148"/>
                </a:lnTo>
                <a:lnTo>
                  <a:pt x="572" y="148"/>
                </a:lnTo>
                <a:lnTo>
                  <a:pt x="580" y="148"/>
                </a:lnTo>
                <a:lnTo>
                  <a:pt x="588" y="148"/>
                </a:lnTo>
                <a:lnTo>
                  <a:pt x="596" y="148"/>
                </a:lnTo>
                <a:lnTo>
                  <a:pt x="604" y="148"/>
                </a:lnTo>
                <a:lnTo>
                  <a:pt x="612" y="148"/>
                </a:lnTo>
                <a:lnTo>
                  <a:pt x="620" y="148"/>
                </a:lnTo>
                <a:lnTo>
                  <a:pt x="628" y="148"/>
                </a:lnTo>
                <a:lnTo>
                  <a:pt x="636" y="148"/>
                </a:lnTo>
                <a:lnTo>
                  <a:pt x="636" y="139"/>
                </a:lnTo>
                <a:lnTo>
                  <a:pt x="644" y="139"/>
                </a:lnTo>
                <a:lnTo>
                  <a:pt x="652" y="139"/>
                </a:lnTo>
                <a:lnTo>
                  <a:pt x="660" y="139"/>
                </a:lnTo>
                <a:lnTo>
                  <a:pt x="668" y="131"/>
                </a:lnTo>
                <a:lnTo>
                  <a:pt x="676" y="131"/>
                </a:lnTo>
                <a:lnTo>
                  <a:pt x="684" y="131"/>
                </a:lnTo>
                <a:lnTo>
                  <a:pt x="692" y="131"/>
                </a:lnTo>
                <a:lnTo>
                  <a:pt x="692" y="139"/>
                </a:lnTo>
                <a:lnTo>
                  <a:pt x="692" y="148"/>
                </a:lnTo>
                <a:lnTo>
                  <a:pt x="692" y="157"/>
                </a:lnTo>
                <a:lnTo>
                  <a:pt x="692" y="165"/>
                </a:lnTo>
                <a:lnTo>
                  <a:pt x="692" y="174"/>
                </a:lnTo>
                <a:lnTo>
                  <a:pt x="692" y="183"/>
                </a:lnTo>
                <a:lnTo>
                  <a:pt x="692" y="192"/>
                </a:lnTo>
                <a:lnTo>
                  <a:pt x="692" y="199"/>
                </a:lnTo>
                <a:lnTo>
                  <a:pt x="700" y="217"/>
                </a:lnTo>
                <a:lnTo>
                  <a:pt x="700" y="234"/>
                </a:lnTo>
                <a:lnTo>
                  <a:pt x="700" y="243"/>
                </a:lnTo>
                <a:lnTo>
                  <a:pt x="700" y="260"/>
                </a:lnTo>
                <a:lnTo>
                  <a:pt x="700" y="278"/>
                </a:lnTo>
                <a:lnTo>
                  <a:pt x="700" y="295"/>
                </a:lnTo>
                <a:lnTo>
                  <a:pt x="708" y="312"/>
                </a:lnTo>
                <a:lnTo>
                  <a:pt x="708" y="321"/>
                </a:lnTo>
                <a:lnTo>
                  <a:pt x="708" y="338"/>
                </a:lnTo>
                <a:lnTo>
                  <a:pt x="708" y="347"/>
                </a:lnTo>
                <a:lnTo>
                  <a:pt x="708" y="356"/>
                </a:lnTo>
                <a:lnTo>
                  <a:pt x="708" y="365"/>
                </a:lnTo>
                <a:lnTo>
                  <a:pt x="708" y="373"/>
                </a:lnTo>
                <a:lnTo>
                  <a:pt x="708" y="382"/>
                </a:lnTo>
                <a:lnTo>
                  <a:pt x="708" y="391"/>
                </a:lnTo>
                <a:lnTo>
                  <a:pt x="708" y="399"/>
                </a:lnTo>
                <a:lnTo>
                  <a:pt x="715" y="399"/>
                </a:lnTo>
                <a:lnTo>
                  <a:pt x="715" y="408"/>
                </a:lnTo>
                <a:lnTo>
                  <a:pt x="723" y="408"/>
                </a:lnTo>
                <a:lnTo>
                  <a:pt x="731" y="408"/>
                </a:lnTo>
                <a:lnTo>
                  <a:pt x="739" y="417"/>
                </a:lnTo>
                <a:lnTo>
                  <a:pt x="747" y="417"/>
                </a:lnTo>
                <a:lnTo>
                  <a:pt x="755" y="426"/>
                </a:lnTo>
                <a:lnTo>
                  <a:pt x="771" y="426"/>
                </a:lnTo>
                <a:lnTo>
                  <a:pt x="779" y="434"/>
                </a:lnTo>
                <a:lnTo>
                  <a:pt x="787" y="434"/>
                </a:lnTo>
                <a:lnTo>
                  <a:pt x="803" y="443"/>
                </a:lnTo>
                <a:lnTo>
                  <a:pt x="819" y="443"/>
                </a:lnTo>
                <a:lnTo>
                  <a:pt x="827" y="452"/>
                </a:lnTo>
                <a:lnTo>
                  <a:pt x="843" y="460"/>
                </a:lnTo>
                <a:lnTo>
                  <a:pt x="859" y="469"/>
                </a:lnTo>
                <a:lnTo>
                  <a:pt x="874" y="469"/>
                </a:lnTo>
                <a:lnTo>
                  <a:pt x="882" y="478"/>
                </a:lnTo>
                <a:lnTo>
                  <a:pt x="890" y="478"/>
                </a:lnTo>
                <a:lnTo>
                  <a:pt x="906" y="487"/>
                </a:lnTo>
                <a:lnTo>
                  <a:pt x="914" y="487"/>
                </a:lnTo>
                <a:lnTo>
                  <a:pt x="922" y="495"/>
                </a:lnTo>
                <a:lnTo>
                  <a:pt x="930" y="495"/>
                </a:lnTo>
                <a:lnTo>
                  <a:pt x="938" y="504"/>
                </a:lnTo>
                <a:lnTo>
                  <a:pt x="946" y="504"/>
                </a:lnTo>
                <a:lnTo>
                  <a:pt x="938" y="513"/>
                </a:lnTo>
                <a:lnTo>
                  <a:pt x="930" y="513"/>
                </a:lnTo>
                <a:lnTo>
                  <a:pt x="922" y="513"/>
                </a:lnTo>
                <a:lnTo>
                  <a:pt x="922" y="521"/>
                </a:lnTo>
                <a:lnTo>
                  <a:pt x="914" y="521"/>
                </a:lnTo>
                <a:lnTo>
                  <a:pt x="906" y="521"/>
                </a:lnTo>
                <a:lnTo>
                  <a:pt x="898" y="521"/>
                </a:lnTo>
                <a:lnTo>
                  <a:pt x="890" y="530"/>
                </a:lnTo>
                <a:lnTo>
                  <a:pt x="882" y="530"/>
                </a:lnTo>
                <a:lnTo>
                  <a:pt x="874" y="539"/>
                </a:lnTo>
                <a:lnTo>
                  <a:pt x="859" y="539"/>
                </a:lnTo>
                <a:lnTo>
                  <a:pt x="851" y="539"/>
                </a:lnTo>
                <a:lnTo>
                  <a:pt x="843" y="547"/>
                </a:lnTo>
                <a:lnTo>
                  <a:pt x="835" y="547"/>
                </a:lnTo>
                <a:lnTo>
                  <a:pt x="819" y="547"/>
                </a:lnTo>
                <a:lnTo>
                  <a:pt x="811" y="556"/>
                </a:lnTo>
                <a:lnTo>
                  <a:pt x="803" y="556"/>
                </a:lnTo>
                <a:lnTo>
                  <a:pt x="795" y="556"/>
                </a:lnTo>
                <a:lnTo>
                  <a:pt x="779" y="565"/>
                </a:lnTo>
                <a:lnTo>
                  <a:pt x="771" y="565"/>
                </a:lnTo>
                <a:lnTo>
                  <a:pt x="763" y="565"/>
                </a:lnTo>
                <a:lnTo>
                  <a:pt x="747" y="565"/>
                </a:lnTo>
                <a:lnTo>
                  <a:pt x="739" y="574"/>
                </a:lnTo>
                <a:lnTo>
                  <a:pt x="731" y="574"/>
                </a:lnTo>
                <a:lnTo>
                  <a:pt x="715" y="574"/>
                </a:lnTo>
                <a:lnTo>
                  <a:pt x="708" y="574"/>
                </a:lnTo>
                <a:lnTo>
                  <a:pt x="700" y="582"/>
                </a:lnTo>
                <a:lnTo>
                  <a:pt x="684" y="582"/>
                </a:lnTo>
                <a:lnTo>
                  <a:pt x="676" y="582"/>
                </a:lnTo>
                <a:lnTo>
                  <a:pt x="668" y="582"/>
                </a:lnTo>
                <a:lnTo>
                  <a:pt x="652" y="582"/>
                </a:lnTo>
                <a:lnTo>
                  <a:pt x="644" y="582"/>
                </a:lnTo>
                <a:lnTo>
                  <a:pt x="636" y="582"/>
                </a:lnTo>
                <a:lnTo>
                  <a:pt x="620" y="591"/>
                </a:lnTo>
                <a:lnTo>
                  <a:pt x="612" y="591"/>
                </a:lnTo>
                <a:lnTo>
                  <a:pt x="604" y="591"/>
                </a:lnTo>
                <a:lnTo>
                  <a:pt x="596" y="591"/>
                </a:lnTo>
                <a:lnTo>
                  <a:pt x="580" y="591"/>
                </a:lnTo>
                <a:lnTo>
                  <a:pt x="572" y="591"/>
                </a:lnTo>
                <a:lnTo>
                  <a:pt x="564" y="591"/>
                </a:lnTo>
                <a:lnTo>
                  <a:pt x="556" y="591"/>
                </a:lnTo>
                <a:lnTo>
                  <a:pt x="541" y="591"/>
                </a:lnTo>
                <a:lnTo>
                  <a:pt x="533" y="591"/>
                </a:lnTo>
                <a:lnTo>
                  <a:pt x="525" y="591"/>
                </a:lnTo>
                <a:lnTo>
                  <a:pt x="517" y="591"/>
                </a:lnTo>
                <a:lnTo>
                  <a:pt x="501" y="591"/>
                </a:lnTo>
                <a:lnTo>
                  <a:pt x="493" y="591"/>
                </a:lnTo>
                <a:lnTo>
                  <a:pt x="485" y="591"/>
                </a:lnTo>
                <a:lnTo>
                  <a:pt x="477" y="591"/>
                </a:lnTo>
                <a:lnTo>
                  <a:pt x="461" y="591"/>
                </a:lnTo>
                <a:lnTo>
                  <a:pt x="453" y="582"/>
                </a:lnTo>
                <a:lnTo>
                  <a:pt x="445" y="582"/>
                </a:lnTo>
                <a:lnTo>
                  <a:pt x="429" y="582"/>
                </a:lnTo>
                <a:lnTo>
                  <a:pt x="421" y="582"/>
                </a:lnTo>
                <a:lnTo>
                  <a:pt x="413" y="582"/>
                </a:lnTo>
                <a:lnTo>
                  <a:pt x="397" y="574"/>
                </a:lnTo>
                <a:lnTo>
                  <a:pt x="390" y="574"/>
                </a:lnTo>
                <a:lnTo>
                  <a:pt x="382" y="574"/>
                </a:lnTo>
                <a:lnTo>
                  <a:pt x="366" y="574"/>
                </a:lnTo>
                <a:lnTo>
                  <a:pt x="358" y="565"/>
                </a:lnTo>
                <a:lnTo>
                  <a:pt x="350" y="565"/>
                </a:lnTo>
                <a:lnTo>
                  <a:pt x="334" y="565"/>
                </a:lnTo>
                <a:lnTo>
                  <a:pt x="326" y="565"/>
                </a:lnTo>
                <a:lnTo>
                  <a:pt x="318" y="556"/>
                </a:lnTo>
                <a:lnTo>
                  <a:pt x="310" y="556"/>
                </a:lnTo>
                <a:lnTo>
                  <a:pt x="294" y="556"/>
                </a:lnTo>
                <a:lnTo>
                  <a:pt x="286" y="547"/>
                </a:lnTo>
                <a:lnTo>
                  <a:pt x="278" y="547"/>
                </a:lnTo>
                <a:lnTo>
                  <a:pt x="270" y="547"/>
                </a:lnTo>
                <a:lnTo>
                  <a:pt x="262" y="539"/>
                </a:lnTo>
                <a:lnTo>
                  <a:pt x="246" y="539"/>
                </a:lnTo>
                <a:lnTo>
                  <a:pt x="238" y="539"/>
                </a:lnTo>
                <a:lnTo>
                  <a:pt x="231" y="530"/>
                </a:lnTo>
                <a:lnTo>
                  <a:pt x="223" y="530"/>
                </a:lnTo>
                <a:lnTo>
                  <a:pt x="215" y="521"/>
                </a:lnTo>
                <a:lnTo>
                  <a:pt x="207" y="521"/>
                </a:lnTo>
                <a:lnTo>
                  <a:pt x="199" y="521"/>
                </a:lnTo>
                <a:lnTo>
                  <a:pt x="191" y="513"/>
                </a:lnTo>
                <a:lnTo>
                  <a:pt x="183" y="513"/>
                </a:lnTo>
                <a:lnTo>
                  <a:pt x="175" y="504"/>
                </a:lnTo>
                <a:lnTo>
                  <a:pt x="167" y="504"/>
                </a:lnTo>
                <a:lnTo>
                  <a:pt x="159" y="495"/>
                </a:lnTo>
                <a:lnTo>
                  <a:pt x="151" y="495"/>
                </a:lnTo>
                <a:lnTo>
                  <a:pt x="143" y="495"/>
                </a:lnTo>
                <a:lnTo>
                  <a:pt x="135" y="487"/>
                </a:lnTo>
                <a:lnTo>
                  <a:pt x="127" y="487"/>
                </a:lnTo>
                <a:lnTo>
                  <a:pt x="119" y="478"/>
                </a:lnTo>
                <a:lnTo>
                  <a:pt x="111" y="478"/>
                </a:lnTo>
                <a:lnTo>
                  <a:pt x="103" y="469"/>
                </a:lnTo>
                <a:lnTo>
                  <a:pt x="95" y="469"/>
                </a:lnTo>
                <a:lnTo>
                  <a:pt x="95" y="460"/>
                </a:lnTo>
                <a:lnTo>
                  <a:pt x="87" y="460"/>
                </a:lnTo>
                <a:lnTo>
                  <a:pt x="79" y="460"/>
                </a:lnTo>
                <a:lnTo>
                  <a:pt x="72" y="452"/>
                </a:lnTo>
                <a:lnTo>
                  <a:pt x="64" y="452"/>
                </a:lnTo>
                <a:lnTo>
                  <a:pt x="64" y="443"/>
                </a:lnTo>
                <a:lnTo>
                  <a:pt x="56" y="443"/>
                </a:lnTo>
                <a:lnTo>
                  <a:pt x="56" y="452"/>
                </a:lnTo>
                <a:lnTo>
                  <a:pt x="48" y="452"/>
                </a:lnTo>
                <a:lnTo>
                  <a:pt x="48" y="460"/>
                </a:lnTo>
                <a:lnTo>
                  <a:pt x="40" y="460"/>
                </a:lnTo>
                <a:lnTo>
                  <a:pt x="40" y="469"/>
                </a:lnTo>
                <a:lnTo>
                  <a:pt x="32" y="469"/>
                </a:lnTo>
                <a:lnTo>
                  <a:pt x="32" y="478"/>
                </a:lnTo>
                <a:lnTo>
                  <a:pt x="24" y="487"/>
                </a:lnTo>
                <a:lnTo>
                  <a:pt x="16" y="495"/>
                </a:lnTo>
                <a:lnTo>
                  <a:pt x="16" y="504"/>
                </a:lnTo>
                <a:lnTo>
                  <a:pt x="8" y="504"/>
                </a:lnTo>
                <a:lnTo>
                  <a:pt x="8" y="513"/>
                </a:lnTo>
                <a:lnTo>
                  <a:pt x="0" y="513"/>
                </a:lnTo>
                <a:lnTo>
                  <a:pt x="8" y="504"/>
                </a:lnTo>
                <a:lnTo>
                  <a:pt x="8" y="495"/>
                </a:lnTo>
                <a:lnTo>
                  <a:pt x="8" y="487"/>
                </a:lnTo>
                <a:lnTo>
                  <a:pt x="8" y="478"/>
                </a:lnTo>
                <a:lnTo>
                  <a:pt x="8" y="469"/>
                </a:lnTo>
                <a:lnTo>
                  <a:pt x="8" y="452"/>
                </a:lnTo>
                <a:lnTo>
                  <a:pt x="16" y="443"/>
                </a:lnTo>
                <a:lnTo>
                  <a:pt x="16" y="426"/>
                </a:lnTo>
                <a:lnTo>
                  <a:pt x="16" y="408"/>
                </a:lnTo>
                <a:lnTo>
                  <a:pt x="16" y="391"/>
                </a:lnTo>
                <a:lnTo>
                  <a:pt x="24" y="373"/>
                </a:lnTo>
                <a:lnTo>
                  <a:pt x="24" y="356"/>
                </a:lnTo>
                <a:lnTo>
                  <a:pt x="24" y="330"/>
                </a:lnTo>
                <a:lnTo>
                  <a:pt x="32" y="312"/>
                </a:lnTo>
                <a:lnTo>
                  <a:pt x="32" y="286"/>
                </a:lnTo>
                <a:lnTo>
                  <a:pt x="32" y="269"/>
                </a:lnTo>
                <a:lnTo>
                  <a:pt x="32" y="251"/>
                </a:lnTo>
                <a:lnTo>
                  <a:pt x="40" y="234"/>
                </a:lnTo>
                <a:lnTo>
                  <a:pt x="40" y="217"/>
                </a:lnTo>
                <a:lnTo>
                  <a:pt x="40" y="208"/>
                </a:lnTo>
                <a:lnTo>
                  <a:pt x="40" y="192"/>
                </a:lnTo>
                <a:lnTo>
                  <a:pt x="48" y="183"/>
                </a:lnTo>
                <a:lnTo>
                  <a:pt x="48" y="174"/>
                </a:lnTo>
                <a:lnTo>
                  <a:pt x="48" y="165"/>
                </a:lnTo>
                <a:lnTo>
                  <a:pt x="48" y="157"/>
                </a:lnTo>
                <a:lnTo>
                  <a:pt x="48" y="148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9440" y="3441600"/>
            <a:ext cx="1106640" cy="1527120"/>
          </a:xfrm>
          <a:custGeom>
            <a:avLst/>
            <a:gdLst/>
            <a:ahLst/>
            <a:rect l="l" t="t" r="r" b="b"/>
            <a:pathLst>
              <a:path w="643" h="962">
                <a:moveTo>
                  <a:pt x="380" y="0"/>
                </a:moveTo>
                <a:lnTo>
                  <a:pt x="380" y="0"/>
                </a:lnTo>
                <a:lnTo>
                  <a:pt x="388" y="0"/>
                </a:lnTo>
                <a:lnTo>
                  <a:pt x="388" y="9"/>
                </a:lnTo>
                <a:lnTo>
                  <a:pt x="396" y="9"/>
                </a:lnTo>
                <a:lnTo>
                  <a:pt x="404" y="17"/>
                </a:lnTo>
                <a:lnTo>
                  <a:pt x="404" y="26"/>
                </a:lnTo>
                <a:lnTo>
                  <a:pt x="412" y="35"/>
                </a:lnTo>
                <a:lnTo>
                  <a:pt x="420" y="44"/>
                </a:lnTo>
                <a:lnTo>
                  <a:pt x="436" y="52"/>
                </a:lnTo>
                <a:lnTo>
                  <a:pt x="444" y="61"/>
                </a:lnTo>
                <a:lnTo>
                  <a:pt x="460" y="79"/>
                </a:lnTo>
                <a:lnTo>
                  <a:pt x="468" y="87"/>
                </a:lnTo>
                <a:lnTo>
                  <a:pt x="483" y="105"/>
                </a:lnTo>
                <a:lnTo>
                  <a:pt x="499" y="122"/>
                </a:lnTo>
                <a:lnTo>
                  <a:pt x="515" y="131"/>
                </a:lnTo>
                <a:lnTo>
                  <a:pt x="531" y="149"/>
                </a:lnTo>
                <a:lnTo>
                  <a:pt x="547" y="166"/>
                </a:lnTo>
                <a:lnTo>
                  <a:pt x="555" y="184"/>
                </a:lnTo>
                <a:lnTo>
                  <a:pt x="571" y="192"/>
                </a:lnTo>
                <a:lnTo>
                  <a:pt x="579" y="201"/>
                </a:lnTo>
                <a:lnTo>
                  <a:pt x="594" y="219"/>
                </a:lnTo>
                <a:lnTo>
                  <a:pt x="602" y="227"/>
                </a:lnTo>
                <a:lnTo>
                  <a:pt x="610" y="236"/>
                </a:lnTo>
                <a:lnTo>
                  <a:pt x="618" y="245"/>
                </a:lnTo>
                <a:lnTo>
                  <a:pt x="626" y="254"/>
                </a:lnTo>
                <a:lnTo>
                  <a:pt x="634" y="254"/>
                </a:lnTo>
                <a:lnTo>
                  <a:pt x="634" y="262"/>
                </a:lnTo>
                <a:lnTo>
                  <a:pt x="642" y="262"/>
                </a:lnTo>
                <a:lnTo>
                  <a:pt x="642" y="271"/>
                </a:lnTo>
                <a:lnTo>
                  <a:pt x="634" y="271"/>
                </a:lnTo>
                <a:lnTo>
                  <a:pt x="634" y="262"/>
                </a:lnTo>
                <a:lnTo>
                  <a:pt x="626" y="262"/>
                </a:lnTo>
                <a:lnTo>
                  <a:pt x="618" y="262"/>
                </a:lnTo>
                <a:lnTo>
                  <a:pt x="610" y="262"/>
                </a:lnTo>
                <a:lnTo>
                  <a:pt x="602" y="262"/>
                </a:lnTo>
                <a:lnTo>
                  <a:pt x="594" y="254"/>
                </a:lnTo>
                <a:lnTo>
                  <a:pt x="587" y="254"/>
                </a:lnTo>
                <a:lnTo>
                  <a:pt x="579" y="254"/>
                </a:lnTo>
                <a:lnTo>
                  <a:pt x="571" y="254"/>
                </a:lnTo>
                <a:lnTo>
                  <a:pt x="571" y="245"/>
                </a:lnTo>
                <a:lnTo>
                  <a:pt x="563" y="245"/>
                </a:lnTo>
                <a:lnTo>
                  <a:pt x="555" y="245"/>
                </a:lnTo>
                <a:lnTo>
                  <a:pt x="547" y="245"/>
                </a:lnTo>
                <a:lnTo>
                  <a:pt x="539" y="245"/>
                </a:lnTo>
                <a:lnTo>
                  <a:pt x="539" y="254"/>
                </a:lnTo>
                <a:lnTo>
                  <a:pt x="539" y="262"/>
                </a:lnTo>
                <a:lnTo>
                  <a:pt x="531" y="262"/>
                </a:lnTo>
                <a:lnTo>
                  <a:pt x="531" y="271"/>
                </a:lnTo>
                <a:lnTo>
                  <a:pt x="531" y="280"/>
                </a:lnTo>
                <a:lnTo>
                  <a:pt x="531" y="289"/>
                </a:lnTo>
                <a:lnTo>
                  <a:pt x="531" y="297"/>
                </a:lnTo>
                <a:lnTo>
                  <a:pt x="523" y="306"/>
                </a:lnTo>
                <a:lnTo>
                  <a:pt x="523" y="315"/>
                </a:lnTo>
                <a:lnTo>
                  <a:pt x="523" y="324"/>
                </a:lnTo>
                <a:lnTo>
                  <a:pt x="523" y="332"/>
                </a:lnTo>
                <a:lnTo>
                  <a:pt x="523" y="341"/>
                </a:lnTo>
                <a:lnTo>
                  <a:pt x="523" y="350"/>
                </a:lnTo>
                <a:lnTo>
                  <a:pt x="523" y="359"/>
                </a:lnTo>
                <a:lnTo>
                  <a:pt x="523" y="367"/>
                </a:lnTo>
                <a:lnTo>
                  <a:pt x="523" y="376"/>
                </a:lnTo>
                <a:lnTo>
                  <a:pt x="523" y="385"/>
                </a:lnTo>
                <a:lnTo>
                  <a:pt x="523" y="394"/>
                </a:lnTo>
                <a:lnTo>
                  <a:pt x="523" y="402"/>
                </a:lnTo>
                <a:lnTo>
                  <a:pt x="523" y="411"/>
                </a:lnTo>
                <a:lnTo>
                  <a:pt x="531" y="420"/>
                </a:lnTo>
                <a:lnTo>
                  <a:pt x="531" y="429"/>
                </a:lnTo>
                <a:lnTo>
                  <a:pt x="531" y="437"/>
                </a:lnTo>
                <a:lnTo>
                  <a:pt x="531" y="446"/>
                </a:lnTo>
                <a:lnTo>
                  <a:pt x="531" y="455"/>
                </a:lnTo>
                <a:lnTo>
                  <a:pt x="539" y="464"/>
                </a:lnTo>
                <a:lnTo>
                  <a:pt x="539" y="472"/>
                </a:lnTo>
                <a:lnTo>
                  <a:pt x="539" y="481"/>
                </a:lnTo>
                <a:lnTo>
                  <a:pt x="547" y="490"/>
                </a:lnTo>
                <a:lnTo>
                  <a:pt x="547" y="499"/>
                </a:lnTo>
                <a:lnTo>
                  <a:pt x="555" y="507"/>
                </a:lnTo>
                <a:lnTo>
                  <a:pt x="555" y="516"/>
                </a:lnTo>
                <a:lnTo>
                  <a:pt x="563" y="525"/>
                </a:lnTo>
                <a:lnTo>
                  <a:pt x="563" y="534"/>
                </a:lnTo>
                <a:lnTo>
                  <a:pt x="571" y="542"/>
                </a:lnTo>
                <a:lnTo>
                  <a:pt x="571" y="551"/>
                </a:lnTo>
                <a:lnTo>
                  <a:pt x="579" y="560"/>
                </a:lnTo>
                <a:lnTo>
                  <a:pt x="587" y="569"/>
                </a:lnTo>
                <a:lnTo>
                  <a:pt x="587" y="577"/>
                </a:lnTo>
                <a:lnTo>
                  <a:pt x="594" y="586"/>
                </a:lnTo>
                <a:lnTo>
                  <a:pt x="594" y="595"/>
                </a:lnTo>
                <a:lnTo>
                  <a:pt x="602" y="595"/>
                </a:lnTo>
                <a:lnTo>
                  <a:pt x="602" y="603"/>
                </a:lnTo>
                <a:lnTo>
                  <a:pt x="602" y="612"/>
                </a:lnTo>
                <a:lnTo>
                  <a:pt x="594" y="612"/>
                </a:lnTo>
                <a:lnTo>
                  <a:pt x="587" y="612"/>
                </a:lnTo>
                <a:lnTo>
                  <a:pt x="579" y="621"/>
                </a:lnTo>
                <a:lnTo>
                  <a:pt x="571" y="621"/>
                </a:lnTo>
                <a:lnTo>
                  <a:pt x="563" y="621"/>
                </a:lnTo>
                <a:lnTo>
                  <a:pt x="555" y="630"/>
                </a:lnTo>
                <a:lnTo>
                  <a:pt x="547" y="630"/>
                </a:lnTo>
                <a:lnTo>
                  <a:pt x="531" y="638"/>
                </a:lnTo>
                <a:lnTo>
                  <a:pt x="523" y="638"/>
                </a:lnTo>
                <a:lnTo>
                  <a:pt x="507" y="647"/>
                </a:lnTo>
                <a:lnTo>
                  <a:pt x="491" y="656"/>
                </a:lnTo>
                <a:lnTo>
                  <a:pt x="476" y="656"/>
                </a:lnTo>
                <a:lnTo>
                  <a:pt x="468" y="665"/>
                </a:lnTo>
                <a:lnTo>
                  <a:pt x="452" y="673"/>
                </a:lnTo>
                <a:lnTo>
                  <a:pt x="436" y="673"/>
                </a:lnTo>
                <a:lnTo>
                  <a:pt x="428" y="682"/>
                </a:lnTo>
                <a:lnTo>
                  <a:pt x="412" y="682"/>
                </a:lnTo>
                <a:lnTo>
                  <a:pt x="404" y="691"/>
                </a:lnTo>
                <a:lnTo>
                  <a:pt x="396" y="691"/>
                </a:lnTo>
                <a:lnTo>
                  <a:pt x="388" y="700"/>
                </a:lnTo>
                <a:lnTo>
                  <a:pt x="380" y="700"/>
                </a:lnTo>
                <a:lnTo>
                  <a:pt x="373" y="700"/>
                </a:lnTo>
                <a:lnTo>
                  <a:pt x="365" y="700"/>
                </a:lnTo>
                <a:lnTo>
                  <a:pt x="365" y="708"/>
                </a:lnTo>
                <a:lnTo>
                  <a:pt x="357" y="708"/>
                </a:lnTo>
                <a:lnTo>
                  <a:pt x="349" y="708"/>
                </a:lnTo>
                <a:lnTo>
                  <a:pt x="349" y="717"/>
                </a:lnTo>
                <a:lnTo>
                  <a:pt x="349" y="726"/>
                </a:lnTo>
                <a:lnTo>
                  <a:pt x="349" y="735"/>
                </a:lnTo>
                <a:lnTo>
                  <a:pt x="349" y="743"/>
                </a:lnTo>
                <a:lnTo>
                  <a:pt x="349" y="752"/>
                </a:lnTo>
                <a:lnTo>
                  <a:pt x="349" y="761"/>
                </a:lnTo>
                <a:lnTo>
                  <a:pt x="349" y="770"/>
                </a:lnTo>
                <a:lnTo>
                  <a:pt x="341" y="778"/>
                </a:lnTo>
                <a:lnTo>
                  <a:pt x="341" y="795"/>
                </a:lnTo>
                <a:lnTo>
                  <a:pt x="341" y="804"/>
                </a:lnTo>
                <a:lnTo>
                  <a:pt x="341" y="821"/>
                </a:lnTo>
                <a:lnTo>
                  <a:pt x="341" y="839"/>
                </a:lnTo>
                <a:lnTo>
                  <a:pt x="333" y="847"/>
                </a:lnTo>
                <a:lnTo>
                  <a:pt x="333" y="865"/>
                </a:lnTo>
                <a:lnTo>
                  <a:pt x="333" y="874"/>
                </a:lnTo>
                <a:lnTo>
                  <a:pt x="333" y="891"/>
                </a:lnTo>
                <a:lnTo>
                  <a:pt x="333" y="900"/>
                </a:lnTo>
                <a:lnTo>
                  <a:pt x="333" y="909"/>
                </a:lnTo>
                <a:lnTo>
                  <a:pt x="325" y="917"/>
                </a:lnTo>
                <a:lnTo>
                  <a:pt x="325" y="926"/>
                </a:lnTo>
                <a:lnTo>
                  <a:pt x="325" y="935"/>
                </a:lnTo>
                <a:lnTo>
                  <a:pt x="325" y="944"/>
                </a:lnTo>
                <a:lnTo>
                  <a:pt x="325" y="952"/>
                </a:lnTo>
                <a:lnTo>
                  <a:pt x="325" y="961"/>
                </a:lnTo>
                <a:lnTo>
                  <a:pt x="317" y="961"/>
                </a:lnTo>
                <a:lnTo>
                  <a:pt x="317" y="952"/>
                </a:lnTo>
                <a:lnTo>
                  <a:pt x="309" y="952"/>
                </a:lnTo>
                <a:lnTo>
                  <a:pt x="309" y="944"/>
                </a:lnTo>
                <a:lnTo>
                  <a:pt x="301" y="944"/>
                </a:lnTo>
                <a:lnTo>
                  <a:pt x="301" y="935"/>
                </a:lnTo>
                <a:lnTo>
                  <a:pt x="293" y="935"/>
                </a:lnTo>
                <a:lnTo>
                  <a:pt x="293" y="926"/>
                </a:lnTo>
                <a:lnTo>
                  <a:pt x="285" y="917"/>
                </a:lnTo>
                <a:lnTo>
                  <a:pt x="277" y="917"/>
                </a:lnTo>
                <a:lnTo>
                  <a:pt x="277" y="909"/>
                </a:lnTo>
                <a:lnTo>
                  <a:pt x="269" y="900"/>
                </a:lnTo>
                <a:lnTo>
                  <a:pt x="262" y="891"/>
                </a:lnTo>
                <a:lnTo>
                  <a:pt x="254" y="891"/>
                </a:lnTo>
                <a:lnTo>
                  <a:pt x="254" y="882"/>
                </a:lnTo>
                <a:lnTo>
                  <a:pt x="246" y="874"/>
                </a:lnTo>
                <a:lnTo>
                  <a:pt x="238" y="865"/>
                </a:lnTo>
                <a:lnTo>
                  <a:pt x="230" y="856"/>
                </a:lnTo>
                <a:lnTo>
                  <a:pt x="230" y="847"/>
                </a:lnTo>
                <a:lnTo>
                  <a:pt x="222" y="847"/>
                </a:lnTo>
                <a:lnTo>
                  <a:pt x="214" y="839"/>
                </a:lnTo>
                <a:lnTo>
                  <a:pt x="206" y="830"/>
                </a:lnTo>
                <a:lnTo>
                  <a:pt x="206" y="821"/>
                </a:lnTo>
                <a:lnTo>
                  <a:pt x="198" y="812"/>
                </a:lnTo>
                <a:lnTo>
                  <a:pt x="190" y="804"/>
                </a:lnTo>
                <a:lnTo>
                  <a:pt x="182" y="795"/>
                </a:lnTo>
                <a:lnTo>
                  <a:pt x="182" y="787"/>
                </a:lnTo>
                <a:lnTo>
                  <a:pt x="174" y="778"/>
                </a:lnTo>
                <a:lnTo>
                  <a:pt x="166" y="770"/>
                </a:lnTo>
                <a:lnTo>
                  <a:pt x="159" y="761"/>
                </a:lnTo>
                <a:lnTo>
                  <a:pt x="159" y="752"/>
                </a:lnTo>
                <a:lnTo>
                  <a:pt x="151" y="743"/>
                </a:lnTo>
                <a:lnTo>
                  <a:pt x="143" y="726"/>
                </a:lnTo>
                <a:lnTo>
                  <a:pt x="143" y="717"/>
                </a:lnTo>
                <a:lnTo>
                  <a:pt x="135" y="708"/>
                </a:lnTo>
                <a:lnTo>
                  <a:pt x="127" y="700"/>
                </a:lnTo>
                <a:lnTo>
                  <a:pt x="127" y="691"/>
                </a:lnTo>
                <a:lnTo>
                  <a:pt x="119" y="673"/>
                </a:lnTo>
                <a:lnTo>
                  <a:pt x="119" y="665"/>
                </a:lnTo>
                <a:lnTo>
                  <a:pt x="111" y="656"/>
                </a:lnTo>
                <a:lnTo>
                  <a:pt x="111" y="647"/>
                </a:lnTo>
                <a:lnTo>
                  <a:pt x="103" y="630"/>
                </a:lnTo>
                <a:lnTo>
                  <a:pt x="103" y="621"/>
                </a:lnTo>
                <a:lnTo>
                  <a:pt x="95" y="603"/>
                </a:lnTo>
                <a:lnTo>
                  <a:pt x="95" y="595"/>
                </a:lnTo>
                <a:lnTo>
                  <a:pt x="87" y="586"/>
                </a:lnTo>
                <a:lnTo>
                  <a:pt x="87" y="577"/>
                </a:lnTo>
                <a:lnTo>
                  <a:pt x="87" y="560"/>
                </a:lnTo>
                <a:lnTo>
                  <a:pt x="79" y="551"/>
                </a:lnTo>
                <a:lnTo>
                  <a:pt x="79" y="542"/>
                </a:lnTo>
                <a:lnTo>
                  <a:pt x="79" y="534"/>
                </a:lnTo>
                <a:lnTo>
                  <a:pt x="71" y="525"/>
                </a:lnTo>
                <a:lnTo>
                  <a:pt x="71" y="507"/>
                </a:lnTo>
                <a:lnTo>
                  <a:pt x="71" y="499"/>
                </a:lnTo>
                <a:lnTo>
                  <a:pt x="71" y="490"/>
                </a:lnTo>
                <a:lnTo>
                  <a:pt x="63" y="481"/>
                </a:lnTo>
                <a:lnTo>
                  <a:pt x="63" y="472"/>
                </a:lnTo>
                <a:lnTo>
                  <a:pt x="63" y="464"/>
                </a:lnTo>
                <a:lnTo>
                  <a:pt x="63" y="455"/>
                </a:lnTo>
                <a:lnTo>
                  <a:pt x="63" y="446"/>
                </a:lnTo>
                <a:lnTo>
                  <a:pt x="63" y="437"/>
                </a:lnTo>
                <a:lnTo>
                  <a:pt x="63" y="429"/>
                </a:lnTo>
                <a:lnTo>
                  <a:pt x="63" y="420"/>
                </a:lnTo>
                <a:lnTo>
                  <a:pt x="63" y="411"/>
                </a:lnTo>
                <a:lnTo>
                  <a:pt x="55" y="402"/>
                </a:lnTo>
                <a:lnTo>
                  <a:pt x="55" y="394"/>
                </a:lnTo>
                <a:lnTo>
                  <a:pt x="55" y="385"/>
                </a:lnTo>
                <a:lnTo>
                  <a:pt x="55" y="376"/>
                </a:lnTo>
                <a:lnTo>
                  <a:pt x="55" y="367"/>
                </a:lnTo>
                <a:lnTo>
                  <a:pt x="55" y="359"/>
                </a:lnTo>
                <a:lnTo>
                  <a:pt x="55" y="350"/>
                </a:lnTo>
                <a:lnTo>
                  <a:pt x="55" y="341"/>
                </a:lnTo>
                <a:lnTo>
                  <a:pt x="55" y="332"/>
                </a:lnTo>
                <a:lnTo>
                  <a:pt x="55" y="315"/>
                </a:lnTo>
                <a:lnTo>
                  <a:pt x="63" y="306"/>
                </a:lnTo>
                <a:lnTo>
                  <a:pt x="63" y="297"/>
                </a:lnTo>
                <a:lnTo>
                  <a:pt x="63" y="289"/>
                </a:lnTo>
                <a:lnTo>
                  <a:pt x="63" y="280"/>
                </a:lnTo>
                <a:lnTo>
                  <a:pt x="63" y="271"/>
                </a:lnTo>
                <a:lnTo>
                  <a:pt x="63" y="262"/>
                </a:lnTo>
                <a:lnTo>
                  <a:pt x="63" y="254"/>
                </a:lnTo>
                <a:lnTo>
                  <a:pt x="63" y="245"/>
                </a:lnTo>
                <a:lnTo>
                  <a:pt x="63" y="227"/>
                </a:lnTo>
                <a:lnTo>
                  <a:pt x="71" y="219"/>
                </a:lnTo>
                <a:lnTo>
                  <a:pt x="71" y="210"/>
                </a:lnTo>
                <a:lnTo>
                  <a:pt x="71" y="201"/>
                </a:lnTo>
                <a:lnTo>
                  <a:pt x="79" y="192"/>
                </a:lnTo>
                <a:lnTo>
                  <a:pt x="79" y="184"/>
                </a:lnTo>
                <a:lnTo>
                  <a:pt x="79" y="175"/>
                </a:lnTo>
                <a:lnTo>
                  <a:pt x="79" y="166"/>
                </a:lnTo>
                <a:lnTo>
                  <a:pt x="87" y="157"/>
                </a:lnTo>
                <a:lnTo>
                  <a:pt x="87" y="149"/>
                </a:lnTo>
                <a:lnTo>
                  <a:pt x="87" y="140"/>
                </a:lnTo>
                <a:lnTo>
                  <a:pt x="95" y="131"/>
                </a:lnTo>
                <a:lnTo>
                  <a:pt x="95" y="122"/>
                </a:lnTo>
                <a:lnTo>
                  <a:pt x="95" y="114"/>
                </a:lnTo>
                <a:lnTo>
                  <a:pt x="103" y="114"/>
                </a:lnTo>
                <a:lnTo>
                  <a:pt x="103" y="105"/>
                </a:lnTo>
                <a:lnTo>
                  <a:pt x="95" y="105"/>
                </a:lnTo>
                <a:lnTo>
                  <a:pt x="87" y="105"/>
                </a:lnTo>
                <a:lnTo>
                  <a:pt x="87" y="96"/>
                </a:lnTo>
                <a:lnTo>
                  <a:pt x="79" y="96"/>
                </a:lnTo>
                <a:lnTo>
                  <a:pt x="71" y="96"/>
                </a:lnTo>
                <a:lnTo>
                  <a:pt x="63" y="96"/>
                </a:lnTo>
                <a:lnTo>
                  <a:pt x="55" y="87"/>
                </a:lnTo>
                <a:lnTo>
                  <a:pt x="48" y="87"/>
                </a:lnTo>
                <a:lnTo>
                  <a:pt x="40" y="87"/>
                </a:lnTo>
                <a:lnTo>
                  <a:pt x="40" y="79"/>
                </a:lnTo>
                <a:lnTo>
                  <a:pt x="32" y="79"/>
                </a:lnTo>
                <a:lnTo>
                  <a:pt x="24" y="79"/>
                </a:lnTo>
                <a:lnTo>
                  <a:pt x="16" y="79"/>
                </a:lnTo>
                <a:lnTo>
                  <a:pt x="16" y="70"/>
                </a:lnTo>
                <a:lnTo>
                  <a:pt x="8" y="70"/>
                </a:lnTo>
                <a:lnTo>
                  <a:pt x="0" y="70"/>
                </a:lnTo>
                <a:lnTo>
                  <a:pt x="8" y="70"/>
                </a:lnTo>
                <a:lnTo>
                  <a:pt x="16" y="70"/>
                </a:lnTo>
                <a:lnTo>
                  <a:pt x="24" y="70"/>
                </a:lnTo>
                <a:lnTo>
                  <a:pt x="32" y="70"/>
                </a:lnTo>
                <a:lnTo>
                  <a:pt x="40" y="61"/>
                </a:lnTo>
                <a:lnTo>
                  <a:pt x="48" y="61"/>
                </a:lnTo>
                <a:lnTo>
                  <a:pt x="63" y="61"/>
                </a:lnTo>
                <a:lnTo>
                  <a:pt x="79" y="52"/>
                </a:lnTo>
                <a:lnTo>
                  <a:pt x="95" y="52"/>
                </a:lnTo>
                <a:lnTo>
                  <a:pt x="111" y="52"/>
                </a:lnTo>
                <a:lnTo>
                  <a:pt x="127" y="44"/>
                </a:lnTo>
                <a:lnTo>
                  <a:pt x="151" y="44"/>
                </a:lnTo>
                <a:lnTo>
                  <a:pt x="174" y="44"/>
                </a:lnTo>
                <a:lnTo>
                  <a:pt x="190" y="35"/>
                </a:lnTo>
                <a:lnTo>
                  <a:pt x="214" y="35"/>
                </a:lnTo>
                <a:lnTo>
                  <a:pt x="238" y="26"/>
                </a:lnTo>
                <a:lnTo>
                  <a:pt x="262" y="26"/>
                </a:lnTo>
                <a:lnTo>
                  <a:pt x="277" y="17"/>
                </a:lnTo>
                <a:lnTo>
                  <a:pt x="293" y="17"/>
                </a:lnTo>
                <a:lnTo>
                  <a:pt x="309" y="17"/>
                </a:lnTo>
                <a:lnTo>
                  <a:pt x="325" y="9"/>
                </a:lnTo>
                <a:lnTo>
                  <a:pt x="333" y="9"/>
                </a:lnTo>
                <a:lnTo>
                  <a:pt x="349" y="9"/>
                </a:lnTo>
                <a:lnTo>
                  <a:pt x="357" y="9"/>
                </a:lnTo>
                <a:lnTo>
                  <a:pt x="365" y="0"/>
                </a:lnTo>
                <a:lnTo>
                  <a:pt x="373" y="0"/>
                </a:lnTo>
                <a:lnTo>
                  <a:pt x="38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9440" y="3441600"/>
            <a:ext cx="1116000" cy="1538280"/>
          </a:xfrm>
          <a:custGeom>
            <a:avLst/>
            <a:gdLst/>
            <a:ahLst/>
            <a:rect l="l" t="t" r="r" b="b"/>
            <a:pathLst>
              <a:path w="649" h="969">
                <a:moveTo>
                  <a:pt x="384" y="0"/>
                </a:moveTo>
                <a:lnTo>
                  <a:pt x="392" y="0"/>
                </a:lnTo>
                <a:lnTo>
                  <a:pt x="392" y="9"/>
                </a:lnTo>
                <a:lnTo>
                  <a:pt x="400" y="9"/>
                </a:lnTo>
                <a:lnTo>
                  <a:pt x="408" y="18"/>
                </a:lnTo>
                <a:lnTo>
                  <a:pt x="408" y="26"/>
                </a:lnTo>
                <a:lnTo>
                  <a:pt x="416" y="35"/>
                </a:lnTo>
                <a:lnTo>
                  <a:pt x="424" y="44"/>
                </a:lnTo>
                <a:lnTo>
                  <a:pt x="440" y="53"/>
                </a:lnTo>
                <a:lnTo>
                  <a:pt x="448" y="62"/>
                </a:lnTo>
                <a:lnTo>
                  <a:pt x="464" y="79"/>
                </a:lnTo>
                <a:lnTo>
                  <a:pt x="472" y="88"/>
                </a:lnTo>
                <a:lnTo>
                  <a:pt x="488" y="106"/>
                </a:lnTo>
                <a:lnTo>
                  <a:pt x="504" y="123"/>
                </a:lnTo>
                <a:lnTo>
                  <a:pt x="520" y="132"/>
                </a:lnTo>
                <a:lnTo>
                  <a:pt x="536" y="150"/>
                </a:lnTo>
                <a:lnTo>
                  <a:pt x="552" y="167"/>
                </a:lnTo>
                <a:lnTo>
                  <a:pt x="560" y="185"/>
                </a:lnTo>
                <a:lnTo>
                  <a:pt x="576" y="194"/>
                </a:lnTo>
                <a:lnTo>
                  <a:pt x="584" y="203"/>
                </a:lnTo>
                <a:lnTo>
                  <a:pt x="600" y="220"/>
                </a:lnTo>
                <a:lnTo>
                  <a:pt x="608" y="229"/>
                </a:lnTo>
                <a:lnTo>
                  <a:pt x="616" y="238"/>
                </a:lnTo>
                <a:lnTo>
                  <a:pt x="624" y="247"/>
                </a:lnTo>
                <a:lnTo>
                  <a:pt x="632" y="255"/>
                </a:lnTo>
                <a:lnTo>
                  <a:pt x="640" y="255"/>
                </a:lnTo>
                <a:lnTo>
                  <a:pt x="640" y="264"/>
                </a:lnTo>
                <a:lnTo>
                  <a:pt x="648" y="264"/>
                </a:lnTo>
                <a:lnTo>
                  <a:pt x="648" y="273"/>
                </a:lnTo>
                <a:lnTo>
                  <a:pt x="640" y="273"/>
                </a:lnTo>
                <a:lnTo>
                  <a:pt x="640" y="264"/>
                </a:lnTo>
                <a:lnTo>
                  <a:pt x="632" y="264"/>
                </a:lnTo>
                <a:lnTo>
                  <a:pt x="624" y="264"/>
                </a:lnTo>
                <a:lnTo>
                  <a:pt x="616" y="264"/>
                </a:lnTo>
                <a:lnTo>
                  <a:pt x="608" y="264"/>
                </a:lnTo>
                <a:lnTo>
                  <a:pt x="600" y="255"/>
                </a:lnTo>
                <a:lnTo>
                  <a:pt x="592" y="255"/>
                </a:lnTo>
                <a:lnTo>
                  <a:pt x="584" y="255"/>
                </a:lnTo>
                <a:lnTo>
                  <a:pt x="576" y="255"/>
                </a:lnTo>
                <a:lnTo>
                  <a:pt x="576" y="247"/>
                </a:lnTo>
                <a:lnTo>
                  <a:pt x="568" y="247"/>
                </a:lnTo>
                <a:lnTo>
                  <a:pt x="560" y="247"/>
                </a:lnTo>
                <a:lnTo>
                  <a:pt x="552" y="247"/>
                </a:lnTo>
                <a:lnTo>
                  <a:pt x="544" y="247"/>
                </a:lnTo>
                <a:lnTo>
                  <a:pt x="544" y="255"/>
                </a:lnTo>
                <a:lnTo>
                  <a:pt x="544" y="264"/>
                </a:lnTo>
                <a:lnTo>
                  <a:pt x="536" y="264"/>
                </a:lnTo>
                <a:lnTo>
                  <a:pt x="536" y="273"/>
                </a:lnTo>
                <a:lnTo>
                  <a:pt x="536" y="282"/>
                </a:lnTo>
                <a:lnTo>
                  <a:pt x="536" y="291"/>
                </a:lnTo>
                <a:lnTo>
                  <a:pt x="536" y="300"/>
                </a:lnTo>
                <a:lnTo>
                  <a:pt x="528" y="308"/>
                </a:lnTo>
                <a:lnTo>
                  <a:pt x="528" y="317"/>
                </a:lnTo>
                <a:lnTo>
                  <a:pt x="528" y="326"/>
                </a:lnTo>
                <a:lnTo>
                  <a:pt x="528" y="335"/>
                </a:lnTo>
                <a:lnTo>
                  <a:pt x="528" y="344"/>
                </a:lnTo>
                <a:lnTo>
                  <a:pt x="528" y="352"/>
                </a:lnTo>
                <a:lnTo>
                  <a:pt x="528" y="361"/>
                </a:lnTo>
                <a:lnTo>
                  <a:pt x="528" y="370"/>
                </a:lnTo>
                <a:lnTo>
                  <a:pt x="528" y="379"/>
                </a:lnTo>
                <a:lnTo>
                  <a:pt x="528" y="388"/>
                </a:lnTo>
                <a:lnTo>
                  <a:pt x="528" y="396"/>
                </a:lnTo>
                <a:lnTo>
                  <a:pt x="528" y="405"/>
                </a:lnTo>
                <a:lnTo>
                  <a:pt x="528" y="414"/>
                </a:lnTo>
                <a:lnTo>
                  <a:pt x="536" y="423"/>
                </a:lnTo>
                <a:lnTo>
                  <a:pt x="536" y="432"/>
                </a:lnTo>
                <a:lnTo>
                  <a:pt x="536" y="441"/>
                </a:lnTo>
                <a:lnTo>
                  <a:pt x="536" y="449"/>
                </a:lnTo>
                <a:lnTo>
                  <a:pt x="536" y="458"/>
                </a:lnTo>
                <a:lnTo>
                  <a:pt x="544" y="467"/>
                </a:lnTo>
                <a:lnTo>
                  <a:pt x="544" y="476"/>
                </a:lnTo>
                <a:lnTo>
                  <a:pt x="544" y="485"/>
                </a:lnTo>
                <a:lnTo>
                  <a:pt x="552" y="493"/>
                </a:lnTo>
                <a:lnTo>
                  <a:pt x="552" y="502"/>
                </a:lnTo>
                <a:lnTo>
                  <a:pt x="560" y="511"/>
                </a:lnTo>
                <a:lnTo>
                  <a:pt x="560" y="520"/>
                </a:lnTo>
                <a:lnTo>
                  <a:pt x="568" y="529"/>
                </a:lnTo>
                <a:lnTo>
                  <a:pt x="568" y="537"/>
                </a:lnTo>
                <a:lnTo>
                  <a:pt x="576" y="546"/>
                </a:lnTo>
                <a:lnTo>
                  <a:pt x="576" y="555"/>
                </a:lnTo>
                <a:lnTo>
                  <a:pt x="584" y="564"/>
                </a:lnTo>
                <a:lnTo>
                  <a:pt x="592" y="573"/>
                </a:lnTo>
                <a:lnTo>
                  <a:pt x="592" y="581"/>
                </a:lnTo>
                <a:lnTo>
                  <a:pt x="600" y="590"/>
                </a:lnTo>
                <a:lnTo>
                  <a:pt x="600" y="599"/>
                </a:lnTo>
                <a:lnTo>
                  <a:pt x="608" y="599"/>
                </a:lnTo>
                <a:lnTo>
                  <a:pt x="608" y="608"/>
                </a:lnTo>
                <a:lnTo>
                  <a:pt x="608" y="617"/>
                </a:lnTo>
                <a:lnTo>
                  <a:pt x="600" y="617"/>
                </a:lnTo>
                <a:lnTo>
                  <a:pt x="592" y="617"/>
                </a:lnTo>
                <a:lnTo>
                  <a:pt x="584" y="626"/>
                </a:lnTo>
                <a:lnTo>
                  <a:pt x="576" y="626"/>
                </a:lnTo>
                <a:lnTo>
                  <a:pt x="568" y="626"/>
                </a:lnTo>
                <a:lnTo>
                  <a:pt x="560" y="634"/>
                </a:lnTo>
                <a:lnTo>
                  <a:pt x="552" y="634"/>
                </a:lnTo>
                <a:lnTo>
                  <a:pt x="536" y="643"/>
                </a:lnTo>
                <a:lnTo>
                  <a:pt x="528" y="643"/>
                </a:lnTo>
                <a:lnTo>
                  <a:pt x="512" y="652"/>
                </a:lnTo>
                <a:lnTo>
                  <a:pt x="496" y="661"/>
                </a:lnTo>
                <a:lnTo>
                  <a:pt x="480" y="661"/>
                </a:lnTo>
                <a:lnTo>
                  <a:pt x="472" y="670"/>
                </a:lnTo>
                <a:lnTo>
                  <a:pt x="456" y="678"/>
                </a:lnTo>
                <a:lnTo>
                  <a:pt x="440" y="678"/>
                </a:lnTo>
                <a:lnTo>
                  <a:pt x="432" y="687"/>
                </a:lnTo>
                <a:lnTo>
                  <a:pt x="416" y="687"/>
                </a:lnTo>
                <a:lnTo>
                  <a:pt x="408" y="696"/>
                </a:lnTo>
                <a:lnTo>
                  <a:pt x="400" y="696"/>
                </a:lnTo>
                <a:lnTo>
                  <a:pt x="392" y="705"/>
                </a:lnTo>
                <a:lnTo>
                  <a:pt x="384" y="705"/>
                </a:lnTo>
                <a:lnTo>
                  <a:pt x="376" y="705"/>
                </a:lnTo>
                <a:lnTo>
                  <a:pt x="368" y="705"/>
                </a:lnTo>
                <a:lnTo>
                  <a:pt x="368" y="714"/>
                </a:lnTo>
                <a:lnTo>
                  <a:pt x="360" y="714"/>
                </a:lnTo>
                <a:lnTo>
                  <a:pt x="352" y="714"/>
                </a:lnTo>
                <a:lnTo>
                  <a:pt x="352" y="722"/>
                </a:lnTo>
                <a:lnTo>
                  <a:pt x="352" y="731"/>
                </a:lnTo>
                <a:lnTo>
                  <a:pt x="352" y="740"/>
                </a:lnTo>
                <a:lnTo>
                  <a:pt x="352" y="749"/>
                </a:lnTo>
                <a:lnTo>
                  <a:pt x="352" y="758"/>
                </a:lnTo>
                <a:lnTo>
                  <a:pt x="352" y="766"/>
                </a:lnTo>
                <a:lnTo>
                  <a:pt x="352" y="775"/>
                </a:lnTo>
                <a:lnTo>
                  <a:pt x="344" y="784"/>
                </a:lnTo>
                <a:lnTo>
                  <a:pt x="344" y="801"/>
                </a:lnTo>
                <a:lnTo>
                  <a:pt x="344" y="809"/>
                </a:lnTo>
                <a:lnTo>
                  <a:pt x="344" y="827"/>
                </a:lnTo>
                <a:lnTo>
                  <a:pt x="344" y="845"/>
                </a:lnTo>
                <a:lnTo>
                  <a:pt x="336" y="853"/>
                </a:lnTo>
                <a:lnTo>
                  <a:pt x="336" y="871"/>
                </a:lnTo>
                <a:lnTo>
                  <a:pt x="336" y="880"/>
                </a:lnTo>
                <a:lnTo>
                  <a:pt x="336" y="898"/>
                </a:lnTo>
                <a:lnTo>
                  <a:pt x="336" y="906"/>
                </a:lnTo>
                <a:lnTo>
                  <a:pt x="336" y="915"/>
                </a:lnTo>
                <a:lnTo>
                  <a:pt x="328" y="924"/>
                </a:lnTo>
                <a:lnTo>
                  <a:pt x="328" y="933"/>
                </a:lnTo>
                <a:lnTo>
                  <a:pt x="328" y="942"/>
                </a:lnTo>
                <a:lnTo>
                  <a:pt x="328" y="950"/>
                </a:lnTo>
                <a:lnTo>
                  <a:pt x="328" y="959"/>
                </a:lnTo>
                <a:lnTo>
                  <a:pt x="328" y="968"/>
                </a:lnTo>
                <a:lnTo>
                  <a:pt x="320" y="968"/>
                </a:lnTo>
                <a:lnTo>
                  <a:pt x="320" y="959"/>
                </a:lnTo>
                <a:lnTo>
                  <a:pt x="312" y="959"/>
                </a:lnTo>
                <a:lnTo>
                  <a:pt x="312" y="950"/>
                </a:lnTo>
                <a:lnTo>
                  <a:pt x="304" y="950"/>
                </a:lnTo>
                <a:lnTo>
                  <a:pt x="304" y="942"/>
                </a:lnTo>
                <a:lnTo>
                  <a:pt x="296" y="942"/>
                </a:lnTo>
                <a:lnTo>
                  <a:pt x="296" y="933"/>
                </a:lnTo>
                <a:lnTo>
                  <a:pt x="288" y="924"/>
                </a:lnTo>
                <a:lnTo>
                  <a:pt x="280" y="924"/>
                </a:lnTo>
                <a:lnTo>
                  <a:pt x="280" y="915"/>
                </a:lnTo>
                <a:lnTo>
                  <a:pt x="272" y="906"/>
                </a:lnTo>
                <a:lnTo>
                  <a:pt x="264" y="898"/>
                </a:lnTo>
                <a:lnTo>
                  <a:pt x="256" y="898"/>
                </a:lnTo>
                <a:lnTo>
                  <a:pt x="256" y="889"/>
                </a:lnTo>
                <a:lnTo>
                  <a:pt x="248" y="880"/>
                </a:lnTo>
                <a:lnTo>
                  <a:pt x="240" y="871"/>
                </a:lnTo>
                <a:lnTo>
                  <a:pt x="232" y="862"/>
                </a:lnTo>
                <a:lnTo>
                  <a:pt x="232" y="853"/>
                </a:lnTo>
                <a:lnTo>
                  <a:pt x="224" y="853"/>
                </a:lnTo>
                <a:lnTo>
                  <a:pt x="216" y="845"/>
                </a:lnTo>
                <a:lnTo>
                  <a:pt x="208" y="836"/>
                </a:lnTo>
                <a:lnTo>
                  <a:pt x="208" y="827"/>
                </a:lnTo>
                <a:lnTo>
                  <a:pt x="200" y="818"/>
                </a:lnTo>
                <a:lnTo>
                  <a:pt x="192" y="809"/>
                </a:lnTo>
                <a:lnTo>
                  <a:pt x="184" y="801"/>
                </a:lnTo>
                <a:lnTo>
                  <a:pt x="184" y="793"/>
                </a:lnTo>
                <a:lnTo>
                  <a:pt x="176" y="784"/>
                </a:lnTo>
                <a:lnTo>
                  <a:pt x="168" y="775"/>
                </a:lnTo>
                <a:lnTo>
                  <a:pt x="160" y="766"/>
                </a:lnTo>
                <a:lnTo>
                  <a:pt x="160" y="758"/>
                </a:lnTo>
                <a:lnTo>
                  <a:pt x="152" y="749"/>
                </a:lnTo>
                <a:lnTo>
                  <a:pt x="144" y="731"/>
                </a:lnTo>
                <a:lnTo>
                  <a:pt x="144" y="722"/>
                </a:lnTo>
                <a:lnTo>
                  <a:pt x="136" y="714"/>
                </a:lnTo>
                <a:lnTo>
                  <a:pt x="128" y="705"/>
                </a:lnTo>
                <a:lnTo>
                  <a:pt x="128" y="696"/>
                </a:lnTo>
                <a:lnTo>
                  <a:pt x="120" y="678"/>
                </a:lnTo>
                <a:lnTo>
                  <a:pt x="120" y="670"/>
                </a:lnTo>
                <a:lnTo>
                  <a:pt x="112" y="661"/>
                </a:lnTo>
                <a:lnTo>
                  <a:pt x="112" y="652"/>
                </a:lnTo>
                <a:lnTo>
                  <a:pt x="104" y="634"/>
                </a:lnTo>
                <a:lnTo>
                  <a:pt x="104" y="626"/>
                </a:lnTo>
                <a:lnTo>
                  <a:pt x="96" y="608"/>
                </a:lnTo>
                <a:lnTo>
                  <a:pt x="96" y="599"/>
                </a:lnTo>
                <a:lnTo>
                  <a:pt x="88" y="590"/>
                </a:lnTo>
                <a:lnTo>
                  <a:pt x="88" y="581"/>
                </a:lnTo>
                <a:lnTo>
                  <a:pt x="88" y="564"/>
                </a:lnTo>
                <a:lnTo>
                  <a:pt x="80" y="555"/>
                </a:lnTo>
                <a:lnTo>
                  <a:pt x="80" y="546"/>
                </a:lnTo>
                <a:lnTo>
                  <a:pt x="80" y="537"/>
                </a:lnTo>
                <a:lnTo>
                  <a:pt x="72" y="529"/>
                </a:lnTo>
                <a:lnTo>
                  <a:pt x="72" y="511"/>
                </a:lnTo>
                <a:lnTo>
                  <a:pt x="72" y="502"/>
                </a:lnTo>
                <a:lnTo>
                  <a:pt x="72" y="493"/>
                </a:lnTo>
                <a:lnTo>
                  <a:pt x="64" y="485"/>
                </a:lnTo>
                <a:lnTo>
                  <a:pt x="64" y="476"/>
                </a:lnTo>
                <a:lnTo>
                  <a:pt x="64" y="467"/>
                </a:lnTo>
                <a:lnTo>
                  <a:pt x="64" y="458"/>
                </a:lnTo>
                <a:lnTo>
                  <a:pt x="64" y="449"/>
                </a:lnTo>
                <a:lnTo>
                  <a:pt x="64" y="441"/>
                </a:lnTo>
                <a:lnTo>
                  <a:pt x="64" y="432"/>
                </a:lnTo>
                <a:lnTo>
                  <a:pt x="64" y="423"/>
                </a:lnTo>
                <a:lnTo>
                  <a:pt x="64" y="414"/>
                </a:lnTo>
                <a:lnTo>
                  <a:pt x="56" y="405"/>
                </a:lnTo>
                <a:lnTo>
                  <a:pt x="56" y="396"/>
                </a:lnTo>
                <a:lnTo>
                  <a:pt x="56" y="388"/>
                </a:lnTo>
                <a:lnTo>
                  <a:pt x="56" y="379"/>
                </a:lnTo>
                <a:lnTo>
                  <a:pt x="56" y="370"/>
                </a:lnTo>
                <a:lnTo>
                  <a:pt x="56" y="361"/>
                </a:lnTo>
                <a:lnTo>
                  <a:pt x="56" y="352"/>
                </a:lnTo>
                <a:lnTo>
                  <a:pt x="56" y="344"/>
                </a:lnTo>
                <a:lnTo>
                  <a:pt x="56" y="335"/>
                </a:lnTo>
                <a:lnTo>
                  <a:pt x="56" y="317"/>
                </a:lnTo>
                <a:lnTo>
                  <a:pt x="64" y="308"/>
                </a:lnTo>
                <a:lnTo>
                  <a:pt x="64" y="300"/>
                </a:lnTo>
                <a:lnTo>
                  <a:pt x="64" y="291"/>
                </a:lnTo>
                <a:lnTo>
                  <a:pt x="64" y="282"/>
                </a:lnTo>
                <a:lnTo>
                  <a:pt x="64" y="273"/>
                </a:lnTo>
                <a:lnTo>
                  <a:pt x="64" y="264"/>
                </a:lnTo>
                <a:lnTo>
                  <a:pt x="64" y="255"/>
                </a:lnTo>
                <a:lnTo>
                  <a:pt x="64" y="247"/>
                </a:lnTo>
                <a:lnTo>
                  <a:pt x="64" y="229"/>
                </a:lnTo>
                <a:lnTo>
                  <a:pt x="72" y="220"/>
                </a:lnTo>
                <a:lnTo>
                  <a:pt x="72" y="211"/>
                </a:lnTo>
                <a:lnTo>
                  <a:pt x="72" y="203"/>
                </a:lnTo>
                <a:lnTo>
                  <a:pt x="80" y="194"/>
                </a:lnTo>
                <a:lnTo>
                  <a:pt x="80" y="185"/>
                </a:lnTo>
                <a:lnTo>
                  <a:pt x="80" y="176"/>
                </a:lnTo>
                <a:lnTo>
                  <a:pt x="80" y="167"/>
                </a:lnTo>
                <a:lnTo>
                  <a:pt x="88" y="159"/>
                </a:lnTo>
                <a:lnTo>
                  <a:pt x="88" y="150"/>
                </a:lnTo>
                <a:lnTo>
                  <a:pt x="88" y="141"/>
                </a:lnTo>
                <a:lnTo>
                  <a:pt x="96" y="132"/>
                </a:lnTo>
                <a:lnTo>
                  <a:pt x="96" y="123"/>
                </a:lnTo>
                <a:lnTo>
                  <a:pt x="96" y="115"/>
                </a:lnTo>
                <a:lnTo>
                  <a:pt x="104" y="115"/>
                </a:lnTo>
                <a:lnTo>
                  <a:pt x="104" y="106"/>
                </a:lnTo>
                <a:lnTo>
                  <a:pt x="96" y="106"/>
                </a:lnTo>
                <a:lnTo>
                  <a:pt x="88" y="106"/>
                </a:lnTo>
                <a:lnTo>
                  <a:pt x="88" y="97"/>
                </a:lnTo>
                <a:lnTo>
                  <a:pt x="80" y="97"/>
                </a:lnTo>
                <a:lnTo>
                  <a:pt x="72" y="97"/>
                </a:lnTo>
                <a:lnTo>
                  <a:pt x="64" y="97"/>
                </a:lnTo>
                <a:lnTo>
                  <a:pt x="56" y="88"/>
                </a:lnTo>
                <a:lnTo>
                  <a:pt x="48" y="88"/>
                </a:lnTo>
                <a:lnTo>
                  <a:pt x="40" y="88"/>
                </a:lnTo>
                <a:lnTo>
                  <a:pt x="40" y="79"/>
                </a:lnTo>
                <a:lnTo>
                  <a:pt x="32" y="79"/>
                </a:lnTo>
                <a:lnTo>
                  <a:pt x="24" y="79"/>
                </a:lnTo>
                <a:lnTo>
                  <a:pt x="16" y="79"/>
                </a:lnTo>
                <a:lnTo>
                  <a:pt x="16" y="70"/>
                </a:lnTo>
                <a:lnTo>
                  <a:pt x="8" y="70"/>
                </a:lnTo>
                <a:lnTo>
                  <a:pt x="0" y="70"/>
                </a:lnTo>
                <a:lnTo>
                  <a:pt x="8" y="70"/>
                </a:lnTo>
                <a:lnTo>
                  <a:pt x="16" y="70"/>
                </a:lnTo>
                <a:lnTo>
                  <a:pt x="24" y="70"/>
                </a:lnTo>
                <a:lnTo>
                  <a:pt x="32" y="70"/>
                </a:lnTo>
                <a:lnTo>
                  <a:pt x="40" y="62"/>
                </a:lnTo>
                <a:lnTo>
                  <a:pt x="48" y="62"/>
                </a:lnTo>
                <a:lnTo>
                  <a:pt x="64" y="62"/>
                </a:lnTo>
                <a:lnTo>
                  <a:pt x="80" y="53"/>
                </a:lnTo>
                <a:lnTo>
                  <a:pt x="96" y="53"/>
                </a:lnTo>
                <a:lnTo>
                  <a:pt x="112" y="53"/>
                </a:lnTo>
                <a:lnTo>
                  <a:pt x="128" y="44"/>
                </a:lnTo>
                <a:lnTo>
                  <a:pt x="152" y="44"/>
                </a:lnTo>
                <a:lnTo>
                  <a:pt x="176" y="44"/>
                </a:lnTo>
                <a:lnTo>
                  <a:pt x="192" y="35"/>
                </a:lnTo>
                <a:lnTo>
                  <a:pt x="216" y="35"/>
                </a:lnTo>
                <a:lnTo>
                  <a:pt x="240" y="26"/>
                </a:lnTo>
                <a:lnTo>
                  <a:pt x="264" y="26"/>
                </a:lnTo>
                <a:lnTo>
                  <a:pt x="280" y="18"/>
                </a:lnTo>
                <a:lnTo>
                  <a:pt x="296" y="18"/>
                </a:lnTo>
                <a:lnTo>
                  <a:pt x="312" y="18"/>
                </a:lnTo>
                <a:lnTo>
                  <a:pt x="328" y="9"/>
                </a:lnTo>
                <a:lnTo>
                  <a:pt x="336" y="9"/>
                </a:lnTo>
                <a:lnTo>
                  <a:pt x="352" y="9"/>
                </a:lnTo>
                <a:lnTo>
                  <a:pt x="360" y="9"/>
                </a:lnTo>
                <a:lnTo>
                  <a:pt x="368" y="0"/>
                </a:lnTo>
                <a:lnTo>
                  <a:pt x="376" y="0"/>
                </a:lnTo>
                <a:lnTo>
                  <a:pt x="384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36600" y="3241800"/>
            <a:ext cx="224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71440" y="4084560"/>
            <a:ext cx="785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44560" y="2962440"/>
            <a:ext cx="224280" cy="27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49240" y="3164040"/>
            <a:ext cx="9064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97240" y="2695680"/>
            <a:ext cx="2971800" cy="2768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3749760" y="2925720"/>
            <a:ext cx="1269360" cy="2459160"/>
            <a:chOff x="3749760" y="2925720"/>
            <a:chExt cx="1269360" cy="2459160"/>
          </a:xfrm>
        </p:grpSpPr>
        <p:grpSp>
          <p:nvGrpSpPr>
            <p:cNvPr id="152" name=""/>
            <p:cNvGrpSpPr/>
            <p:nvPr/>
          </p:nvGrpSpPr>
          <p:grpSpPr>
            <a:xfrm>
              <a:off x="4117320" y="4335480"/>
              <a:ext cx="901800" cy="1049400"/>
              <a:chOff x="4117320" y="4335480"/>
              <a:chExt cx="901800" cy="1049400"/>
            </a:xfrm>
          </p:grpSpPr>
          <p:sp>
            <p:nvSpPr>
              <p:cNvPr id="153" name=""/>
              <p:cNvSpPr/>
              <p:nvPr/>
            </p:nvSpPr>
            <p:spPr>
              <a:xfrm>
                <a:off x="4117320" y="4335480"/>
                <a:ext cx="901800" cy="1020600"/>
              </a:xfrm>
              <a:custGeom>
                <a:avLst/>
                <a:gdLst/>
                <a:ahLst/>
                <a:rect l="l" t="t" r="r" b="b"/>
                <a:pathLst>
                  <a:path w="525" h="643">
                    <a:moveTo>
                      <a:pt x="58" y="18"/>
                    </a:moveTo>
                    <a:lnTo>
                      <a:pt x="87" y="0"/>
                    </a:lnTo>
                    <a:lnTo>
                      <a:pt x="116" y="0"/>
                    </a:lnTo>
                    <a:lnTo>
                      <a:pt x="126" y="0"/>
                    </a:lnTo>
                    <a:lnTo>
                      <a:pt x="126" y="9"/>
                    </a:lnTo>
                    <a:lnTo>
                      <a:pt x="126" y="18"/>
                    </a:lnTo>
                    <a:lnTo>
                      <a:pt x="136" y="18"/>
                    </a:lnTo>
                    <a:lnTo>
                      <a:pt x="136" y="9"/>
                    </a:lnTo>
                    <a:lnTo>
                      <a:pt x="136" y="0"/>
                    </a:lnTo>
                    <a:lnTo>
                      <a:pt x="146" y="0"/>
                    </a:lnTo>
                    <a:lnTo>
                      <a:pt x="146" y="9"/>
                    </a:lnTo>
                    <a:lnTo>
                      <a:pt x="165" y="18"/>
                    </a:lnTo>
                    <a:lnTo>
                      <a:pt x="194" y="18"/>
                    </a:lnTo>
                    <a:lnTo>
                      <a:pt x="204" y="18"/>
                    </a:lnTo>
                    <a:lnTo>
                      <a:pt x="213" y="18"/>
                    </a:lnTo>
                    <a:lnTo>
                      <a:pt x="223" y="18"/>
                    </a:lnTo>
                    <a:lnTo>
                      <a:pt x="223" y="26"/>
                    </a:lnTo>
                    <a:lnTo>
                      <a:pt x="233" y="35"/>
                    </a:lnTo>
                    <a:lnTo>
                      <a:pt x="233" y="44"/>
                    </a:lnTo>
                    <a:lnTo>
                      <a:pt x="243" y="44"/>
                    </a:lnTo>
                    <a:lnTo>
                      <a:pt x="252" y="53"/>
                    </a:lnTo>
                    <a:lnTo>
                      <a:pt x="272" y="62"/>
                    </a:lnTo>
                    <a:lnTo>
                      <a:pt x="281" y="70"/>
                    </a:lnTo>
                    <a:lnTo>
                      <a:pt x="291" y="70"/>
                    </a:lnTo>
                    <a:lnTo>
                      <a:pt x="301" y="70"/>
                    </a:lnTo>
                    <a:lnTo>
                      <a:pt x="311" y="79"/>
                    </a:lnTo>
                    <a:lnTo>
                      <a:pt x="330" y="88"/>
                    </a:lnTo>
                    <a:lnTo>
                      <a:pt x="340" y="97"/>
                    </a:lnTo>
                    <a:lnTo>
                      <a:pt x="349" y="106"/>
                    </a:lnTo>
                    <a:lnTo>
                      <a:pt x="349" y="115"/>
                    </a:lnTo>
                    <a:lnTo>
                      <a:pt x="349" y="123"/>
                    </a:lnTo>
                    <a:lnTo>
                      <a:pt x="340" y="132"/>
                    </a:lnTo>
                    <a:lnTo>
                      <a:pt x="349" y="141"/>
                    </a:lnTo>
                    <a:lnTo>
                      <a:pt x="349" y="150"/>
                    </a:lnTo>
                    <a:lnTo>
                      <a:pt x="369" y="141"/>
                    </a:lnTo>
                    <a:lnTo>
                      <a:pt x="378" y="132"/>
                    </a:lnTo>
                    <a:lnTo>
                      <a:pt x="398" y="141"/>
                    </a:lnTo>
                    <a:lnTo>
                      <a:pt x="408" y="141"/>
                    </a:lnTo>
                    <a:lnTo>
                      <a:pt x="417" y="150"/>
                    </a:lnTo>
                    <a:lnTo>
                      <a:pt x="437" y="159"/>
                    </a:lnTo>
                    <a:lnTo>
                      <a:pt x="446" y="159"/>
                    </a:lnTo>
                    <a:lnTo>
                      <a:pt x="466" y="159"/>
                    </a:lnTo>
                    <a:lnTo>
                      <a:pt x="485" y="167"/>
                    </a:lnTo>
                    <a:lnTo>
                      <a:pt x="505" y="167"/>
                    </a:lnTo>
                    <a:lnTo>
                      <a:pt x="514" y="176"/>
                    </a:lnTo>
                    <a:lnTo>
                      <a:pt x="524" y="185"/>
                    </a:lnTo>
                    <a:lnTo>
                      <a:pt x="524" y="203"/>
                    </a:lnTo>
                    <a:lnTo>
                      <a:pt x="514" y="211"/>
                    </a:lnTo>
                    <a:lnTo>
                      <a:pt x="505" y="220"/>
                    </a:lnTo>
                    <a:lnTo>
                      <a:pt x="485" y="237"/>
                    </a:lnTo>
                    <a:lnTo>
                      <a:pt x="485" y="246"/>
                    </a:lnTo>
                    <a:lnTo>
                      <a:pt x="475" y="263"/>
                    </a:lnTo>
                    <a:lnTo>
                      <a:pt x="485" y="272"/>
                    </a:lnTo>
                    <a:lnTo>
                      <a:pt x="485" y="290"/>
                    </a:lnTo>
                    <a:lnTo>
                      <a:pt x="475" y="307"/>
                    </a:lnTo>
                    <a:lnTo>
                      <a:pt x="475" y="316"/>
                    </a:lnTo>
                    <a:lnTo>
                      <a:pt x="456" y="342"/>
                    </a:lnTo>
                    <a:lnTo>
                      <a:pt x="437" y="342"/>
                    </a:lnTo>
                    <a:lnTo>
                      <a:pt x="427" y="342"/>
                    </a:lnTo>
                    <a:lnTo>
                      <a:pt x="408" y="351"/>
                    </a:lnTo>
                    <a:lnTo>
                      <a:pt x="388" y="360"/>
                    </a:lnTo>
                    <a:lnTo>
                      <a:pt x="378" y="378"/>
                    </a:lnTo>
                    <a:lnTo>
                      <a:pt x="369" y="387"/>
                    </a:lnTo>
                    <a:lnTo>
                      <a:pt x="378" y="387"/>
                    </a:lnTo>
                    <a:lnTo>
                      <a:pt x="378" y="395"/>
                    </a:lnTo>
                    <a:lnTo>
                      <a:pt x="349" y="413"/>
                    </a:lnTo>
                    <a:lnTo>
                      <a:pt x="340" y="439"/>
                    </a:lnTo>
                    <a:lnTo>
                      <a:pt x="320" y="457"/>
                    </a:lnTo>
                    <a:lnTo>
                      <a:pt x="301" y="457"/>
                    </a:lnTo>
                    <a:lnTo>
                      <a:pt x="281" y="448"/>
                    </a:lnTo>
                    <a:lnTo>
                      <a:pt x="281" y="466"/>
                    </a:lnTo>
                    <a:lnTo>
                      <a:pt x="291" y="475"/>
                    </a:lnTo>
                    <a:lnTo>
                      <a:pt x="291" y="492"/>
                    </a:lnTo>
                    <a:lnTo>
                      <a:pt x="262" y="501"/>
                    </a:lnTo>
                    <a:lnTo>
                      <a:pt x="243" y="501"/>
                    </a:lnTo>
                    <a:lnTo>
                      <a:pt x="233" y="527"/>
                    </a:lnTo>
                    <a:lnTo>
                      <a:pt x="223" y="527"/>
                    </a:lnTo>
                    <a:lnTo>
                      <a:pt x="213" y="536"/>
                    </a:lnTo>
                    <a:lnTo>
                      <a:pt x="223" y="545"/>
                    </a:lnTo>
                    <a:lnTo>
                      <a:pt x="204" y="563"/>
                    </a:lnTo>
                    <a:lnTo>
                      <a:pt x="223" y="589"/>
                    </a:lnTo>
                    <a:lnTo>
                      <a:pt x="204" y="598"/>
                    </a:lnTo>
                    <a:lnTo>
                      <a:pt x="194" y="616"/>
                    </a:lnTo>
                    <a:lnTo>
                      <a:pt x="204" y="633"/>
                    </a:lnTo>
                    <a:lnTo>
                      <a:pt x="184" y="633"/>
                    </a:lnTo>
                    <a:lnTo>
                      <a:pt x="165" y="642"/>
                    </a:lnTo>
                    <a:lnTo>
                      <a:pt x="146" y="607"/>
                    </a:lnTo>
                    <a:lnTo>
                      <a:pt x="136" y="580"/>
                    </a:lnTo>
                    <a:lnTo>
                      <a:pt x="136" y="527"/>
                    </a:lnTo>
                    <a:lnTo>
                      <a:pt x="116" y="510"/>
                    </a:lnTo>
                    <a:lnTo>
                      <a:pt x="116" y="475"/>
                    </a:lnTo>
                    <a:lnTo>
                      <a:pt x="136" y="457"/>
                    </a:lnTo>
                    <a:lnTo>
                      <a:pt x="126" y="431"/>
                    </a:lnTo>
                    <a:lnTo>
                      <a:pt x="126" y="404"/>
                    </a:lnTo>
                    <a:lnTo>
                      <a:pt x="126" y="342"/>
                    </a:lnTo>
                    <a:lnTo>
                      <a:pt x="136" y="316"/>
                    </a:lnTo>
                    <a:lnTo>
                      <a:pt x="116" y="290"/>
                    </a:lnTo>
                    <a:lnTo>
                      <a:pt x="107" y="281"/>
                    </a:lnTo>
                    <a:lnTo>
                      <a:pt x="97" y="272"/>
                    </a:lnTo>
                    <a:lnTo>
                      <a:pt x="87" y="272"/>
                    </a:lnTo>
                    <a:lnTo>
                      <a:pt x="68" y="272"/>
                    </a:lnTo>
                    <a:lnTo>
                      <a:pt x="68" y="263"/>
                    </a:lnTo>
                    <a:lnTo>
                      <a:pt x="58" y="254"/>
                    </a:lnTo>
                    <a:lnTo>
                      <a:pt x="58" y="246"/>
                    </a:lnTo>
                    <a:lnTo>
                      <a:pt x="49" y="220"/>
                    </a:lnTo>
                    <a:lnTo>
                      <a:pt x="39" y="211"/>
                    </a:lnTo>
                    <a:lnTo>
                      <a:pt x="39" y="203"/>
                    </a:lnTo>
                    <a:lnTo>
                      <a:pt x="29" y="203"/>
                    </a:lnTo>
                    <a:lnTo>
                      <a:pt x="29" y="185"/>
                    </a:lnTo>
                    <a:lnTo>
                      <a:pt x="10" y="176"/>
                    </a:lnTo>
                    <a:lnTo>
                      <a:pt x="10" y="159"/>
                    </a:lnTo>
                    <a:lnTo>
                      <a:pt x="0" y="159"/>
                    </a:lnTo>
                    <a:lnTo>
                      <a:pt x="0" y="150"/>
                    </a:lnTo>
                    <a:lnTo>
                      <a:pt x="10" y="132"/>
                    </a:lnTo>
                    <a:lnTo>
                      <a:pt x="29" y="132"/>
                    </a:lnTo>
                    <a:lnTo>
                      <a:pt x="10" y="123"/>
                    </a:lnTo>
                    <a:lnTo>
                      <a:pt x="10" y="106"/>
                    </a:lnTo>
                    <a:lnTo>
                      <a:pt x="29" y="88"/>
                    </a:lnTo>
                    <a:lnTo>
                      <a:pt x="39" y="88"/>
                    </a:lnTo>
                    <a:lnTo>
                      <a:pt x="49" y="70"/>
                    </a:lnTo>
                    <a:lnTo>
                      <a:pt x="58" y="62"/>
                    </a:lnTo>
                    <a:lnTo>
                      <a:pt x="58" y="53"/>
                    </a:lnTo>
                    <a:lnTo>
                      <a:pt x="58" y="44"/>
                    </a:lnTo>
                    <a:lnTo>
                      <a:pt x="58" y="18"/>
                    </a:lnTo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433400" y="5354640"/>
                <a:ext cx="101160" cy="30240"/>
              </a:xfrm>
              <a:custGeom>
                <a:avLst/>
                <a:gdLst/>
                <a:ahLst/>
                <a:rect l="l" t="t" r="r" b="b"/>
                <a:pathLst>
                  <a:path w="59" h="19">
                    <a:moveTo>
                      <a:pt x="19" y="0"/>
                    </a:moveTo>
                    <a:lnTo>
                      <a:pt x="0" y="9"/>
                    </a:lnTo>
                    <a:lnTo>
                      <a:pt x="10" y="18"/>
                    </a:lnTo>
                    <a:lnTo>
                      <a:pt x="39" y="18"/>
                    </a:lnTo>
                    <a:lnTo>
                      <a:pt x="58" y="18"/>
                    </a:lnTo>
                    <a:lnTo>
                      <a:pt x="39" y="9"/>
                    </a:lnTo>
                    <a:lnTo>
                      <a:pt x="19" y="0"/>
                    </a:lnTo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3749760" y="3022560"/>
              <a:ext cx="1269000" cy="1384200"/>
              <a:chOff x="3749760" y="3022560"/>
              <a:chExt cx="1269000" cy="1384200"/>
            </a:xfrm>
          </p:grpSpPr>
          <p:sp>
            <p:nvSpPr>
              <p:cNvPr id="156" name=""/>
              <p:cNvSpPr/>
              <p:nvPr/>
            </p:nvSpPr>
            <p:spPr>
              <a:xfrm>
                <a:off x="4450680" y="3484440"/>
                <a:ext cx="34200" cy="44640"/>
              </a:xfrm>
              <a:custGeom>
                <a:avLst/>
                <a:gdLst/>
                <a:ahLst/>
                <a:rect l="l" t="t" r="r" b="b"/>
                <a:pathLst>
                  <a:path w="20" h="28">
                    <a:moveTo>
                      <a:pt x="0" y="27"/>
                    </a:moveTo>
                    <a:lnTo>
                      <a:pt x="19" y="27"/>
                    </a:lnTo>
                    <a:lnTo>
                      <a:pt x="19" y="18"/>
                    </a:lnTo>
                    <a:lnTo>
                      <a:pt x="19" y="9"/>
                    </a:lnTo>
                    <a:lnTo>
                      <a:pt x="10" y="0"/>
                    </a:lnTo>
                    <a:lnTo>
                      <a:pt x="0" y="9"/>
                    </a:lnTo>
                    <a:lnTo>
                      <a:pt x="0" y="27"/>
                    </a:lnTo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57" name=""/>
              <p:cNvGrpSpPr/>
              <p:nvPr/>
            </p:nvGrpSpPr>
            <p:grpSpPr>
              <a:xfrm>
                <a:off x="3749760" y="3022560"/>
                <a:ext cx="1269000" cy="1384200"/>
                <a:chOff x="3749760" y="3022560"/>
                <a:chExt cx="1269000" cy="1384200"/>
              </a:xfrm>
            </p:grpSpPr>
            <p:sp>
              <p:nvSpPr>
                <p:cNvPr id="158" name=""/>
                <p:cNvSpPr/>
                <p:nvPr/>
              </p:nvSpPr>
              <p:spPr>
                <a:xfrm>
                  <a:off x="3749760" y="3022560"/>
                  <a:ext cx="918720" cy="1384200"/>
                </a:xfrm>
                <a:custGeom>
                  <a:avLst/>
                  <a:gdLst/>
                  <a:ahLst/>
                  <a:rect l="l" t="t" r="r" b="b"/>
                  <a:pathLst>
                    <a:path w="535" h="872">
                      <a:moveTo>
                        <a:pt x="272" y="845"/>
                      </a:moveTo>
                      <a:lnTo>
                        <a:pt x="252" y="827"/>
                      </a:lnTo>
                      <a:lnTo>
                        <a:pt x="233" y="827"/>
                      </a:lnTo>
                      <a:lnTo>
                        <a:pt x="214" y="818"/>
                      </a:lnTo>
                      <a:lnTo>
                        <a:pt x="214" y="801"/>
                      </a:lnTo>
                      <a:lnTo>
                        <a:pt x="214" y="792"/>
                      </a:lnTo>
                      <a:lnTo>
                        <a:pt x="214" y="783"/>
                      </a:lnTo>
                      <a:lnTo>
                        <a:pt x="223" y="774"/>
                      </a:lnTo>
                      <a:lnTo>
                        <a:pt x="214" y="748"/>
                      </a:lnTo>
                      <a:lnTo>
                        <a:pt x="204" y="748"/>
                      </a:lnTo>
                      <a:lnTo>
                        <a:pt x="184" y="739"/>
                      </a:lnTo>
                      <a:lnTo>
                        <a:pt x="184" y="730"/>
                      </a:lnTo>
                      <a:lnTo>
                        <a:pt x="204" y="704"/>
                      </a:lnTo>
                      <a:lnTo>
                        <a:pt x="194" y="695"/>
                      </a:lnTo>
                      <a:lnTo>
                        <a:pt x="175" y="686"/>
                      </a:lnTo>
                      <a:lnTo>
                        <a:pt x="165" y="695"/>
                      </a:lnTo>
                      <a:lnTo>
                        <a:pt x="155" y="704"/>
                      </a:lnTo>
                      <a:lnTo>
                        <a:pt x="136" y="704"/>
                      </a:lnTo>
                      <a:lnTo>
                        <a:pt x="117" y="695"/>
                      </a:lnTo>
                      <a:lnTo>
                        <a:pt x="107" y="669"/>
                      </a:lnTo>
                      <a:lnTo>
                        <a:pt x="107" y="651"/>
                      </a:lnTo>
                      <a:lnTo>
                        <a:pt x="117" y="633"/>
                      </a:lnTo>
                      <a:lnTo>
                        <a:pt x="126" y="625"/>
                      </a:lnTo>
                      <a:lnTo>
                        <a:pt x="136" y="616"/>
                      </a:lnTo>
                      <a:lnTo>
                        <a:pt x="136" y="607"/>
                      </a:lnTo>
                      <a:lnTo>
                        <a:pt x="155" y="598"/>
                      </a:lnTo>
                      <a:lnTo>
                        <a:pt x="165" y="589"/>
                      </a:lnTo>
                      <a:lnTo>
                        <a:pt x="184" y="598"/>
                      </a:lnTo>
                      <a:lnTo>
                        <a:pt x="194" y="598"/>
                      </a:lnTo>
                      <a:lnTo>
                        <a:pt x="204" y="616"/>
                      </a:lnTo>
                      <a:lnTo>
                        <a:pt x="214" y="616"/>
                      </a:lnTo>
                      <a:lnTo>
                        <a:pt x="233" y="607"/>
                      </a:lnTo>
                      <a:lnTo>
                        <a:pt x="243" y="616"/>
                      </a:lnTo>
                      <a:lnTo>
                        <a:pt x="262" y="633"/>
                      </a:lnTo>
                      <a:lnTo>
                        <a:pt x="252" y="651"/>
                      </a:lnTo>
                      <a:lnTo>
                        <a:pt x="262" y="660"/>
                      </a:lnTo>
                      <a:lnTo>
                        <a:pt x="272" y="669"/>
                      </a:lnTo>
                      <a:lnTo>
                        <a:pt x="282" y="677"/>
                      </a:lnTo>
                      <a:lnTo>
                        <a:pt x="282" y="660"/>
                      </a:lnTo>
                      <a:lnTo>
                        <a:pt x="282" y="633"/>
                      </a:lnTo>
                      <a:lnTo>
                        <a:pt x="282" y="625"/>
                      </a:lnTo>
                      <a:lnTo>
                        <a:pt x="282" y="616"/>
                      </a:lnTo>
                      <a:lnTo>
                        <a:pt x="291" y="607"/>
                      </a:lnTo>
                      <a:lnTo>
                        <a:pt x="301" y="598"/>
                      </a:lnTo>
                      <a:lnTo>
                        <a:pt x="311" y="589"/>
                      </a:lnTo>
                      <a:lnTo>
                        <a:pt x="320" y="598"/>
                      </a:lnTo>
                      <a:lnTo>
                        <a:pt x="330" y="589"/>
                      </a:lnTo>
                      <a:lnTo>
                        <a:pt x="350" y="581"/>
                      </a:lnTo>
                      <a:lnTo>
                        <a:pt x="359" y="572"/>
                      </a:lnTo>
                      <a:lnTo>
                        <a:pt x="350" y="572"/>
                      </a:lnTo>
                      <a:lnTo>
                        <a:pt x="369" y="554"/>
                      </a:lnTo>
                      <a:lnTo>
                        <a:pt x="379" y="545"/>
                      </a:lnTo>
                      <a:lnTo>
                        <a:pt x="388" y="537"/>
                      </a:lnTo>
                      <a:lnTo>
                        <a:pt x="408" y="537"/>
                      </a:lnTo>
                      <a:lnTo>
                        <a:pt x="408" y="519"/>
                      </a:lnTo>
                      <a:lnTo>
                        <a:pt x="427" y="519"/>
                      </a:lnTo>
                      <a:lnTo>
                        <a:pt x="447" y="510"/>
                      </a:lnTo>
                      <a:lnTo>
                        <a:pt x="456" y="501"/>
                      </a:lnTo>
                      <a:lnTo>
                        <a:pt x="456" y="519"/>
                      </a:lnTo>
                      <a:lnTo>
                        <a:pt x="476" y="501"/>
                      </a:lnTo>
                      <a:lnTo>
                        <a:pt x="456" y="501"/>
                      </a:lnTo>
                      <a:lnTo>
                        <a:pt x="456" y="475"/>
                      </a:lnTo>
                      <a:lnTo>
                        <a:pt x="447" y="475"/>
                      </a:lnTo>
                      <a:lnTo>
                        <a:pt x="447" y="466"/>
                      </a:lnTo>
                      <a:lnTo>
                        <a:pt x="505" y="466"/>
                      </a:lnTo>
                      <a:lnTo>
                        <a:pt x="534" y="449"/>
                      </a:lnTo>
                      <a:lnTo>
                        <a:pt x="534" y="431"/>
                      </a:lnTo>
                      <a:lnTo>
                        <a:pt x="515" y="431"/>
                      </a:lnTo>
                      <a:lnTo>
                        <a:pt x="515" y="405"/>
                      </a:lnTo>
                      <a:lnTo>
                        <a:pt x="505" y="405"/>
                      </a:lnTo>
                      <a:lnTo>
                        <a:pt x="505" y="387"/>
                      </a:lnTo>
                      <a:lnTo>
                        <a:pt x="495" y="387"/>
                      </a:lnTo>
                      <a:lnTo>
                        <a:pt x="485" y="387"/>
                      </a:lnTo>
                      <a:lnTo>
                        <a:pt x="456" y="370"/>
                      </a:lnTo>
                      <a:lnTo>
                        <a:pt x="456" y="352"/>
                      </a:lnTo>
                      <a:lnTo>
                        <a:pt x="437" y="334"/>
                      </a:lnTo>
                      <a:lnTo>
                        <a:pt x="408" y="361"/>
                      </a:lnTo>
                      <a:lnTo>
                        <a:pt x="408" y="387"/>
                      </a:lnTo>
                      <a:lnTo>
                        <a:pt x="408" y="396"/>
                      </a:lnTo>
                      <a:lnTo>
                        <a:pt x="398" y="396"/>
                      </a:lnTo>
                      <a:lnTo>
                        <a:pt x="388" y="405"/>
                      </a:lnTo>
                      <a:lnTo>
                        <a:pt x="379" y="414"/>
                      </a:lnTo>
                      <a:lnTo>
                        <a:pt x="379" y="431"/>
                      </a:lnTo>
                      <a:lnTo>
                        <a:pt x="359" y="414"/>
                      </a:lnTo>
                      <a:lnTo>
                        <a:pt x="379" y="396"/>
                      </a:lnTo>
                      <a:lnTo>
                        <a:pt x="369" y="387"/>
                      </a:lnTo>
                      <a:lnTo>
                        <a:pt x="350" y="378"/>
                      </a:lnTo>
                      <a:lnTo>
                        <a:pt x="330" y="343"/>
                      </a:lnTo>
                      <a:lnTo>
                        <a:pt x="330" y="334"/>
                      </a:lnTo>
                      <a:lnTo>
                        <a:pt x="359" y="299"/>
                      </a:lnTo>
                      <a:lnTo>
                        <a:pt x="379" y="299"/>
                      </a:lnTo>
                      <a:lnTo>
                        <a:pt x="398" y="299"/>
                      </a:lnTo>
                      <a:lnTo>
                        <a:pt x="408" y="290"/>
                      </a:lnTo>
                      <a:lnTo>
                        <a:pt x="437" y="290"/>
                      </a:lnTo>
                      <a:lnTo>
                        <a:pt x="437" y="282"/>
                      </a:lnTo>
                      <a:lnTo>
                        <a:pt x="456" y="282"/>
                      </a:lnTo>
                      <a:lnTo>
                        <a:pt x="447" y="264"/>
                      </a:lnTo>
                      <a:lnTo>
                        <a:pt x="437" y="246"/>
                      </a:lnTo>
                      <a:lnTo>
                        <a:pt x="427" y="264"/>
                      </a:lnTo>
                      <a:lnTo>
                        <a:pt x="408" y="264"/>
                      </a:lnTo>
                      <a:lnTo>
                        <a:pt x="437" y="246"/>
                      </a:lnTo>
                      <a:lnTo>
                        <a:pt x="437" y="220"/>
                      </a:lnTo>
                      <a:lnTo>
                        <a:pt x="408" y="238"/>
                      </a:lnTo>
                      <a:lnTo>
                        <a:pt x="398" y="246"/>
                      </a:lnTo>
                      <a:lnTo>
                        <a:pt x="350" y="220"/>
                      </a:lnTo>
                      <a:lnTo>
                        <a:pt x="350" y="150"/>
                      </a:lnTo>
                      <a:lnTo>
                        <a:pt x="330" y="132"/>
                      </a:lnTo>
                      <a:lnTo>
                        <a:pt x="320" y="106"/>
                      </a:lnTo>
                      <a:lnTo>
                        <a:pt x="340" y="79"/>
                      </a:lnTo>
                      <a:lnTo>
                        <a:pt x="350" y="35"/>
                      </a:lnTo>
                      <a:lnTo>
                        <a:pt x="320" y="26"/>
                      </a:lnTo>
                      <a:lnTo>
                        <a:pt x="311" y="18"/>
                      </a:lnTo>
                      <a:lnTo>
                        <a:pt x="301" y="18"/>
                      </a:lnTo>
                      <a:lnTo>
                        <a:pt x="301" y="0"/>
                      </a:lnTo>
                      <a:lnTo>
                        <a:pt x="272" y="26"/>
                      </a:lnTo>
                      <a:lnTo>
                        <a:pt x="262" y="26"/>
                      </a:lnTo>
                      <a:lnTo>
                        <a:pt x="252" y="9"/>
                      </a:lnTo>
                      <a:lnTo>
                        <a:pt x="243" y="18"/>
                      </a:lnTo>
                      <a:lnTo>
                        <a:pt x="223" y="18"/>
                      </a:lnTo>
                      <a:lnTo>
                        <a:pt x="184" y="53"/>
                      </a:lnTo>
                      <a:lnTo>
                        <a:pt x="165" y="44"/>
                      </a:lnTo>
                      <a:lnTo>
                        <a:pt x="155" y="18"/>
                      </a:lnTo>
                      <a:lnTo>
                        <a:pt x="155" y="35"/>
                      </a:lnTo>
                      <a:lnTo>
                        <a:pt x="165" y="62"/>
                      </a:lnTo>
                      <a:lnTo>
                        <a:pt x="194" y="79"/>
                      </a:lnTo>
                      <a:lnTo>
                        <a:pt x="204" y="79"/>
                      </a:lnTo>
                      <a:lnTo>
                        <a:pt x="204" y="88"/>
                      </a:lnTo>
                      <a:lnTo>
                        <a:pt x="214" y="106"/>
                      </a:lnTo>
                      <a:lnTo>
                        <a:pt x="204" y="114"/>
                      </a:lnTo>
                      <a:lnTo>
                        <a:pt x="204" y="141"/>
                      </a:lnTo>
                      <a:lnTo>
                        <a:pt x="194" y="176"/>
                      </a:lnTo>
                      <a:lnTo>
                        <a:pt x="165" y="220"/>
                      </a:lnTo>
                      <a:lnTo>
                        <a:pt x="155" y="220"/>
                      </a:lnTo>
                      <a:lnTo>
                        <a:pt x="136" y="264"/>
                      </a:lnTo>
                      <a:lnTo>
                        <a:pt x="126" y="290"/>
                      </a:lnTo>
                      <a:lnTo>
                        <a:pt x="107" y="290"/>
                      </a:lnTo>
                      <a:lnTo>
                        <a:pt x="87" y="317"/>
                      </a:lnTo>
                      <a:lnTo>
                        <a:pt x="78" y="317"/>
                      </a:lnTo>
                      <a:lnTo>
                        <a:pt x="49" y="343"/>
                      </a:lnTo>
                      <a:lnTo>
                        <a:pt x="29" y="361"/>
                      </a:lnTo>
                      <a:lnTo>
                        <a:pt x="29" y="387"/>
                      </a:lnTo>
                      <a:lnTo>
                        <a:pt x="19" y="387"/>
                      </a:lnTo>
                      <a:lnTo>
                        <a:pt x="10" y="405"/>
                      </a:lnTo>
                      <a:lnTo>
                        <a:pt x="10" y="414"/>
                      </a:lnTo>
                      <a:lnTo>
                        <a:pt x="10" y="431"/>
                      </a:lnTo>
                      <a:lnTo>
                        <a:pt x="19" y="449"/>
                      </a:lnTo>
                      <a:lnTo>
                        <a:pt x="10" y="466"/>
                      </a:lnTo>
                      <a:lnTo>
                        <a:pt x="0" y="493"/>
                      </a:lnTo>
                      <a:lnTo>
                        <a:pt x="0" y="519"/>
                      </a:lnTo>
                      <a:lnTo>
                        <a:pt x="0" y="545"/>
                      </a:lnTo>
                      <a:lnTo>
                        <a:pt x="0" y="572"/>
                      </a:lnTo>
                      <a:lnTo>
                        <a:pt x="10" y="581"/>
                      </a:lnTo>
                      <a:lnTo>
                        <a:pt x="19" y="537"/>
                      </a:lnTo>
                      <a:lnTo>
                        <a:pt x="19" y="501"/>
                      </a:lnTo>
                      <a:lnTo>
                        <a:pt x="29" y="484"/>
                      </a:lnTo>
                      <a:lnTo>
                        <a:pt x="29" y="501"/>
                      </a:lnTo>
                      <a:lnTo>
                        <a:pt x="29" y="510"/>
                      </a:lnTo>
                      <a:lnTo>
                        <a:pt x="29" y="528"/>
                      </a:lnTo>
                      <a:lnTo>
                        <a:pt x="29" y="545"/>
                      </a:lnTo>
                      <a:lnTo>
                        <a:pt x="29" y="572"/>
                      </a:lnTo>
                      <a:lnTo>
                        <a:pt x="29" y="589"/>
                      </a:lnTo>
                      <a:lnTo>
                        <a:pt x="39" y="607"/>
                      </a:lnTo>
                      <a:lnTo>
                        <a:pt x="39" y="616"/>
                      </a:lnTo>
                      <a:lnTo>
                        <a:pt x="29" y="633"/>
                      </a:lnTo>
                      <a:lnTo>
                        <a:pt x="39" y="651"/>
                      </a:lnTo>
                      <a:lnTo>
                        <a:pt x="49" y="677"/>
                      </a:lnTo>
                      <a:lnTo>
                        <a:pt x="58" y="686"/>
                      </a:lnTo>
                      <a:lnTo>
                        <a:pt x="87" y="704"/>
                      </a:lnTo>
                      <a:lnTo>
                        <a:pt x="97" y="730"/>
                      </a:lnTo>
                      <a:lnTo>
                        <a:pt x="107" y="721"/>
                      </a:lnTo>
                      <a:lnTo>
                        <a:pt x="117" y="730"/>
                      </a:lnTo>
                      <a:lnTo>
                        <a:pt x="126" y="739"/>
                      </a:lnTo>
                      <a:lnTo>
                        <a:pt x="136" y="748"/>
                      </a:lnTo>
                      <a:lnTo>
                        <a:pt x="165" y="774"/>
                      </a:lnTo>
                      <a:lnTo>
                        <a:pt x="194" y="792"/>
                      </a:lnTo>
                      <a:lnTo>
                        <a:pt x="194" y="809"/>
                      </a:lnTo>
                      <a:lnTo>
                        <a:pt x="214" y="836"/>
                      </a:lnTo>
                      <a:lnTo>
                        <a:pt x="233" y="853"/>
                      </a:lnTo>
                      <a:lnTo>
                        <a:pt x="243" y="853"/>
                      </a:lnTo>
                      <a:lnTo>
                        <a:pt x="243" y="845"/>
                      </a:lnTo>
                      <a:lnTo>
                        <a:pt x="252" y="845"/>
                      </a:lnTo>
                      <a:lnTo>
                        <a:pt x="272" y="871"/>
                      </a:lnTo>
                      <a:lnTo>
                        <a:pt x="272" y="845"/>
                      </a:lnTo>
                    </a:path>
                  </a:pathLst>
                </a:custGeom>
                <a:blipFill rotWithShape="0">
                  <a:blip r:embed="rId4"/>
                  <a:srcRect/>
                  <a:tile tx="0" ty="0" sx="100000" sy="100000" algn="ctr"/>
                </a:blip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4149720" y="4113360"/>
                  <a:ext cx="150840" cy="83880"/>
                </a:xfrm>
                <a:custGeom>
                  <a:avLst/>
                  <a:gdLst/>
                  <a:ahLst/>
                  <a:rect l="l" t="t" r="r" b="b"/>
                  <a:pathLst>
                    <a:path w="88" h="53">
                      <a:moveTo>
                        <a:pt x="0" y="0"/>
                      </a:moveTo>
                      <a:lnTo>
                        <a:pt x="29" y="0"/>
                      </a:lnTo>
                      <a:lnTo>
                        <a:pt x="39" y="17"/>
                      </a:lnTo>
                      <a:lnTo>
                        <a:pt x="48" y="17"/>
                      </a:lnTo>
                      <a:lnTo>
                        <a:pt x="68" y="26"/>
                      </a:lnTo>
                      <a:lnTo>
                        <a:pt x="68" y="35"/>
                      </a:lnTo>
                      <a:lnTo>
                        <a:pt x="87" y="43"/>
                      </a:lnTo>
                      <a:lnTo>
                        <a:pt x="87" y="52"/>
                      </a:lnTo>
                      <a:lnTo>
                        <a:pt x="68" y="52"/>
                      </a:lnTo>
                      <a:lnTo>
                        <a:pt x="58" y="43"/>
                      </a:lnTo>
                      <a:lnTo>
                        <a:pt x="39" y="35"/>
                      </a:lnTo>
                      <a:lnTo>
                        <a:pt x="29" y="26"/>
                      </a:lnTo>
                      <a:lnTo>
                        <a:pt x="10" y="17"/>
                      </a:lnTo>
                      <a:lnTo>
                        <a:pt x="0" y="17"/>
                      </a:lnTo>
                      <a:lnTo>
                        <a:pt x="0" y="0"/>
                      </a:lnTo>
                    </a:path>
                  </a:pathLst>
                </a:custGeom>
                <a:blipFill rotWithShape="0">
                  <a:blip r:embed="rId5"/>
                  <a:srcRect/>
                  <a:tile tx="0" ty="0" sx="100000" sy="100000" algn="ctr"/>
                </a:blip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4299480" y="4211640"/>
                  <a:ext cx="102600" cy="28440"/>
                </a:xfrm>
                <a:custGeom>
                  <a:avLst/>
                  <a:gdLst/>
                  <a:ahLst/>
                  <a:rect l="l" t="t" r="r" b="b"/>
                  <a:pathLst>
                    <a:path w="60" h="18">
                      <a:moveTo>
                        <a:pt x="0" y="9"/>
                      </a:moveTo>
                      <a:lnTo>
                        <a:pt x="20" y="0"/>
                      </a:lnTo>
                      <a:lnTo>
                        <a:pt x="39" y="0"/>
                      </a:lnTo>
                      <a:lnTo>
                        <a:pt x="59" y="9"/>
                      </a:lnTo>
                      <a:lnTo>
                        <a:pt x="59" y="17"/>
                      </a:lnTo>
                      <a:lnTo>
                        <a:pt x="49" y="17"/>
                      </a:lnTo>
                      <a:lnTo>
                        <a:pt x="30" y="17"/>
                      </a:lnTo>
                      <a:lnTo>
                        <a:pt x="20" y="17"/>
                      </a:lnTo>
                      <a:lnTo>
                        <a:pt x="0" y="9"/>
                      </a:lnTo>
                    </a:path>
                  </a:pathLst>
                </a:custGeom>
                <a:blipFill rotWithShape="0">
                  <a:blip r:embed="rId6"/>
                  <a:srcRect/>
                  <a:tile tx="0" ty="0" sx="100000" sy="100000" algn="ctr"/>
                </a:blip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4366440" y="3274920"/>
                  <a:ext cx="85680" cy="98640"/>
                </a:xfrm>
                <a:custGeom>
                  <a:avLst/>
                  <a:gdLst/>
                  <a:ahLst/>
                  <a:rect l="l" t="t" r="r" b="b"/>
                  <a:pathLst>
                    <a:path w="50" h="62">
                      <a:moveTo>
                        <a:pt x="10" y="0"/>
                      </a:moveTo>
                      <a:lnTo>
                        <a:pt x="20" y="17"/>
                      </a:lnTo>
                      <a:lnTo>
                        <a:pt x="29" y="17"/>
                      </a:lnTo>
                      <a:lnTo>
                        <a:pt x="49" y="26"/>
                      </a:lnTo>
                      <a:lnTo>
                        <a:pt x="49" y="35"/>
                      </a:lnTo>
                      <a:lnTo>
                        <a:pt x="49" y="44"/>
                      </a:lnTo>
                      <a:lnTo>
                        <a:pt x="39" y="44"/>
                      </a:lnTo>
                      <a:lnTo>
                        <a:pt x="29" y="61"/>
                      </a:lnTo>
                      <a:lnTo>
                        <a:pt x="20" y="52"/>
                      </a:lnTo>
                      <a:lnTo>
                        <a:pt x="20" y="61"/>
                      </a:lnTo>
                      <a:lnTo>
                        <a:pt x="0" y="44"/>
                      </a:lnTo>
                      <a:lnTo>
                        <a:pt x="10" y="26"/>
                      </a:lnTo>
                      <a:lnTo>
                        <a:pt x="10" y="0"/>
                      </a:lnTo>
                    </a:path>
                  </a:pathLst>
                </a:custGeom>
                <a:blipFill rotWithShape="0">
                  <a:blip r:embed="rId7"/>
                  <a:srcRect/>
                  <a:tile tx="0" ty="0" sx="100000" sy="100000" algn="ctr"/>
                </a:blip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4450320" y="3260880"/>
                  <a:ext cx="68400" cy="42840"/>
                </a:xfrm>
                <a:custGeom>
                  <a:avLst/>
                  <a:gdLst/>
                  <a:ahLst/>
                  <a:rect l="l" t="t" r="r" b="b"/>
                  <a:pathLst>
                    <a:path w="40" h="27">
                      <a:moveTo>
                        <a:pt x="0" y="17"/>
                      </a:moveTo>
                      <a:lnTo>
                        <a:pt x="29" y="26"/>
                      </a:lnTo>
                      <a:lnTo>
                        <a:pt x="39" y="9"/>
                      </a:lnTo>
                      <a:lnTo>
                        <a:pt x="29" y="0"/>
                      </a:lnTo>
                      <a:lnTo>
                        <a:pt x="20" y="9"/>
                      </a:lnTo>
                      <a:lnTo>
                        <a:pt x="0" y="17"/>
                      </a:lnTo>
                    </a:path>
                  </a:pathLst>
                </a:custGeom>
                <a:blipFill rotWithShape="0">
                  <a:blip r:embed="rId8"/>
                  <a:srcRect/>
                  <a:tile tx="0" ty="0" sx="100000" sy="100000" algn="ctr"/>
                </a:blip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4383360" y="3247920"/>
                  <a:ext cx="68400" cy="28800"/>
                </a:xfrm>
                <a:custGeom>
                  <a:avLst/>
                  <a:gdLst/>
                  <a:ahLst/>
                  <a:rect l="l" t="t" r="r" b="b"/>
                  <a:pathLst>
                    <a:path w="40" h="18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39" y="17"/>
                      </a:lnTo>
                      <a:lnTo>
                        <a:pt x="20" y="17"/>
                      </a:lnTo>
                      <a:lnTo>
                        <a:pt x="20" y="9"/>
                      </a:lnTo>
                      <a:lnTo>
                        <a:pt x="10" y="17"/>
                      </a:lnTo>
                      <a:lnTo>
                        <a:pt x="10" y="9"/>
                      </a:lnTo>
                      <a:lnTo>
                        <a:pt x="0" y="0"/>
                      </a:lnTo>
                    </a:path>
                  </a:pathLst>
                </a:custGeom>
                <a:blipFill rotWithShape="0">
                  <a:blip r:embed="rId9"/>
                  <a:srcRect/>
                  <a:tile tx="0" ty="0" sx="100000" sy="100000" algn="ctr"/>
                </a:blip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500360" y="3371760"/>
                  <a:ext cx="150840" cy="211320"/>
                </a:xfrm>
                <a:custGeom>
                  <a:avLst/>
                  <a:gdLst/>
                  <a:ahLst/>
                  <a:rect l="l" t="t" r="r" b="b"/>
                  <a:pathLst>
                    <a:path w="88" h="133">
                      <a:moveTo>
                        <a:pt x="39" y="70"/>
                      </a:moveTo>
                      <a:lnTo>
                        <a:pt x="19" y="88"/>
                      </a:lnTo>
                      <a:lnTo>
                        <a:pt x="19" y="97"/>
                      </a:lnTo>
                      <a:lnTo>
                        <a:pt x="10" y="97"/>
                      </a:lnTo>
                      <a:lnTo>
                        <a:pt x="19" y="97"/>
                      </a:lnTo>
                      <a:lnTo>
                        <a:pt x="29" y="106"/>
                      </a:lnTo>
                      <a:lnTo>
                        <a:pt x="39" y="114"/>
                      </a:lnTo>
                      <a:lnTo>
                        <a:pt x="48" y="132"/>
                      </a:lnTo>
                      <a:lnTo>
                        <a:pt x="48" y="114"/>
                      </a:lnTo>
                      <a:lnTo>
                        <a:pt x="58" y="114"/>
                      </a:lnTo>
                      <a:lnTo>
                        <a:pt x="68" y="114"/>
                      </a:lnTo>
                      <a:lnTo>
                        <a:pt x="68" y="106"/>
                      </a:lnTo>
                      <a:lnTo>
                        <a:pt x="58" y="97"/>
                      </a:lnTo>
                      <a:lnTo>
                        <a:pt x="68" y="88"/>
                      </a:lnTo>
                      <a:lnTo>
                        <a:pt x="77" y="106"/>
                      </a:lnTo>
                      <a:lnTo>
                        <a:pt x="77" y="97"/>
                      </a:lnTo>
                      <a:lnTo>
                        <a:pt x="87" y="88"/>
                      </a:lnTo>
                      <a:lnTo>
                        <a:pt x="77" y="70"/>
                      </a:lnTo>
                      <a:lnTo>
                        <a:pt x="77" y="44"/>
                      </a:lnTo>
                      <a:lnTo>
                        <a:pt x="58" y="26"/>
                      </a:lnTo>
                      <a:lnTo>
                        <a:pt x="48" y="18"/>
                      </a:lnTo>
                      <a:lnTo>
                        <a:pt x="39" y="9"/>
                      </a:lnTo>
                      <a:lnTo>
                        <a:pt x="39" y="0"/>
                      </a:lnTo>
                      <a:lnTo>
                        <a:pt x="19" y="18"/>
                      </a:lnTo>
                      <a:lnTo>
                        <a:pt x="19" y="9"/>
                      </a:lnTo>
                      <a:lnTo>
                        <a:pt x="29" y="0"/>
                      </a:lnTo>
                      <a:lnTo>
                        <a:pt x="19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0" y="18"/>
                      </a:lnTo>
                      <a:lnTo>
                        <a:pt x="10" y="26"/>
                      </a:lnTo>
                      <a:lnTo>
                        <a:pt x="19" y="26"/>
                      </a:lnTo>
                      <a:lnTo>
                        <a:pt x="19" y="35"/>
                      </a:lnTo>
                      <a:lnTo>
                        <a:pt x="29" y="35"/>
                      </a:lnTo>
                      <a:lnTo>
                        <a:pt x="39" y="44"/>
                      </a:lnTo>
                      <a:lnTo>
                        <a:pt x="39" y="53"/>
                      </a:lnTo>
                      <a:lnTo>
                        <a:pt x="39" y="62"/>
                      </a:lnTo>
                      <a:lnTo>
                        <a:pt x="39" y="70"/>
                      </a:lnTo>
                    </a:path>
                  </a:pathLst>
                </a:custGeom>
                <a:blipFill rotWithShape="0">
                  <a:blip r:embed="rId10"/>
                  <a:srcRect/>
                  <a:tile tx="0" ty="0" sx="100000" sy="100000" algn="ctr"/>
                </a:blip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584600" y="3260880"/>
                  <a:ext cx="133920" cy="85680"/>
                </a:xfrm>
                <a:custGeom>
                  <a:avLst/>
                  <a:gdLst/>
                  <a:ahLst/>
                  <a:rect l="l" t="t" r="r" b="b"/>
                  <a:pathLst>
                    <a:path w="78" h="54">
                      <a:moveTo>
                        <a:pt x="0" y="44"/>
                      </a:moveTo>
                      <a:lnTo>
                        <a:pt x="19" y="53"/>
                      </a:lnTo>
                      <a:lnTo>
                        <a:pt x="29" y="53"/>
                      </a:lnTo>
                      <a:lnTo>
                        <a:pt x="48" y="27"/>
                      </a:lnTo>
                      <a:lnTo>
                        <a:pt x="58" y="27"/>
                      </a:lnTo>
                      <a:lnTo>
                        <a:pt x="67" y="18"/>
                      </a:lnTo>
                      <a:lnTo>
                        <a:pt x="67" y="9"/>
                      </a:lnTo>
                      <a:lnTo>
                        <a:pt x="77" y="9"/>
                      </a:lnTo>
                      <a:lnTo>
                        <a:pt x="67" y="0"/>
                      </a:lnTo>
                      <a:lnTo>
                        <a:pt x="58" y="0"/>
                      </a:lnTo>
                      <a:lnTo>
                        <a:pt x="48" y="0"/>
                      </a:lnTo>
                      <a:lnTo>
                        <a:pt x="29" y="0"/>
                      </a:lnTo>
                      <a:lnTo>
                        <a:pt x="29" y="9"/>
                      </a:lnTo>
                      <a:lnTo>
                        <a:pt x="29" y="27"/>
                      </a:lnTo>
                      <a:lnTo>
                        <a:pt x="19" y="27"/>
                      </a:lnTo>
                      <a:lnTo>
                        <a:pt x="0" y="35"/>
                      </a:lnTo>
                      <a:lnTo>
                        <a:pt x="0" y="44"/>
                      </a:lnTo>
                    </a:path>
                  </a:pathLst>
                </a:custGeom>
                <a:blipFill rotWithShape="0">
                  <a:blip r:embed="rId11"/>
                  <a:srcRect/>
                  <a:tile tx="0" ty="0" sx="100000" sy="100000" algn="ctr"/>
                </a:blip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4950360" y="3484440"/>
                  <a:ext cx="68400" cy="57240"/>
                </a:xfrm>
                <a:custGeom>
                  <a:avLst/>
                  <a:gdLst/>
                  <a:ahLst/>
                  <a:rect l="l" t="t" r="r" b="b"/>
                  <a:pathLst>
                    <a:path w="40" h="36">
                      <a:moveTo>
                        <a:pt x="0" y="18"/>
                      </a:moveTo>
                      <a:lnTo>
                        <a:pt x="10" y="9"/>
                      </a:lnTo>
                      <a:lnTo>
                        <a:pt x="20" y="9"/>
                      </a:lnTo>
                      <a:lnTo>
                        <a:pt x="20" y="0"/>
                      </a:lnTo>
                      <a:lnTo>
                        <a:pt x="29" y="0"/>
                      </a:lnTo>
                      <a:lnTo>
                        <a:pt x="29" y="9"/>
                      </a:lnTo>
                      <a:lnTo>
                        <a:pt x="29" y="18"/>
                      </a:lnTo>
                      <a:lnTo>
                        <a:pt x="39" y="18"/>
                      </a:lnTo>
                      <a:lnTo>
                        <a:pt x="39" y="26"/>
                      </a:lnTo>
                      <a:lnTo>
                        <a:pt x="29" y="26"/>
                      </a:lnTo>
                      <a:lnTo>
                        <a:pt x="29" y="35"/>
                      </a:lnTo>
                      <a:lnTo>
                        <a:pt x="10" y="35"/>
                      </a:lnTo>
                      <a:lnTo>
                        <a:pt x="10" y="26"/>
                      </a:lnTo>
                      <a:lnTo>
                        <a:pt x="0" y="18"/>
                      </a:lnTo>
                    </a:path>
                  </a:pathLst>
                </a:custGeom>
                <a:blipFill rotWithShape="0">
                  <a:blip r:embed="rId12"/>
                  <a:srcRect/>
                  <a:tile tx="0" ty="0" sx="100000" sy="100000" algn="ctr"/>
                </a:blip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4683960" y="3260880"/>
                  <a:ext cx="235440" cy="350640"/>
                </a:xfrm>
                <a:custGeom>
                  <a:avLst/>
                  <a:gdLst/>
                  <a:ahLst/>
                  <a:rect l="l" t="t" r="r" b="b"/>
                  <a:pathLst>
                    <a:path w="137" h="221">
                      <a:moveTo>
                        <a:pt x="0" y="70"/>
                      </a:moveTo>
                      <a:lnTo>
                        <a:pt x="0" y="53"/>
                      </a:lnTo>
                      <a:lnTo>
                        <a:pt x="0" y="44"/>
                      </a:lnTo>
                      <a:lnTo>
                        <a:pt x="19" y="26"/>
                      </a:lnTo>
                      <a:lnTo>
                        <a:pt x="29" y="18"/>
                      </a:lnTo>
                      <a:lnTo>
                        <a:pt x="39" y="9"/>
                      </a:lnTo>
                      <a:lnTo>
                        <a:pt x="49" y="9"/>
                      </a:lnTo>
                      <a:lnTo>
                        <a:pt x="49" y="0"/>
                      </a:lnTo>
                      <a:lnTo>
                        <a:pt x="58" y="0"/>
                      </a:lnTo>
                      <a:lnTo>
                        <a:pt x="78" y="0"/>
                      </a:lnTo>
                      <a:lnTo>
                        <a:pt x="78" y="9"/>
                      </a:lnTo>
                      <a:lnTo>
                        <a:pt x="78" y="18"/>
                      </a:lnTo>
                      <a:lnTo>
                        <a:pt x="87" y="26"/>
                      </a:lnTo>
                      <a:lnTo>
                        <a:pt x="97" y="9"/>
                      </a:lnTo>
                      <a:lnTo>
                        <a:pt x="97" y="26"/>
                      </a:lnTo>
                      <a:lnTo>
                        <a:pt x="107" y="44"/>
                      </a:lnTo>
                      <a:lnTo>
                        <a:pt x="107" y="53"/>
                      </a:lnTo>
                      <a:lnTo>
                        <a:pt x="126" y="70"/>
                      </a:lnTo>
                      <a:lnTo>
                        <a:pt x="126" y="79"/>
                      </a:lnTo>
                      <a:lnTo>
                        <a:pt x="126" y="97"/>
                      </a:lnTo>
                      <a:lnTo>
                        <a:pt x="126" y="106"/>
                      </a:lnTo>
                      <a:lnTo>
                        <a:pt x="136" y="114"/>
                      </a:lnTo>
                      <a:lnTo>
                        <a:pt x="126" y="132"/>
                      </a:lnTo>
                      <a:lnTo>
                        <a:pt x="126" y="141"/>
                      </a:lnTo>
                      <a:lnTo>
                        <a:pt x="107" y="141"/>
                      </a:lnTo>
                      <a:lnTo>
                        <a:pt x="107" y="150"/>
                      </a:lnTo>
                      <a:lnTo>
                        <a:pt x="107" y="158"/>
                      </a:lnTo>
                      <a:lnTo>
                        <a:pt x="97" y="167"/>
                      </a:lnTo>
                      <a:lnTo>
                        <a:pt x="87" y="167"/>
                      </a:lnTo>
                      <a:lnTo>
                        <a:pt x="78" y="167"/>
                      </a:lnTo>
                      <a:lnTo>
                        <a:pt x="78" y="176"/>
                      </a:lnTo>
                      <a:lnTo>
                        <a:pt x="78" y="185"/>
                      </a:lnTo>
                      <a:lnTo>
                        <a:pt x="68" y="202"/>
                      </a:lnTo>
                      <a:lnTo>
                        <a:pt x="68" y="211"/>
                      </a:lnTo>
                      <a:lnTo>
                        <a:pt x="58" y="220"/>
                      </a:lnTo>
                      <a:lnTo>
                        <a:pt x="49" y="220"/>
                      </a:lnTo>
                      <a:lnTo>
                        <a:pt x="29" y="211"/>
                      </a:lnTo>
                      <a:lnTo>
                        <a:pt x="19" y="211"/>
                      </a:lnTo>
                      <a:lnTo>
                        <a:pt x="19" y="202"/>
                      </a:lnTo>
                      <a:lnTo>
                        <a:pt x="19" y="194"/>
                      </a:lnTo>
                      <a:lnTo>
                        <a:pt x="19" y="185"/>
                      </a:lnTo>
                      <a:lnTo>
                        <a:pt x="19" y="176"/>
                      </a:lnTo>
                      <a:lnTo>
                        <a:pt x="19" y="167"/>
                      </a:lnTo>
                      <a:lnTo>
                        <a:pt x="19" y="158"/>
                      </a:lnTo>
                      <a:lnTo>
                        <a:pt x="19" y="150"/>
                      </a:lnTo>
                      <a:lnTo>
                        <a:pt x="19" y="141"/>
                      </a:lnTo>
                      <a:lnTo>
                        <a:pt x="19" y="132"/>
                      </a:lnTo>
                      <a:lnTo>
                        <a:pt x="19" y="123"/>
                      </a:lnTo>
                      <a:lnTo>
                        <a:pt x="19" y="114"/>
                      </a:lnTo>
                      <a:lnTo>
                        <a:pt x="19" y="106"/>
                      </a:lnTo>
                      <a:lnTo>
                        <a:pt x="19" y="97"/>
                      </a:lnTo>
                      <a:lnTo>
                        <a:pt x="10" y="79"/>
                      </a:lnTo>
                      <a:lnTo>
                        <a:pt x="0" y="70"/>
                      </a:lnTo>
                    </a:path>
                  </a:pathLst>
                </a:custGeom>
                <a:blipFill rotWithShape="0">
                  <a:blip r:embed="rId13"/>
                  <a:srcRect/>
                  <a:tile tx="0" ty="0" sx="100000" sy="100000" algn="ctr"/>
                </a:blip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4617360" y="3749760"/>
                  <a:ext cx="68400" cy="71280"/>
                </a:xfrm>
                <a:custGeom>
                  <a:avLst/>
                  <a:gdLst/>
                  <a:ahLst/>
                  <a:rect l="l" t="t" r="r" b="b"/>
                  <a:pathLst>
                    <a:path w="40" h="45">
                      <a:moveTo>
                        <a:pt x="0" y="35"/>
                      </a:moveTo>
                      <a:lnTo>
                        <a:pt x="10" y="44"/>
                      </a:lnTo>
                      <a:lnTo>
                        <a:pt x="29" y="44"/>
                      </a:lnTo>
                      <a:lnTo>
                        <a:pt x="39" y="44"/>
                      </a:lnTo>
                      <a:lnTo>
                        <a:pt x="39" y="35"/>
                      </a:lnTo>
                      <a:lnTo>
                        <a:pt x="39" y="26"/>
                      </a:lnTo>
                      <a:lnTo>
                        <a:pt x="39" y="18"/>
                      </a:lnTo>
                      <a:lnTo>
                        <a:pt x="39" y="26"/>
                      </a:lnTo>
                      <a:lnTo>
                        <a:pt x="29" y="18"/>
                      </a:lnTo>
                      <a:lnTo>
                        <a:pt x="29" y="9"/>
                      </a:lnTo>
                      <a:lnTo>
                        <a:pt x="29" y="0"/>
                      </a:lnTo>
                      <a:lnTo>
                        <a:pt x="10" y="9"/>
                      </a:lnTo>
                      <a:lnTo>
                        <a:pt x="10" y="18"/>
                      </a:lnTo>
                      <a:lnTo>
                        <a:pt x="10" y="35"/>
                      </a:lnTo>
                      <a:lnTo>
                        <a:pt x="0" y="35"/>
                      </a:lnTo>
                    </a:path>
                  </a:pathLst>
                </a:custGeom>
                <a:blipFill rotWithShape="0">
                  <a:blip r:embed="rId14"/>
                  <a:srcRect/>
                  <a:tile tx="0" ty="0" sx="100000" sy="100000" algn="ctr"/>
                </a:blip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9" name=""/>
            <p:cNvGrpSpPr/>
            <p:nvPr/>
          </p:nvGrpSpPr>
          <p:grpSpPr>
            <a:xfrm>
              <a:off x="4217040" y="3708360"/>
              <a:ext cx="167760" cy="141480"/>
              <a:chOff x="4217040" y="3708360"/>
              <a:chExt cx="167760" cy="141480"/>
            </a:xfrm>
          </p:grpSpPr>
          <p:sp>
            <p:nvSpPr>
              <p:cNvPr id="170" name=""/>
              <p:cNvSpPr/>
              <p:nvPr/>
            </p:nvSpPr>
            <p:spPr>
              <a:xfrm>
                <a:off x="4217040" y="3708360"/>
                <a:ext cx="118080" cy="112680"/>
              </a:xfrm>
              <a:custGeom>
                <a:avLst/>
                <a:gdLst/>
                <a:ahLst/>
                <a:rect l="l" t="t" r="r" b="b"/>
                <a:pathLst>
                  <a:path w="69" h="71">
                    <a:moveTo>
                      <a:pt x="0" y="9"/>
                    </a:moveTo>
                    <a:lnTo>
                      <a:pt x="10" y="0"/>
                    </a:lnTo>
                    <a:lnTo>
                      <a:pt x="19" y="0"/>
                    </a:lnTo>
                    <a:lnTo>
                      <a:pt x="29" y="0"/>
                    </a:lnTo>
                    <a:lnTo>
                      <a:pt x="39" y="0"/>
                    </a:lnTo>
                    <a:lnTo>
                      <a:pt x="49" y="9"/>
                    </a:lnTo>
                    <a:lnTo>
                      <a:pt x="49" y="18"/>
                    </a:lnTo>
                    <a:lnTo>
                      <a:pt x="49" y="26"/>
                    </a:lnTo>
                    <a:lnTo>
                      <a:pt x="58" y="44"/>
                    </a:lnTo>
                    <a:lnTo>
                      <a:pt x="68" y="44"/>
                    </a:lnTo>
                    <a:lnTo>
                      <a:pt x="58" y="53"/>
                    </a:lnTo>
                    <a:lnTo>
                      <a:pt x="49" y="70"/>
                    </a:lnTo>
                    <a:lnTo>
                      <a:pt x="49" y="61"/>
                    </a:lnTo>
                    <a:lnTo>
                      <a:pt x="49" y="44"/>
                    </a:lnTo>
                    <a:lnTo>
                      <a:pt x="29" y="44"/>
                    </a:lnTo>
                    <a:lnTo>
                      <a:pt x="19" y="53"/>
                    </a:lnTo>
                    <a:lnTo>
                      <a:pt x="19" y="61"/>
                    </a:lnTo>
                    <a:lnTo>
                      <a:pt x="19" y="70"/>
                    </a:lnTo>
                    <a:lnTo>
                      <a:pt x="10" y="70"/>
                    </a:lnTo>
                    <a:lnTo>
                      <a:pt x="0" y="61"/>
                    </a:lnTo>
                    <a:lnTo>
                      <a:pt x="10" y="53"/>
                    </a:lnTo>
                    <a:lnTo>
                      <a:pt x="10" y="44"/>
                    </a:lnTo>
                    <a:lnTo>
                      <a:pt x="19" y="35"/>
                    </a:lnTo>
                    <a:lnTo>
                      <a:pt x="29" y="35"/>
                    </a:lnTo>
                    <a:lnTo>
                      <a:pt x="39" y="35"/>
                    </a:lnTo>
                    <a:lnTo>
                      <a:pt x="39" y="26"/>
                    </a:lnTo>
                    <a:lnTo>
                      <a:pt x="29" y="26"/>
                    </a:lnTo>
                    <a:lnTo>
                      <a:pt x="29" y="18"/>
                    </a:lnTo>
                    <a:lnTo>
                      <a:pt x="10" y="18"/>
                    </a:lnTo>
                    <a:lnTo>
                      <a:pt x="0" y="9"/>
                    </a:lnTo>
                  </a:path>
                </a:pathLst>
              </a:custGeom>
              <a:blipFill rotWithShape="0">
                <a:blip r:embed="rId15"/>
                <a:srcRect/>
                <a:tile tx="0" ty="0" sx="100000" sy="100000" algn="ctr"/>
              </a:blip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4283640" y="3819600"/>
                <a:ext cx="51120" cy="30240"/>
              </a:xfrm>
              <a:custGeom>
                <a:avLst/>
                <a:gdLst/>
                <a:ahLst/>
                <a:rect l="l" t="t" r="r" b="b"/>
                <a:pathLst>
                  <a:path w="30" h="19">
                    <a:moveTo>
                      <a:pt x="0" y="9"/>
                    </a:moveTo>
                    <a:lnTo>
                      <a:pt x="10" y="18"/>
                    </a:lnTo>
                    <a:lnTo>
                      <a:pt x="29" y="9"/>
                    </a:lnTo>
                    <a:lnTo>
                      <a:pt x="10" y="0"/>
                    </a:lnTo>
                    <a:lnTo>
                      <a:pt x="10" y="9"/>
                    </a:lnTo>
                    <a:lnTo>
                      <a:pt x="0" y="9"/>
                    </a:lnTo>
                  </a:path>
                </a:pathLst>
              </a:custGeom>
              <a:blipFill rotWithShape="0">
                <a:blip r:embed="rId16"/>
                <a:srcRect/>
                <a:tile tx="0" ty="0" sx="100000" sy="100000" algn="ctr"/>
              </a:blip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4350600" y="3819600"/>
                <a:ext cx="34200" cy="15840"/>
              </a:xfrm>
              <a:custGeom>
                <a:avLst/>
                <a:gdLst/>
                <a:ahLst/>
                <a:rect l="l" t="t" r="r" b="b"/>
                <a:pathLst>
                  <a:path w="20" h="10">
                    <a:moveTo>
                      <a:pt x="0" y="9"/>
                    </a:moveTo>
                    <a:lnTo>
                      <a:pt x="10" y="9"/>
                    </a:lnTo>
                    <a:lnTo>
                      <a:pt x="19" y="0"/>
                    </a:lnTo>
                    <a:lnTo>
                      <a:pt x="0" y="9"/>
                    </a:lnTo>
                  </a:path>
                </a:pathLst>
              </a:custGeom>
              <a:blipFill rotWithShape="0">
                <a:blip r:embed="rId17"/>
                <a:srcRect/>
                <a:tile tx="0" ty="0" sx="100000" sy="100000" algn="ctr"/>
              </a:blip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4701960" y="2925720"/>
              <a:ext cx="33840" cy="44640"/>
              <a:chOff x="4701960" y="2925720"/>
              <a:chExt cx="33840" cy="44640"/>
            </a:xfrm>
          </p:grpSpPr>
          <p:sp>
            <p:nvSpPr>
              <p:cNvPr id="174" name=""/>
              <p:cNvSpPr/>
              <p:nvPr/>
            </p:nvSpPr>
            <p:spPr>
              <a:xfrm>
                <a:off x="4701960" y="2952720"/>
                <a:ext cx="33840" cy="17640"/>
              </a:xfrm>
              <a:custGeom>
                <a:avLst/>
                <a:gdLst/>
                <a:ahLst/>
                <a:rect l="l" t="t" r="r" b="b"/>
                <a:pathLst>
                  <a:path w="20" h="11">
                    <a:moveTo>
                      <a:pt x="0" y="10"/>
                    </a:moveTo>
                    <a:lnTo>
                      <a:pt x="19" y="10"/>
                    </a:lnTo>
                    <a:lnTo>
                      <a:pt x="19" y="0"/>
                    </a:lnTo>
                    <a:lnTo>
                      <a:pt x="10" y="0"/>
                    </a:lnTo>
                    <a:lnTo>
                      <a:pt x="0" y="10"/>
                    </a:lnTo>
                  </a:path>
                </a:pathLst>
              </a:custGeom>
              <a:blipFill rotWithShape="0">
                <a:blip r:embed="rId18"/>
                <a:srcRect/>
                <a:tile tx="0" ty="0" sx="100000" sy="100000" algn="ctr"/>
              </a:blip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4701960" y="2925720"/>
                <a:ext cx="16920" cy="1584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0" y="9"/>
                    </a:moveTo>
                    <a:lnTo>
                      <a:pt x="9" y="0"/>
                    </a:lnTo>
                    <a:lnTo>
                      <a:pt x="9" y="9"/>
                    </a:lnTo>
                    <a:lnTo>
                      <a:pt x="0" y="9"/>
                    </a:lnTo>
                  </a:path>
                </a:pathLst>
              </a:custGeom>
              <a:blipFill rotWithShape="0">
                <a:blip r:embed="rId19"/>
                <a:srcRect/>
                <a:tile tx="0" ty="0" sx="100000" sy="100000" algn="ctr"/>
              </a:blip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6" name=""/>
          <p:cNvGrpSpPr/>
          <p:nvPr/>
        </p:nvGrpSpPr>
        <p:grpSpPr>
          <a:xfrm>
            <a:off x="4270320" y="2689200"/>
            <a:ext cx="1919160" cy="2262240"/>
            <a:chOff x="4270320" y="2689200"/>
            <a:chExt cx="1919160" cy="2262240"/>
          </a:xfrm>
        </p:grpSpPr>
        <p:sp>
          <p:nvSpPr>
            <p:cNvPr id="177" name=""/>
            <p:cNvSpPr/>
            <p:nvPr/>
          </p:nvSpPr>
          <p:spPr>
            <a:xfrm>
              <a:off x="5155920" y="3693960"/>
              <a:ext cx="1033560" cy="1257480"/>
            </a:xfrm>
            <a:custGeom>
              <a:avLst/>
              <a:gdLst/>
              <a:ahLst/>
              <a:rect l="l" t="t" r="r" b="b"/>
              <a:pathLst>
                <a:path w="601" h="792">
                  <a:moveTo>
                    <a:pt x="51" y="114"/>
                  </a:moveTo>
                  <a:lnTo>
                    <a:pt x="77" y="97"/>
                  </a:lnTo>
                  <a:lnTo>
                    <a:pt x="103" y="79"/>
                  </a:lnTo>
                  <a:lnTo>
                    <a:pt x="111" y="70"/>
                  </a:lnTo>
                  <a:lnTo>
                    <a:pt x="137" y="53"/>
                  </a:lnTo>
                  <a:lnTo>
                    <a:pt x="163" y="79"/>
                  </a:lnTo>
                  <a:lnTo>
                    <a:pt x="171" y="70"/>
                  </a:lnTo>
                  <a:lnTo>
                    <a:pt x="189" y="79"/>
                  </a:lnTo>
                  <a:lnTo>
                    <a:pt x="197" y="70"/>
                  </a:lnTo>
                  <a:lnTo>
                    <a:pt x="206" y="70"/>
                  </a:lnTo>
                  <a:lnTo>
                    <a:pt x="214" y="70"/>
                  </a:lnTo>
                  <a:lnTo>
                    <a:pt x="240" y="53"/>
                  </a:lnTo>
                  <a:lnTo>
                    <a:pt x="223" y="44"/>
                  </a:lnTo>
                  <a:lnTo>
                    <a:pt x="240" y="26"/>
                  </a:lnTo>
                  <a:lnTo>
                    <a:pt x="266" y="26"/>
                  </a:lnTo>
                  <a:lnTo>
                    <a:pt x="283" y="0"/>
                  </a:lnTo>
                  <a:lnTo>
                    <a:pt x="300" y="0"/>
                  </a:lnTo>
                  <a:lnTo>
                    <a:pt x="309" y="0"/>
                  </a:lnTo>
                  <a:lnTo>
                    <a:pt x="334" y="0"/>
                  </a:lnTo>
                  <a:lnTo>
                    <a:pt x="343" y="9"/>
                  </a:lnTo>
                  <a:lnTo>
                    <a:pt x="351" y="9"/>
                  </a:lnTo>
                  <a:lnTo>
                    <a:pt x="369" y="18"/>
                  </a:lnTo>
                  <a:lnTo>
                    <a:pt x="386" y="26"/>
                  </a:lnTo>
                  <a:lnTo>
                    <a:pt x="403" y="35"/>
                  </a:lnTo>
                  <a:lnTo>
                    <a:pt x="429" y="62"/>
                  </a:lnTo>
                  <a:lnTo>
                    <a:pt x="437" y="79"/>
                  </a:lnTo>
                  <a:lnTo>
                    <a:pt x="454" y="79"/>
                  </a:lnTo>
                  <a:lnTo>
                    <a:pt x="497" y="79"/>
                  </a:lnTo>
                  <a:lnTo>
                    <a:pt x="514" y="88"/>
                  </a:lnTo>
                  <a:lnTo>
                    <a:pt x="549" y="62"/>
                  </a:lnTo>
                  <a:lnTo>
                    <a:pt x="549" y="44"/>
                  </a:lnTo>
                  <a:lnTo>
                    <a:pt x="566" y="26"/>
                  </a:lnTo>
                  <a:lnTo>
                    <a:pt x="574" y="26"/>
                  </a:lnTo>
                  <a:lnTo>
                    <a:pt x="583" y="44"/>
                  </a:lnTo>
                  <a:lnTo>
                    <a:pt x="583" y="79"/>
                  </a:lnTo>
                  <a:lnTo>
                    <a:pt x="600" y="106"/>
                  </a:lnTo>
                  <a:lnTo>
                    <a:pt x="600" y="132"/>
                  </a:lnTo>
                  <a:lnTo>
                    <a:pt x="583" y="150"/>
                  </a:lnTo>
                  <a:lnTo>
                    <a:pt x="600" y="158"/>
                  </a:lnTo>
                  <a:lnTo>
                    <a:pt x="591" y="185"/>
                  </a:lnTo>
                  <a:lnTo>
                    <a:pt x="583" y="211"/>
                  </a:lnTo>
                  <a:lnTo>
                    <a:pt x="574" y="238"/>
                  </a:lnTo>
                  <a:lnTo>
                    <a:pt x="566" y="255"/>
                  </a:lnTo>
                  <a:lnTo>
                    <a:pt x="566" y="264"/>
                  </a:lnTo>
                  <a:lnTo>
                    <a:pt x="566" y="282"/>
                  </a:lnTo>
                  <a:lnTo>
                    <a:pt x="574" y="308"/>
                  </a:lnTo>
                  <a:lnTo>
                    <a:pt x="566" y="326"/>
                  </a:lnTo>
                  <a:lnTo>
                    <a:pt x="566" y="343"/>
                  </a:lnTo>
                  <a:lnTo>
                    <a:pt x="574" y="352"/>
                  </a:lnTo>
                  <a:lnTo>
                    <a:pt x="583" y="370"/>
                  </a:lnTo>
                  <a:lnTo>
                    <a:pt x="600" y="396"/>
                  </a:lnTo>
                  <a:lnTo>
                    <a:pt x="600" y="422"/>
                  </a:lnTo>
                  <a:lnTo>
                    <a:pt x="591" y="458"/>
                  </a:lnTo>
                  <a:lnTo>
                    <a:pt x="574" y="510"/>
                  </a:lnTo>
                  <a:lnTo>
                    <a:pt x="566" y="537"/>
                  </a:lnTo>
                  <a:lnTo>
                    <a:pt x="549" y="581"/>
                  </a:lnTo>
                  <a:lnTo>
                    <a:pt x="531" y="625"/>
                  </a:lnTo>
                  <a:lnTo>
                    <a:pt x="514" y="650"/>
                  </a:lnTo>
                  <a:lnTo>
                    <a:pt x="497" y="694"/>
                  </a:lnTo>
                  <a:lnTo>
                    <a:pt x="480" y="721"/>
                  </a:lnTo>
                  <a:lnTo>
                    <a:pt x="454" y="747"/>
                  </a:lnTo>
                  <a:lnTo>
                    <a:pt x="429" y="782"/>
                  </a:lnTo>
                  <a:lnTo>
                    <a:pt x="403" y="791"/>
                  </a:lnTo>
                  <a:lnTo>
                    <a:pt x="386" y="791"/>
                  </a:lnTo>
                  <a:lnTo>
                    <a:pt x="377" y="765"/>
                  </a:lnTo>
                  <a:lnTo>
                    <a:pt x="386" y="756"/>
                  </a:lnTo>
                  <a:lnTo>
                    <a:pt x="386" y="738"/>
                  </a:lnTo>
                  <a:lnTo>
                    <a:pt x="377" y="729"/>
                  </a:lnTo>
                  <a:lnTo>
                    <a:pt x="377" y="712"/>
                  </a:lnTo>
                  <a:lnTo>
                    <a:pt x="369" y="703"/>
                  </a:lnTo>
                  <a:lnTo>
                    <a:pt x="369" y="668"/>
                  </a:lnTo>
                  <a:lnTo>
                    <a:pt x="360" y="641"/>
                  </a:lnTo>
                  <a:lnTo>
                    <a:pt x="351" y="625"/>
                  </a:lnTo>
                  <a:lnTo>
                    <a:pt x="334" y="616"/>
                  </a:lnTo>
                  <a:lnTo>
                    <a:pt x="326" y="598"/>
                  </a:lnTo>
                  <a:lnTo>
                    <a:pt x="334" y="572"/>
                  </a:lnTo>
                  <a:lnTo>
                    <a:pt x="334" y="554"/>
                  </a:lnTo>
                  <a:lnTo>
                    <a:pt x="334" y="537"/>
                  </a:lnTo>
                  <a:lnTo>
                    <a:pt x="351" y="537"/>
                  </a:lnTo>
                  <a:lnTo>
                    <a:pt x="343" y="510"/>
                  </a:lnTo>
                  <a:lnTo>
                    <a:pt x="343" y="493"/>
                  </a:lnTo>
                  <a:lnTo>
                    <a:pt x="334" y="475"/>
                  </a:lnTo>
                  <a:lnTo>
                    <a:pt x="283" y="431"/>
                  </a:lnTo>
                  <a:lnTo>
                    <a:pt x="274" y="414"/>
                  </a:lnTo>
                  <a:lnTo>
                    <a:pt x="283" y="387"/>
                  </a:lnTo>
                  <a:lnTo>
                    <a:pt x="266" y="370"/>
                  </a:lnTo>
                  <a:lnTo>
                    <a:pt x="257" y="378"/>
                  </a:lnTo>
                  <a:lnTo>
                    <a:pt x="231" y="378"/>
                  </a:lnTo>
                  <a:lnTo>
                    <a:pt x="214" y="370"/>
                  </a:lnTo>
                  <a:lnTo>
                    <a:pt x="197" y="387"/>
                  </a:lnTo>
                  <a:lnTo>
                    <a:pt x="197" y="396"/>
                  </a:lnTo>
                  <a:lnTo>
                    <a:pt x="171" y="396"/>
                  </a:lnTo>
                  <a:lnTo>
                    <a:pt x="163" y="414"/>
                  </a:lnTo>
                  <a:lnTo>
                    <a:pt x="146" y="414"/>
                  </a:lnTo>
                  <a:lnTo>
                    <a:pt x="120" y="431"/>
                  </a:lnTo>
                  <a:lnTo>
                    <a:pt x="94" y="422"/>
                  </a:lnTo>
                  <a:lnTo>
                    <a:pt x="51" y="396"/>
                  </a:lnTo>
                  <a:lnTo>
                    <a:pt x="26" y="378"/>
                  </a:lnTo>
                  <a:lnTo>
                    <a:pt x="9" y="361"/>
                  </a:lnTo>
                  <a:lnTo>
                    <a:pt x="9" y="308"/>
                  </a:lnTo>
                  <a:lnTo>
                    <a:pt x="0" y="299"/>
                  </a:lnTo>
                  <a:lnTo>
                    <a:pt x="0" y="282"/>
                  </a:lnTo>
                  <a:lnTo>
                    <a:pt x="0" y="264"/>
                  </a:lnTo>
                  <a:lnTo>
                    <a:pt x="9" y="246"/>
                  </a:lnTo>
                  <a:lnTo>
                    <a:pt x="9" y="229"/>
                  </a:lnTo>
                  <a:lnTo>
                    <a:pt x="9" y="211"/>
                  </a:lnTo>
                  <a:lnTo>
                    <a:pt x="26" y="202"/>
                  </a:lnTo>
                  <a:lnTo>
                    <a:pt x="34" y="194"/>
                  </a:lnTo>
                  <a:lnTo>
                    <a:pt x="34" y="176"/>
                  </a:lnTo>
                  <a:lnTo>
                    <a:pt x="26" y="167"/>
                  </a:lnTo>
                  <a:lnTo>
                    <a:pt x="26" y="158"/>
                  </a:lnTo>
                  <a:lnTo>
                    <a:pt x="26" y="150"/>
                  </a:lnTo>
                  <a:lnTo>
                    <a:pt x="51" y="114"/>
                  </a:lnTo>
                </a:path>
              </a:pathLst>
            </a:custGeom>
            <a:blipFill rotWithShape="0">
              <a:blip r:embed="rId20"/>
              <a:srcRect/>
              <a:tile tx="0" ty="0" sx="100000" sy="100000" algn="ctr"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5981400" y="4141800"/>
              <a:ext cx="119880" cy="280800"/>
              <a:chOff x="5981400" y="4141800"/>
              <a:chExt cx="119880" cy="280800"/>
            </a:xfrm>
          </p:grpSpPr>
          <p:sp>
            <p:nvSpPr>
              <p:cNvPr id="179" name=""/>
              <p:cNvSpPr/>
              <p:nvPr/>
            </p:nvSpPr>
            <p:spPr>
              <a:xfrm>
                <a:off x="5981400" y="4141800"/>
                <a:ext cx="46080" cy="84240"/>
              </a:xfrm>
              <a:custGeom>
                <a:avLst/>
                <a:gdLst/>
                <a:ahLst/>
                <a:rect l="l" t="t" r="r" b="b"/>
                <a:pathLst>
                  <a:path w="27" h="53">
                    <a:moveTo>
                      <a:pt x="26" y="0"/>
                    </a:moveTo>
                    <a:lnTo>
                      <a:pt x="0" y="26"/>
                    </a:lnTo>
                    <a:lnTo>
                      <a:pt x="9" y="43"/>
                    </a:lnTo>
                    <a:lnTo>
                      <a:pt x="17" y="52"/>
                    </a:lnTo>
                    <a:lnTo>
                      <a:pt x="26" y="43"/>
                    </a:lnTo>
                    <a:lnTo>
                      <a:pt x="26" y="0"/>
                    </a:lnTo>
                  </a:path>
                </a:pathLst>
              </a:custGeom>
              <a:blipFill rotWithShape="0">
                <a:blip r:embed="rId21"/>
                <a:srcRect/>
                <a:tile tx="0" ty="0" sx="100000" sy="100000" algn="ctr"/>
              </a:blip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6055200" y="4351320"/>
                <a:ext cx="46080" cy="71280"/>
              </a:xfrm>
              <a:custGeom>
                <a:avLst/>
                <a:gdLst/>
                <a:ahLst/>
                <a:rect l="l" t="t" r="r" b="b"/>
                <a:pathLst>
                  <a:path w="27" h="45">
                    <a:moveTo>
                      <a:pt x="26" y="0"/>
                    </a:moveTo>
                    <a:lnTo>
                      <a:pt x="0" y="9"/>
                    </a:lnTo>
                    <a:lnTo>
                      <a:pt x="9" y="26"/>
                    </a:lnTo>
                    <a:lnTo>
                      <a:pt x="9" y="44"/>
                    </a:lnTo>
                    <a:lnTo>
                      <a:pt x="26" y="44"/>
                    </a:lnTo>
                    <a:lnTo>
                      <a:pt x="26" y="35"/>
                    </a:lnTo>
                    <a:lnTo>
                      <a:pt x="26" y="0"/>
                    </a:lnTo>
                  </a:path>
                </a:pathLst>
              </a:custGeom>
              <a:blipFill rotWithShape="0">
                <a:blip r:embed="rId22"/>
                <a:srcRect/>
                <a:tile tx="0" ty="0" sx="100000" sy="100000" algn="ctr"/>
              </a:blip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1" name=""/>
            <p:cNvSpPr/>
            <p:nvPr/>
          </p:nvSpPr>
          <p:spPr>
            <a:xfrm>
              <a:off x="4270320" y="2689200"/>
              <a:ext cx="1800720" cy="1201680"/>
            </a:xfrm>
            <a:custGeom>
              <a:avLst/>
              <a:gdLst/>
              <a:ahLst/>
              <a:rect l="l" t="t" r="r" b="b"/>
              <a:pathLst>
                <a:path w="1047" h="757">
                  <a:moveTo>
                    <a:pt x="506" y="703"/>
                  </a:moveTo>
                  <a:lnTo>
                    <a:pt x="523" y="721"/>
                  </a:lnTo>
                  <a:lnTo>
                    <a:pt x="523" y="730"/>
                  </a:lnTo>
                  <a:lnTo>
                    <a:pt x="523" y="747"/>
                  </a:lnTo>
                  <a:lnTo>
                    <a:pt x="532" y="756"/>
                  </a:lnTo>
                  <a:lnTo>
                    <a:pt x="549" y="756"/>
                  </a:lnTo>
                  <a:lnTo>
                    <a:pt x="566" y="730"/>
                  </a:lnTo>
                  <a:lnTo>
                    <a:pt x="574" y="721"/>
                  </a:lnTo>
                  <a:lnTo>
                    <a:pt x="592" y="712"/>
                  </a:lnTo>
                  <a:lnTo>
                    <a:pt x="583" y="703"/>
                  </a:lnTo>
                  <a:lnTo>
                    <a:pt x="583" y="686"/>
                  </a:lnTo>
                  <a:lnTo>
                    <a:pt x="583" y="677"/>
                  </a:lnTo>
                  <a:lnTo>
                    <a:pt x="592" y="677"/>
                  </a:lnTo>
                  <a:lnTo>
                    <a:pt x="592" y="659"/>
                  </a:lnTo>
                  <a:lnTo>
                    <a:pt x="592" y="651"/>
                  </a:lnTo>
                  <a:lnTo>
                    <a:pt x="600" y="651"/>
                  </a:lnTo>
                  <a:lnTo>
                    <a:pt x="609" y="642"/>
                  </a:lnTo>
                  <a:lnTo>
                    <a:pt x="609" y="633"/>
                  </a:lnTo>
                  <a:lnTo>
                    <a:pt x="609" y="624"/>
                  </a:lnTo>
                  <a:lnTo>
                    <a:pt x="634" y="633"/>
                  </a:lnTo>
                  <a:lnTo>
                    <a:pt x="634" y="642"/>
                  </a:lnTo>
                  <a:lnTo>
                    <a:pt x="686" y="633"/>
                  </a:lnTo>
                  <a:lnTo>
                    <a:pt x="686" y="624"/>
                  </a:lnTo>
                  <a:lnTo>
                    <a:pt x="669" y="615"/>
                  </a:lnTo>
                  <a:lnTo>
                    <a:pt x="643" y="615"/>
                  </a:lnTo>
                  <a:lnTo>
                    <a:pt x="634" y="615"/>
                  </a:lnTo>
                  <a:lnTo>
                    <a:pt x="626" y="607"/>
                  </a:lnTo>
                  <a:lnTo>
                    <a:pt x="626" y="598"/>
                  </a:lnTo>
                  <a:lnTo>
                    <a:pt x="634" y="598"/>
                  </a:lnTo>
                  <a:lnTo>
                    <a:pt x="660" y="598"/>
                  </a:lnTo>
                  <a:lnTo>
                    <a:pt x="669" y="598"/>
                  </a:lnTo>
                  <a:lnTo>
                    <a:pt x="677" y="598"/>
                  </a:lnTo>
                  <a:lnTo>
                    <a:pt x="686" y="607"/>
                  </a:lnTo>
                  <a:lnTo>
                    <a:pt x="703" y="615"/>
                  </a:lnTo>
                  <a:lnTo>
                    <a:pt x="712" y="615"/>
                  </a:lnTo>
                  <a:lnTo>
                    <a:pt x="712" y="607"/>
                  </a:lnTo>
                  <a:lnTo>
                    <a:pt x="720" y="598"/>
                  </a:lnTo>
                  <a:lnTo>
                    <a:pt x="712" y="598"/>
                  </a:lnTo>
                  <a:lnTo>
                    <a:pt x="712" y="589"/>
                  </a:lnTo>
                  <a:lnTo>
                    <a:pt x="712" y="580"/>
                  </a:lnTo>
                  <a:lnTo>
                    <a:pt x="712" y="571"/>
                  </a:lnTo>
                  <a:lnTo>
                    <a:pt x="729" y="563"/>
                  </a:lnTo>
                  <a:lnTo>
                    <a:pt x="729" y="571"/>
                  </a:lnTo>
                  <a:lnTo>
                    <a:pt x="729" y="580"/>
                  </a:lnTo>
                  <a:lnTo>
                    <a:pt x="729" y="589"/>
                  </a:lnTo>
                  <a:lnTo>
                    <a:pt x="737" y="589"/>
                  </a:lnTo>
                  <a:lnTo>
                    <a:pt x="754" y="598"/>
                  </a:lnTo>
                  <a:lnTo>
                    <a:pt x="763" y="598"/>
                  </a:lnTo>
                  <a:lnTo>
                    <a:pt x="772" y="589"/>
                  </a:lnTo>
                  <a:lnTo>
                    <a:pt x="780" y="580"/>
                  </a:lnTo>
                  <a:lnTo>
                    <a:pt x="780" y="571"/>
                  </a:lnTo>
                  <a:lnTo>
                    <a:pt x="789" y="563"/>
                  </a:lnTo>
                  <a:lnTo>
                    <a:pt x="797" y="554"/>
                  </a:lnTo>
                  <a:lnTo>
                    <a:pt x="797" y="545"/>
                  </a:lnTo>
                  <a:lnTo>
                    <a:pt x="806" y="554"/>
                  </a:lnTo>
                  <a:lnTo>
                    <a:pt x="815" y="571"/>
                  </a:lnTo>
                  <a:lnTo>
                    <a:pt x="823" y="571"/>
                  </a:lnTo>
                  <a:lnTo>
                    <a:pt x="823" y="580"/>
                  </a:lnTo>
                  <a:lnTo>
                    <a:pt x="823" y="598"/>
                  </a:lnTo>
                  <a:lnTo>
                    <a:pt x="823" y="615"/>
                  </a:lnTo>
                  <a:lnTo>
                    <a:pt x="832" y="615"/>
                  </a:lnTo>
                  <a:lnTo>
                    <a:pt x="840" y="624"/>
                  </a:lnTo>
                  <a:lnTo>
                    <a:pt x="849" y="624"/>
                  </a:lnTo>
                  <a:lnTo>
                    <a:pt x="866" y="624"/>
                  </a:lnTo>
                  <a:lnTo>
                    <a:pt x="883" y="624"/>
                  </a:lnTo>
                  <a:lnTo>
                    <a:pt x="900" y="642"/>
                  </a:lnTo>
                  <a:lnTo>
                    <a:pt x="917" y="642"/>
                  </a:lnTo>
                  <a:lnTo>
                    <a:pt x="935" y="659"/>
                  </a:lnTo>
                  <a:lnTo>
                    <a:pt x="943" y="659"/>
                  </a:lnTo>
                  <a:lnTo>
                    <a:pt x="960" y="659"/>
                  </a:lnTo>
                  <a:lnTo>
                    <a:pt x="969" y="659"/>
                  </a:lnTo>
                  <a:lnTo>
                    <a:pt x="995" y="677"/>
                  </a:lnTo>
                  <a:lnTo>
                    <a:pt x="1012" y="694"/>
                  </a:lnTo>
                  <a:lnTo>
                    <a:pt x="1020" y="712"/>
                  </a:lnTo>
                  <a:lnTo>
                    <a:pt x="1029" y="686"/>
                  </a:lnTo>
                  <a:lnTo>
                    <a:pt x="1037" y="677"/>
                  </a:lnTo>
                  <a:lnTo>
                    <a:pt x="1037" y="659"/>
                  </a:lnTo>
                  <a:lnTo>
                    <a:pt x="1046" y="633"/>
                  </a:lnTo>
                  <a:lnTo>
                    <a:pt x="1046" y="607"/>
                  </a:lnTo>
                  <a:lnTo>
                    <a:pt x="1046" y="598"/>
                  </a:lnTo>
                  <a:lnTo>
                    <a:pt x="1046" y="571"/>
                  </a:lnTo>
                  <a:lnTo>
                    <a:pt x="1046" y="545"/>
                  </a:lnTo>
                  <a:lnTo>
                    <a:pt x="1037" y="527"/>
                  </a:lnTo>
                  <a:lnTo>
                    <a:pt x="1037" y="510"/>
                  </a:lnTo>
                  <a:lnTo>
                    <a:pt x="1037" y="501"/>
                  </a:lnTo>
                  <a:lnTo>
                    <a:pt x="1029" y="492"/>
                  </a:lnTo>
                  <a:lnTo>
                    <a:pt x="1020" y="475"/>
                  </a:lnTo>
                  <a:lnTo>
                    <a:pt x="1020" y="457"/>
                  </a:lnTo>
                  <a:lnTo>
                    <a:pt x="1003" y="457"/>
                  </a:lnTo>
                  <a:lnTo>
                    <a:pt x="995" y="457"/>
                  </a:lnTo>
                  <a:lnTo>
                    <a:pt x="995" y="475"/>
                  </a:lnTo>
                  <a:lnTo>
                    <a:pt x="986" y="475"/>
                  </a:lnTo>
                  <a:lnTo>
                    <a:pt x="969" y="475"/>
                  </a:lnTo>
                  <a:lnTo>
                    <a:pt x="969" y="483"/>
                  </a:lnTo>
                  <a:lnTo>
                    <a:pt x="977" y="501"/>
                  </a:lnTo>
                  <a:lnTo>
                    <a:pt x="969" y="501"/>
                  </a:lnTo>
                  <a:lnTo>
                    <a:pt x="969" y="519"/>
                  </a:lnTo>
                  <a:lnTo>
                    <a:pt x="952" y="519"/>
                  </a:lnTo>
                  <a:lnTo>
                    <a:pt x="943" y="519"/>
                  </a:lnTo>
                  <a:lnTo>
                    <a:pt x="943" y="510"/>
                  </a:lnTo>
                  <a:lnTo>
                    <a:pt x="926" y="510"/>
                  </a:lnTo>
                  <a:lnTo>
                    <a:pt x="917" y="510"/>
                  </a:lnTo>
                  <a:lnTo>
                    <a:pt x="909" y="501"/>
                  </a:lnTo>
                  <a:lnTo>
                    <a:pt x="917" y="492"/>
                  </a:lnTo>
                  <a:lnTo>
                    <a:pt x="926" y="492"/>
                  </a:lnTo>
                  <a:lnTo>
                    <a:pt x="935" y="492"/>
                  </a:lnTo>
                  <a:lnTo>
                    <a:pt x="943" y="483"/>
                  </a:lnTo>
                  <a:lnTo>
                    <a:pt x="952" y="475"/>
                  </a:lnTo>
                  <a:lnTo>
                    <a:pt x="969" y="457"/>
                  </a:lnTo>
                  <a:lnTo>
                    <a:pt x="969" y="448"/>
                  </a:lnTo>
                  <a:lnTo>
                    <a:pt x="977" y="440"/>
                  </a:lnTo>
                  <a:lnTo>
                    <a:pt x="986" y="431"/>
                  </a:lnTo>
                  <a:lnTo>
                    <a:pt x="995" y="422"/>
                  </a:lnTo>
                  <a:lnTo>
                    <a:pt x="995" y="396"/>
                  </a:lnTo>
                  <a:lnTo>
                    <a:pt x="969" y="352"/>
                  </a:lnTo>
                  <a:lnTo>
                    <a:pt x="935" y="316"/>
                  </a:lnTo>
                  <a:lnTo>
                    <a:pt x="900" y="273"/>
                  </a:lnTo>
                  <a:lnTo>
                    <a:pt x="875" y="246"/>
                  </a:lnTo>
                  <a:lnTo>
                    <a:pt x="849" y="229"/>
                  </a:lnTo>
                  <a:lnTo>
                    <a:pt x="823" y="202"/>
                  </a:lnTo>
                  <a:lnTo>
                    <a:pt x="806" y="176"/>
                  </a:lnTo>
                  <a:lnTo>
                    <a:pt x="772" y="158"/>
                  </a:lnTo>
                  <a:lnTo>
                    <a:pt x="737" y="132"/>
                  </a:lnTo>
                  <a:lnTo>
                    <a:pt x="712" y="114"/>
                  </a:lnTo>
                  <a:lnTo>
                    <a:pt x="686" y="105"/>
                  </a:lnTo>
                  <a:lnTo>
                    <a:pt x="652" y="88"/>
                  </a:lnTo>
                  <a:lnTo>
                    <a:pt x="617" y="70"/>
                  </a:lnTo>
                  <a:lnTo>
                    <a:pt x="566" y="53"/>
                  </a:lnTo>
                  <a:lnTo>
                    <a:pt x="514" y="35"/>
                  </a:lnTo>
                  <a:lnTo>
                    <a:pt x="472" y="18"/>
                  </a:lnTo>
                  <a:lnTo>
                    <a:pt x="429" y="18"/>
                  </a:lnTo>
                  <a:lnTo>
                    <a:pt x="386" y="9"/>
                  </a:lnTo>
                  <a:lnTo>
                    <a:pt x="326" y="0"/>
                  </a:lnTo>
                  <a:lnTo>
                    <a:pt x="249" y="0"/>
                  </a:lnTo>
                  <a:lnTo>
                    <a:pt x="189" y="0"/>
                  </a:lnTo>
                  <a:lnTo>
                    <a:pt x="189" y="18"/>
                  </a:lnTo>
                  <a:lnTo>
                    <a:pt x="171" y="18"/>
                  </a:lnTo>
                  <a:lnTo>
                    <a:pt x="163" y="18"/>
                  </a:lnTo>
                  <a:lnTo>
                    <a:pt x="146" y="18"/>
                  </a:lnTo>
                  <a:lnTo>
                    <a:pt x="137" y="26"/>
                  </a:lnTo>
                  <a:lnTo>
                    <a:pt x="120" y="26"/>
                  </a:lnTo>
                  <a:lnTo>
                    <a:pt x="103" y="44"/>
                  </a:lnTo>
                  <a:lnTo>
                    <a:pt x="94" y="53"/>
                  </a:lnTo>
                  <a:lnTo>
                    <a:pt x="94" y="70"/>
                  </a:lnTo>
                  <a:lnTo>
                    <a:pt x="69" y="70"/>
                  </a:lnTo>
                  <a:lnTo>
                    <a:pt x="60" y="88"/>
                  </a:lnTo>
                  <a:lnTo>
                    <a:pt x="60" y="62"/>
                  </a:lnTo>
                  <a:lnTo>
                    <a:pt x="69" y="44"/>
                  </a:lnTo>
                  <a:lnTo>
                    <a:pt x="69" y="26"/>
                  </a:lnTo>
                  <a:lnTo>
                    <a:pt x="43" y="35"/>
                  </a:lnTo>
                  <a:lnTo>
                    <a:pt x="17" y="44"/>
                  </a:lnTo>
                  <a:lnTo>
                    <a:pt x="26" y="44"/>
                  </a:lnTo>
                  <a:lnTo>
                    <a:pt x="43" y="62"/>
                  </a:lnTo>
                  <a:lnTo>
                    <a:pt x="43" y="70"/>
                  </a:lnTo>
                  <a:lnTo>
                    <a:pt x="43" y="88"/>
                  </a:lnTo>
                  <a:lnTo>
                    <a:pt x="26" y="97"/>
                  </a:lnTo>
                  <a:lnTo>
                    <a:pt x="17" y="105"/>
                  </a:lnTo>
                  <a:lnTo>
                    <a:pt x="17" y="123"/>
                  </a:lnTo>
                  <a:lnTo>
                    <a:pt x="9" y="141"/>
                  </a:lnTo>
                  <a:lnTo>
                    <a:pt x="9" y="158"/>
                  </a:lnTo>
                  <a:lnTo>
                    <a:pt x="26" y="158"/>
                  </a:lnTo>
                  <a:lnTo>
                    <a:pt x="17" y="176"/>
                  </a:lnTo>
                  <a:lnTo>
                    <a:pt x="9" y="176"/>
                  </a:lnTo>
                  <a:lnTo>
                    <a:pt x="0" y="193"/>
                  </a:lnTo>
                  <a:lnTo>
                    <a:pt x="17" y="202"/>
                  </a:lnTo>
                  <a:lnTo>
                    <a:pt x="26" y="193"/>
                  </a:lnTo>
                  <a:lnTo>
                    <a:pt x="43" y="193"/>
                  </a:lnTo>
                  <a:lnTo>
                    <a:pt x="51" y="185"/>
                  </a:lnTo>
                  <a:lnTo>
                    <a:pt x="69" y="176"/>
                  </a:lnTo>
                  <a:lnTo>
                    <a:pt x="94" y="167"/>
                  </a:lnTo>
                  <a:lnTo>
                    <a:pt x="94" y="149"/>
                  </a:lnTo>
                  <a:lnTo>
                    <a:pt x="111" y="149"/>
                  </a:lnTo>
                  <a:lnTo>
                    <a:pt x="120" y="141"/>
                  </a:lnTo>
                  <a:lnTo>
                    <a:pt x="137" y="141"/>
                  </a:lnTo>
                  <a:lnTo>
                    <a:pt x="154" y="141"/>
                  </a:lnTo>
                  <a:lnTo>
                    <a:pt x="163" y="132"/>
                  </a:lnTo>
                  <a:lnTo>
                    <a:pt x="180" y="132"/>
                  </a:lnTo>
                  <a:lnTo>
                    <a:pt x="189" y="141"/>
                  </a:lnTo>
                  <a:lnTo>
                    <a:pt x="206" y="141"/>
                  </a:lnTo>
                  <a:lnTo>
                    <a:pt x="223" y="132"/>
                  </a:lnTo>
                  <a:lnTo>
                    <a:pt x="231" y="132"/>
                  </a:lnTo>
                  <a:lnTo>
                    <a:pt x="249" y="132"/>
                  </a:lnTo>
                  <a:lnTo>
                    <a:pt x="257" y="132"/>
                  </a:lnTo>
                  <a:lnTo>
                    <a:pt x="274" y="132"/>
                  </a:lnTo>
                  <a:lnTo>
                    <a:pt x="274" y="141"/>
                  </a:lnTo>
                  <a:lnTo>
                    <a:pt x="274" y="149"/>
                  </a:lnTo>
                  <a:lnTo>
                    <a:pt x="283" y="149"/>
                  </a:lnTo>
                  <a:lnTo>
                    <a:pt x="292" y="141"/>
                  </a:lnTo>
                  <a:lnTo>
                    <a:pt x="309" y="149"/>
                  </a:lnTo>
                  <a:lnTo>
                    <a:pt x="317" y="158"/>
                  </a:lnTo>
                  <a:lnTo>
                    <a:pt x="326" y="158"/>
                  </a:lnTo>
                  <a:lnTo>
                    <a:pt x="352" y="158"/>
                  </a:lnTo>
                  <a:lnTo>
                    <a:pt x="326" y="167"/>
                  </a:lnTo>
                  <a:lnTo>
                    <a:pt x="317" y="167"/>
                  </a:lnTo>
                  <a:lnTo>
                    <a:pt x="309" y="176"/>
                  </a:lnTo>
                  <a:lnTo>
                    <a:pt x="326" y="193"/>
                  </a:lnTo>
                  <a:lnTo>
                    <a:pt x="326" y="202"/>
                  </a:lnTo>
                  <a:lnTo>
                    <a:pt x="352" y="202"/>
                  </a:lnTo>
                  <a:lnTo>
                    <a:pt x="360" y="202"/>
                  </a:lnTo>
                  <a:lnTo>
                    <a:pt x="377" y="211"/>
                  </a:lnTo>
                  <a:lnTo>
                    <a:pt x="394" y="211"/>
                  </a:lnTo>
                  <a:lnTo>
                    <a:pt x="403" y="211"/>
                  </a:lnTo>
                  <a:lnTo>
                    <a:pt x="429" y="202"/>
                  </a:lnTo>
                  <a:lnTo>
                    <a:pt x="437" y="202"/>
                  </a:lnTo>
                  <a:lnTo>
                    <a:pt x="420" y="211"/>
                  </a:lnTo>
                  <a:lnTo>
                    <a:pt x="437" y="229"/>
                  </a:lnTo>
                  <a:lnTo>
                    <a:pt x="463" y="229"/>
                  </a:lnTo>
                  <a:lnTo>
                    <a:pt x="472" y="220"/>
                  </a:lnTo>
                  <a:lnTo>
                    <a:pt x="472" y="202"/>
                  </a:lnTo>
                  <a:lnTo>
                    <a:pt x="480" y="211"/>
                  </a:lnTo>
                  <a:lnTo>
                    <a:pt x="497" y="229"/>
                  </a:lnTo>
                  <a:lnTo>
                    <a:pt x="480" y="229"/>
                  </a:lnTo>
                  <a:lnTo>
                    <a:pt x="472" y="229"/>
                  </a:lnTo>
                  <a:lnTo>
                    <a:pt x="454" y="229"/>
                  </a:lnTo>
                  <a:lnTo>
                    <a:pt x="446" y="229"/>
                  </a:lnTo>
                  <a:lnTo>
                    <a:pt x="437" y="246"/>
                  </a:lnTo>
                  <a:lnTo>
                    <a:pt x="446" y="246"/>
                  </a:lnTo>
                  <a:lnTo>
                    <a:pt x="480" y="246"/>
                  </a:lnTo>
                  <a:lnTo>
                    <a:pt x="472" y="255"/>
                  </a:lnTo>
                  <a:lnTo>
                    <a:pt x="472" y="273"/>
                  </a:lnTo>
                  <a:lnTo>
                    <a:pt x="480" y="273"/>
                  </a:lnTo>
                  <a:lnTo>
                    <a:pt x="497" y="281"/>
                  </a:lnTo>
                  <a:lnTo>
                    <a:pt x="497" y="299"/>
                  </a:lnTo>
                  <a:lnTo>
                    <a:pt x="497" y="308"/>
                  </a:lnTo>
                  <a:lnTo>
                    <a:pt x="497" y="316"/>
                  </a:lnTo>
                  <a:lnTo>
                    <a:pt x="497" y="325"/>
                  </a:lnTo>
                  <a:lnTo>
                    <a:pt x="532" y="360"/>
                  </a:lnTo>
                  <a:lnTo>
                    <a:pt x="532" y="369"/>
                  </a:lnTo>
                  <a:lnTo>
                    <a:pt x="523" y="369"/>
                  </a:lnTo>
                  <a:lnTo>
                    <a:pt x="514" y="369"/>
                  </a:lnTo>
                  <a:lnTo>
                    <a:pt x="506" y="369"/>
                  </a:lnTo>
                  <a:lnTo>
                    <a:pt x="514" y="360"/>
                  </a:lnTo>
                  <a:lnTo>
                    <a:pt x="514" y="343"/>
                  </a:lnTo>
                  <a:lnTo>
                    <a:pt x="497" y="343"/>
                  </a:lnTo>
                  <a:lnTo>
                    <a:pt x="489" y="343"/>
                  </a:lnTo>
                  <a:lnTo>
                    <a:pt x="480" y="352"/>
                  </a:lnTo>
                  <a:lnTo>
                    <a:pt x="472" y="360"/>
                  </a:lnTo>
                  <a:lnTo>
                    <a:pt x="463" y="360"/>
                  </a:lnTo>
                  <a:lnTo>
                    <a:pt x="446" y="360"/>
                  </a:lnTo>
                  <a:lnTo>
                    <a:pt x="446" y="369"/>
                  </a:lnTo>
                  <a:lnTo>
                    <a:pt x="446" y="387"/>
                  </a:lnTo>
                  <a:lnTo>
                    <a:pt x="446" y="396"/>
                  </a:lnTo>
                  <a:lnTo>
                    <a:pt x="446" y="413"/>
                  </a:lnTo>
                  <a:lnTo>
                    <a:pt x="454" y="422"/>
                  </a:lnTo>
                  <a:lnTo>
                    <a:pt x="454" y="431"/>
                  </a:lnTo>
                  <a:lnTo>
                    <a:pt x="463" y="440"/>
                  </a:lnTo>
                  <a:lnTo>
                    <a:pt x="472" y="448"/>
                  </a:lnTo>
                  <a:lnTo>
                    <a:pt x="472" y="457"/>
                  </a:lnTo>
                  <a:lnTo>
                    <a:pt x="472" y="475"/>
                  </a:lnTo>
                  <a:lnTo>
                    <a:pt x="472" y="483"/>
                  </a:lnTo>
                  <a:lnTo>
                    <a:pt x="480" y="501"/>
                  </a:lnTo>
                  <a:lnTo>
                    <a:pt x="497" y="519"/>
                  </a:lnTo>
                  <a:lnTo>
                    <a:pt x="506" y="519"/>
                  </a:lnTo>
                  <a:lnTo>
                    <a:pt x="523" y="501"/>
                  </a:lnTo>
                  <a:lnTo>
                    <a:pt x="540" y="510"/>
                  </a:lnTo>
                  <a:lnTo>
                    <a:pt x="557" y="501"/>
                  </a:lnTo>
                  <a:lnTo>
                    <a:pt x="540" y="483"/>
                  </a:lnTo>
                  <a:lnTo>
                    <a:pt x="540" y="475"/>
                  </a:lnTo>
                  <a:lnTo>
                    <a:pt x="532" y="466"/>
                  </a:lnTo>
                  <a:lnTo>
                    <a:pt x="523" y="457"/>
                  </a:lnTo>
                  <a:lnTo>
                    <a:pt x="514" y="457"/>
                  </a:lnTo>
                  <a:lnTo>
                    <a:pt x="514" y="440"/>
                  </a:lnTo>
                  <a:lnTo>
                    <a:pt x="506" y="431"/>
                  </a:lnTo>
                  <a:lnTo>
                    <a:pt x="497" y="431"/>
                  </a:lnTo>
                  <a:lnTo>
                    <a:pt x="497" y="413"/>
                  </a:lnTo>
                  <a:lnTo>
                    <a:pt x="514" y="413"/>
                  </a:lnTo>
                  <a:lnTo>
                    <a:pt x="514" y="431"/>
                  </a:lnTo>
                  <a:lnTo>
                    <a:pt x="523" y="431"/>
                  </a:lnTo>
                  <a:lnTo>
                    <a:pt x="523" y="440"/>
                  </a:lnTo>
                  <a:lnTo>
                    <a:pt x="532" y="448"/>
                  </a:lnTo>
                  <a:lnTo>
                    <a:pt x="540" y="440"/>
                  </a:lnTo>
                  <a:lnTo>
                    <a:pt x="549" y="431"/>
                  </a:lnTo>
                  <a:lnTo>
                    <a:pt x="566" y="431"/>
                  </a:lnTo>
                  <a:lnTo>
                    <a:pt x="557" y="431"/>
                  </a:lnTo>
                  <a:lnTo>
                    <a:pt x="557" y="448"/>
                  </a:lnTo>
                  <a:lnTo>
                    <a:pt x="566" y="448"/>
                  </a:lnTo>
                  <a:lnTo>
                    <a:pt x="566" y="457"/>
                  </a:lnTo>
                  <a:lnTo>
                    <a:pt x="557" y="466"/>
                  </a:lnTo>
                  <a:lnTo>
                    <a:pt x="566" y="475"/>
                  </a:lnTo>
                  <a:lnTo>
                    <a:pt x="574" y="483"/>
                  </a:lnTo>
                  <a:lnTo>
                    <a:pt x="566" y="501"/>
                  </a:lnTo>
                  <a:lnTo>
                    <a:pt x="566" y="510"/>
                  </a:lnTo>
                  <a:lnTo>
                    <a:pt x="566" y="527"/>
                  </a:lnTo>
                  <a:lnTo>
                    <a:pt x="557" y="527"/>
                  </a:lnTo>
                  <a:lnTo>
                    <a:pt x="549" y="536"/>
                  </a:lnTo>
                  <a:lnTo>
                    <a:pt x="549" y="527"/>
                  </a:lnTo>
                  <a:lnTo>
                    <a:pt x="540" y="527"/>
                  </a:lnTo>
                  <a:lnTo>
                    <a:pt x="532" y="527"/>
                  </a:lnTo>
                  <a:lnTo>
                    <a:pt x="532" y="519"/>
                  </a:lnTo>
                  <a:lnTo>
                    <a:pt x="523" y="510"/>
                  </a:lnTo>
                  <a:lnTo>
                    <a:pt x="523" y="519"/>
                  </a:lnTo>
                  <a:lnTo>
                    <a:pt x="523" y="527"/>
                  </a:lnTo>
                  <a:lnTo>
                    <a:pt x="523" y="536"/>
                  </a:lnTo>
                  <a:lnTo>
                    <a:pt x="532" y="536"/>
                  </a:lnTo>
                  <a:lnTo>
                    <a:pt x="540" y="545"/>
                  </a:lnTo>
                  <a:lnTo>
                    <a:pt x="532" y="563"/>
                  </a:lnTo>
                  <a:lnTo>
                    <a:pt x="532" y="571"/>
                  </a:lnTo>
                  <a:lnTo>
                    <a:pt x="532" y="589"/>
                  </a:lnTo>
                  <a:lnTo>
                    <a:pt x="532" y="607"/>
                  </a:lnTo>
                  <a:lnTo>
                    <a:pt x="532" y="615"/>
                  </a:lnTo>
                  <a:lnTo>
                    <a:pt x="523" y="624"/>
                  </a:lnTo>
                  <a:lnTo>
                    <a:pt x="523" y="633"/>
                  </a:lnTo>
                  <a:lnTo>
                    <a:pt x="523" y="642"/>
                  </a:lnTo>
                  <a:lnTo>
                    <a:pt x="532" y="642"/>
                  </a:lnTo>
                  <a:lnTo>
                    <a:pt x="540" y="651"/>
                  </a:lnTo>
                  <a:lnTo>
                    <a:pt x="549" y="659"/>
                  </a:lnTo>
                  <a:lnTo>
                    <a:pt x="540" y="659"/>
                  </a:lnTo>
                  <a:lnTo>
                    <a:pt x="532" y="677"/>
                  </a:lnTo>
                  <a:lnTo>
                    <a:pt x="523" y="686"/>
                  </a:lnTo>
                  <a:lnTo>
                    <a:pt x="506" y="703"/>
                  </a:lnTo>
                </a:path>
              </a:pathLst>
            </a:custGeom>
            <a:blipFill rotWithShape="0">
              <a:blip r:embed="rId23"/>
              <a:srcRect/>
              <a:tile tx="0" ty="0" sx="100000" sy="100000" algn="ctr"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2" name=""/>
            <p:cNvGrpSpPr/>
            <p:nvPr/>
          </p:nvGrpSpPr>
          <p:grpSpPr>
            <a:xfrm>
              <a:off x="4934160" y="3108240"/>
              <a:ext cx="606960" cy="628560"/>
              <a:chOff x="4934160" y="3108240"/>
              <a:chExt cx="606960" cy="628560"/>
            </a:xfrm>
          </p:grpSpPr>
          <p:sp>
            <p:nvSpPr>
              <p:cNvPr id="183" name=""/>
              <p:cNvSpPr/>
              <p:nvPr/>
            </p:nvSpPr>
            <p:spPr>
              <a:xfrm>
                <a:off x="5052600" y="3610080"/>
                <a:ext cx="44640" cy="56880"/>
              </a:xfrm>
              <a:custGeom>
                <a:avLst/>
                <a:gdLst/>
                <a:ahLst/>
                <a:rect l="l" t="t" r="r" b="b"/>
                <a:pathLst>
                  <a:path w="26" h="36">
                    <a:moveTo>
                      <a:pt x="8" y="0"/>
                    </a:moveTo>
                    <a:lnTo>
                      <a:pt x="0" y="18"/>
                    </a:lnTo>
                    <a:lnTo>
                      <a:pt x="8" y="35"/>
                    </a:lnTo>
                    <a:lnTo>
                      <a:pt x="17" y="35"/>
                    </a:lnTo>
                    <a:lnTo>
                      <a:pt x="25" y="35"/>
                    </a:lnTo>
                    <a:lnTo>
                      <a:pt x="17" y="18"/>
                    </a:lnTo>
                    <a:lnTo>
                      <a:pt x="25" y="18"/>
                    </a:lnTo>
                    <a:lnTo>
                      <a:pt x="8" y="0"/>
                    </a:lnTo>
                  </a:path>
                </a:pathLst>
              </a:custGeom>
              <a:blipFill rotWithShape="0">
                <a:blip r:embed="rId24"/>
                <a:srcRect/>
                <a:tile tx="0" ty="0" sx="100000" sy="100000" algn="ctr"/>
              </a:blip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066280" y="3554280"/>
                <a:ext cx="104760" cy="127080"/>
              </a:xfrm>
              <a:custGeom>
                <a:avLst/>
                <a:gdLst/>
                <a:ahLst/>
                <a:rect l="l" t="t" r="r" b="b"/>
                <a:pathLst>
                  <a:path w="61" h="80">
                    <a:moveTo>
                      <a:pt x="0" y="0"/>
                    </a:moveTo>
                    <a:lnTo>
                      <a:pt x="17" y="9"/>
                    </a:lnTo>
                    <a:lnTo>
                      <a:pt x="26" y="9"/>
                    </a:lnTo>
                    <a:lnTo>
                      <a:pt x="34" y="26"/>
                    </a:lnTo>
                    <a:lnTo>
                      <a:pt x="43" y="35"/>
                    </a:lnTo>
                    <a:lnTo>
                      <a:pt x="51" y="35"/>
                    </a:lnTo>
                    <a:lnTo>
                      <a:pt x="60" y="44"/>
                    </a:lnTo>
                    <a:lnTo>
                      <a:pt x="60" y="53"/>
                    </a:lnTo>
                    <a:lnTo>
                      <a:pt x="60" y="61"/>
                    </a:lnTo>
                    <a:lnTo>
                      <a:pt x="51" y="70"/>
                    </a:lnTo>
                    <a:lnTo>
                      <a:pt x="43" y="79"/>
                    </a:lnTo>
                    <a:lnTo>
                      <a:pt x="34" y="79"/>
                    </a:lnTo>
                    <a:lnTo>
                      <a:pt x="34" y="70"/>
                    </a:lnTo>
                    <a:lnTo>
                      <a:pt x="34" y="53"/>
                    </a:lnTo>
                    <a:lnTo>
                      <a:pt x="34" y="44"/>
                    </a:lnTo>
                    <a:lnTo>
                      <a:pt x="26" y="35"/>
                    </a:lnTo>
                    <a:lnTo>
                      <a:pt x="9" y="35"/>
                    </a:lnTo>
                    <a:lnTo>
                      <a:pt x="9" y="26"/>
                    </a:lnTo>
                    <a:lnTo>
                      <a:pt x="0" y="18"/>
                    </a:lnTo>
                    <a:lnTo>
                      <a:pt x="0" y="0"/>
                    </a:lnTo>
                  </a:path>
                </a:pathLst>
              </a:custGeom>
              <a:blipFill rotWithShape="0">
                <a:blip r:embed="rId25"/>
                <a:srcRect/>
                <a:tile tx="0" ty="0" sx="100000" sy="100000" algn="ctr"/>
              </a:blip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333040" y="3708360"/>
                <a:ext cx="3060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0" y="17"/>
                    </a:lnTo>
                    <a:lnTo>
                      <a:pt x="17" y="17"/>
                    </a:lnTo>
                    <a:lnTo>
                      <a:pt x="0" y="0"/>
                    </a:lnTo>
                  </a:path>
                </a:pathLst>
              </a:custGeom>
              <a:blipFill rotWithShape="0">
                <a:blip r:embed="rId26"/>
                <a:srcRect/>
                <a:tile tx="0" ty="0" sx="100000" sy="100000" algn="ctr"/>
              </a:blip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405040" y="3708360"/>
                <a:ext cx="46080" cy="28440"/>
              </a:xfrm>
              <a:custGeom>
                <a:avLst/>
                <a:gdLst/>
                <a:ahLst/>
                <a:rect l="l" t="t" r="r" b="b"/>
                <a:pathLst>
                  <a:path w="27" h="18">
                    <a:moveTo>
                      <a:pt x="0" y="17"/>
                    </a:moveTo>
                    <a:lnTo>
                      <a:pt x="17" y="0"/>
                    </a:lnTo>
                    <a:lnTo>
                      <a:pt x="26" y="9"/>
                    </a:lnTo>
                    <a:lnTo>
                      <a:pt x="17" y="17"/>
                    </a:lnTo>
                    <a:lnTo>
                      <a:pt x="0" y="17"/>
                    </a:lnTo>
                  </a:path>
                </a:pathLst>
              </a:custGeom>
              <a:blipFill rotWithShape="0">
                <a:blip r:embed="rId27"/>
                <a:srcRect/>
                <a:tile tx="0" ty="0" sx="100000" sy="100000" algn="ctr"/>
              </a:blip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5494320" y="3665520"/>
                <a:ext cx="46800" cy="44640"/>
              </a:xfrm>
              <a:custGeom>
                <a:avLst/>
                <a:gdLst/>
                <a:ahLst/>
                <a:rect l="l" t="t" r="r" b="b"/>
                <a:pathLst>
                  <a:path w="27" h="28">
                    <a:moveTo>
                      <a:pt x="0" y="18"/>
                    </a:moveTo>
                    <a:lnTo>
                      <a:pt x="26" y="27"/>
                    </a:lnTo>
                    <a:lnTo>
                      <a:pt x="17" y="0"/>
                    </a:lnTo>
                    <a:lnTo>
                      <a:pt x="0" y="18"/>
                    </a:lnTo>
                  </a:path>
                </a:pathLst>
              </a:custGeom>
              <a:blipFill rotWithShape="0">
                <a:blip r:embed="rId28"/>
                <a:srcRect/>
                <a:tile tx="0" ty="0" sx="100000" sy="100000" algn="ctr"/>
              </a:blip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4934160" y="3108240"/>
                <a:ext cx="149760" cy="55800"/>
              </a:xfrm>
              <a:custGeom>
                <a:avLst/>
                <a:gdLst/>
                <a:ahLst/>
                <a:rect l="l" t="t" r="r" b="b"/>
                <a:pathLst>
                  <a:path w="87" h="35">
                    <a:moveTo>
                      <a:pt x="0" y="26"/>
                    </a:moveTo>
                    <a:lnTo>
                      <a:pt x="34" y="26"/>
                    </a:lnTo>
                    <a:lnTo>
                      <a:pt x="52" y="34"/>
                    </a:lnTo>
                    <a:lnTo>
                      <a:pt x="60" y="34"/>
                    </a:lnTo>
                    <a:lnTo>
                      <a:pt x="86" y="26"/>
                    </a:lnTo>
                    <a:lnTo>
                      <a:pt x="69" y="17"/>
                    </a:lnTo>
                    <a:lnTo>
                      <a:pt x="52" y="17"/>
                    </a:lnTo>
                    <a:lnTo>
                      <a:pt x="43" y="0"/>
                    </a:lnTo>
                    <a:lnTo>
                      <a:pt x="34" y="0"/>
                    </a:lnTo>
                    <a:lnTo>
                      <a:pt x="0" y="26"/>
                    </a:lnTo>
                  </a:path>
                </a:pathLst>
              </a:custGeom>
              <a:blipFill rotWithShape="0">
                <a:blip r:embed="rId29"/>
                <a:srcRect/>
                <a:tile tx="0" ty="0" sx="100000" sy="100000" algn="ctr"/>
              </a:blip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9" name=""/>
            <p:cNvSpPr/>
            <p:nvPr/>
          </p:nvSpPr>
          <p:spPr>
            <a:xfrm>
              <a:off x="5523840" y="3260880"/>
              <a:ext cx="208080" cy="128520"/>
            </a:xfrm>
            <a:custGeom>
              <a:avLst/>
              <a:gdLst/>
              <a:ahLst/>
              <a:rect l="l" t="t" r="r" b="b"/>
              <a:pathLst>
                <a:path w="121" h="81">
                  <a:moveTo>
                    <a:pt x="120" y="53"/>
                  </a:moveTo>
                  <a:lnTo>
                    <a:pt x="120" y="71"/>
                  </a:lnTo>
                  <a:lnTo>
                    <a:pt x="111" y="80"/>
                  </a:lnTo>
                  <a:lnTo>
                    <a:pt x="94" y="80"/>
                  </a:lnTo>
                  <a:lnTo>
                    <a:pt x="77" y="71"/>
                  </a:lnTo>
                  <a:lnTo>
                    <a:pt x="77" y="62"/>
                  </a:lnTo>
                  <a:lnTo>
                    <a:pt x="69" y="53"/>
                  </a:lnTo>
                  <a:lnTo>
                    <a:pt x="51" y="53"/>
                  </a:lnTo>
                  <a:lnTo>
                    <a:pt x="34" y="62"/>
                  </a:lnTo>
                  <a:lnTo>
                    <a:pt x="26" y="53"/>
                  </a:lnTo>
                  <a:lnTo>
                    <a:pt x="17" y="44"/>
                  </a:lnTo>
                  <a:lnTo>
                    <a:pt x="0" y="44"/>
                  </a:lnTo>
                  <a:lnTo>
                    <a:pt x="0" y="36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0" y="9"/>
                  </a:lnTo>
                  <a:lnTo>
                    <a:pt x="0" y="0"/>
                  </a:lnTo>
                  <a:lnTo>
                    <a:pt x="17" y="0"/>
                  </a:lnTo>
                  <a:lnTo>
                    <a:pt x="26" y="0"/>
                  </a:lnTo>
                  <a:lnTo>
                    <a:pt x="26" y="9"/>
                  </a:lnTo>
                  <a:lnTo>
                    <a:pt x="26" y="18"/>
                  </a:lnTo>
                  <a:lnTo>
                    <a:pt x="34" y="18"/>
                  </a:lnTo>
                  <a:lnTo>
                    <a:pt x="43" y="27"/>
                  </a:lnTo>
                  <a:lnTo>
                    <a:pt x="51" y="27"/>
                  </a:lnTo>
                  <a:lnTo>
                    <a:pt x="60" y="27"/>
                  </a:lnTo>
                  <a:lnTo>
                    <a:pt x="69" y="18"/>
                  </a:lnTo>
                  <a:lnTo>
                    <a:pt x="77" y="18"/>
                  </a:lnTo>
                  <a:lnTo>
                    <a:pt x="77" y="27"/>
                  </a:lnTo>
                  <a:lnTo>
                    <a:pt x="86" y="27"/>
                  </a:lnTo>
                  <a:lnTo>
                    <a:pt x="94" y="27"/>
                  </a:lnTo>
                  <a:lnTo>
                    <a:pt x="103" y="27"/>
                  </a:lnTo>
                  <a:lnTo>
                    <a:pt x="120" y="53"/>
                  </a:lnTo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3808440" y="4475160"/>
            <a:ext cx="2063880" cy="227160"/>
          </a:xfrm>
          <a:custGeom>
            <a:avLst/>
            <a:gdLst/>
            <a:ahLst/>
            <a:rect l="l" t="t" r="r" b="b"/>
            <a:pathLst>
              <a:path w="1201" h="143">
                <a:moveTo>
                  <a:pt x="136" y="0"/>
                </a:moveTo>
                <a:lnTo>
                  <a:pt x="112" y="0"/>
                </a:lnTo>
                <a:lnTo>
                  <a:pt x="1120" y="0"/>
                </a:lnTo>
                <a:lnTo>
                  <a:pt x="1120" y="44"/>
                </a:lnTo>
                <a:lnTo>
                  <a:pt x="1152" y="44"/>
                </a:lnTo>
                <a:lnTo>
                  <a:pt x="1152" y="89"/>
                </a:lnTo>
                <a:lnTo>
                  <a:pt x="1200" y="89"/>
                </a:lnTo>
                <a:lnTo>
                  <a:pt x="1200" y="142"/>
                </a:lnTo>
                <a:lnTo>
                  <a:pt x="0" y="142"/>
                </a:lnTo>
                <a:lnTo>
                  <a:pt x="0" y="89"/>
                </a:lnTo>
                <a:lnTo>
                  <a:pt x="48" y="89"/>
                </a:lnTo>
                <a:lnTo>
                  <a:pt x="48" y="44"/>
                </a:lnTo>
                <a:lnTo>
                  <a:pt x="88" y="44"/>
                </a:lnTo>
                <a:lnTo>
                  <a:pt x="88" y="0"/>
                </a:lnTo>
                <a:lnTo>
                  <a:pt x="112" y="0"/>
                </a:lnTo>
                <a:lnTo>
                  <a:pt x="136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056120" y="3470400"/>
            <a:ext cx="1638360" cy="239760"/>
          </a:xfrm>
          <a:custGeom>
            <a:avLst/>
            <a:gdLst/>
            <a:ahLst/>
            <a:rect l="l" t="t" r="r" b="b"/>
            <a:pathLst>
              <a:path w="953" h="151">
                <a:moveTo>
                  <a:pt x="488" y="35"/>
                </a:moveTo>
                <a:lnTo>
                  <a:pt x="0" y="150"/>
                </a:lnTo>
                <a:lnTo>
                  <a:pt x="0" y="115"/>
                </a:lnTo>
                <a:lnTo>
                  <a:pt x="488" y="0"/>
                </a:lnTo>
                <a:lnTo>
                  <a:pt x="952" y="124"/>
                </a:lnTo>
                <a:lnTo>
                  <a:pt x="952" y="150"/>
                </a:lnTo>
                <a:lnTo>
                  <a:pt x="488" y="35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159080" y="3994200"/>
            <a:ext cx="71640" cy="4237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392720" y="3994200"/>
            <a:ext cx="73080" cy="4237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626000" y="3994200"/>
            <a:ext cx="58680" cy="4237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46680" y="3994200"/>
            <a:ext cx="71280" cy="4237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067360" y="3994200"/>
            <a:ext cx="71280" cy="4237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300640" y="3994200"/>
            <a:ext cx="71640" cy="4237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33920" y="3994200"/>
            <a:ext cx="73080" cy="4237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062240" y="3840120"/>
            <a:ext cx="1668600" cy="889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056120" y="3610080"/>
            <a:ext cx="1638360" cy="183960"/>
          </a:xfrm>
          <a:custGeom>
            <a:avLst/>
            <a:gdLst/>
            <a:ahLst/>
            <a:rect l="l" t="t" r="r" b="b"/>
            <a:pathLst>
              <a:path w="953" h="116">
                <a:moveTo>
                  <a:pt x="0" y="115"/>
                </a:moveTo>
                <a:lnTo>
                  <a:pt x="952" y="115"/>
                </a:lnTo>
                <a:lnTo>
                  <a:pt x="488" y="0"/>
                </a:lnTo>
                <a:lnTo>
                  <a:pt x="0" y="115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056120" y="3498840"/>
            <a:ext cx="1638360" cy="237960"/>
          </a:xfrm>
          <a:custGeom>
            <a:avLst/>
            <a:gdLst/>
            <a:ahLst/>
            <a:rect l="l" t="t" r="r" b="b"/>
            <a:pathLst>
              <a:path w="953" h="150">
                <a:moveTo>
                  <a:pt x="488" y="35"/>
                </a:moveTo>
                <a:lnTo>
                  <a:pt x="0" y="149"/>
                </a:lnTo>
                <a:lnTo>
                  <a:pt x="0" y="114"/>
                </a:lnTo>
                <a:lnTo>
                  <a:pt x="488" y="0"/>
                </a:lnTo>
                <a:lnTo>
                  <a:pt x="952" y="123"/>
                </a:lnTo>
                <a:lnTo>
                  <a:pt x="952" y="149"/>
                </a:lnTo>
                <a:lnTo>
                  <a:pt x="488" y="35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-3240" y="1012680"/>
            <a:ext cx="4599360" cy="16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ferencia de Reduccio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ffffff"/>
                </a:solidFill>
                <a:latin typeface="Arial"/>
              </a:rPr>
              <a:t>a los gobiernos y compañías 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ffffff"/>
                </a:solidFill>
                <a:latin typeface="Arial"/>
              </a:rPr>
              <a:t>de los países desarrollados 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701800" y="1609560"/>
            <a:ext cx="3616560" cy="17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 Administració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l Fon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35760" y="851040"/>
            <a:ext cx="3868560" cy="19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ducciones que se origina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ffffff"/>
                </a:solidFill>
                <a:latin typeface="Arial"/>
              </a:rPr>
              <a:t>en los países en vías de transición a una economía del mercado, y en los países en desarrollo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594120" y="1560600"/>
            <a:ext cx="251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600960" y="1757520"/>
            <a:ext cx="171108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516480" y="5622840"/>
            <a:ext cx="3065400" cy="10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491840" y="5532480"/>
            <a:ext cx="743832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Los Beneficios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La diversificación del riezg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La reducción de los gastos de transaccio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74840" y="95400"/>
            <a:ext cx="934704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Book Antiqua"/>
              </a:rPr>
              <a:t>¿Qué es el Fondo de Carbón?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444760" y="2736720"/>
            <a:ext cx="1447920" cy="752760"/>
          </a:xfrm>
          <a:prstGeom prst="rightArrow">
            <a:avLst>
              <a:gd name="adj1" fmla="val 50000"/>
              <a:gd name="adj2" fmla="val 96183"/>
            </a:avLst>
          </a:prstGeom>
          <a:solidFill>
            <a:srgbClr val="8901f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867280" y="2805120"/>
            <a:ext cx="1386000" cy="731880"/>
          </a:xfrm>
          <a:prstGeom prst="rightArrow">
            <a:avLst>
              <a:gd name="adj1" fmla="val 50000"/>
              <a:gd name="adj2" fmla="val 94696"/>
            </a:avLst>
          </a:prstGeom>
          <a:solidFill>
            <a:srgbClr val="8901f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2259000" y="4830840"/>
            <a:ext cx="5037120" cy="912600"/>
          </a:xfrm>
          <a:prstGeom prst="rightArrow">
            <a:avLst>
              <a:gd name="adj1" fmla="val 50000"/>
              <a:gd name="adj2" fmla="val 276002"/>
            </a:avLst>
          </a:prstGeom>
          <a:solidFill>
            <a:srgbClr val="8901f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941560" y="2862360"/>
            <a:ext cx="7653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$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383160" y="2932200"/>
            <a:ext cx="7653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$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4060800" y="4995720"/>
          <a:ext cx="655560" cy="66384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4060800" y="4995720"/>
                    <a:ext cx="655560" cy="66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"/>
          <p:cNvSpPr/>
          <p:nvPr/>
        </p:nvSpPr>
        <p:spPr>
          <a:xfrm>
            <a:off x="4103640" y="5081760"/>
            <a:ext cx="70344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0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92200" y="19188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Times New Roman"/>
              </a:rPr>
              <a:t>¿Porqué Contribuir Ahora?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7720" y="1314000"/>
            <a:ext cx="8418600" cy="39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3016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ffffff"/>
                </a:solidFill>
                <a:latin typeface="Book Antiqua"/>
              </a:rPr>
              <a:t>Cuatro Buenas Razones</a:t>
            </a:r>
            <a:r>
              <a:rPr b="0" lang="es-ES_tradnl" sz="3400" spc="-1" strike="noStrike">
                <a:solidFill>
                  <a:srgbClr val="ffffff"/>
                </a:solidFill>
                <a:latin typeface="Book Antiqua"/>
              </a:rPr>
              <a:t>:</a:t>
            </a:r>
            <a:endParaRPr b="0" lang="en-US" sz="3400" spc="-1" strike="noStrike">
              <a:solidFill>
                <a:srgbClr val="ffffff"/>
              </a:solidFill>
              <a:latin typeface="Book Antiqua"/>
            </a:endParaRPr>
          </a:p>
          <a:p>
            <a:pPr marL="301680" indent="-3016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Book Antiqua"/>
              </a:rPr>
              <a:t>La manera más eficiente de satisfacer las obligaciones del Protocol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01680" indent="-3016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Book Antiqua"/>
              </a:rPr>
              <a:t>Una manera de mejorar la imagen “verde”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01680" indent="-3016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Book Antiqua"/>
              </a:rPr>
              <a:t>Podrá resultar en beneficios en el mercado secundario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01680" indent="-3016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Book Antiqua"/>
              </a:rPr>
              <a:t>Buena manera de ayudar a establecer un mercado de reducciones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4-29T19:52:40Z</dcterms:created>
  <dc:creator>Odil Tunali Payton</dc:creator>
  <dc:description>Presentation to OLADE/UNEP seminar in Quito, May 1998</dc:description>
  <dc:language>en-US</dc:language>
  <cp:lastModifiedBy>Juan Zak</cp:lastModifiedBy>
  <cp:lastPrinted>1998-04-27T13:26:06Z</cp:lastPrinted>
  <dcterms:modified xsi:type="dcterms:W3CDTF">1998-05-11T22:49:21Z</dcterms:modified>
  <cp:revision>8</cp:revision>
  <dc:subject/>
  <dc:title>El Fondo De Carbon</dc:title>
</cp:coreProperties>
</file>